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_rels/notesSlide63.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29.wmf" ContentType="image/x-wmf"/>
  <Override PartName="/ppt/media/image42.png" ContentType="image/png"/>
  <Override PartName="/ppt/media/image30.wmf" ContentType="image/x-wmf"/>
  <Override PartName="/ppt/media/image28.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3.wmf" ContentType="image/x-wmf"/>
  <Override PartName="/ppt/media/image33.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360" y="0"/>
            <a:ext cx="2724120" cy="465120"/>
          </a:xfrm>
          <a:prstGeom prst="rect">
            <a:avLst/>
          </a:prstGeom>
          <a:noFill/>
          <a:ln w="0">
            <a:noFill/>
          </a:ln>
        </p:spPr>
        <p:txBody>
          <a:bodyPr lIns="82440" rIns="82440" tIns="41040" bIns="41040" anchor="t">
            <a:noAutofit/>
          </a:bodyPr>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7" name="PlaceHolder 2"/>
          <p:cNvSpPr>
            <a:spLocks noGrp="1"/>
          </p:cNvSpPr>
          <p:nvPr>
            <p:ph type="dt" idx="7"/>
          </p:nvPr>
        </p:nvSpPr>
        <p:spPr>
          <a:xfrm>
            <a:off x="3584520" y="0"/>
            <a:ext cx="2795760" cy="465120"/>
          </a:xfrm>
          <a:prstGeom prst="rect">
            <a:avLst/>
          </a:prstGeom>
          <a:noFill/>
          <a:ln w="0">
            <a:noFill/>
          </a:ln>
        </p:spPr>
        <p:txBody>
          <a:bodyPr lIns="82440" rIns="82440" tIns="41040" bIns="41040" anchor="t">
            <a:noAutofit/>
          </a:bodyPr>
          <a:lstStyle>
            <a:lvl1pPr indent="0" algn="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defRPr b="0" lang="en-US" sz="1100" spc="-1" strike="noStrike">
                <a:solidFill>
                  <a:srgbClr val="000000"/>
                </a:solidFill>
                <a:latin typeface="Times New Roman"/>
              </a:defRPr>
            </a:lvl1pPr>
          </a:lstStyle>
          <a:p>
            <a:pPr indent="0" algn="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8" name="PlaceHolder 3"/>
          <p:cNvSpPr>
            <a:spLocks noGrp="1"/>
          </p:cNvSpPr>
          <p:nvPr>
            <p:ph type="sldImg"/>
          </p:nvPr>
        </p:nvSpPr>
        <p:spPr>
          <a:xfrm>
            <a:off x="1017360" y="665280"/>
            <a:ext cx="4343400" cy="3257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243640"/>
            <a:ext cx="2724120" cy="399960"/>
          </a:xfrm>
          <a:prstGeom prst="rect">
            <a:avLst/>
          </a:prstGeom>
          <a:noFill/>
          <a:ln w="0">
            <a:noFill/>
          </a:ln>
        </p:spPr>
        <p:txBody>
          <a:bodyPr lIns="82440" rIns="82440" tIns="41040" bIns="41040" anchor="b">
            <a:noAutofit/>
          </a:bodyPr>
          <a:lstStyle>
            <a:lvl1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defRPr b="0" lang="en-US" sz="1100" spc="-1" strike="noStrike">
                <a:solidFill>
                  <a:srgbClr val="000000"/>
                </a:solidFill>
                <a:latin typeface="Times New Roman"/>
              </a:defRPr>
            </a:lvl1pPr>
          </a:lstStyle>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1" name="PlaceHolder 6"/>
          <p:cNvSpPr>
            <a:spLocks noGrp="1"/>
          </p:cNvSpPr>
          <p:nvPr>
            <p:ph type="sldNum" idx="9"/>
          </p:nvPr>
        </p:nvSpPr>
        <p:spPr>
          <a:xfrm>
            <a:off x="3584520" y="8243640"/>
            <a:ext cx="2795760" cy="399960"/>
          </a:xfrm>
          <a:prstGeom prst="rect">
            <a:avLst/>
          </a:prstGeom>
          <a:noFill/>
          <a:ln w="0">
            <a:noFill/>
          </a:ln>
        </p:spPr>
        <p:txBody>
          <a:bodyPr lIns="82440" rIns="82440" tIns="41040" bIns="41040" anchor="b">
            <a:noAutofit/>
          </a:bodyPr>
          <a:lstStyle>
            <a:lvl1pPr indent="0" algn="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defRPr b="0" lang="en-US" sz="1100" spc="-1" strike="noStrike">
                <a:solidFill>
                  <a:srgbClr val="000000"/>
                </a:solidFill>
                <a:latin typeface="Times New Roman"/>
              </a:defRPr>
            </a:lvl1pPr>
          </a:lstStyle>
          <a:p>
            <a:pPr indent="0" algn="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fld id="{02B35CB4-B6C4-4781-BFBE-28AD3671A12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17720" y="665280"/>
            <a:ext cx="4343400" cy="3257280"/>
          </a:xfrm>
          <a:prstGeom prst="rect">
            <a:avLst/>
          </a:prstGeom>
          <a:ln w="0">
            <a:noFill/>
          </a:ln>
        </p:spPr>
      </p:sp>
      <p:sp>
        <p:nvSpPr>
          <p:cNvPr id="1380"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3.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Predictiv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Predictive Contro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017720" y="665280"/>
            <a:ext cx="4343400" cy="3257280"/>
          </a:xfrm>
          <a:prstGeom prst="rect">
            <a:avLst/>
          </a:prstGeom>
          <a:ln w="0">
            <a:noFill/>
          </a:ln>
        </p:spPr>
      </p:sp>
      <p:sp>
        <p:nvSpPr>
          <p:cNvPr id="1384"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3.3&gt;&gt;&g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17720" y="665280"/>
            <a:ext cx="4343400" cy="3257280"/>
          </a:xfrm>
          <a:prstGeom prst="rect">
            <a:avLst/>
          </a:prstGeom>
          <a:ln w="0">
            <a:noFill/>
          </a:ln>
        </p:spPr>
      </p:sp>
      <p:sp>
        <p:nvSpPr>
          <p:cNvPr id="1386"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3.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ty of M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ty, MPC}}}</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017720" y="665280"/>
            <a:ext cx="4343400" cy="3257280"/>
          </a:xfrm>
          <a:prstGeom prst="rect">
            <a:avLst/>
          </a:prstGeom>
          <a:ln w="0">
            <a:noFill/>
          </a:ln>
        </p:spPr>
      </p:sp>
      <p:sp>
        <p:nvSpPr>
          <p:cNvPr id="1388"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3.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C for Linear System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017720" y="665280"/>
            <a:ext cx="4343400" cy="3257280"/>
          </a:xfrm>
          <a:prstGeom prst="rect">
            <a:avLst/>
          </a:prstGeom>
          <a:ln w="0">
            <a:noFill/>
          </a:ln>
        </p:spPr>
      </p:sp>
      <p:sp>
        <p:nvSpPr>
          <p:cNvPr id="1390"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tic Programming}}}</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17720" y="665280"/>
            <a:ext cx="4343400" cy="3257280"/>
          </a:xfrm>
          <a:prstGeom prst="rect">
            <a:avLst/>
          </a:prstGeom>
          <a:ln w="0">
            <a:noFill/>
          </a:ln>
        </p:spPr>
      </p:sp>
      <p:sp>
        <p:nvSpPr>
          <p:cNvPr id="1392"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3.6&gt;&gt;&g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017720" y="665280"/>
            <a:ext cx="4343400" cy="3257280"/>
          </a:xfrm>
          <a:prstGeom prst="rect">
            <a:avLst/>
          </a:prstGeom>
          <a:ln w="0">
            <a:noFill/>
          </a:ln>
        </p:spPr>
      </p:sp>
      <p:sp>
        <p:nvSpPr>
          <p:cNvPr id="1394"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3.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dder Roll Stab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dder Roll Stabiliz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017720" y="665280"/>
            <a:ext cx="4343400" cy="3257280"/>
          </a:xfrm>
          <a:prstGeom prst="rect">
            <a:avLst/>
          </a:prstGeom>
          <a:ln w="0">
            <a:noFill/>
          </a:ln>
        </p:spPr>
      </p:sp>
      <p:sp>
        <p:nvSpPr>
          <p:cNvPr id="1382"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3.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Windup Revi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Windup}}}</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017720" y="665280"/>
            <a:ext cx="4343400" cy="3257280"/>
          </a:xfrm>
          <a:prstGeom prst="rect">
            <a:avLst/>
          </a:prstGeom>
          <a:ln w="0">
            <a:noFill/>
          </a:ln>
        </p:spPr>
      </p:sp>
      <p:sp>
        <p:nvSpPr>
          <p:cNvPr id="1396" name="PlaceHolder 2"/>
          <p:cNvSpPr>
            <a:spLocks noGrp="1"/>
          </p:cNvSpPr>
          <p:nvPr>
            <p:ph type="body"/>
          </p:nvPr>
        </p:nvSpPr>
        <p:spPr>
          <a:xfrm>
            <a:off x="860040" y="4122360"/>
            <a:ext cx="4659480" cy="3855960"/>
          </a:xfrm>
          <a:prstGeom prst="rect">
            <a:avLst/>
          </a:prstGeom>
          <a:noFill/>
          <a:ln w="0">
            <a:noFill/>
          </a:ln>
        </p:spPr>
        <p:txBody>
          <a:bodyPr lIns="82440" rIns="8244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3.8&gt;&gt;&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8DC1C-0871-4C5B-856F-D47B30F91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8537E-F912-4DE2-AD1F-A9B1D0EFA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9A058-0D98-4748-97E6-6C1E241EF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788D2-F7F9-4042-80F9-0F44DBE1F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06101-2CD5-4EC5-92E9-B40B9D697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A5283-94D2-4440-89BB-B3C4DD0E0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129A6-D177-4CA4-A12E-5C67D9E6E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28CD0-2FB4-4ACB-B710-1CC8E5DD7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22E5C-AA7E-4800-93A1-134E37C64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9F585-7956-47B3-BC36-D8CDF4689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D7A76-CC1C-4F53-9628-FE64025DA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F8B37-0BCD-4DEC-A558-E3CF81029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20C72-EBBA-4573-9F0E-F31568B79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4D80B-39BD-4103-A667-5EA7A0751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3EA69-97A2-46FD-91EC-857750A7A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21BC8-46EE-4D1E-B51B-14B8E4D91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1CC60-B46C-4B3C-9706-1F61B7644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9FD12-04F4-409C-A871-7DF6BEE8E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E8E2A-F686-4354-BDC2-7C5FEF7FB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824E7-82B4-4E4E-9034-ECBCAF1BB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7AFCC-95EE-4110-919C-8AE558E2E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0A9CC-3599-4375-8FCE-4EF89FD2D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AA6F8-2502-4DE4-A338-E9DC1E0C4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D0B76-836D-455C-BDEC-179443B72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851A-FBEA-46F2-A45C-4B99AFE3243F}"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30320" y="0"/>
            <a:ext cx="2696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baseline="30000">
                <a:solidFill>
                  <a:srgbClr val="004c2b"/>
                </a:solidFill>
                <a:latin typeface="Times New Roman"/>
              </a:rPr>
              <a:t>©</a:t>
            </a:r>
            <a:r>
              <a:rPr b="0" lang="en-AU" sz="1000" spc="-1" strike="noStrike">
                <a:solidFill>
                  <a:srgbClr val="004c2b"/>
                </a:solidFill>
                <a:latin typeface="Times New Roman"/>
              </a:rPr>
              <a:t> Goodwin, Graebe, Salgado</a:t>
            </a:r>
            <a:r>
              <a:rPr b="1" lang="en-AU" sz="1000" spc="-1" strike="noStrike">
                <a:solidFill>
                  <a:srgbClr val="004c2b"/>
                </a:solidFill>
                <a:latin typeface="Times New Roman"/>
              </a:rPr>
              <a:t> </a:t>
            </a:r>
            <a:r>
              <a:rPr b="0" lang="en-AU"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
        <p:nvSpPr>
          <p:cNvPr id="6"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23</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40A0-4129-46EF-854C-19B6437EDFAD}"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slideLayout" Target="../slideLayouts/slideLayout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23</a:t>
            </a:r>
            <a:endParaRPr b="0" lang="en-US" sz="4400" spc="-1" strike="noStrike">
              <a:solidFill>
                <a:srgbClr val="6600cc"/>
              </a:solidFill>
              <a:latin typeface="Times New Roman"/>
            </a:endParaRPr>
          </a:p>
        </p:txBody>
      </p:sp>
      <p:sp>
        <p:nvSpPr>
          <p:cNvPr id="93"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Model Predictive Control</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We choose to use infinite horizon LQR theory to develop the control law.  Within this framework, we use the following weighting matric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We first consider the case when the control is unconstraine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hen, for an initial condition of  x(0) = (-10, 0)</a:t>
            </a:r>
            <a:r>
              <a:rPr b="0" i="1" lang="en-US" sz="2800" spc="-1" strike="noStrike" baseline="30000">
                <a:solidFill>
                  <a:srgbClr val="333333"/>
                </a:solidFill>
                <a:latin typeface="Times New Roman"/>
              </a:rPr>
              <a:t>T</a:t>
            </a:r>
            <a:r>
              <a:rPr b="0" i="1" lang="en-US" sz="2800" spc="-1" strike="noStrike">
                <a:solidFill>
                  <a:srgbClr val="333333"/>
                </a:solidFill>
                <a:latin typeface="Times New Roman"/>
              </a:rPr>
              <a:t>, the output response and input signal are as shown below.</a:t>
            </a:r>
            <a:endParaRPr b="0" lang="en-US" sz="2800" spc="-1" strike="noStrike">
              <a:solidFill>
                <a:srgbClr val="333333"/>
              </a:solidFill>
              <a:latin typeface="Times New Roman"/>
            </a:endParaRPr>
          </a:p>
        </p:txBody>
      </p:sp>
      <p:pic>
        <p:nvPicPr>
          <p:cNvPr id="118" name="Eqn23_02_07" descr=""/>
          <p:cNvPicPr/>
          <p:nvPr/>
        </p:nvPicPr>
        <p:blipFill>
          <a:blip r:embed="rId2"/>
          <a:stretch/>
        </p:blipFill>
        <p:spPr>
          <a:xfrm>
            <a:off x="3048120" y="3505320"/>
            <a:ext cx="2816280" cy="28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Unconstrained Responses</a:t>
            </a:r>
            <a:endParaRPr b="0" lang="en-US" sz="4400" spc="-1" strike="noStrike">
              <a:solidFill>
                <a:srgbClr val="6600cc"/>
              </a:solidFill>
              <a:latin typeface="Times New Roman"/>
            </a:endParaRPr>
          </a:p>
        </p:txBody>
      </p:sp>
      <p:pic>
        <p:nvPicPr>
          <p:cNvPr id="120" name="Fig23_01" descr=""/>
          <p:cNvPicPr/>
          <p:nvPr/>
        </p:nvPicPr>
        <p:blipFill>
          <a:blip r:embed="rId2"/>
          <a:srcRect l="13226" t="0" r="0" b="0"/>
          <a:stretch/>
        </p:blipFill>
        <p:spPr>
          <a:xfrm>
            <a:off x="1905120" y="2031840"/>
            <a:ext cx="5333760" cy="1870200"/>
          </a:xfrm>
          <a:prstGeom prst="rect">
            <a:avLst/>
          </a:prstGeom>
          <a:ln w="0">
            <a:noFill/>
          </a:ln>
        </p:spPr>
      </p:pic>
      <p:pic>
        <p:nvPicPr>
          <p:cNvPr id="121" name="Fig23_02" descr=""/>
          <p:cNvPicPr/>
          <p:nvPr/>
        </p:nvPicPr>
        <p:blipFill>
          <a:blip r:embed="rId3"/>
          <a:srcRect l="23501" t="0" r="0" b="0"/>
          <a:stretch/>
        </p:blipFill>
        <p:spPr>
          <a:xfrm>
            <a:off x="2286000" y="4708440"/>
            <a:ext cx="2728800" cy="1981440"/>
          </a:xfrm>
          <a:prstGeom prst="rect">
            <a:avLst/>
          </a:prstGeom>
          <a:ln w="0">
            <a:noFill/>
          </a:ln>
        </p:spPr>
      </p:pic>
      <p:sp>
        <p:nvSpPr>
          <p:cNvPr id="122" name=""/>
          <p:cNvSpPr/>
          <p:nvPr/>
        </p:nvSpPr>
        <p:spPr>
          <a:xfrm>
            <a:off x="377640" y="3565440"/>
            <a:ext cx="2140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Figure 23.1:</a:t>
            </a:r>
            <a:r>
              <a:rPr b="0" lang="en-US" sz="2000" spc="-1" strike="noStrike">
                <a:solidFill>
                  <a:srgbClr val="333333"/>
                </a:solidFill>
                <a:latin typeface="Times New Roman"/>
              </a:rPr>
              <a: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Output respons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without constraints</a:t>
            </a:r>
            <a:endParaRPr b="0" lang="en-US" sz="2000" spc="-1" strike="noStrike">
              <a:solidFill>
                <a:srgbClr val="333333"/>
              </a:solidFill>
              <a:latin typeface="Times New Roman"/>
            </a:endParaRPr>
          </a:p>
        </p:txBody>
      </p:sp>
      <p:sp>
        <p:nvSpPr>
          <p:cNvPr id="123" name=""/>
          <p:cNvSpPr/>
          <p:nvPr/>
        </p:nvSpPr>
        <p:spPr>
          <a:xfrm>
            <a:off x="6700320" y="3565440"/>
            <a:ext cx="219708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          </a:t>
            </a:r>
            <a:r>
              <a:rPr b="0" lang="en-US" sz="2000" spc="-1" strike="noStrike">
                <a:solidFill>
                  <a:srgbClr val="6600cc"/>
                </a:solidFill>
                <a:latin typeface="Times New Roman"/>
              </a:rPr>
              <a:t>Figure 23.2:</a:t>
            </a:r>
            <a:r>
              <a:rPr b="0" lang="en-US" sz="2000" spc="-1" strike="noStrike">
                <a:solidFill>
                  <a:srgbClr val="333333"/>
                </a:solidFill>
                <a:latin typeface="Times New Roman"/>
              </a:rPr>
              <a:t>  </a:t>
            </a:r>
            <a:endParaRPr b="0" lang="en-US" sz="20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Input response</a:t>
            </a:r>
            <a:endParaRPr b="0" lang="en-US" sz="20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without constraints</a:t>
            </a:r>
            <a:endParaRPr b="0" lang="en-US" sz="2000" spc="-1" strike="noStrike">
              <a:solidFill>
                <a:srgbClr val="333333"/>
              </a:solidFill>
              <a:latin typeface="Times New Roman"/>
            </a:endParaRPr>
          </a:p>
        </p:txBody>
      </p:sp>
      <p:sp>
        <p:nvSpPr>
          <p:cNvPr id="124" name=""/>
          <p:cNvSpPr/>
          <p:nvPr/>
        </p:nvSpPr>
        <p:spPr>
          <a:xfrm>
            <a:off x="5101920" y="5699160"/>
            <a:ext cx="2140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Figure 23.3:</a:t>
            </a:r>
            <a:r>
              <a:rPr b="0" lang="en-US" sz="2000" spc="-1" strike="noStrike">
                <a:solidFill>
                  <a:srgbClr val="333333"/>
                </a:solidFill>
                <a:latin typeface="Times New Roman"/>
              </a:rPr>
              <a: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Phase plane plot</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without constraint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straining the input amplitude</a:t>
            </a:r>
            <a:endParaRPr b="0" lang="en-US" sz="4400" spc="-1" strike="noStrike">
              <a:solidFill>
                <a:srgbClr val="6600cc"/>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We next assume that the input must satisfy the mild constraint |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a:t>
            </a:r>
            <a:r>
              <a:rPr b="0" i="1"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5</a:t>
            </a:r>
            <a:r>
              <a:rPr b="0" i="1" lang="en-US" sz="2800" spc="-1" strike="noStrike">
                <a:solidFill>
                  <a:srgbClr val="333333"/>
                </a:solidFill>
                <a:latin typeface="Times New Roman"/>
              </a:rPr>
              <a:t>.  Applying the anti-windup policy leads to the response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sponses with Mild Constraint</a:t>
            </a:r>
            <a:br>
              <a:rPr sz="4400"/>
            </a:br>
            <a:r>
              <a:rPr b="0" lang="en-US" sz="4400" spc="-1" strike="noStrike">
                <a:solidFill>
                  <a:srgbClr val="6600cc"/>
                </a:solidFill>
                <a:latin typeface="Times New Roman"/>
              </a:rPr>
              <a:t> </a:t>
            </a:r>
            <a:r>
              <a:rPr b="0" i="1" lang="en-US" sz="4000" spc="-1" strike="noStrike">
                <a:solidFill>
                  <a:srgbClr val="6600cc"/>
                </a:solidFill>
                <a:latin typeface="Times New Roman"/>
              </a:rPr>
              <a:t>|u</a:t>
            </a:r>
            <a:r>
              <a:rPr b="0" lang="en-US" sz="4000" spc="-1" strike="noStrike">
                <a:solidFill>
                  <a:srgbClr val="6600cc"/>
                </a:solidFill>
                <a:latin typeface="Times New Roman"/>
              </a:rPr>
              <a:t>(</a:t>
            </a:r>
            <a:r>
              <a:rPr b="0" i="1" lang="en-US" sz="4000" spc="-1" strike="noStrike">
                <a:solidFill>
                  <a:srgbClr val="6600cc"/>
                </a:solidFill>
                <a:latin typeface="Times New Roman"/>
              </a:rPr>
              <a:t>k</a:t>
            </a:r>
            <a:r>
              <a:rPr b="0" lang="en-US" sz="4000" spc="-1" strike="noStrike">
                <a:solidFill>
                  <a:srgbClr val="6600cc"/>
                </a:solidFill>
                <a:latin typeface="Times New Roman"/>
              </a:rPr>
              <a:t>)</a:t>
            </a:r>
            <a:r>
              <a:rPr b="0" i="1" lang="en-US" sz="4000" spc="-1" strike="noStrike">
                <a:solidFill>
                  <a:srgbClr val="6600cc"/>
                </a:solidFill>
                <a:latin typeface="Times New Roman"/>
              </a:rPr>
              <a:t>|</a:t>
            </a:r>
            <a:r>
              <a:rPr b="0" lang="en-US" sz="4000" spc="-1" strike="noStrike">
                <a:solidFill>
                  <a:srgbClr val="6600cc"/>
                </a:solidFill>
                <a:latin typeface="Symbol"/>
                <a:ea typeface="Symbol"/>
              </a:rPr>
              <a:t></a:t>
            </a:r>
            <a:r>
              <a:rPr b="0" i="1" lang="en-US" sz="4000" spc="-1" strike="noStrike">
                <a:solidFill>
                  <a:srgbClr val="6600cc"/>
                </a:solidFill>
                <a:latin typeface="Times New Roman"/>
              </a:rPr>
              <a:t> </a:t>
            </a:r>
            <a:r>
              <a:rPr b="0" lang="en-US" sz="4000" spc="-1" strike="noStrike">
                <a:solidFill>
                  <a:srgbClr val="6600cc"/>
                </a:solidFill>
                <a:latin typeface="Times New Roman"/>
              </a:rPr>
              <a:t>5</a:t>
            </a:r>
            <a:endParaRPr b="0" lang="en-US" sz="4000" spc="-1" strike="noStrike">
              <a:solidFill>
                <a:srgbClr val="6600cc"/>
              </a:solidFill>
              <a:latin typeface="Times New Roman"/>
            </a:endParaRPr>
          </a:p>
        </p:txBody>
      </p:sp>
      <p:pic>
        <p:nvPicPr>
          <p:cNvPr id="128" name="Fig23_03" descr=""/>
          <p:cNvPicPr/>
          <p:nvPr/>
        </p:nvPicPr>
        <p:blipFill>
          <a:blip r:embed="rId2"/>
          <a:srcRect l="16333" t="0" r="0" b="0"/>
          <a:stretch/>
        </p:blipFill>
        <p:spPr>
          <a:xfrm>
            <a:off x="2209680" y="1981080"/>
            <a:ext cx="5029200" cy="1830600"/>
          </a:xfrm>
          <a:prstGeom prst="rect">
            <a:avLst/>
          </a:prstGeom>
          <a:ln w="0">
            <a:noFill/>
          </a:ln>
        </p:spPr>
      </p:pic>
      <p:pic>
        <p:nvPicPr>
          <p:cNvPr id="129" name="Fig23_04" descr=""/>
          <p:cNvPicPr/>
          <p:nvPr/>
        </p:nvPicPr>
        <p:blipFill>
          <a:blip r:embed="rId3"/>
          <a:srcRect l="27771" t="0" r="0" b="0"/>
          <a:stretch/>
        </p:blipFill>
        <p:spPr>
          <a:xfrm>
            <a:off x="2514600" y="4495680"/>
            <a:ext cx="2576520" cy="1981440"/>
          </a:xfrm>
          <a:prstGeom prst="rect">
            <a:avLst/>
          </a:prstGeom>
          <a:ln w="0">
            <a:noFill/>
          </a:ln>
        </p:spPr>
      </p:pic>
      <p:sp>
        <p:nvSpPr>
          <p:cNvPr id="130" name=""/>
          <p:cNvSpPr/>
          <p:nvPr/>
        </p:nvSpPr>
        <p:spPr>
          <a:xfrm>
            <a:off x="300960" y="3124080"/>
            <a:ext cx="23036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Figure 23.4:</a:t>
            </a:r>
            <a:r>
              <a:rPr b="0" lang="en-US" sz="2000" spc="-1" strike="noStrike">
                <a:solidFill>
                  <a:srgbClr val="333333"/>
                </a:solidFill>
                <a:latin typeface="Times New Roman"/>
              </a:rPr>
              <a: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Output respons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with input constraint</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u(k)|</a:t>
            </a:r>
            <a:r>
              <a:rPr b="0" lang="en-US" sz="2000" spc="-1" strike="noStrike">
                <a:solidFill>
                  <a:srgbClr val="333333"/>
                </a:solidFill>
                <a:latin typeface="Symbol"/>
                <a:ea typeface="Symbol"/>
              </a:rPr>
              <a:t></a:t>
            </a:r>
            <a:r>
              <a:rPr b="0" i="1" lang="en-US" sz="2000" spc="-1" strike="noStrike">
                <a:solidFill>
                  <a:srgbClr val="333333"/>
                </a:solidFill>
                <a:latin typeface="Times New Roman"/>
              </a:rPr>
              <a:t> </a:t>
            </a:r>
            <a:r>
              <a:rPr b="0" lang="en-US" sz="2000" spc="-1" strike="noStrike">
                <a:solidFill>
                  <a:srgbClr val="333333"/>
                </a:solidFill>
                <a:latin typeface="Times New Roman"/>
              </a:rPr>
              <a:t>5</a:t>
            </a:r>
            <a:endParaRPr b="0" lang="en-US" sz="2000" spc="-1" strike="noStrike">
              <a:solidFill>
                <a:srgbClr val="333333"/>
              </a:solidFill>
              <a:latin typeface="Times New Roman"/>
            </a:endParaRPr>
          </a:p>
        </p:txBody>
      </p:sp>
      <p:sp>
        <p:nvSpPr>
          <p:cNvPr id="131" name=""/>
          <p:cNvSpPr/>
          <p:nvPr/>
        </p:nvSpPr>
        <p:spPr>
          <a:xfrm>
            <a:off x="6827760" y="3124080"/>
            <a:ext cx="20689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          </a:t>
            </a:r>
            <a:r>
              <a:rPr b="0" lang="en-US" sz="2000" spc="-1" strike="noStrike">
                <a:solidFill>
                  <a:srgbClr val="6600cc"/>
                </a:solidFill>
                <a:latin typeface="Times New Roman"/>
              </a:rPr>
              <a:t>Figure 23.5:</a:t>
            </a:r>
            <a:endParaRPr b="0" lang="en-US" sz="20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Input response</a:t>
            </a:r>
            <a:endParaRPr b="0" lang="en-US" sz="20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with constraint</a:t>
            </a:r>
            <a:endParaRPr b="0" lang="en-US" sz="20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u(k)|</a:t>
            </a:r>
            <a:r>
              <a:rPr b="0" lang="en-US" sz="2000" spc="-1" strike="noStrike">
                <a:solidFill>
                  <a:srgbClr val="333333"/>
                </a:solidFill>
                <a:latin typeface="Symbol"/>
                <a:ea typeface="Symbol"/>
              </a:rPr>
              <a:t></a:t>
            </a:r>
            <a:r>
              <a:rPr b="0" lang="en-US" sz="2000" spc="-1" strike="noStrike">
                <a:solidFill>
                  <a:srgbClr val="333333"/>
                </a:solidFill>
                <a:latin typeface="Times New Roman"/>
              </a:rPr>
              <a:t> 5</a:t>
            </a:r>
            <a:endParaRPr b="0" lang="en-US" sz="2000" spc="-1" strike="noStrike">
              <a:solidFill>
                <a:srgbClr val="333333"/>
              </a:solidFill>
              <a:latin typeface="Times New Roman"/>
            </a:endParaRPr>
          </a:p>
        </p:txBody>
      </p:sp>
      <p:sp>
        <p:nvSpPr>
          <p:cNvPr id="132" name=""/>
          <p:cNvSpPr/>
          <p:nvPr/>
        </p:nvSpPr>
        <p:spPr>
          <a:xfrm>
            <a:off x="5102280" y="5181480"/>
            <a:ext cx="20415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Figure 23.6:</a:t>
            </a:r>
            <a:r>
              <a:rPr b="0" lang="en-US" sz="2000" spc="-1" strike="noStrike">
                <a:solidFill>
                  <a:srgbClr val="333333"/>
                </a:solidFill>
                <a:latin typeface="Times New Roman"/>
              </a:rPr>
              <a: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Phase plane plot</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without constraint</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u(k)|</a:t>
            </a:r>
            <a:r>
              <a:rPr b="0" lang="en-US" sz="2000" spc="-1" strike="noStrike">
                <a:solidFill>
                  <a:srgbClr val="333333"/>
                </a:solidFill>
                <a:latin typeface="Symbol"/>
                <a:ea typeface="Symbol"/>
              </a:rPr>
              <a:t></a:t>
            </a:r>
            <a:r>
              <a:rPr b="0" lang="en-US" sz="2000" spc="-1" strike="noStrike">
                <a:solidFill>
                  <a:srgbClr val="333333"/>
                </a:solidFill>
                <a:latin typeface="Times New Roman"/>
              </a:rPr>
              <a:t> 5</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tions</a:t>
            </a:r>
            <a:endParaRPr b="0" lang="en-US" sz="4400" spc="-1" strike="noStrike">
              <a:solidFill>
                <a:srgbClr val="6600cc"/>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he various plots indicate that the simple anti-windup strategy has produced a perfectly acceptable response in this cas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example would seem to indicate that one need never worry about fancy method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811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aking the constraint more severe</a:t>
            </a:r>
            <a:endParaRPr b="0" lang="en-US" sz="4400" spc="-1" strike="noStrike">
              <a:solidFill>
                <a:srgbClr val="6600cc"/>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c2b"/>
                </a:solidFill>
                <a:latin typeface="Times New Roman"/>
              </a:rPr>
              <a:t>Example </a:t>
            </a:r>
            <a:r>
              <a:rPr b="0" i="1" lang="en-US" sz="2800" spc="-1" strike="noStrike">
                <a:solidFill>
                  <a:srgbClr val="004c2b"/>
                </a:solidFill>
                <a:latin typeface="Times New Roman"/>
              </a:rPr>
              <a:t>Continued</a:t>
            </a:r>
            <a:r>
              <a:rPr b="0" lang="en-US" sz="2800" spc="-1" strike="noStrike">
                <a:solidFill>
                  <a:srgbClr val="004c2b"/>
                </a:solidFill>
                <a:latin typeface="Times New Roman"/>
              </a:rPr>
              <a:t>.</a:t>
            </a:r>
            <a:r>
              <a:rPr b="0" i="1" lang="en-US" sz="2800" spc="-1" strike="noStrike">
                <a:solidFill>
                  <a:srgbClr val="004c2b"/>
                </a:solidFill>
                <a:latin typeface="Times New Roman"/>
              </a:rPr>
              <a:t> </a:t>
            </a:r>
            <a:r>
              <a:rPr b="0" i="1" lang="en-US" sz="2800" spc="-1" strike="noStrike">
                <a:solidFill>
                  <a:srgbClr val="333333"/>
                </a:solidFill>
                <a:latin typeface="Times New Roman"/>
              </a:rPr>
              <a:t>Consider the same set up as above, save that the input is now required to satisfy the more severe constraint</a:t>
            </a:r>
            <a:r>
              <a:rPr b="0" lang="en-US" sz="2800" spc="-1" strike="noStrike">
                <a:solidFill>
                  <a:srgbClr val="333333"/>
                </a:solidFill>
                <a:latin typeface="Times New Roman"/>
              </a:rPr>
              <a:t> </a:t>
            </a:r>
            <a:r>
              <a:rPr b="0" i="1" lang="en-US" sz="2400" spc="-1" strike="noStrike">
                <a:solidFill>
                  <a:srgbClr val="333333"/>
                </a:solidFill>
                <a:latin typeface="Times New Roman"/>
              </a:rPr>
              <a:t>|u</a:t>
            </a:r>
            <a:r>
              <a:rPr b="0" lang="en-US" sz="2400" spc="-1" strike="noStrike">
                <a:solidFill>
                  <a:srgbClr val="333333"/>
                </a:solidFill>
                <a:latin typeface="Times New Roman"/>
              </a:rPr>
              <a:t>(</a:t>
            </a:r>
            <a:r>
              <a:rPr b="0" i="1" lang="en-US" sz="2400" spc="-1" strike="noStrike">
                <a:solidFill>
                  <a:srgbClr val="333333"/>
                </a:solidFill>
                <a:latin typeface="Times New Roman"/>
              </a:rPr>
              <a:t>k</a:t>
            </a:r>
            <a:r>
              <a:rPr b="0" lang="en-US" sz="2400" spc="-1" strike="noStrike">
                <a:solidFill>
                  <a:srgbClr val="333333"/>
                </a:solidFill>
                <a:latin typeface="Times New Roman"/>
              </a:rPr>
              <a:t>)</a:t>
            </a:r>
            <a:r>
              <a:rPr b="0" i="1" lang="en-US" sz="2400" spc="-1" strike="noStrike">
                <a:solidFill>
                  <a:srgbClr val="333333"/>
                </a:solidFill>
                <a:latin typeface="Times New Roman"/>
              </a:rPr>
              <a:t>|</a:t>
            </a:r>
            <a:r>
              <a:rPr b="0" lang="en-US" sz="2400" spc="-1" strike="noStrike">
                <a:solidFill>
                  <a:srgbClr val="333333"/>
                </a:solidFill>
                <a:latin typeface="Symbol"/>
                <a:ea typeface="Symbol"/>
              </a:rPr>
              <a:t></a:t>
            </a:r>
            <a:r>
              <a:rPr b="0" lang="en-US" sz="2400" spc="-1" strike="noStrike">
                <a:solidFill>
                  <a:srgbClr val="333333"/>
                </a:solidFill>
                <a:latin typeface="Times New Roman"/>
              </a:rPr>
              <a:t> 1.  </a:t>
            </a:r>
            <a:r>
              <a:rPr b="0" i="1" lang="en-US" sz="2800" spc="-1" strike="noStrike">
                <a:solidFill>
                  <a:srgbClr val="333333"/>
                </a:solidFill>
                <a:latin typeface="Times New Roman"/>
              </a:rPr>
              <a:t>Notice that this constraint is 10% of the initial unconstrained input.  Thus, this is a relatively severe constraint. The simple anti-windup control law now leads to the response shown on the next slide</a:t>
            </a:r>
            <a:r>
              <a:rPr b="0" i="1"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138" name="Fig23_05" descr=""/>
          <p:cNvPicPr/>
          <p:nvPr/>
        </p:nvPicPr>
        <p:blipFill>
          <a:blip r:embed="rId2"/>
          <a:srcRect l="16333" t="0" r="0" b="0"/>
          <a:stretch/>
        </p:blipFill>
        <p:spPr>
          <a:xfrm>
            <a:off x="2209680" y="1981080"/>
            <a:ext cx="4953240" cy="1801800"/>
          </a:xfrm>
          <a:prstGeom prst="rect">
            <a:avLst/>
          </a:prstGeom>
          <a:ln w="0">
            <a:noFill/>
          </a:ln>
        </p:spPr>
      </p:pic>
      <p:pic>
        <p:nvPicPr>
          <p:cNvPr id="139" name="Fig23_06" descr=""/>
          <p:cNvPicPr/>
          <p:nvPr/>
        </p:nvPicPr>
        <p:blipFill>
          <a:blip r:embed="rId3"/>
          <a:srcRect l="29911" t="0" r="0" b="0"/>
          <a:stretch/>
        </p:blipFill>
        <p:spPr>
          <a:xfrm>
            <a:off x="2590920" y="4495680"/>
            <a:ext cx="2500200" cy="1981440"/>
          </a:xfrm>
          <a:prstGeom prst="rect">
            <a:avLst/>
          </a:prstGeom>
          <a:ln w="0">
            <a:noFill/>
          </a:ln>
        </p:spPr>
      </p:pic>
      <p:sp>
        <p:nvSpPr>
          <p:cNvPr id="140" name=""/>
          <p:cNvSpPr/>
          <p:nvPr/>
        </p:nvSpPr>
        <p:spPr>
          <a:xfrm>
            <a:off x="268200" y="3184560"/>
            <a:ext cx="2725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Figure 23.7:</a:t>
            </a:r>
            <a:r>
              <a:rPr b="0" lang="en-US" sz="2000" spc="-1" strike="noStrike">
                <a:solidFill>
                  <a:srgbClr val="333333"/>
                </a:solidFill>
                <a:latin typeface="Times New Roman"/>
              </a:rPr>
              <a: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Output respons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with constraint |u(k)|</a:t>
            </a:r>
            <a:r>
              <a:rPr b="0" lang="en-US" sz="2000" spc="-1" strike="noStrike">
                <a:solidFill>
                  <a:srgbClr val="333333"/>
                </a:solidFill>
                <a:latin typeface="Symbol"/>
                <a:ea typeface="Symbol"/>
              </a:rPr>
              <a:t></a:t>
            </a:r>
            <a:r>
              <a:rPr b="0" i="1" lang="en-US" sz="2000" spc="-1" strike="noStrike">
                <a:solidFill>
                  <a:srgbClr val="333333"/>
                </a:solidFill>
                <a:latin typeface="Times New Roman"/>
              </a:rPr>
              <a:t> </a:t>
            </a:r>
            <a:r>
              <a:rPr b="0" lang="en-US" sz="2000" spc="-1" strike="noStrike">
                <a:solidFill>
                  <a:srgbClr val="333333"/>
                </a:solidFill>
                <a:latin typeface="Times New Roman"/>
              </a:rPr>
              <a:t>1</a:t>
            </a:r>
            <a:endParaRPr b="0" lang="en-US" sz="2000" spc="-1" strike="noStrike">
              <a:solidFill>
                <a:srgbClr val="333333"/>
              </a:solidFill>
              <a:latin typeface="Times New Roman"/>
            </a:endParaRPr>
          </a:p>
        </p:txBody>
      </p:sp>
      <p:sp>
        <p:nvSpPr>
          <p:cNvPr id="141" name=""/>
          <p:cNvSpPr/>
          <p:nvPr/>
        </p:nvSpPr>
        <p:spPr>
          <a:xfrm>
            <a:off x="6202440" y="3184560"/>
            <a:ext cx="2725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          </a:t>
            </a:r>
            <a:r>
              <a:rPr b="0" lang="en-US" sz="2000" spc="-1" strike="noStrike">
                <a:solidFill>
                  <a:srgbClr val="6600cc"/>
                </a:solidFill>
                <a:latin typeface="Times New Roman"/>
              </a:rPr>
              <a:t>Figure 23.8:</a:t>
            </a:r>
            <a:endParaRPr b="0" lang="en-US" sz="20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Input response</a:t>
            </a:r>
            <a:endParaRPr b="0" lang="en-US" sz="20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with constraint |u(k)|</a:t>
            </a:r>
            <a:r>
              <a:rPr b="0" lang="en-US" sz="2000" spc="-1" strike="noStrike">
                <a:solidFill>
                  <a:srgbClr val="333333"/>
                </a:solidFill>
                <a:latin typeface="Symbol"/>
                <a:ea typeface="Symbol"/>
              </a:rPr>
              <a:t></a:t>
            </a:r>
            <a:r>
              <a:rPr b="0" lang="en-US" sz="2000" spc="-1" strike="noStrike">
                <a:solidFill>
                  <a:srgbClr val="333333"/>
                </a:solidFill>
                <a:latin typeface="Times New Roman"/>
              </a:rPr>
              <a:t> 1</a:t>
            </a:r>
            <a:endParaRPr b="0" lang="en-US" sz="2000" spc="-1" strike="noStrike">
              <a:solidFill>
                <a:srgbClr val="333333"/>
              </a:solidFill>
              <a:latin typeface="Times New Roman"/>
            </a:endParaRPr>
          </a:p>
        </p:txBody>
      </p:sp>
      <p:sp>
        <p:nvSpPr>
          <p:cNvPr id="142" name=""/>
          <p:cNvSpPr/>
          <p:nvPr/>
        </p:nvSpPr>
        <p:spPr>
          <a:xfrm>
            <a:off x="5069160" y="5486400"/>
            <a:ext cx="2725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Figure 23.9:</a:t>
            </a:r>
            <a:r>
              <a:rPr b="0" lang="en-US" sz="2000" spc="-1" strike="noStrike">
                <a:solidFill>
                  <a:srgbClr val="333333"/>
                </a:solidFill>
                <a:latin typeface="Times New Roman"/>
              </a:rPr>
              <a: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Phase plane plot</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with constraint |u(k)|</a:t>
            </a:r>
            <a:r>
              <a:rPr b="0" lang="en-US" sz="2000" spc="-1" strike="noStrike">
                <a:solidFill>
                  <a:srgbClr val="333333"/>
                </a:solidFill>
                <a:latin typeface="Symbol"/>
                <a:ea typeface="Symbol"/>
              </a:rPr>
              <a:t></a:t>
            </a:r>
            <a:r>
              <a:rPr b="0" lang="en-US" sz="2000" spc="-1" strike="noStrike">
                <a:solidFill>
                  <a:srgbClr val="333333"/>
                </a:solidFill>
                <a:latin typeface="Times New Roman"/>
              </a:rPr>
              <a:t> 1</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tions</a:t>
            </a:r>
            <a:endParaRPr b="0" lang="en-US" sz="4400" spc="-1" strike="noStrike">
              <a:solidFill>
                <a:srgbClr val="6600cc"/>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We see that the simple anti-windup strategy is not performing well and, indeed, has resulted in large overshoot in this ca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cussion of Example with Severe Constraints</a:t>
            </a:r>
            <a:endParaRPr b="0" lang="en-US" sz="4400" spc="-1" strike="noStrike">
              <a:solidFill>
                <a:srgbClr val="6600cc"/>
              </a:solidFill>
              <a:latin typeface="Times New Roman"/>
            </a:endParaRPr>
          </a:p>
        </p:txBody>
      </p:sp>
      <p:sp>
        <p:nvSpPr>
          <p:cNvPr id="146" name="PlaceHolder 2"/>
          <p:cNvSpPr>
            <a:spLocks noGrp="1"/>
          </p:cNvSpPr>
          <p:nvPr>
            <p:ph/>
          </p:nvPr>
        </p:nvSpPr>
        <p:spPr>
          <a:xfrm>
            <a:off x="477720" y="1981080"/>
            <a:ext cx="8299440" cy="4114800"/>
          </a:xfrm>
          <a:prstGeom prst="rect">
            <a:avLst/>
          </a:prstGeom>
          <a:noFill/>
          <a:ln w="0">
            <a:noFill/>
          </a:ln>
        </p:spPr>
        <p:txBody>
          <a:bodyPr lIns="90000" rIns="90000" tIns="46800" bIns="46800" anchor="t">
            <a:normAutofit fontScale="94000"/>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Times New Roman"/>
              </a:rPr>
              <a:t>We see that the initial input steps have caused the velocity to build up to a large value.  If the control were unconstrained, this large velocity would help us get to the origin quickly. However, because of the limited control authority, the system </a:t>
            </a:r>
            <a:r>
              <a:rPr b="0" i="1" lang="en-US" sz="2500" spc="-1" strike="noStrike">
                <a:solidFill>
                  <a:srgbClr val="333333"/>
                </a:solidFill>
                <a:latin typeface="Times New Roman"/>
              </a:rPr>
              <a:t>braking</a:t>
            </a:r>
            <a:r>
              <a:rPr b="0" lang="en-US" sz="2500" spc="-1" strike="noStrike">
                <a:solidFill>
                  <a:srgbClr val="333333"/>
                </a:solidFill>
                <a:latin typeface="Times New Roman"/>
              </a:rPr>
              <a:t> </a:t>
            </a:r>
            <a:r>
              <a:rPr b="0" i="1" lang="en-US" sz="2500" spc="-1" strike="noStrike">
                <a:solidFill>
                  <a:srgbClr val="333333"/>
                </a:solidFill>
                <a:latin typeface="Times New Roman"/>
              </a:rPr>
              <a:t>capacity</a:t>
            </a:r>
            <a:r>
              <a:rPr b="0" lang="en-US" sz="2500" spc="-1" strike="noStrike">
                <a:solidFill>
                  <a:srgbClr val="333333"/>
                </a:solidFill>
                <a:latin typeface="Times New Roman"/>
              </a:rPr>
              <a:t> is restricted and hence large overshoot occurs. In conclusion, it seems that the control policy has been too </a:t>
            </a:r>
            <a:r>
              <a:rPr b="0" i="1" lang="en-US" sz="2500" spc="-1" strike="noStrike">
                <a:solidFill>
                  <a:srgbClr val="333333"/>
                </a:solidFill>
                <a:latin typeface="Times New Roman"/>
              </a:rPr>
              <a:t>shortsighted</a:t>
            </a:r>
            <a:r>
              <a:rPr b="0" lang="en-US" sz="2500" spc="-1" strike="noStrike">
                <a:solidFill>
                  <a:srgbClr val="333333"/>
                </a:solidFill>
                <a:latin typeface="Times New Roman"/>
              </a:rPr>
              <a:t> and has not been able to account for the fact that future control inputs would be constrained as well as the current control input. The solution would seem to be to try to </a:t>
            </a:r>
            <a:r>
              <a:rPr b="0" i="1" lang="en-US" sz="2500" spc="-1" strike="noStrike">
                <a:solidFill>
                  <a:srgbClr val="333333"/>
                </a:solidFill>
                <a:latin typeface="Times New Roman"/>
              </a:rPr>
              <a:t>look</a:t>
            </a:r>
            <a:r>
              <a:rPr b="0" lang="en-US" sz="2500" spc="-1" strike="noStrike">
                <a:solidFill>
                  <a:srgbClr val="333333"/>
                </a:solidFill>
                <a:latin typeface="Times New Roman"/>
              </a:rPr>
              <a:t>-</a:t>
            </a:r>
            <a:r>
              <a:rPr b="0" i="1" lang="en-US" sz="2500" spc="-1" strike="noStrike">
                <a:solidFill>
                  <a:srgbClr val="333333"/>
                </a:solidFill>
                <a:latin typeface="Times New Roman"/>
              </a:rPr>
              <a:t>ahead</a:t>
            </a:r>
            <a:r>
              <a:rPr b="0" lang="en-US" sz="2500" spc="-1" strike="noStrike">
                <a:solidFill>
                  <a:srgbClr val="333333"/>
                </a:solidFill>
                <a:latin typeface="Times New Roman"/>
              </a:rPr>
              <a:t> (i.e. predict the future response) and to take account of </a:t>
            </a:r>
            <a:r>
              <a:rPr b="0" i="1" lang="en-US" sz="2500" spc="-1" strike="noStrike">
                <a:solidFill>
                  <a:srgbClr val="333333"/>
                </a:solidFill>
                <a:latin typeface="Times New Roman"/>
              </a:rPr>
              <a:t>current</a:t>
            </a:r>
            <a:r>
              <a:rPr b="0" lang="en-US" sz="2500" spc="-1" strike="noStrike">
                <a:solidFill>
                  <a:srgbClr val="333333"/>
                </a:solidFill>
                <a:latin typeface="Times New Roman"/>
              </a:rPr>
              <a:t> and </a:t>
            </a:r>
            <a:r>
              <a:rPr b="0" i="1" lang="en-US" sz="2500" spc="-1" strike="noStrike">
                <a:solidFill>
                  <a:srgbClr val="333333"/>
                </a:solidFill>
                <a:latin typeface="Times New Roman"/>
              </a:rPr>
              <a:t>future</a:t>
            </a:r>
            <a:r>
              <a:rPr b="0" lang="en-US" sz="2500" spc="-1" strike="noStrike">
                <a:solidFill>
                  <a:srgbClr val="333333"/>
                </a:solidFill>
                <a:latin typeface="Times New Roman"/>
              </a:rPr>
              <a:t> constraints in deriving the control policy. This leads us to the idea of model predictive control.</a:t>
            </a:r>
            <a:endParaRPr b="0" lang="en-US" sz="25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56840"/>
            <a:ext cx="7970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What is Model Predictive Control?</a:t>
            </a:r>
            <a:endParaRPr b="0" lang="en-US" sz="4400" spc="-1" strike="noStrike">
              <a:solidFill>
                <a:srgbClr val="6600cc"/>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odel Predictive Control is a control algorithm based on solving an on-line optimal control problem.  A </a:t>
            </a:r>
            <a:r>
              <a:rPr b="0" i="1" lang="en-US" sz="2800" spc="-1" strike="noStrike">
                <a:solidFill>
                  <a:srgbClr val="333333"/>
                </a:solidFill>
                <a:latin typeface="Times New Roman"/>
              </a:rPr>
              <a:t>receding horizon</a:t>
            </a:r>
            <a:r>
              <a:rPr b="0" lang="en-US" sz="2800" spc="-1" strike="noStrike">
                <a:solidFill>
                  <a:srgbClr val="333333"/>
                </a:solidFill>
                <a:latin typeface="Times New Roman"/>
              </a:rPr>
              <a:t> approach is used which can be summarized in the following steps:</a:t>
            </a:r>
            <a:endParaRPr b="0" lang="en-US" sz="28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   At time k and for the current state </a:t>
            </a:r>
            <a:r>
              <a:rPr b="0" i="1" lang="en-US" sz="2400" spc="-1" strike="noStrike">
                <a:solidFill>
                  <a:srgbClr val="333333"/>
                </a:solidFill>
                <a:latin typeface="Times New Roman"/>
              </a:rPr>
              <a:t>x</a:t>
            </a:r>
            <a:r>
              <a:rPr b="0" lang="en-US" sz="2400" spc="-1" strike="noStrike">
                <a:solidFill>
                  <a:srgbClr val="333333"/>
                </a:solidFill>
                <a:latin typeface="Times New Roman"/>
              </a:rPr>
              <a:t>(</a:t>
            </a:r>
            <a:r>
              <a:rPr b="0" i="1" lang="en-US" sz="2400" spc="-1" strike="noStrike">
                <a:solidFill>
                  <a:srgbClr val="333333"/>
                </a:solidFill>
                <a:latin typeface="Times New Roman"/>
              </a:rPr>
              <a:t>k</a:t>
            </a:r>
            <a:r>
              <a:rPr b="0" lang="en-US" sz="2400" spc="-1" strike="noStrike">
                <a:solidFill>
                  <a:srgbClr val="333333"/>
                </a:solidFill>
                <a:latin typeface="Times New Roman"/>
              </a:rPr>
              <a:t>), solve, on-line, an </a:t>
            </a:r>
            <a:br>
              <a:rPr sz="2400"/>
            </a:br>
            <a:r>
              <a:rPr b="0" lang="en-US" sz="2400" spc="-1" strike="noStrike">
                <a:solidFill>
                  <a:srgbClr val="333333"/>
                </a:solidFill>
                <a:latin typeface="Times New Roman"/>
              </a:rPr>
              <a:t>       open-loop optimal control problem over some future </a:t>
            </a:r>
            <a:br>
              <a:rPr sz="2400"/>
            </a:br>
            <a:r>
              <a:rPr b="0" lang="en-US" sz="2400" spc="-1" strike="noStrike">
                <a:solidFill>
                  <a:srgbClr val="333333"/>
                </a:solidFill>
                <a:latin typeface="Times New Roman"/>
              </a:rPr>
              <a:t>       interval taking account of the current and </a:t>
            </a:r>
            <a:r>
              <a:rPr b="0" i="1" lang="en-US" sz="2400" spc="-1" strike="noStrike">
                <a:solidFill>
                  <a:srgbClr val="333333"/>
                </a:solidFill>
                <a:latin typeface="Times New Roman"/>
              </a:rPr>
              <a:t>future </a:t>
            </a:r>
            <a:br>
              <a:rPr sz="2400"/>
            </a:br>
            <a:r>
              <a:rPr b="0" lang="en-US" sz="2400" spc="-1" strike="noStrike">
                <a:solidFill>
                  <a:srgbClr val="333333"/>
                </a:solidFill>
                <a:latin typeface="Times New Roman"/>
              </a:rPr>
              <a:t>       constraints.</a:t>
            </a: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  Apply the first step in the optimal control sequence.</a:t>
            </a:r>
            <a:endParaRPr b="0" lang="en-US" sz="24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r>
              <a:rPr b="0" i="1" lang="en-US" sz="2400" spc="-1" strike="noStrike">
                <a:solidFill>
                  <a:srgbClr val="333333"/>
                </a:solidFill>
                <a:latin typeface="Times New Roman"/>
              </a:rPr>
              <a:t>iii</a:t>
            </a:r>
            <a:r>
              <a:rPr b="0" lang="en-US" sz="2400" spc="-1" strike="noStrike">
                <a:solidFill>
                  <a:srgbClr val="333333"/>
                </a:solidFill>
                <a:latin typeface="Times New Roman"/>
              </a:rPr>
              <a:t>) Repeat the procedure at time (</a:t>
            </a:r>
            <a:r>
              <a:rPr b="0" i="1" lang="en-US" sz="2400" spc="-1" strike="noStrike">
                <a:solidFill>
                  <a:srgbClr val="333333"/>
                </a:solidFill>
                <a:latin typeface="Times New Roman"/>
              </a:rPr>
              <a:t>k</a:t>
            </a:r>
            <a:r>
              <a:rPr b="0" lang="en-US" sz="2400" spc="-1" strike="noStrike">
                <a:solidFill>
                  <a:srgbClr val="333333"/>
                </a:solidFill>
                <a:latin typeface="Times New Roman"/>
              </a:rPr>
              <a:t>+1) using the current state    </a:t>
            </a:r>
            <a:br>
              <a:rPr sz="2400"/>
            </a:br>
            <a:r>
              <a:rPr b="0" lang="en-US" sz="2400" spc="-1" strike="noStrike">
                <a:solidFill>
                  <a:srgbClr val="333333"/>
                </a:solidFill>
                <a:latin typeface="Times New Roman"/>
              </a:rPr>
              <a:t>       </a:t>
            </a:r>
            <a:r>
              <a:rPr b="0" i="1" lang="en-US" sz="2400" spc="-1" strike="noStrike">
                <a:solidFill>
                  <a:srgbClr val="333333"/>
                </a:solidFill>
                <a:latin typeface="Times New Roman"/>
              </a:rPr>
              <a:t>x</a:t>
            </a:r>
            <a:r>
              <a:rPr b="0" lang="en-US" sz="2400" spc="-1" strike="noStrike">
                <a:solidFill>
                  <a:srgbClr val="333333"/>
                </a:solidFill>
                <a:latin typeface="Times New Roman"/>
              </a:rPr>
              <a:t>(</a:t>
            </a:r>
            <a:r>
              <a:rPr b="0" i="1" lang="en-US" sz="2400" spc="-1" strike="noStrike">
                <a:solidFill>
                  <a:srgbClr val="333333"/>
                </a:solidFill>
                <a:latin typeface="Times New Roman"/>
              </a:rPr>
              <a:t>k</a:t>
            </a:r>
            <a:r>
              <a:rPr b="0" lang="en-US" sz="2400" spc="-1" strike="noStrike">
                <a:solidFill>
                  <a:srgbClr val="333333"/>
                </a:solidFill>
                <a:latin typeface="Times New Roman"/>
              </a:rPr>
              <a:t>+1).</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tivation</a:t>
            </a:r>
            <a:endParaRPr b="0" lang="en-US" sz="4400" spc="-1" strike="noStrike">
              <a:solidFill>
                <a:srgbClr val="6600cc"/>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All real world control problems are subject to constraints of various types.  The most common constraints are actuator constraints (amplitude and slew rate limits).  In addition, many problems also have constraints on state variables (e.g. maximal pressures that cannot be exceeded, minimum tank levels, etc).</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In many design problems, these constraints can be ignored, at least in the initial design phase. However, in other problems, these constraints are an inescapable part of the problem formulation since the system operates near a constraint boundary.</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urning the solution into a closed loop policy</a:t>
            </a:r>
            <a:endParaRPr b="0" lang="en-US" sz="4400" spc="-1" strike="noStrike">
              <a:solidFill>
                <a:srgbClr val="6600cc"/>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olution is converted into a closed loop strategy by using the measured value of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as the current state.  When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is not directly measured then one can obtain a closed loop policy by replacing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by an estimate provided by some form of observ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tails for Nonlinear Model</a:t>
            </a:r>
            <a:endParaRPr b="0" lang="en-US" sz="4400" spc="-1" strike="noStrike">
              <a:solidFill>
                <a:srgbClr val="6600cc"/>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iven a model</a:t>
            </a: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MPC at event (</a:t>
            </a:r>
            <a:r>
              <a:rPr b="0" i="1" lang="en-US" sz="2400" spc="-1" strike="noStrike">
                <a:solidFill>
                  <a:srgbClr val="333333"/>
                </a:solidFill>
                <a:latin typeface="Times New Roman"/>
              </a:rPr>
              <a:t>x, k</a:t>
            </a:r>
            <a:r>
              <a:rPr b="0" lang="en-US" sz="2400" spc="-1" strike="noStrike">
                <a:solidFill>
                  <a:srgbClr val="333333"/>
                </a:solidFill>
                <a:latin typeface="Times New Roman"/>
              </a:rPr>
              <a:t>) is computed by solving a constrained optimal control problem:</a:t>
            </a: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ere</a:t>
            </a: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nd </a:t>
            </a:r>
            <a:r>
              <a:rPr b="0" i="1" lang="en-US" sz="2000" spc="-1" strike="noStrike">
                <a:solidFill>
                  <a:srgbClr val="333333"/>
                </a:solidFill>
                <a:latin typeface="eurm5"/>
              </a:rPr>
              <a:t>U</a:t>
            </a:r>
            <a:r>
              <a:rPr b="0" i="1" lang="en-US" sz="2400" spc="-1" strike="noStrike" baseline="-25000">
                <a:solidFill>
                  <a:srgbClr val="333333"/>
                </a:solidFill>
                <a:latin typeface="Times New Roman"/>
              </a:rPr>
              <a:t>N</a:t>
            </a:r>
            <a:r>
              <a:rPr b="0" i="1" lang="en-US" sz="2400" spc="-1" strike="noStrike">
                <a:solidFill>
                  <a:srgbClr val="333333"/>
                </a:solidFill>
                <a:latin typeface="Times New Roman"/>
              </a:rPr>
              <a:t> </a:t>
            </a:r>
            <a:r>
              <a:rPr b="0" lang="en-US" sz="2400" spc="-1" strike="noStrike">
                <a:solidFill>
                  <a:srgbClr val="333333"/>
                </a:solidFill>
                <a:latin typeface="Times New Roman"/>
              </a:rPr>
              <a:t>is the set of </a:t>
            </a:r>
            <a:r>
              <a:rPr b="0" i="1" lang="en-US" sz="2400" spc="-1" strike="noStrike">
                <a:solidFill>
                  <a:srgbClr val="333333"/>
                </a:solidFill>
                <a:latin typeface="Times New Roman"/>
              </a:rPr>
              <a:t>U</a:t>
            </a:r>
            <a:r>
              <a:rPr b="0" lang="en-US" sz="2400" spc="-1" strike="noStrike">
                <a:solidFill>
                  <a:srgbClr val="333333"/>
                </a:solidFill>
                <a:latin typeface="Times New Roman"/>
              </a:rPr>
              <a:t> that satisfy the constraints over the entire interval [</a:t>
            </a:r>
            <a:r>
              <a:rPr b="0" i="1" lang="en-US" sz="2400" spc="-1" strike="noStrike">
                <a:solidFill>
                  <a:srgbClr val="333333"/>
                </a:solidFill>
                <a:latin typeface="Times New Roman"/>
              </a:rPr>
              <a:t>k, k</a:t>
            </a:r>
            <a:r>
              <a:rPr b="0" lang="en-US" sz="2400" spc="-1" strike="noStrike">
                <a:solidFill>
                  <a:srgbClr val="333333"/>
                </a:solidFill>
                <a:latin typeface="Times New Roman"/>
              </a:rPr>
              <a:t> + </a:t>
            </a:r>
            <a:r>
              <a:rPr b="0" i="1" lang="en-US" sz="2400" spc="-1" strike="noStrike">
                <a:solidFill>
                  <a:srgbClr val="333333"/>
                </a:solidFill>
                <a:latin typeface="Times New Roman"/>
              </a:rPr>
              <a:t>N</a:t>
            </a:r>
            <a:r>
              <a:rPr b="0" lang="en-US" sz="2400" spc="-1" strike="noStrike">
                <a:solidFill>
                  <a:srgbClr val="333333"/>
                </a:solidFill>
                <a:latin typeface="Times New Roman"/>
              </a:rPr>
              <a:t> - 1]; i.e.</a:t>
            </a: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53" name="Eqn23_03_01" descr=""/>
          <p:cNvPicPr/>
          <p:nvPr/>
        </p:nvPicPr>
        <p:blipFill>
          <a:blip r:embed="rId2"/>
          <a:stretch/>
        </p:blipFill>
        <p:spPr>
          <a:xfrm>
            <a:off x="2239920" y="2479680"/>
            <a:ext cx="4419720" cy="262080"/>
          </a:xfrm>
          <a:prstGeom prst="rect">
            <a:avLst/>
          </a:prstGeom>
          <a:ln w="0">
            <a:noFill/>
          </a:ln>
        </p:spPr>
      </p:pic>
      <p:pic>
        <p:nvPicPr>
          <p:cNvPr id="154" name="Eqn23_03_02" descr=""/>
          <p:cNvPicPr/>
          <p:nvPr/>
        </p:nvPicPr>
        <p:blipFill>
          <a:blip r:embed="rId3"/>
          <a:stretch/>
        </p:blipFill>
        <p:spPr>
          <a:xfrm>
            <a:off x="2320920" y="3684600"/>
            <a:ext cx="4292640" cy="388800"/>
          </a:xfrm>
          <a:prstGeom prst="rect">
            <a:avLst/>
          </a:prstGeom>
          <a:ln w="0">
            <a:noFill/>
          </a:ln>
        </p:spPr>
      </p:pic>
      <p:pic>
        <p:nvPicPr>
          <p:cNvPr id="155" name="Eqn23_03_03" descr=""/>
          <p:cNvPicPr/>
          <p:nvPr/>
        </p:nvPicPr>
        <p:blipFill>
          <a:blip r:embed="rId4"/>
          <a:stretch/>
        </p:blipFill>
        <p:spPr>
          <a:xfrm>
            <a:off x="1730520" y="4511520"/>
            <a:ext cx="5230800" cy="116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ogether with the terminal constraint</a:t>
            </a:r>
            <a:endParaRPr b="0" lang="en-US" sz="24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Usually  </a:t>
            </a:r>
            <a:r>
              <a:rPr b="1" lang="en-US" sz="2400" spc="-1" strike="noStrike">
                <a:solidFill>
                  <a:srgbClr val="333333"/>
                </a:solidFill>
                <a:latin typeface="msbm10"/>
              </a:rPr>
              <a:t>U</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msbm10"/>
              </a:rPr>
              <a:t>R</a:t>
            </a:r>
            <a:r>
              <a:rPr b="0" i="1" lang="en-US" sz="2400" spc="-1" strike="noStrike" baseline="30000">
                <a:solidFill>
                  <a:srgbClr val="333333"/>
                </a:solidFill>
                <a:latin typeface="Times New Roman"/>
              </a:rPr>
              <a:t>m</a:t>
            </a:r>
            <a:r>
              <a:rPr b="0" i="1" lang="en-US" sz="2400" spc="-1" strike="noStrike">
                <a:solidFill>
                  <a:srgbClr val="333333"/>
                </a:solidFill>
                <a:latin typeface="Times New Roman"/>
              </a:rPr>
              <a:t> </a:t>
            </a:r>
            <a:r>
              <a:rPr b="0" lang="en-US" sz="2400" spc="-1" strike="noStrike">
                <a:solidFill>
                  <a:srgbClr val="333333"/>
                </a:solidFill>
                <a:latin typeface="Times New Roman"/>
              </a:rPr>
              <a:t>is convex and compact, </a:t>
            </a:r>
            <a:r>
              <a:rPr b="0" lang="en-US" sz="2400" spc="-1" strike="noStrike">
                <a:solidFill>
                  <a:srgbClr val="333333"/>
                </a:solidFill>
                <a:latin typeface="msbm10"/>
              </a:rPr>
              <a:t>X</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msbm10"/>
              </a:rPr>
              <a:t>R</a:t>
            </a:r>
            <a:r>
              <a:rPr b="0" i="1" lang="en-US" sz="2400" spc="-1" strike="noStrike" baseline="30000">
                <a:solidFill>
                  <a:srgbClr val="333333"/>
                </a:solidFill>
                <a:latin typeface="Times New Roman"/>
              </a:rPr>
              <a:t>n</a:t>
            </a:r>
            <a:r>
              <a:rPr b="0" lang="en-US" sz="2400" spc="-1" strike="noStrike">
                <a:solidFill>
                  <a:srgbClr val="333333"/>
                </a:solidFill>
                <a:latin typeface="Times New Roman"/>
              </a:rPr>
              <a:t>  is convex and closed, and W is a set that can be appropriately selected to achieve stability.</a:t>
            </a:r>
            <a:endParaRPr b="0" lang="en-US" sz="2400" spc="-1" strike="noStrike">
              <a:solidFill>
                <a:srgbClr val="333333"/>
              </a:solidFill>
              <a:latin typeface="Times New Roman"/>
            </a:endParaRPr>
          </a:p>
        </p:txBody>
      </p:sp>
      <p:pic>
        <p:nvPicPr>
          <p:cNvPr id="158" name="Eqn23_03_05" descr=""/>
          <p:cNvPicPr/>
          <p:nvPr/>
        </p:nvPicPr>
        <p:blipFill>
          <a:blip r:embed="rId2"/>
          <a:stretch/>
        </p:blipFill>
        <p:spPr>
          <a:xfrm>
            <a:off x="2151000" y="2351160"/>
            <a:ext cx="4670640" cy="646200"/>
          </a:xfrm>
          <a:prstGeom prst="rect">
            <a:avLst/>
          </a:prstGeom>
          <a:ln w="0">
            <a:noFill/>
          </a:ln>
        </p:spPr>
      </p:pic>
      <p:pic>
        <p:nvPicPr>
          <p:cNvPr id="159" name="Eqn23_03_07" descr=""/>
          <p:cNvPicPr/>
          <p:nvPr/>
        </p:nvPicPr>
        <p:blipFill>
          <a:blip r:embed="rId3"/>
          <a:stretch/>
        </p:blipFill>
        <p:spPr>
          <a:xfrm>
            <a:off x="3699000" y="3936960"/>
            <a:ext cx="1633320" cy="26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1" name="PlaceHolder 2"/>
          <p:cNvSpPr>
            <a:spLocks noGrp="1"/>
          </p:cNvSpPr>
          <p:nvPr>
            <p:ph/>
          </p:nvPr>
        </p:nvSpPr>
        <p:spPr>
          <a:xfrm>
            <a:off x="685800" y="1980720"/>
            <a:ext cx="7772400" cy="1575000"/>
          </a:xfrm>
          <a:prstGeom prst="rect">
            <a:avLst/>
          </a:prstGeom>
          <a:noFill/>
          <a:ln w="0">
            <a:noFill/>
          </a:ln>
        </p:spPr>
        <p:txBody>
          <a:bodyPr lIns="90000" rIns="90000" tIns="46800" bIns="46800" anchor="t">
            <a:normAutofit fontScale="4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the above formulation, the model and cost function are time invariant.  Hence, one obtains a time-invariant feedback control law.</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 actual control applied at time k is the first element of this sequence, i.e.</a:t>
            </a:r>
            <a:endParaRPr b="0" lang="en-US" sz="2800" spc="-1" strike="noStrike">
              <a:solidFill>
                <a:srgbClr val="333333"/>
              </a:solidFill>
              <a:latin typeface="Times New Roman"/>
            </a:endParaRPr>
          </a:p>
        </p:txBody>
      </p:sp>
      <p:pic>
        <p:nvPicPr>
          <p:cNvPr id="162" name="Eqn23_03_08" descr=""/>
          <p:cNvPicPr/>
          <p:nvPr/>
        </p:nvPicPr>
        <p:blipFill>
          <a:blip r:embed="rId2"/>
          <a:stretch/>
        </p:blipFill>
        <p:spPr>
          <a:xfrm>
            <a:off x="2330280" y="3468600"/>
            <a:ext cx="4292640" cy="389160"/>
          </a:xfrm>
          <a:prstGeom prst="rect">
            <a:avLst/>
          </a:prstGeom>
          <a:ln w="0">
            <a:noFill/>
          </a:ln>
        </p:spPr>
      </p:pic>
      <p:pic>
        <p:nvPicPr>
          <p:cNvPr id="163" name="Eqn23_03_09" descr=""/>
          <p:cNvPicPr/>
          <p:nvPr/>
        </p:nvPicPr>
        <p:blipFill>
          <a:blip r:embed="rId3"/>
          <a:stretch/>
        </p:blipFill>
        <p:spPr>
          <a:xfrm>
            <a:off x="2230560" y="3946680"/>
            <a:ext cx="4492440" cy="1163520"/>
          </a:xfrm>
          <a:prstGeom prst="rect">
            <a:avLst/>
          </a:prstGeom>
          <a:ln w="0">
            <a:noFill/>
          </a:ln>
        </p:spPr>
      </p:pic>
      <p:pic>
        <p:nvPicPr>
          <p:cNvPr id="164" name="Eqn23_03_11" descr=""/>
          <p:cNvPicPr/>
          <p:nvPr/>
        </p:nvPicPr>
        <p:blipFill>
          <a:blip r:embed="rId4"/>
          <a:stretch/>
        </p:blipFill>
        <p:spPr>
          <a:xfrm>
            <a:off x="2470320" y="5197320"/>
            <a:ext cx="4011480" cy="262080"/>
          </a:xfrm>
          <a:prstGeom prst="rect">
            <a:avLst/>
          </a:prstGeom>
          <a:ln w="0">
            <a:noFill/>
          </a:ln>
        </p:spPr>
      </p:pic>
      <p:pic>
        <p:nvPicPr>
          <p:cNvPr id="165" name="Eqn23_03_12" descr=""/>
          <p:cNvPicPr/>
          <p:nvPr/>
        </p:nvPicPr>
        <p:blipFill>
          <a:blip r:embed="rId5"/>
          <a:stretch/>
        </p:blipFill>
        <p:spPr>
          <a:xfrm>
            <a:off x="3930480" y="6477120"/>
            <a:ext cx="1090800" cy="26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23.10:  </a:t>
            </a:r>
            <a:r>
              <a:rPr b="0" i="1" lang="en-US" sz="2400" spc="-1" strike="noStrike">
                <a:solidFill>
                  <a:srgbClr val="333333"/>
                </a:solidFill>
                <a:latin typeface="Times New Roman"/>
              </a:rPr>
              <a:t>Receding horizon control principle</a:t>
            </a:r>
            <a:endParaRPr b="0" lang="en-US" sz="2400" spc="-1" strike="noStrike">
              <a:solidFill>
                <a:srgbClr val="6600cc"/>
              </a:solidFill>
              <a:latin typeface="Times New Roman"/>
            </a:endParaRPr>
          </a:p>
        </p:txBody>
      </p:sp>
      <p:pic>
        <p:nvPicPr>
          <p:cNvPr id="167" name="Fig23_07" descr=""/>
          <p:cNvPicPr/>
          <p:nvPr/>
        </p:nvPicPr>
        <p:blipFill>
          <a:blip r:embed="rId2"/>
          <a:stretch/>
        </p:blipFill>
        <p:spPr>
          <a:xfrm>
            <a:off x="3027240" y="1952640"/>
            <a:ext cx="2764080" cy="481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652320" y="2313000"/>
            <a:ext cx="7412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alternative view of Receding Horizon optimization is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lternative View of Receding Horizon Control Policy</a:t>
            </a:r>
            <a:endParaRPr b="0" lang="en-US" sz="4400" spc="-1" strike="noStrike">
              <a:solidFill>
                <a:srgbClr val="6600cc"/>
              </a:solidFill>
              <a:latin typeface="Times New Roman"/>
            </a:endParaRPr>
          </a:p>
        </p:txBody>
      </p:sp>
      <p:pic>
        <p:nvPicPr>
          <p:cNvPr id="170" name="horizon" descr=""/>
          <p:cNvPicPr/>
          <p:nvPr/>
        </p:nvPicPr>
        <p:blipFill>
          <a:blip r:embed="rId2"/>
          <a:stretch/>
        </p:blipFill>
        <p:spPr>
          <a:xfrm>
            <a:off x="1665360" y="2463840"/>
            <a:ext cx="5715000" cy="3262320"/>
          </a:xfrm>
          <a:prstGeom prst="rect">
            <a:avLst/>
          </a:prstGeom>
          <a:ln w="57240">
            <a:solidFill>
              <a:srgbClr val="004c2b"/>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2" name="PlaceHolder 2"/>
          <p:cNvSpPr>
            <a:spLocks noGrp="1"/>
          </p:cNvSpPr>
          <p:nvPr>
            <p:ph/>
          </p:nvPr>
        </p:nvSpPr>
        <p:spPr>
          <a:xfrm>
            <a:off x="676440" y="1933200"/>
            <a:ext cx="7772400" cy="11127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ssociated literature can be divided into four</a:t>
            </a:r>
            <a:br>
              <a:rPr sz="2800"/>
            </a:br>
            <a:r>
              <a:rPr b="0" lang="en-US" sz="2800" spc="-1" strike="noStrike">
                <a:solidFill>
                  <a:srgbClr val="333333"/>
                </a:solidFill>
                <a:latin typeface="Times New Roman"/>
              </a:rPr>
              <a:t>generations as follows:</a:t>
            </a:r>
            <a:endParaRPr b="0" lang="en-US" sz="2800" spc="-1" strike="noStrike">
              <a:solidFill>
                <a:srgbClr val="333333"/>
              </a:solidFill>
              <a:latin typeface="Times New Roman"/>
            </a:endParaRPr>
          </a:p>
        </p:txBody>
      </p:sp>
      <p:sp>
        <p:nvSpPr>
          <p:cNvPr id="173" name=""/>
          <p:cNvSpPr/>
          <p:nvPr/>
        </p:nvSpPr>
        <p:spPr>
          <a:xfrm>
            <a:off x="650880" y="3017880"/>
            <a:ext cx="8224920" cy="1112760"/>
          </a:xfrm>
          <a:prstGeom prst="rect">
            <a:avLst/>
          </a:prstGeom>
          <a:noFill/>
          <a:ln w="0">
            <a:noFill/>
          </a:ln>
        </p:spPr>
        <p:style>
          <a:lnRef idx="0"/>
          <a:fillRef idx="0"/>
          <a:effectRef idx="0"/>
          <a:fontRef idx="minor"/>
        </p:style>
        <p:txBody>
          <a:bodyPr lIns="90000" rIns="90000" tIns="46800" bIns="46800" anchor="t">
            <a:normAutofit fontScale="47000"/>
          </a:bodyPr>
          <a:p>
            <a:pPr marL="132480" indent="-132480">
              <a:spcBef>
                <a:spcPts val="5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Times New Roman"/>
              </a:rPr>
              <a:t>First generation</a:t>
            </a:r>
            <a:r>
              <a:rPr b="0" lang="en-US" sz="2200" spc="-1" strike="noStrike">
                <a:solidFill>
                  <a:srgbClr val="333333"/>
                </a:solidFill>
                <a:latin typeface="Times New Roman"/>
              </a:rPr>
              <a:t> (1970’s) - used impulse or step response linear models, quadratic cost function, and ad-hoc treatment of constraints.</a:t>
            </a:r>
            <a:endParaRPr b="0" lang="en-US" sz="2200" spc="-1" strike="noStrike">
              <a:solidFill>
                <a:srgbClr val="333333"/>
              </a:solidFill>
              <a:latin typeface="Times New Roman"/>
            </a:endParaRPr>
          </a:p>
          <a:p>
            <a:pPr marL="132480" indent="-132480">
              <a:spcBef>
                <a:spcPts val="123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Times New Roman"/>
              </a:rPr>
              <a:t>Second generation</a:t>
            </a:r>
            <a:r>
              <a:rPr b="0" lang="en-US" sz="2200" spc="-1" strike="noStrike">
                <a:solidFill>
                  <a:srgbClr val="333333"/>
                </a:solidFill>
                <a:latin typeface="Times New Roman"/>
              </a:rPr>
              <a:t> (1980’s) - linear state space models, quadratic cost function, input and output constraints expressed as linear inequalities, and quadratic programming used to solve the constrained optimal control problem.</a:t>
            </a:r>
            <a:endParaRPr b="0" lang="en-US" sz="2200" spc="-1" strike="noStrike">
              <a:solidFill>
                <a:srgbClr val="333333"/>
              </a:solidFill>
              <a:latin typeface="Times New Roman"/>
            </a:endParaRPr>
          </a:p>
          <a:p>
            <a:pPr marL="132480" indent="-132480">
              <a:spcBef>
                <a:spcPts val="123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Times New Roman"/>
              </a:rPr>
              <a:t>Third generation</a:t>
            </a:r>
            <a:r>
              <a:rPr b="0" lang="en-US" sz="2200" spc="-1" strike="noStrike">
                <a:solidFill>
                  <a:srgbClr val="333333"/>
                </a:solidFill>
                <a:latin typeface="Times New Roman"/>
              </a:rPr>
              <a:t> (1990’s) - several levels of constraints (soft, hard, ranked), mechanisms to recover from infeasible solutions.</a:t>
            </a:r>
            <a:endParaRPr b="0" lang="en-US" sz="2200" spc="-1" strike="noStrike">
              <a:solidFill>
                <a:srgbClr val="333333"/>
              </a:solidFill>
              <a:latin typeface="Times New Roman"/>
            </a:endParaRPr>
          </a:p>
          <a:p>
            <a:pPr marL="132480" indent="-132480">
              <a:spcBef>
                <a:spcPts val="123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Times New Roman"/>
              </a:rPr>
              <a:t>Fourth generation</a:t>
            </a:r>
            <a:r>
              <a:rPr b="0" lang="en-US" sz="2200" spc="-1" strike="noStrike">
                <a:solidFill>
                  <a:srgbClr val="333333"/>
                </a:solidFill>
                <a:latin typeface="Times New Roman"/>
              </a:rPr>
              <a:t> (late 1990’s) - nonlinear problems, guaranteed stability, and robust modifications.</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ility</a:t>
            </a:r>
            <a:endParaRPr b="0" lang="en-US" sz="4400" spc="-1" strike="noStrike">
              <a:solidFill>
                <a:srgbClr val="6600cc"/>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remarkable property of MPC is that one can establish stability of the resultant feedback system (at least with full state information). This is made possible by the fact that the value function of the optimal control problem acts as a Lyapunov function for the closed loop syste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ssumptions</a:t>
            </a:r>
            <a:endParaRPr b="0" lang="en-US" sz="4400" spc="-1" strike="noStrike">
              <a:solidFill>
                <a:srgbClr val="6600cc"/>
              </a:solidFill>
              <a:latin typeface="Times New Roman"/>
            </a:endParaRPr>
          </a:p>
        </p:txBody>
      </p:sp>
      <p:sp>
        <p:nvSpPr>
          <p:cNvPr id="177" name="PlaceHolder 2"/>
          <p:cNvSpPr>
            <a:spLocks noGrp="1"/>
          </p:cNvSpPr>
          <p:nvPr>
            <p:ph/>
          </p:nvPr>
        </p:nvSpPr>
        <p:spPr>
          <a:xfrm>
            <a:off x="685800" y="1980720"/>
            <a:ext cx="7772400" cy="1019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clarity of exposition, we make the following simplifying assumptions:</a:t>
            </a:r>
            <a:endParaRPr b="0" lang="en-US" sz="2800" spc="-1" strike="noStrike">
              <a:solidFill>
                <a:srgbClr val="333333"/>
              </a:solidFill>
              <a:latin typeface="Times New Roman"/>
            </a:endParaRPr>
          </a:p>
        </p:txBody>
      </p:sp>
      <p:sp>
        <p:nvSpPr>
          <p:cNvPr id="178" name=""/>
          <p:cNvSpPr/>
          <p:nvPr/>
        </p:nvSpPr>
        <p:spPr>
          <a:xfrm>
            <a:off x="679320" y="2998800"/>
            <a:ext cx="7772400" cy="1941480"/>
          </a:xfrm>
          <a:prstGeom prst="rect">
            <a:avLst/>
          </a:prstGeom>
          <a:noFill/>
          <a:ln w="0">
            <a:noFill/>
          </a:ln>
        </p:spPr>
        <p:style>
          <a:lnRef idx="0"/>
          <a:fillRef idx="0"/>
          <a:effectRef idx="0"/>
          <a:fontRef idx="minor"/>
        </p:style>
        <p:txBody>
          <a:bodyPr lIns="90000" rIns="90000" tIns="46800" bIns="46800" anchor="t">
            <a:normAutofit/>
          </a:bodyPr>
          <a:p>
            <a:pPr marL="687240" indent="-68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b"/>
                </a:solidFill>
                <a:latin typeface="Times New Roman"/>
              </a:rPr>
              <a:t>A1:</a:t>
            </a:r>
            <a:r>
              <a:rPr b="0" lang="en-US" sz="2400" spc="-1" strike="noStrike">
                <a:solidFill>
                  <a:srgbClr val="333333"/>
                </a:solidFill>
                <a:latin typeface="Times New Roman"/>
              </a:rPr>
              <a:t>	</a:t>
            </a:r>
            <a:r>
              <a:rPr b="0" lang="en-US" sz="2400" spc="-1" strike="noStrike">
                <a:solidFill>
                  <a:srgbClr val="333333"/>
                </a:solidFill>
                <a:latin typeface="Times New Roman"/>
              </a:rPr>
              <a:t>An additional constraint is placed on the final state</a:t>
            </a:r>
            <a:endParaRPr b="0" lang="en-US" sz="2400" spc="-1" strike="noStrike">
              <a:solidFill>
                <a:srgbClr val="333333"/>
              </a:solidFill>
              <a:latin typeface="Times New Roman"/>
            </a:endParaRPr>
          </a:p>
          <a:p>
            <a:pPr marL="687240" indent="-68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687240" indent="-68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marL="687240" indent="-68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b"/>
                </a:solidFill>
                <a:latin typeface="Times New Roman"/>
              </a:rPr>
              <a:t>A2:</a:t>
            </a:r>
            <a:r>
              <a:rPr b="0" lang="en-US" sz="2400" spc="-1" strike="noStrike">
                <a:solidFill>
                  <a:srgbClr val="333333"/>
                </a:solidFill>
                <a:latin typeface="Times New Roman"/>
              </a:rPr>
              <a:t>	</a:t>
            </a:r>
            <a:r>
              <a:rPr b="0" i="1" lang="en-US" sz="2400" spc="-1" strike="noStrike">
                <a:solidFill>
                  <a:srgbClr val="333333"/>
                </a:solidFill>
                <a:latin typeface="Times New Roman"/>
              </a:rPr>
              <a:t>L</a:t>
            </a:r>
            <a:r>
              <a:rPr b="0" lang="en-US" sz="2400" spc="-1" strike="noStrike">
                <a:solidFill>
                  <a:srgbClr val="333333"/>
                </a:solidFill>
                <a:latin typeface="Times New Roman"/>
              </a:rPr>
              <a:t>(</a:t>
            </a:r>
            <a:r>
              <a:rPr b="0" i="1" lang="en-US" sz="2400" spc="-1" strike="noStrike">
                <a:solidFill>
                  <a:srgbClr val="333333"/>
                </a:solidFill>
                <a:latin typeface="Times New Roman"/>
              </a:rPr>
              <a:t>x</a:t>
            </a:r>
            <a:r>
              <a:rPr b="0" lang="en-US" sz="2400" spc="-1" strike="noStrike">
                <a:solidFill>
                  <a:srgbClr val="333333"/>
                </a:solidFill>
                <a:latin typeface="Times New Roman"/>
              </a:rPr>
              <a:t>, </a:t>
            </a:r>
            <a:r>
              <a:rPr b="0" i="1" lang="en-US" sz="2400" spc="-1" strike="noStrike">
                <a:solidFill>
                  <a:srgbClr val="333333"/>
                </a:solidFill>
                <a:latin typeface="Times New Roman"/>
              </a:rPr>
              <a:t>u</a:t>
            </a:r>
            <a:r>
              <a:rPr b="0" lang="en-US" sz="2400" spc="-1" strike="noStrike">
                <a:solidFill>
                  <a:srgbClr val="333333"/>
                </a:solidFill>
                <a:latin typeface="Times New Roman"/>
              </a:rPr>
              <a:t>) is positive definite in both arguments.</a:t>
            </a:r>
            <a:endParaRPr b="0" lang="en-US" sz="2400" spc="-1" strike="noStrike">
              <a:solidFill>
                <a:srgbClr val="333333"/>
              </a:solidFill>
              <a:latin typeface="Times New Roman"/>
            </a:endParaRPr>
          </a:p>
        </p:txBody>
      </p:sp>
      <p:pic>
        <p:nvPicPr>
          <p:cNvPr id="179" name="Eqn23_04_01" descr=""/>
          <p:cNvPicPr/>
          <p:nvPr/>
        </p:nvPicPr>
        <p:blipFill>
          <a:blip r:embed="rId2"/>
          <a:stretch/>
        </p:blipFill>
        <p:spPr>
          <a:xfrm>
            <a:off x="3746520" y="3711600"/>
            <a:ext cx="1066680" cy="2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Motivation - </a:t>
            </a:r>
            <a:r>
              <a:rPr b="0" i="1" lang="en-US" sz="3600" spc="-1" strike="noStrike">
                <a:solidFill>
                  <a:srgbClr val="6600cc"/>
                </a:solidFill>
                <a:latin typeface="Times New Roman"/>
              </a:rPr>
              <a:t>continued</a:t>
            </a:r>
            <a:endParaRPr b="0" lang="en-US" sz="3600" spc="-1" strike="noStrike">
              <a:solidFill>
                <a:srgbClr val="6600cc"/>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pter 11 described methods for dealing with constraints based on anti-windup strategies. These are probably perfectly adequate for simple problems - especially SISO problems.  However, in more complex MIMO problems - especially those having both input and state constraints, it is frequently desirable to have a more formal mechanism for dealing with constraints in MIMO control system desig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Theorem 23.1:</a:t>
            </a:r>
            <a:r>
              <a:rPr b="0" lang="en-US" sz="2800" spc="-1" strike="noStrike">
                <a:solidFill>
                  <a:srgbClr val="333333"/>
                </a:solidFill>
                <a:latin typeface="Times New Roman"/>
              </a:rPr>
              <a:t>  </a:t>
            </a:r>
            <a:r>
              <a:rPr b="0" i="1" lang="en-US" sz="2800" spc="-1" strike="noStrike">
                <a:solidFill>
                  <a:srgbClr val="333333"/>
                </a:solidFill>
                <a:latin typeface="Times New Roman"/>
              </a:rPr>
              <a:t>Consider the system controlled by the receding horizon MPC algorithm and subject to a terminal constraint.  This control law renders the resultant closed loop system globally asymptotically st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tails of Proof</a:t>
            </a:r>
            <a:endParaRPr b="0" lang="en-US" sz="4400" spc="-1" strike="noStrike">
              <a:solidFill>
                <a:srgbClr val="6600cc"/>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value function          is positive definite and proper (</a:t>
            </a:r>
            <a:r>
              <a:rPr b="0" i="1" lang="en-US" sz="2800" spc="-1" strike="noStrike">
                <a:solidFill>
                  <a:srgbClr val="333333"/>
                </a:solidFill>
                <a:latin typeface="Times New Roman"/>
              </a:rPr>
              <a:t>V</a:t>
            </a:r>
            <a:r>
              <a:rPr b="0" lang="en-US" sz="2800" spc="-1" strike="noStrike">
                <a:solidFill>
                  <a:srgbClr val="333333"/>
                </a:solidFill>
                <a:latin typeface="Times New Roman"/>
              </a:rPr>
              <a:t>(</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lang="en-US" sz="2800" spc="-1" strike="noStrike">
                <a:solidFill>
                  <a:srgbClr val="333333"/>
                </a:solidFill>
                <a:latin typeface="Symbol"/>
                <a:ea typeface="Symbol"/>
              </a:rPr>
              <a:t></a:t>
            </a:r>
            <a:r>
              <a:rPr b="0" lang="en-US" sz="2800" spc="-1" strike="noStrike">
                <a:solidFill>
                  <a:srgbClr val="333333"/>
                </a:solidFill>
                <a:latin typeface="Times New Roman"/>
              </a:rPr>
              <a:t> as ||x|| </a:t>
            </a:r>
            <a:r>
              <a:rPr b="0" lang="en-US" sz="2800" spc="-1" strike="noStrike">
                <a:solidFill>
                  <a:srgbClr val="333333"/>
                </a:solidFill>
                <a:latin typeface="Symbol"/>
                <a:ea typeface="Symbol"/>
              </a:rPr>
              <a:t></a:t>
            </a:r>
            <a:r>
              <a:rPr b="0" lang="en-US" sz="2800" spc="-1" strike="noStrike">
                <a:solidFill>
                  <a:srgbClr val="333333"/>
                </a:solidFill>
                <a:latin typeface="Times New Roman"/>
              </a:rPr>
              <a:t>).  It can therefore be used as a Lyapunov function for the problem. We recall that at event (</a:t>
            </a:r>
            <a:r>
              <a:rPr b="0" i="1" lang="en-US" sz="2800" spc="-1" strike="noStrike">
                <a:solidFill>
                  <a:srgbClr val="333333"/>
                </a:solidFill>
                <a:latin typeface="Times New Roman"/>
              </a:rPr>
              <a:t>x</a:t>
            </a:r>
            <a:r>
              <a:rPr b="0" lang="en-US" sz="2800" spc="-1" strike="noStrike">
                <a:solidFill>
                  <a:srgbClr val="333333"/>
                </a:solidFill>
                <a:latin typeface="Times New Roman"/>
              </a:rPr>
              <a:t>, </a:t>
            </a:r>
            <a:r>
              <a:rPr b="0" i="1" lang="en-US" sz="2800" spc="-1" strike="noStrike">
                <a:solidFill>
                  <a:srgbClr val="333333"/>
                </a:solidFill>
                <a:latin typeface="Times New Roman"/>
              </a:rPr>
              <a:t>k</a:t>
            </a:r>
            <a:r>
              <a:rPr b="0" lang="en-US" sz="2800" spc="-1" strike="noStrike">
                <a:solidFill>
                  <a:srgbClr val="333333"/>
                </a:solidFill>
                <a:latin typeface="Times New Roman"/>
              </a:rPr>
              <a:t>), MPC solv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bject to constraints.</a:t>
            </a:r>
            <a:endParaRPr b="0" lang="en-US" sz="2800" spc="-1" strike="noStrike">
              <a:solidFill>
                <a:srgbClr val="333333"/>
              </a:solidFill>
              <a:latin typeface="Times New Roman"/>
            </a:endParaRPr>
          </a:p>
        </p:txBody>
      </p:sp>
      <mc:AlternateContent>
        <mc:Choice xmlns:a14="http://schemas.microsoft.com/office/drawing/2010/main" Requires="a14">
          <p:sp>
            <p:nvSpPr>
              <p:cNvPr id="184" name=""/>
              <p:cNvSpPr txBox="1"/>
              <p:nvPr/>
            </p:nvSpPr>
            <p:spPr>
              <a:xfrm>
                <a:off x="3570120" y="2004840"/>
                <a:ext cx="698760" cy="481320"/>
              </a:xfrm>
              <a:prstGeom prst="rect">
                <a:avLst/>
              </a:prstGeom>
            </p:spPr>
            <p:txBody>
              <a:bodyPr/>
              <a:p>
                <a14:m>
                  <m:oMath xmlns:m="http://schemas.openxmlformats.org/officeDocument/2006/math">
                    <m:sSubSup>
                      <m:e>
                        <m:r>
                          <m:t xml:space="preserve">V</m:t>
                        </m:r>
                      </m:e>
                      <m:sub>
                        <m:r>
                          <m:t xml:space="preserve">N</m:t>
                        </m:r>
                      </m:sub>
                      <m:sup>
                        <m:r>
                          <m:t xml:space="preserve">0</m:t>
                        </m:r>
                      </m:sup>
                    </m:sSubSup>
                    <m:r>
                      <m:t xml:space="preserve">(</m:t>
                    </m:r>
                    <m:r>
                      <m:t xml:space="preserve">⋅</m:t>
                    </m:r>
                    <m:r>
                      <m:t xml:space="preserve">)</m:t>
                    </m:r>
                  </m:oMath>
                </a14:m>
              </a:p>
            </p:txBody>
          </p:sp>
        </mc:Choice>
        <mc:Fallback/>
      </mc:AlternateContent>
      <p:pic>
        <p:nvPicPr>
          <p:cNvPr id="185" name="Eqn23_04_02" descr=""/>
          <p:cNvPicPr/>
          <p:nvPr/>
        </p:nvPicPr>
        <p:blipFill>
          <a:blip r:embed="rId2"/>
          <a:stretch/>
        </p:blipFill>
        <p:spPr>
          <a:xfrm>
            <a:off x="2374920" y="3844800"/>
            <a:ext cx="4340160" cy="389160"/>
          </a:xfrm>
          <a:prstGeom prst="rect">
            <a:avLst/>
          </a:prstGeom>
          <a:ln w="0">
            <a:noFill/>
          </a:ln>
        </p:spPr>
      </p:pic>
      <p:pic>
        <p:nvPicPr>
          <p:cNvPr id="186" name="Eqn23_04_03" descr=""/>
          <p:cNvPicPr/>
          <p:nvPr/>
        </p:nvPicPr>
        <p:blipFill>
          <a:blip r:embed="rId3"/>
          <a:stretch/>
        </p:blipFill>
        <p:spPr>
          <a:xfrm>
            <a:off x="2325600" y="4503600"/>
            <a:ext cx="4492800" cy="762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roof continued:</a:t>
            </a:r>
            <a:endParaRPr b="0" lang="en-US" sz="4400" spc="-1" strike="noStrike">
              <a:solidFill>
                <a:srgbClr val="6600cc"/>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denote the optimal open loop control sequence solving </a:t>
            </a:r>
            <a:r>
              <a:rPr b="0" lang="en-US" sz="2800" spc="-1" strike="noStrike">
                <a:solidFill>
                  <a:srgbClr val="333333"/>
                </a:solidFill>
                <a:latin typeface="cmbsy10"/>
              </a:rPr>
              <a:t>P</a:t>
            </a:r>
            <a:r>
              <a:rPr b="0" i="1" lang="en-US" sz="2800" spc="-1" strike="noStrike" baseline="-25000">
                <a:solidFill>
                  <a:srgbClr val="333333"/>
                </a:solidFill>
                <a:latin typeface="Times New Roman"/>
              </a:rPr>
              <a:t>N</a:t>
            </a:r>
            <a:r>
              <a:rPr b="0" lang="en-US" sz="2800" spc="-1" strike="noStrike">
                <a:solidFill>
                  <a:srgbClr val="333333"/>
                </a:solidFill>
                <a:latin typeface="Times New Roman"/>
              </a:rPr>
              <a:t>(</a:t>
            </a:r>
            <a:r>
              <a:rPr b="0" i="1" lang="en-US" sz="2800" spc="-1" strike="noStrike">
                <a:solidFill>
                  <a:srgbClr val="333333"/>
                </a:solidFill>
                <a:latin typeface="Times New Roman"/>
              </a:rPr>
              <a:t>x</a:t>
            </a:r>
            <a:r>
              <a:rPr b="0" lang="en-US" sz="2800" spc="-1" strike="noStrike">
                <a:solidFill>
                  <a:srgbClr val="333333"/>
                </a:solidFill>
                <a:latin typeface="Times New Roman"/>
              </a:rPr>
              <a:t>) as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call that inherent in the MPC strategy is the fact that the actual control applied at time </a:t>
            </a:r>
            <a:r>
              <a:rPr b="0" i="1" lang="en-US" sz="2800" spc="-1" strike="noStrike">
                <a:solidFill>
                  <a:srgbClr val="333333"/>
                </a:solidFill>
                <a:latin typeface="Times New Roman"/>
              </a:rPr>
              <a:t>k</a:t>
            </a:r>
            <a:r>
              <a:rPr b="0" lang="en-US" sz="2800" spc="-1" strike="noStrike">
                <a:solidFill>
                  <a:srgbClr val="333333"/>
                </a:solidFill>
                <a:latin typeface="Times New Roman"/>
              </a:rPr>
              <a:t> is the first value of this sequence;  i.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t </a:t>
            </a:r>
            <a:r>
              <a:rPr b="0" i="1" lang="en-US" sz="2800" spc="-1" strike="noStrike">
                <a:solidFill>
                  <a:srgbClr val="333333"/>
                </a:solidFill>
                <a:latin typeface="Times New Roman"/>
              </a:rPr>
              <a:t>x</a:t>
            </a:r>
            <a:r>
              <a:rPr b="0" lang="en-US" sz="2800" spc="-1" strike="noStrike">
                <a:solidFill>
                  <a:srgbClr val="333333"/>
                </a:solidFill>
                <a:latin typeface="Times New Roman"/>
              </a:rPr>
              <a:t>(1) = </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x</a:t>
            </a:r>
            <a:r>
              <a:rPr b="0" lang="en-US" sz="2800" spc="-1" strike="noStrike">
                <a:solidFill>
                  <a:srgbClr val="333333"/>
                </a:solidFill>
                <a:latin typeface="Times New Roman"/>
              </a:rPr>
              <a:t>,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x</a:t>
            </a:r>
            <a:r>
              <a:rPr b="0" lang="en-US" sz="2800" spc="-1" strike="noStrike">
                <a:solidFill>
                  <a:srgbClr val="333333"/>
                </a:solidFill>
                <a:latin typeface="Times New Roman"/>
              </a:rPr>
              <a:t>)) and let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N</a:t>
            </a:r>
            <a:r>
              <a:rPr b="0" lang="en-US" sz="2800" spc="-1" strike="noStrike">
                <a:solidFill>
                  <a:srgbClr val="333333"/>
                </a:solidFill>
                <a:latin typeface="Times New Roman"/>
              </a:rPr>
              <a:t>) be the terminal state resulting from the application of      .  Note that we are assuming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N</a:t>
            </a:r>
            <a:r>
              <a:rPr b="0" lang="en-US" sz="2800" spc="-1" strike="noStrike">
                <a:solidFill>
                  <a:srgbClr val="333333"/>
                </a:solidFill>
                <a:latin typeface="Times New Roman"/>
              </a:rPr>
              <a:t>) = 0. </a:t>
            </a:r>
            <a:endParaRPr b="0" lang="en-US" sz="2800" spc="-1" strike="noStrike">
              <a:solidFill>
                <a:srgbClr val="333333"/>
              </a:solidFill>
              <a:latin typeface="Times New Roman"/>
            </a:endParaRPr>
          </a:p>
        </p:txBody>
      </p:sp>
      <p:pic>
        <p:nvPicPr>
          <p:cNvPr id="189" name="Eqn23_04_04" descr=""/>
          <p:cNvPicPr/>
          <p:nvPr/>
        </p:nvPicPr>
        <p:blipFill>
          <a:blip r:embed="rId2"/>
          <a:stretch/>
        </p:blipFill>
        <p:spPr>
          <a:xfrm>
            <a:off x="2579760" y="3038400"/>
            <a:ext cx="4011480" cy="262080"/>
          </a:xfrm>
          <a:prstGeom prst="rect">
            <a:avLst/>
          </a:prstGeom>
          <a:ln w="0">
            <a:noFill/>
          </a:ln>
        </p:spPr>
      </p:pic>
      <mc:AlternateContent>
        <mc:Choice xmlns:a14="http://schemas.microsoft.com/office/drawing/2010/main" Requires="a14">
          <p:sp>
            <p:nvSpPr>
              <p:cNvPr id="190" name=""/>
              <p:cNvSpPr txBox="1"/>
              <p:nvPr/>
            </p:nvSpPr>
            <p:spPr>
              <a:xfrm>
                <a:off x="5478480" y="5757840"/>
                <a:ext cx="392040" cy="480960"/>
              </a:xfrm>
              <a:prstGeom prst="rect">
                <a:avLst/>
              </a:prstGeom>
            </p:spPr>
            <p:txBody>
              <a:bodyPr/>
              <a:p>
                <a14:m>
                  <m:oMath xmlns:m="http://schemas.openxmlformats.org/officeDocument/2006/math">
                    <m:sSubSup>
                      <m:e>
                        <m:r>
                          <m:t xml:space="preserve">U</m:t>
                        </m:r>
                      </m:e>
                      <m:sub>
                        <m:r>
                          <m:t xml:space="preserve">x</m:t>
                        </m:r>
                      </m:sub>
                      <m:sup>
                        <m:r>
                          <m:t xml:space="preserve">0</m:t>
                        </m:r>
                      </m:sup>
                    </m:sSubSup>
                  </m:oMath>
                </a14:m>
              </a:p>
            </p:txBody>
          </p:sp>
        </mc:Choice>
        <mc:Fallback/>
      </mc:AlternateContent>
      <p:pic>
        <p:nvPicPr>
          <p:cNvPr id="191" name="Eqn23_04_05" descr=""/>
          <p:cNvPicPr/>
          <p:nvPr/>
        </p:nvPicPr>
        <p:blipFill>
          <a:blip r:embed="rId3"/>
          <a:stretch/>
        </p:blipFill>
        <p:spPr>
          <a:xfrm>
            <a:off x="3581280" y="4957920"/>
            <a:ext cx="1925640" cy="261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roof continued:</a:t>
            </a:r>
            <a:endParaRPr b="0" lang="en-US" sz="4400" spc="-1" strike="noStrike">
              <a:solidFill>
                <a:srgbClr val="6600cc"/>
              </a:solidFill>
              <a:latin typeface="Times New Roman"/>
            </a:endParaRPr>
          </a:p>
        </p:txBody>
      </p:sp>
      <p:sp>
        <p:nvSpPr>
          <p:cNvPr id="193" name="PlaceHolder 2"/>
          <p:cNvSpPr>
            <a:spLocks noGrp="1"/>
          </p:cNvSpPr>
          <p:nvPr>
            <p:ph/>
          </p:nvPr>
        </p:nvSpPr>
        <p:spPr>
          <a:xfrm>
            <a:off x="685800" y="1981080"/>
            <a:ext cx="8221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feasible solution (but not the optimal one) for the second step in the receding horizon computation </a:t>
            </a:r>
            <a:endParaRPr b="0" lang="en-US" sz="2800" spc="-1" strike="noStrike">
              <a:solidFill>
                <a:srgbClr val="333333"/>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cmbsy10"/>
              </a:rPr>
              <a:t>P</a:t>
            </a:r>
            <a:r>
              <a:rPr b="0" i="1" lang="en-US" sz="2800" spc="-1" strike="noStrike" baseline="-25000">
                <a:solidFill>
                  <a:srgbClr val="333333"/>
                </a:solidFill>
                <a:latin typeface="Times New Roman"/>
              </a:rPr>
              <a:t>N</a:t>
            </a:r>
            <a:r>
              <a:rPr b="0" lang="en-US" sz="2800" spc="-1" strike="noStrike">
                <a:solidFill>
                  <a:srgbClr val="333333"/>
                </a:solidFill>
                <a:latin typeface="Times New Roman"/>
              </a:rPr>
              <a:t>(</a:t>
            </a:r>
            <a:r>
              <a:rPr b="0" i="1" lang="en-US" sz="2800" spc="-1" strike="noStrike">
                <a:solidFill>
                  <a:srgbClr val="333333"/>
                </a:solidFill>
                <a:latin typeface="Times New Roman"/>
              </a:rPr>
              <a:t>x</a:t>
            </a:r>
            <a:r>
              <a:rPr b="0" i="1" lang="en-US" sz="2800" spc="-1" strike="noStrike" baseline="-25000">
                <a:solidFill>
                  <a:srgbClr val="333333"/>
                </a:solidFill>
                <a:latin typeface="Times New Roman"/>
              </a:rPr>
              <a:t>1</a:t>
            </a:r>
            <a:r>
              <a:rPr b="0" lang="en-US" sz="2800" spc="-1" strike="noStrike">
                <a:solidFill>
                  <a:srgbClr val="333333"/>
                </a:solidFill>
                <a:latin typeface="Times New Roman"/>
              </a:rPr>
              <a:t>) is then:</a:t>
            </a:r>
            <a:endParaRPr b="0" lang="en-US" sz="2800" spc="-1" strike="noStrike">
              <a:solidFill>
                <a:srgbClr val="333333"/>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 increment of the Lyapunov function on using the true MPC optimal input and when moving from </a:t>
            </a:r>
            <a:r>
              <a:rPr b="0" i="1" lang="en-US" sz="2800" spc="-1" strike="noStrike">
                <a:solidFill>
                  <a:srgbClr val="333333"/>
                </a:solidFill>
                <a:latin typeface="Times New Roman"/>
              </a:rPr>
              <a:t>x</a:t>
            </a:r>
            <a:r>
              <a:rPr b="0" lang="en-US" sz="2800" spc="-1" strike="noStrike">
                <a:solidFill>
                  <a:srgbClr val="333333"/>
                </a:solidFill>
                <a:latin typeface="Times New Roman"/>
              </a:rPr>
              <a:t> to </a:t>
            </a:r>
            <a:r>
              <a:rPr b="0" i="1" lang="en-US" sz="2800" spc="-1" strike="noStrike">
                <a:solidFill>
                  <a:srgbClr val="333333"/>
                </a:solidFill>
                <a:latin typeface="Times New Roman"/>
              </a:rPr>
              <a:t>x</a:t>
            </a:r>
            <a:r>
              <a:rPr b="0" lang="en-US" sz="2800" spc="-1" strike="noStrike">
                <a:solidFill>
                  <a:srgbClr val="333333"/>
                </a:solidFill>
                <a:latin typeface="Times New Roman"/>
              </a:rPr>
              <a:t>(1) = </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x</a:t>
            </a:r>
            <a:r>
              <a:rPr b="0" lang="en-US" sz="2800" spc="-1" strike="noStrike">
                <a:solidFill>
                  <a:srgbClr val="333333"/>
                </a:solidFill>
                <a:latin typeface="Times New Roman"/>
              </a:rPr>
              <a:t>,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x</a:t>
            </a:r>
            <a:r>
              <a:rPr b="0" lang="en-US" sz="2800" spc="-1" strike="noStrike">
                <a:solidFill>
                  <a:srgbClr val="333333"/>
                </a:solidFill>
                <a:latin typeface="Times New Roman"/>
              </a:rPr>
              <a:t>)) satisfies:</a:t>
            </a:r>
            <a:endParaRPr b="0" lang="en-US" sz="2800" spc="-1" strike="noStrike">
              <a:solidFill>
                <a:srgbClr val="333333"/>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94" name="Eqn23_04_06" descr=""/>
          <p:cNvPicPr/>
          <p:nvPr/>
        </p:nvPicPr>
        <p:blipFill>
          <a:blip r:embed="rId2"/>
          <a:stretch/>
        </p:blipFill>
        <p:spPr>
          <a:xfrm>
            <a:off x="2546280" y="3706920"/>
            <a:ext cx="4237200" cy="315720"/>
          </a:xfrm>
          <a:prstGeom prst="rect">
            <a:avLst/>
          </a:prstGeom>
          <a:ln w="0">
            <a:noFill/>
          </a:ln>
        </p:spPr>
      </p:pic>
      <p:pic>
        <p:nvPicPr>
          <p:cNvPr id="195" name="Eqn23_04_07" descr=""/>
          <p:cNvPicPr/>
          <p:nvPr/>
        </p:nvPicPr>
        <p:blipFill>
          <a:blip r:embed="rId3"/>
          <a:stretch/>
        </p:blipFill>
        <p:spPr>
          <a:xfrm>
            <a:off x="2508120" y="5851440"/>
            <a:ext cx="4316400" cy="762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roof continued:</a:t>
            </a:r>
            <a:endParaRPr b="0" lang="en-US" sz="4400" spc="-1" strike="noStrike">
              <a:solidFill>
                <a:srgbClr val="6600cc"/>
              </a:solidFill>
              <a:latin typeface="Times New Roman"/>
            </a:endParaRPr>
          </a:p>
        </p:txBody>
      </p:sp>
      <p:sp>
        <p:nvSpPr>
          <p:cNvPr id="197" name="PlaceHolder 2"/>
          <p:cNvSpPr>
            <a:spLocks noGrp="1"/>
          </p:cNvSpPr>
          <p:nvPr>
            <p:ph/>
          </p:nvPr>
        </p:nvSpPr>
        <p:spPr>
          <a:xfrm>
            <a:off x="685800" y="1981080"/>
            <a:ext cx="7772400" cy="2617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owever, since        is optimal, we know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is the sub-optimal sequence defined earlier.  Hence, we have</a:t>
            </a:r>
            <a:endParaRPr b="0" lang="en-US" sz="2800" spc="-1" strike="noStrike">
              <a:solidFill>
                <a:srgbClr val="333333"/>
              </a:solidFill>
              <a:latin typeface="Times New Roman"/>
            </a:endParaRPr>
          </a:p>
        </p:txBody>
      </p:sp>
      <mc:AlternateContent>
        <mc:Choice xmlns:a14="http://schemas.microsoft.com/office/drawing/2010/main" Requires="a14">
          <p:sp>
            <p:nvSpPr>
              <p:cNvPr id="198" name=""/>
              <p:cNvSpPr txBox="1"/>
              <p:nvPr/>
            </p:nvSpPr>
            <p:spPr>
              <a:xfrm>
                <a:off x="3062160" y="1987560"/>
                <a:ext cx="481320" cy="596880"/>
              </a:xfrm>
              <a:prstGeom prst="rect">
                <a:avLst/>
              </a:prstGeom>
            </p:spPr>
            <p:txBody>
              <a:bodyPr/>
              <a:p>
                <a14:m>
                  <m:oMath xmlns:m="http://schemas.openxmlformats.org/officeDocument/2006/math">
                    <m:sSubSup>
                      <m:e>
                        <m:r>
                          <m:t xml:space="preserve">U</m:t>
                        </m:r>
                      </m:e>
                      <m:sub>
                        <m:sSub>
                          <m:e>
                            <m:r>
                              <m:t xml:space="preserve">x</m:t>
                            </m:r>
                          </m:e>
                          <m:sub>
                            <m:r>
                              <m:t xml:space="preserve">1</m:t>
                            </m:r>
                          </m:sub>
                        </m:sSub>
                      </m:sub>
                      <m:sup>
                        <m:r>
                          <m:t xml:space="preserve">0</m:t>
                        </m:r>
                      </m:sup>
                    </m:sSubSup>
                  </m:oMath>
                </a14:m>
              </a:p>
            </p:txBody>
          </p:sp>
        </mc:Choice>
        <mc:Fallback/>
      </mc:AlternateContent>
      <mc:AlternateContent>
        <mc:Choice xmlns:a14="http://schemas.microsoft.com/office/drawing/2010/main" Requires="a14">
          <p:sp>
            <p:nvSpPr>
              <p:cNvPr id="199" name=""/>
              <p:cNvSpPr txBox="1"/>
              <p:nvPr/>
            </p:nvSpPr>
            <p:spPr>
              <a:xfrm>
                <a:off x="1778040" y="3594240"/>
                <a:ext cx="392040" cy="404640"/>
              </a:xfrm>
              <a:prstGeom prst="rect">
                <a:avLst/>
              </a:prstGeom>
            </p:spPr>
            <p:txBody>
              <a:bodyPr/>
              <a:p>
                <a14:m>
                  <m:oMath xmlns:m="http://schemas.openxmlformats.org/officeDocument/2006/math">
                    <m:sSub>
                      <m:e>
                        <m:acc>
                          <m:accPr>
                            <m:chr m:val="~"/>
                          </m:accPr>
                          <m:e>
                            <m:r>
                              <m:t xml:space="preserve">U</m:t>
                            </m:r>
                          </m:e>
                        </m:acc>
                      </m:e>
                      <m:sub>
                        <m:r>
                          <m:t xml:space="preserve">x</m:t>
                        </m:r>
                      </m:sub>
                    </m:sSub>
                  </m:oMath>
                </a14:m>
              </a:p>
            </p:txBody>
          </p:sp>
        </mc:Choice>
        <mc:Fallback/>
      </mc:AlternateContent>
      <p:pic>
        <p:nvPicPr>
          <p:cNvPr id="200" name="Eqn23_04_08" descr=""/>
          <p:cNvPicPr/>
          <p:nvPr/>
        </p:nvPicPr>
        <p:blipFill>
          <a:blip r:embed="rId2"/>
          <a:stretch/>
        </p:blipFill>
        <p:spPr>
          <a:xfrm>
            <a:off x="2895480" y="2876400"/>
            <a:ext cx="3299040" cy="341640"/>
          </a:xfrm>
          <a:prstGeom prst="rect">
            <a:avLst/>
          </a:prstGeom>
          <a:ln w="0">
            <a:noFill/>
          </a:ln>
        </p:spPr>
      </p:pic>
      <p:pic>
        <p:nvPicPr>
          <p:cNvPr id="201" name="Eqn23_04_09" descr=""/>
          <p:cNvPicPr/>
          <p:nvPr/>
        </p:nvPicPr>
        <p:blipFill>
          <a:blip r:embed="rId3"/>
          <a:stretch/>
        </p:blipFill>
        <p:spPr>
          <a:xfrm>
            <a:off x="2357280" y="4849920"/>
            <a:ext cx="4213440" cy="315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roof continued:</a:t>
            </a:r>
            <a:endParaRPr b="0" lang="en-US" sz="4400" spc="-1" strike="noStrike">
              <a:solidFill>
                <a:srgbClr val="6600cc"/>
              </a:solidFill>
              <a:latin typeface="Times New Roman"/>
            </a:endParaRPr>
          </a:p>
        </p:txBody>
      </p:sp>
      <p:sp>
        <p:nvSpPr>
          <p:cNvPr id="203" name="PlaceHolder 2"/>
          <p:cNvSpPr>
            <a:spLocks noGrp="1"/>
          </p:cNvSpPr>
          <p:nvPr>
            <p:ph/>
          </p:nvPr>
        </p:nvSpPr>
        <p:spPr>
          <a:xfrm>
            <a:off x="685800" y="1981080"/>
            <a:ext cx="8112240" cy="4114800"/>
          </a:xfrm>
          <a:prstGeom prst="rect">
            <a:avLst/>
          </a:prstGeom>
          <a:noFill/>
          <a:ln w="0">
            <a:noFill/>
          </a:ln>
        </p:spPr>
        <p:txBody>
          <a:bodyPr lIns="90000" rIns="90000" tIns="46800" bIns="46800" anchor="t">
            <a:normAutofit fontScale="8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ing the fact that      shares (</a:t>
            </a:r>
            <a:r>
              <a:rPr b="0" i="1" lang="en-US" sz="2800" spc="-1" strike="noStrike">
                <a:solidFill>
                  <a:srgbClr val="333333"/>
                </a:solidFill>
                <a:latin typeface="Times New Roman"/>
              </a:rPr>
              <a:t>N</a:t>
            </a:r>
            <a:r>
              <a:rPr b="0" lang="en-US" sz="2800" spc="-1" strike="noStrike">
                <a:solidFill>
                  <a:srgbClr val="333333"/>
                </a:solidFill>
                <a:latin typeface="Times New Roman"/>
              </a:rPr>
              <a:t>-1) terms in common with      , we can see that the right hand side satisfi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we have used the fact that      leads to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N</a:t>
            </a:r>
            <a:r>
              <a:rPr b="0" lang="en-US" sz="2800" spc="-1" strike="noStrike">
                <a:solidFill>
                  <a:srgbClr val="333333"/>
                </a:solidFill>
                <a:latin typeface="Times New Roman"/>
              </a:rPr>
              <a:t>) = 0  by assumption and hence      leads to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N</a:t>
            </a:r>
            <a:r>
              <a:rPr b="0" lang="en-US" sz="2800" spc="-1" strike="noStrike">
                <a:solidFill>
                  <a:srgbClr val="333333"/>
                </a:solidFill>
                <a:latin typeface="Times New Roman"/>
              </a:rPr>
              <a:t>+1) = 0.</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ally we hav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n </a:t>
            </a:r>
            <a:r>
              <a:rPr b="0" i="1" lang="en-US" sz="2800" spc="-1" strike="noStrike">
                <a:solidFill>
                  <a:srgbClr val="333333"/>
                </a:solidFill>
                <a:latin typeface="Times New Roman"/>
              </a:rPr>
              <a:t>L</a:t>
            </a:r>
            <a:r>
              <a:rPr b="0" lang="en-US" sz="2800" spc="-1" strike="noStrike">
                <a:solidFill>
                  <a:srgbClr val="333333"/>
                </a:solidFill>
                <a:latin typeface="Times New Roman"/>
              </a:rPr>
              <a:t>(</a:t>
            </a:r>
            <a:r>
              <a:rPr b="0" i="1" lang="en-US" sz="2800" spc="-1" strike="noStrike">
                <a:solidFill>
                  <a:srgbClr val="333333"/>
                </a:solidFill>
                <a:latin typeface="Times New Roman"/>
              </a:rPr>
              <a:t>x</a:t>
            </a:r>
            <a:r>
              <a:rPr b="0" lang="en-US" sz="2800" spc="-1" strike="noStrike">
                <a:solidFill>
                  <a:srgbClr val="333333"/>
                </a:solidFill>
                <a:latin typeface="Times New Roman"/>
              </a:rPr>
              <a:t>, </a:t>
            </a:r>
            <a:r>
              <a:rPr b="0" i="1" lang="en-US" sz="2800" spc="-1" strike="noStrike">
                <a:solidFill>
                  <a:srgbClr val="333333"/>
                </a:solidFill>
                <a:latin typeface="Times New Roman"/>
              </a:rPr>
              <a:t>u</a:t>
            </a:r>
            <a:r>
              <a:rPr b="0" lang="en-US" sz="2800" spc="-1" strike="noStrike">
                <a:solidFill>
                  <a:srgbClr val="333333"/>
                </a:solidFill>
                <a:latin typeface="Times New Roman"/>
              </a:rPr>
              <a:t>) is positive definite in both arguments, then stability follows immediately from the Lyapunov Stability Theorem.</a:t>
            </a:r>
            <a:endParaRPr b="0" lang="en-US" sz="2800" spc="-1" strike="noStrike">
              <a:solidFill>
                <a:srgbClr val="333333"/>
              </a:solidFill>
              <a:latin typeface="Times New Roman"/>
            </a:endParaRPr>
          </a:p>
        </p:txBody>
      </p:sp>
      <mc:AlternateContent>
        <mc:Choice xmlns:a14="http://schemas.microsoft.com/office/drawing/2010/main" Requires="a14">
          <p:sp>
            <p:nvSpPr>
              <p:cNvPr id="204" name=""/>
              <p:cNvSpPr txBox="1"/>
              <p:nvPr/>
            </p:nvSpPr>
            <p:spPr>
              <a:xfrm>
                <a:off x="3465360" y="2057400"/>
                <a:ext cx="392400" cy="404640"/>
              </a:xfrm>
              <a:prstGeom prst="rect">
                <a:avLst/>
              </a:prstGeom>
            </p:spPr>
            <p:txBody>
              <a:bodyPr/>
              <a:p>
                <a14:m>
                  <m:oMath xmlns:m="http://schemas.openxmlformats.org/officeDocument/2006/math">
                    <m:sSub>
                      <m:e>
                        <m:acc>
                          <m:accPr>
                            <m:chr m:val="~"/>
                          </m:accPr>
                          <m:e>
                            <m:r>
                              <m:t xml:space="preserve">U</m:t>
                            </m:r>
                          </m:e>
                        </m:acc>
                      </m:e>
                      <m:sub>
                        <m:r>
                          <m:t xml:space="preserve">x</m:t>
                        </m:r>
                      </m:sub>
                    </m:sSub>
                  </m:oMath>
                </a14:m>
              </a:p>
            </p:txBody>
          </p:sp>
        </mc:Choice>
        <mc:Fallback/>
      </mc:AlternateContent>
      <mc:AlternateContent>
        <mc:Choice xmlns:a14="http://schemas.microsoft.com/office/drawing/2010/main" Requires="a14">
          <p:sp>
            <p:nvSpPr>
              <p:cNvPr id="205" name=""/>
              <p:cNvSpPr txBox="1"/>
              <p:nvPr/>
            </p:nvSpPr>
            <p:spPr>
              <a:xfrm>
                <a:off x="1531800" y="2451240"/>
                <a:ext cx="392400" cy="480960"/>
              </a:xfrm>
              <a:prstGeom prst="rect">
                <a:avLst/>
              </a:prstGeom>
            </p:spPr>
            <p:txBody>
              <a:bodyPr/>
              <a:p>
                <a14:m>
                  <m:oMath xmlns:m="http://schemas.openxmlformats.org/officeDocument/2006/math">
                    <m:sSubSup>
                      <m:e>
                        <m:r>
                          <m:t xml:space="preserve">U</m:t>
                        </m:r>
                      </m:e>
                      <m:sub>
                        <m:r>
                          <m:t xml:space="preserve">x</m:t>
                        </m:r>
                      </m:sub>
                      <m:sup>
                        <m:r>
                          <m:t xml:space="preserve">0</m:t>
                        </m:r>
                      </m:sup>
                    </m:sSubSup>
                  </m:oMath>
                </a14:m>
              </a:p>
            </p:txBody>
          </p:sp>
        </mc:Choice>
        <mc:Fallback/>
      </mc:AlternateContent>
      <mc:AlternateContent>
        <mc:Choice xmlns:a14="http://schemas.microsoft.com/office/drawing/2010/main" Requires="a14">
          <p:sp>
            <p:nvSpPr>
              <p:cNvPr id="206" name=""/>
              <p:cNvSpPr txBox="1"/>
              <p:nvPr/>
            </p:nvSpPr>
            <p:spPr>
              <a:xfrm>
                <a:off x="5483160" y="3446640"/>
                <a:ext cx="392040" cy="480960"/>
              </a:xfrm>
              <a:prstGeom prst="rect">
                <a:avLst/>
              </a:prstGeom>
            </p:spPr>
            <p:txBody>
              <a:bodyPr/>
              <a:p>
                <a14:m>
                  <m:oMath xmlns:m="http://schemas.openxmlformats.org/officeDocument/2006/math">
                    <m:sSubSup>
                      <m:e>
                        <m:r>
                          <m:t xml:space="preserve">U</m:t>
                        </m:r>
                      </m:e>
                      <m:sub>
                        <m:r>
                          <m:t xml:space="preserve">x</m:t>
                        </m:r>
                      </m:sub>
                      <m:sup>
                        <m:r>
                          <m:t xml:space="preserve">0</m:t>
                        </m:r>
                      </m:sup>
                    </m:sSubSup>
                  </m:oMath>
                </a14:m>
              </a:p>
            </p:txBody>
          </p:sp>
        </mc:Choice>
        <mc:Fallback/>
      </mc:AlternateContent>
      <mc:AlternateContent>
        <mc:Choice xmlns:a14="http://schemas.microsoft.com/office/drawing/2010/main" Requires="a14">
          <p:sp>
            <p:nvSpPr>
              <p:cNvPr id="207" name=""/>
              <p:cNvSpPr txBox="1"/>
              <p:nvPr/>
            </p:nvSpPr>
            <p:spPr>
              <a:xfrm>
                <a:off x="4419720" y="3951360"/>
                <a:ext cx="392040" cy="404640"/>
              </a:xfrm>
              <a:prstGeom prst="rect">
                <a:avLst/>
              </a:prstGeom>
            </p:spPr>
            <p:txBody>
              <a:bodyPr/>
              <a:p>
                <a14:m>
                  <m:oMath xmlns:m="http://schemas.openxmlformats.org/officeDocument/2006/math">
                    <m:sSub>
                      <m:e>
                        <m:acc>
                          <m:accPr>
                            <m:chr m:val="~"/>
                          </m:accPr>
                          <m:e>
                            <m:r>
                              <m:t xml:space="preserve">U</m:t>
                            </m:r>
                          </m:e>
                        </m:acc>
                      </m:e>
                      <m:sub>
                        <m:r>
                          <m:t xml:space="preserve">x</m:t>
                        </m:r>
                      </m:sub>
                    </m:sSub>
                  </m:oMath>
                </a14:m>
              </a:p>
            </p:txBody>
          </p:sp>
        </mc:Choice>
        <mc:Fallback/>
      </mc:AlternateContent>
      <p:pic>
        <p:nvPicPr>
          <p:cNvPr id="208" name="Eqn23_04_10" descr=""/>
          <p:cNvPicPr/>
          <p:nvPr/>
        </p:nvPicPr>
        <p:blipFill>
          <a:blip r:embed="rId2"/>
          <a:stretch/>
        </p:blipFill>
        <p:spPr>
          <a:xfrm>
            <a:off x="2325600" y="3079800"/>
            <a:ext cx="4492800" cy="315720"/>
          </a:xfrm>
          <a:prstGeom prst="rect">
            <a:avLst/>
          </a:prstGeom>
          <a:ln w="0">
            <a:noFill/>
          </a:ln>
        </p:spPr>
      </p:pic>
      <p:pic>
        <p:nvPicPr>
          <p:cNvPr id="209" name="Eqn23_04_11" descr=""/>
          <p:cNvPicPr/>
          <p:nvPr/>
        </p:nvPicPr>
        <p:blipFill>
          <a:blip r:embed="rId3"/>
          <a:stretch/>
        </p:blipFill>
        <p:spPr>
          <a:xfrm>
            <a:off x="2901960" y="4984920"/>
            <a:ext cx="2687760" cy="261720"/>
          </a:xfrm>
          <a:prstGeom prst="rect">
            <a:avLst/>
          </a:prstGeom>
          <a:ln w="0">
            <a:noFill/>
          </a:ln>
        </p:spPr>
      </p:pic>
      <p:sp>
        <p:nvSpPr>
          <p:cNvPr id="210" name=""/>
          <p:cNvSpPr/>
          <p:nvPr/>
        </p:nvSpPr>
        <p:spPr>
          <a:xfrm>
            <a:off x="7846200" y="6261120"/>
            <a:ext cx="514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ci2"/>
                <a:ea typeface="tci2"/>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eyond the issue of stability, a user of MPC would clearly also be interested in what, if any performance advantages are associated with the use of this algorithm.  In an effort to (partially) answer this question, we pause to revisit the earlier examp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Revisited</a:t>
            </a:r>
            <a:endParaRPr b="0" lang="en-US" sz="4400" spc="-1" strike="noStrike">
              <a:solidFill>
                <a:srgbClr val="6600cc"/>
              </a:solidFill>
              <a:latin typeface="Times New Roman"/>
            </a:endParaRPr>
          </a:p>
        </p:txBody>
      </p:sp>
      <p:sp>
        <p:nvSpPr>
          <p:cNvPr id="214" name="PlaceHolder 2"/>
          <p:cNvSpPr>
            <a:spLocks noGrp="1"/>
          </p:cNvSpPr>
          <p:nvPr>
            <p:ph/>
          </p:nvPr>
        </p:nvSpPr>
        <p:spPr>
          <a:xfrm>
            <a:off x="685800" y="1924200"/>
            <a:ext cx="777240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gain the problem described earlier with input constrain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1. We recall that the </a:t>
            </a:r>
            <a:r>
              <a:rPr b="0" i="1" lang="en-US" sz="2800" spc="-1" strike="noStrike">
                <a:solidFill>
                  <a:srgbClr val="333333"/>
                </a:solidFill>
                <a:latin typeface="Times New Roman"/>
              </a:rPr>
              <a:t>shortsighted</a:t>
            </a:r>
            <a:r>
              <a:rPr b="0" lang="en-US" sz="2800" spc="-1" strike="noStrike">
                <a:solidFill>
                  <a:srgbClr val="333333"/>
                </a:solidFill>
                <a:latin typeface="Times New Roman"/>
              </a:rPr>
              <a:t> policy led to large overshoo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e, we consider the MPC cost function with </a:t>
            </a:r>
            <a:r>
              <a:rPr b="0" i="1" lang="en-US" sz="2800" spc="-1" strike="noStrike">
                <a:solidFill>
                  <a:srgbClr val="333333"/>
                </a:solidFill>
                <a:latin typeface="Times New Roman"/>
              </a:rPr>
              <a:t>N</a:t>
            </a:r>
            <a:r>
              <a:rPr b="0" lang="en-US" sz="2800" spc="-1" strike="noStrike">
                <a:solidFill>
                  <a:srgbClr val="333333"/>
                </a:solidFill>
                <a:latin typeface="Times New Roman"/>
              </a:rPr>
              <a:t> = 2 and such that </a:t>
            </a:r>
            <a:r>
              <a:rPr b="0" i="1" lang="en-US" sz="2800" spc="-1" strike="noStrike">
                <a:solidFill>
                  <a:srgbClr val="333333"/>
                </a:solidFill>
                <a:latin typeface="Times New Roman"/>
              </a:rPr>
              <a:t>F</a:t>
            </a:r>
            <a:r>
              <a:rPr b="0" lang="en-US" sz="2800" spc="-1" strike="noStrike">
                <a:solidFill>
                  <a:srgbClr val="333333"/>
                </a:solidFill>
                <a:latin typeface="Times New Roman"/>
              </a:rPr>
              <a:t>(</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N</a:t>
            </a:r>
            <a:r>
              <a:rPr b="0" lang="en-US" sz="2800" spc="-1" strike="noStrike">
                <a:solidFill>
                  <a:srgbClr val="333333"/>
                </a:solidFill>
                <a:latin typeface="Times New Roman"/>
              </a:rPr>
              <a:t>)) is the optimal </a:t>
            </a:r>
            <a:r>
              <a:rPr b="0" i="1" lang="en-US" sz="2800" spc="-1" strike="noStrike">
                <a:solidFill>
                  <a:srgbClr val="333333"/>
                </a:solidFill>
                <a:latin typeface="Times New Roman"/>
              </a:rPr>
              <a:t>unconstrained</a:t>
            </a:r>
            <a:r>
              <a:rPr b="0" lang="en-US" sz="2800" spc="-1" strike="noStrike">
                <a:solidFill>
                  <a:srgbClr val="333333"/>
                </a:solidFill>
                <a:latin typeface="Times New Roman"/>
              </a:rPr>
              <a:t> infinite horizon cost and                   is the incremental cost associated with the underlying LQR proble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e we consider the constraint on the present and next step. Thus the derivation of the control policy is not quite as </a:t>
            </a:r>
            <a:r>
              <a:rPr b="0" i="1" lang="en-US" sz="2800" spc="-1" strike="noStrike">
                <a:solidFill>
                  <a:srgbClr val="333333"/>
                </a:solidFill>
                <a:latin typeface="Times New Roman"/>
              </a:rPr>
              <a:t>shortsighted</a:t>
            </a:r>
            <a:r>
              <a:rPr b="0" lang="en-US" sz="2800" spc="-1" strike="noStrike">
                <a:solidFill>
                  <a:srgbClr val="333333"/>
                </a:solidFill>
                <a:latin typeface="Times New Roman"/>
              </a:rPr>
              <a:t> as was previously the case.</a:t>
            </a:r>
            <a:endParaRPr b="0" lang="en-US" sz="2800" spc="-1" strike="noStrike">
              <a:solidFill>
                <a:srgbClr val="333333"/>
              </a:solidFill>
              <a:latin typeface="Times New Roman"/>
            </a:endParaRPr>
          </a:p>
        </p:txBody>
      </p:sp>
      <mc:AlternateContent>
        <mc:Choice xmlns:a14="http://schemas.microsoft.com/office/drawing/2010/main" Requires="a14">
          <p:sp>
            <p:nvSpPr>
              <p:cNvPr id="215" name=""/>
              <p:cNvSpPr txBox="1"/>
              <p:nvPr/>
            </p:nvSpPr>
            <p:spPr>
              <a:xfrm>
                <a:off x="4273560" y="4276800"/>
                <a:ext cx="1574640" cy="341280"/>
              </a:xfrm>
              <a:prstGeom prst="rect">
                <a:avLst/>
              </a:prstGeom>
            </p:spPr>
            <p:txBody>
              <a:bodyPr/>
              <a:p>
                <a14:m>
                  <m:oMath xmlns:m="http://schemas.openxmlformats.org/officeDocument/2006/math">
                    <m:r>
                      <m:t xml:space="preserve">L</m:t>
                    </m:r>
                    <m:r>
                      <m:t xml:space="preserve">(</m:t>
                    </m:r>
                    <m:r>
                      <m:t xml:space="preserve">x</m:t>
                    </m:r>
                    <m:r>
                      <m:t xml:space="preserve">(</m:t>
                    </m:r>
                    <m:r>
                      <m:t xml:space="preserve">ℓ</m:t>
                    </m:r>
                    <m:r>
                      <m:t xml:space="preserve">)</m:t>
                    </m:r>
                    <m:r>
                      <m:t xml:space="preserve">,</m:t>
                    </m:r>
                    <m:r>
                      <m:t xml:space="preserve">u</m:t>
                    </m:r>
                    <m:r>
                      <m:t xml:space="preserve">(</m:t>
                    </m:r>
                    <m:r>
                      <m:t xml:space="preserve">ℓ</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sults for MPC with constraints applied on first two steps</a:t>
            </a:r>
            <a:endParaRPr b="0" lang="en-US" sz="4400" spc="-1" strike="noStrike">
              <a:solidFill>
                <a:srgbClr val="6600cc"/>
              </a:solidFill>
              <a:latin typeface="Times New Roman"/>
            </a:endParaRPr>
          </a:p>
        </p:txBody>
      </p:sp>
      <p:pic>
        <p:nvPicPr>
          <p:cNvPr id="217" name="Fig23_08" descr=""/>
          <p:cNvPicPr/>
          <p:nvPr/>
        </p:nvPicPr>
        <p:blipFill>
          <a:blip r:embed="rId2"/>
          <a:srcRect l="15129" t="0" r="0" b="0"/>
          <a:stretch/>
        </p:blipFill>
        <p:spPr>
          <a:xfrm>
            <a:off x="2184480" y="1955880"/>
            <a:ext cx="4970520" cy="1782720"/>
          </a:xfrm>
          <a:prstGeom prst="rect">
            <a:avLst/>
          </a:prstGeom>
          <a:ln w="0">
            <a:noFill/>
          </a:ln>
        </p:spPr>
      </p:pic>
      <p:pic>
        <p:nvPicPr>
          <p:cNvPr id="218" name="Fig23_09" descr=""/>
          <p:cNvPicPr/>
          <p:nvPr/>
        </p:nvPicPr>
        <p:blipFill>
          <a:blip r:embed="rId3"/>
          <a:srcRect l="28750" t="0" r="0" b="0"/>
          <a:stretch/>
        </p:blipFill>
        <p:spPr>
          <a:xfrm>
            <a:off x="2532240" y="4489560"/>
            <a:ext cx="2541240" cy="1981080"/>
          </a:xfrm>
          <a:prstGeom prst="rect">
            <a:avLst/>
          </a:prstGeom>
          <a:ln w="0">
            <a:noFill/>
          </a:ln>
        </p:spPr>
      </p:pic>
      <p:sp>
        <p:nvSpPr>
          <p:cNvPr id="219" name=""/>
          <p:cNvSpPr/>
          <p:nvPr/>
        </p:nvSpPr>
        <p:spPr>
          <a:xfrm>
            <a:off x="302040" y="3184560"/>
            <a:ext cx="1860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Figure 23.11:</a:t>
            </a:r>
            <a:r>
              <a:rPr b="0" lang="en-US" sz="2000" spc="-1" strike="noStrike">
                <a:solidFill>
                  <a:srgbClr val="333333"/>
                </a:solidFill>
                <a:latin typeface="Times New Roman"/>
              </a:rPr>
              <a: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Output respons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using MPC</a:t>
            </a:r>
            <a:endParaRPr b="0" lang="en-US" sz="2000" spc="-1" strike="noStrike">
              <a:solidFill>
                <a:srgbClr val="333333"/>
              </a:solidFill>
              <a:latin typeface="Times New Roman"/>
            </a:endParaRPr>
          </a:p>
        </p:txBody>
      </p:sp>
      <p:sp>
        <p:nvSpPr>
          <p:cNvPr id="220" name=""/>
          <p:cNvSpPr/>
          <p:nvPr/>
        </p:nvSpPr>
        <p:spPr>
          <a:xfrm>
            <a:off x="6700320" y="3184560"/>
            <a:ext cx="219708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          </a:t>
            </a:r>
            <a:r>
              <a:rPr b="0" lang="en-US" sz="2000" spc="-1" strike="noStrike">
                <a:solidFill>
                  <a:srgbClr val="6600cc"/>
                </a:solidFill>
                <a:latin typeface="Times New Roman"/>
              </a:rPr>
              <a:t>Figure 23.12:</a:t>
            </a:r>
            <a:endParaRPr b="0" lang="en-US" sz="20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Input response</a:t>
            </a:r>
            <a:endParaRPr b="0" lang="en-US" sz="20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using MPC</a:t>
            </a:r>
            <a:endParaRPr b="0" lang="en-US" sz="2000" spc="-1" strike="noStrike">
              <a:solidFill>
                <a:srgbClr val="333333"/>
              </a:solidFill>
              <a:latin typeface="Times New Roman"/>
            </a:endParaRPr>
          </a:p>
        </p:txBody>
      </p:sp>
      <p:sp>
        <p:nvSpPr>
          <p:cNvPr id="221" name=""/>
          <p:cNvSpPr/>
          <p:nvPr/>
        </p:nvSpPr>
        <p:spPr>
          <a:xfrm>
            <a:off x="5102280" y="5486400"/>
            <a:ext cx="18954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Figure 23.13:</a:t>
            </a:r>
            <a:r>
              <a:rPr b="0" lang="en-US" sz="2000" spc="-1" strike="noStrike">
                <a:solidFill>
                  <a:srgbClr val="333333"/>
                </a:solidFill>
                <a:latin typeface="Times New Roman"/>
              </a:rPr>
              <a: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Phase plane plot</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33"/>
                </a:solidFill>
                <a:latin typeface="Times New Roman"/>
              </a:rPr>
              <a:t>using MPC</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tions</a:t>
            </a:r>
            <a:endParaRPr b="0" lang="en-US" sz="4400" spc="-1" strike="noStrike">
              <a:solidFill>
                <a:srgbClr val="6600cc"/>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mparing these results with those obtained earlier, we see that the performance has been significantly improved.  This is because the policy is no longer quite so shortsighted as it previously was.  Thus we see that MPC can indeed over performance advantages over the shortsighted anti-windup strateg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utline</a:t>
            </a:r>
            <a:endParaRPr b="0" lang="en-US" sz="4400" spc="-1" strike="noStrike">
              <a:solidFill>
                <a:srgbClr val="6600cc"/>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describe one such mechanism here based on Model Predictive Control. This has actually been a major success story in the application of modern control.  More than 2,000 applications of this method have been reported in the literature - predominantly in the petrochemical area.  Also, the method is being increasingly used in electromechanical control problems.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Linear Models with Quadratic Cost Function</a:t>
            </a:r>
            <a:endParaRPr b="0" lang="en-US" sz="4400" spc="-1" strike="noStrike">
              <a:solidFill>
                <a:srgbClr val="6600cc"/>
              </a:solidFill>
              <a:latin typeface="Times New Roman"/>
            </a:endParaRPr>
          </a:p>
        </p:txBody>
      </p:sp>
      <p:pic>
        <p:nvPicPr>
          <p:cNvPr id="225" name="Eqn23_05_01" descr=""/>
          <p:cNvPicPr/>
          <p:nvPr/>
        </p:nvPicPr>
        <p:blipFill>
          <a:blip r:embed="rId2"/>
          <a:stretch/>
        </p:blipFill>
        <p:spPr>
          <a:xfrm>
            <a:off x="4081320" y="2230560"/>
            <a:ext cx="2865600" cy="645840"/>
          </a:xfrm>
          <a:prstGeom prst="rect">
            <a:avLst/>
          </a:prstGeom>
          <a:ln w="0">
            <a:noFill/>
          </a:ln>
        </p:spPr>
      </p:pic>
      <p:pic>
        <p:nvPicPr>
          <p:cNvPr id="226" name="Eqn23_05_03" descr=""/>
          <p:cNvPicPr/>
          <p:nvPr/>
        </p:nvPicPr>
        <p:blipFill>
          <a:blip r:embed="rId3"/>
          <a:stretch/>
        </p:blipFill>
        <p:spPr>
          <a:xfrm>
            <a:off x="4049640" y="3205080"/>
            <a:ext cx="2687760" cy="262080"/>
          </a:xfrm>
          <a:prstGeom prst="rect">
            <a:avLst/>
          </a:prstGeom>
          <a:ln w="0">
            <a:noFill/>
          </a:ln>
        </p:spPr>
      </p:pic>
      <p:pic>
        <p:nvPicPr>
          <p:cNvPr id="227" name="Eqn23_05_04" descr=""/>
          <p:cNvPicPr/>
          <p:nvPr/>
        </p:nvPicPr>
        <p:blipFill>
          <a:blip r:embed="rId4"/>
          <a:stretch/>
        </p:blipFill>
        <p:spPr>
          <a:xfrm>
            <a:off x="4067280" y="3900600"/>
            <a:ext cx="1888920" cy="261720"/>
          </a:xfrm>
          <a:prstGeom prst="rect">
            <a:avLst/>
          </a:prstGeom>
          <a:ln w="0">
            <a:noFill/>
          </a:ln>
        </p:spPr>
      </p:pic>
      <p:pic>
        <p:nvPicPr>
          <p:cNvPr id="228" name="Eqn23_05_05" descr=""/>
          <p:cNvPicPr/>
          <p:nvPr/>
        </p:nvPicPr>
        <p:blipFill>
          <a:blip r:embed="rId5"/>
          <a:stretch/>
        </p:blipFill>
        <p:spPr>
          <a:xfrm>
            <a:off x="4035600" y="4546440"/>
            <a:ext cx="3987720" cy="2090880"/>
          </a:xfrm>
          <a:prstGeom prst="rect">
            <a:avLst/>
          </a:prstGeom>
          <a:ln w="0">
            <a:noFill/>
          </a:ln>
        </p:spPr>
      </p:pic>
      <p:sp>
        <p:nvSpPr>
          <p:cNvPr id="229" name=""/>
          <p:cNvSpPr/>
          <p:nvPr/>
        </p:nvSpPr>
        <p:spPr>
          <a:xfrm>
            <a:off x="2816280" y="211608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odel:</a:t>
            </a:r>
            <a:endParaRPr b="0" lang="en-US" sz="2400" spc="-1" strike="noStrike">
              <a:solidFill>
                <a:srgbClr val="333333"/>
              </a:solidFill>
              <a:latin typeface="Times New Roman"/>
            </a:endParaRPr>
          </a:p>
        </p:txBody>
      </p:sp>
      <p:sp>
        <p:nvSpPr>
          <p:cNvPr id="230" name=""/>
          <p:cNvSpPr/>
          <p:nvPr/>
        </p:nvSpPr>
        <p:spPr>
          <a:xfrm>
            <a:off x="2968560" y="30988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Error:</a:t>
            </a:r>
            <a:endParaRPr b="0" lang="en-US" sz="2400" spc="-1" strike="noStrike">
              <a:solidFill>
                <a:srgbClr val="333333"/>
              </a:solidFill>
              <a:latin typeface="Times New Roman"/>
            </a:endParaRPr>
          </a:p>
        </p:txBody>
      </p:sp>
      <p:sp>
        <p:nvSpPr>
          <p:cNvPr id="231" name=""/>
          <p:cNvSpPr/>
          <p:nvPr/>
        </p:nvSpPr>
        <p:spPr>
          <a:xfrm>
            <a:off x="590400" y="3800520"/>
            <a:ext cx="32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ombined “disturbance”:</a:t>
            </a:r>
            <a:endParaRPr b="0" lang="en-US" sz="2400" spc="-1" strike="noStrike">
              <a:solidFill>
                <a:srgbClr val="333333"/>
              </a:solidFill>
              <a:latin typeface="Times New Roman"/>
            </a:endParaRPr>
          </a:p>
        </p:txBody>
      </p:sp>
      <p:sp>
        <p:nvSpPr>
          <p:cNvPr id="232" name=""/>
          <p:cNvSpPr/>
          <p:nvPr/>
        </p:nvSpPr>
        <p:spPr>
          <a:xfrm>
            <a:off x="3053520" y="44449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os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can be shown that, if the design is unconstrained,  </a:t>
            </a:r>
            <a:r>
              <a:rPr b="0" i="1" lang="en-US" sz="2800" spc="-1" strike="noStrike">
                <a:solidFill>
                  <a:srgbClr val="333333"/>
                </a:solidFill>
                <a:latin typeface="Times New Roman"/>
              </a:rPr>
              <a:t>J</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is minimized by taking</a:t>
            </a: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U</a:t>
            </a:r>
            <a:r>
              <a:rPr b="0" lang="en-US" sz="2800" spc="-1" strike="noStrike">
                <a:solidFill>
                  <a:srgbClr val="333333"/>
                </a:solidFill>
                <a:latin typeface="Times New Roman"/>
              </a:rPr>
              <a:t> =  -</a:t>
            </a:r>
            <a:r>
              <a:rPr b="1" lang="en-US" sz="2800" spc="-1" strike="noStrike">
                <a:solidFill>
                  <a:srgbClr val="333333"/>
                </a:solidFill>
                <a:latin typeface="Times New Roman"/>
              </a:rPr>
              <a:t>W</a:t>
            </a:r>
            <a:r>
              <a:rPr b="0" lang="en-US" sz="2800" spc="-1" strike="noStrike" baseline="30000">
                <a:solidFill>
                  <a:srgbClr val="333333"/>
                </a:solidFill>
                <a:latin typeface="Times New Roman"/>
              </a:rPr>
              <a:t>-1</a:t>
            </a:r>
            <a:r>
              <a:rPr b="1" lang="en-US" sz="2800" spc="-1" strike="noStrike">
                <a:solidFill>
                  <a:srgbClr val="333333"/>
                </a:solidFill>
                <a:latin typeface="Times New Roman"/>
              </a:rPr>
              <a:t>V</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Times New Roman"/>
              </a:rPr>
              <a:t>W</a:t>
            </a:r>
            <a:r>
              <a:rPr b="0" lang="en-US" sz="2800" spc="-1" strike="noStrike">
                <a:solidFill>
                  <a:srgbClr val="333333"/>
                </a:solidFill>
                <a:latin typeface="Times New Roman"/>
              </a:rPr>
              <a:t> and </a:t>
            </a:r>
            <a:r>
              <a:rPr b="1" lang="en-US" sz="2800" spc="-1" strike="noStrike">
                <a:solidFill>
                  <a:srgbClr val="333333"/>
                </a:solidFill>
                <a:latin typeface="Times New Roman"/>
              </a:rPr>
              <a:t>V</a:t>
            </a:r>
            <a:r>
              <a:rPr b="0" lang="en-US" sz="2800" spc="-1" strike="noStrike">
                <a:solidFill>
                  <a:srgbClr val="333333"/>
                </a:solidFill>
                <a:latin typeface="Times New Roman"/>
              </a:rPr>
              <a:t> are functions of </a:t>
            </a:r>
            <a:r>
              <a:rPr b="1" lang="en-US" sz="2800" spc="-1" strike="noStrike">
                <a:solidFill>
                  <a:srgbClr val="333333"/>
                </a:solidFill>
                <a:latin typeface="Times New Roman"/>
              </a:rPr>
              <a:t>A</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a:solidFill>
                  <a:srgbClr val="333333"/>
                </a:solidFill>
                <a:latin typeface="Times New Roman"/>
              </a:rPr>
              <a:t> matrices.  </a:t>
            </a:r>
            <a:r>
              <a:rPr b="1" lang="en-US" sz="2800" spc="-1" strike="noStrike">
                <a:solidFill>
                  <a:srgbClr val="333333"/>
                </a:solidFill>
                <a:latin typeface="Times New Roman"/>
              </a:rPr>
              <a:t>V</a:t>
            </a:r>
            <a:r>
              <a:rPr b="0" lang="en-US" sz="2800" spc="-1" strike="noStrike">
                <a:solidFill>
                  <a:srgbClr val="333333"/>
                </a:solidFill>
                <a:latin typeface="Times New Roman"/>
              </a:rPr>
              <a:t> is also a function of the disturbances and desired outpu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gnitude and rate constraints on both the plant </a:t>
            </a:r>
            <a:r>
              <a:rPr b="0" i="1" lang="en-US" sz="2800" spc="-1" strike="noStrike">
                <a:solidFill>
                  <a:srgbClr val="333333"/>
                </a:solidFill>
                <a:latin typeface="Times New Roman"/>
              </a:rPr>
              <a:t>input</a:t>
            </a:r>
            <a:r>
              <a:rPr b="0" lang="en-US" sz="2800" spc="-1" strike="noStrike">
                <a:solidFill>
                  <a:srgbClr val="333333"/>
                </a:solidFill>
                <a:latin typeface="Times New Roman"/>
              </a:rPr>
              <a:t> and </a:t>
            </a:r>
            <a:r>
              <a:rPr b="0" i="1" lang="en-US" sz="2800" spc="-1" strike="noStrike">
                <a:solidFill>
                  <a:srgbClr val="333333"/>
                </a:solidFill>
                <a:latin typeface="Times New Roman"/>
              </a:rPr>
              <a:t>output</a:t>
            </a:r>
            <a:r>
              <a:rPr b="0" lang="en-US" sz="2800" spc="-1" strike="noStrike">
                <a:solidFill>
                  <a:srgbClr val="333333"/>
                </a:solidFill>
                <a:latin typeface="Times New Roman"/>
              </a:rPr>
              <a:t> can be easily expressed as </a:t>
            </a:r>
            <a:r>
              <a:rPr b="0" i="1" lang="en-US" sz="2800" spc="-1" strike="noStrike">
                <a:solidFill>
                  <a:srgbClr val="333333"/>
                </a:solidFill>
                <a:latin typeface="Times New Roman"/>
              </a:rPr>
              <a:t>linear</a:t>
            </a:r>
            <a:r>
              <a:rPr b="0" lang="en-US" sz="2800" spc="-1" strike="noStrike">
                <a:solidFill>
                  <a:srgbClr val="333333"/>
                </a:solidFill>
                <a:latin typeface="Times New Roman"/>
              </a:rPr>
              <a:t> constraints on  </a:t>
            </a:r>
            <a:r>
              <a:rPr b="0" i="1" lang="en-US" sz="2800" spc="-1" strike="noStrike">
                <a:solidFill>
                  <a:srgbClr val="333333"/>
                </a:solidFill>
                <a:latin typeface="Times New Roman"/>
              </a:rPr>
              <a:t>U</a:t>
            </a:r>
            <a:r>
              <a:rPr b="0" lang="en-US" sz="2800" spc="-1" strike="noStrike">
                <a:solidFill>
                  <a:srgbClr val="333333"/>
                </a:solidFill>
                <a:latin typeface="Times New Roman"/>
              </a:rPr>
              <a:t>  of the form</a:t>
            </a: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LU</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K</a:t>
            </a:r>
            <a:endParaRPr b="0" lang="en-US" sz="2800" spc="-1" strike="noStrike">
              <a:solidFill>
                <a:srgbClr val="333333"/>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QP Solution</a:t>
            </a:r>
            <a:endParaRPr b="0" lang="en-US" sz="4400" spc="-1" strike="noStrike">
              <a:solidFill>
                <a:srgbClr val="6600cc"/>
              </a:solidFill>
              <a:latin typeface="Times New Roman"/>
            </a:endParaRPr>
          </a:p>
        </p:txBody>
      </p:sp>
      <p:sp>
        <p:nvSpPr>
          <p:cNvPr id="236" name="PlaceHolder 2"/>
          <p:cNvSpPr>
            <a:spLocks noGrp="1"/>
          </p:cNvSpPr>
          <p:nvPr>
            <p:ph/>
          </p:nvPr>
        </p:nvSpPr>
        <p:spPr>
          <a:xfrm>
            <a:off x="673200" y="2141280"/>
            <a:ext cx="7772400" cy="2422440"/>
          </a:xfrm>
          <a:prstGeom prst="rect">
            <a:avLst/>
          </a:prstGeom>
          <a:noFill/>
          <a:ln w="0">
            <a:noFill/>
          </a:ln>
        </p:spPr>
        <p:txBody>
          <a:bodyPr lIns="90000" rIns="90000" tIns="46800" bIns="46800" anchor="t">
            <a:normAutofit fontScale="6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the constrained problem takes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optimization is a convex problem due to the quadratic cost and linear constraints. Also, standard numerical procedures (called Quadratic Programming algorithms or QP for short) are available to solve this sub-problem.</a:t>
            </a:r>
            <a:endParaRPr b="0" lang="en-US" sz="2800" spc="-1" strike="noStrike">
              <a:solidFill>
                <a:srgbClr val="333333"/>
              </a:solidFill>
              <a:latin typeface="Times New Roman"/>
            </a:endParaRPr>
          </a:p>
        </p:txBody>
      </p:sp>
      <mc:AlternateContent>
        <mc:Choice xmlns:a14="http://schemas.microsoft.com/office/drawing/2010/main" Requires="a14">
          <p:sp>
            <p:nvSpPr>
              <p:cNvPr id="237" name=""/>
              <p:cNvSpPr txBox="1"/>
              <p:nvPr/>
            </p:nvSpPr>
            <p:spPr>
              <a:xfrm>
                <a:off x="2390760" y="3017880"/>
                <a:ext cx="4292640" cy="888840"/>
              </a:xfrm>
              <a:prstGeom prst="rect">
                <a:avLst/>
              </a:prstGeom>
            </p:spPr>
            <p:txBody>
              <a:bodyPr/>
              <a:p>
                <a14:m>
                  <m:oMath xmlns:m="http://schemas.openxmlformats.org/officeDocument/2006/math">
                    <m:sSup>
                      <m:e>
                        <m:r>
                          <m:t xml:space="preserve">U</m:t>
                        </m:r>
                      </m:e>
                      <m:sup>
                        <m:r>
                          <m:rPr>
                            <m:lit/>
                            <m:nor/>
                          </m:rPr>
                          <m:t xml:space="preserve">OPT</m:t>
                        </m:r>
                      </m:sup>
                    </m:sSup>
                    <m:r>
                      <m:t xml:space="preserve">=</m:t>
                    </m:r>
                    <m:r>
                      <m:rPr>
                        <m:lit/>
                        <m:nor/>
                      </m:rPr>
                      <m:t xml:space="preserve">arg</m:t>
                    </m:r>
                    <m:limLow>
                      <m:e>
                        <m:r>
                          <m:rPr>
                            <m:lit/>
                            <m:nor/>
                          </m:rPr>
                          <m:t xml:space="preserve">min</m:t>
                        </m:r>
                      </m:e>
                      <m:lim>
                        <m:limLow>
                          <m:e>
                            <m:r>
                              <m:t xml:space="preserve">U</m:t>
                            </m:r>
                          </m:e>
                          <m:lim>
                            <m:r>
                              <m:rPr>
                                <m:lit/>
                                <m:nor/>
                              </m:rPr>
                              <m:t xml:space="preserve">LU</m:t>
                            </m:r>
                            <m:r>
                              <m:t xml:space="preserve">≤</m:t>
                            </m:r>
                            <m:r>
                              <m:t xml:space="preserve">K</m:t>
                            </m:r>
                          </m:lim>
                        </m:limLow>
                      </m:lim>
                    </m:limLow>
                    <m:sSup>
                      <m:e>
                        <m:r>
                          <m:t xml:space="preserve">U</m:t>
                        </m:r>
                      </m:e>
                      <m:sup>
                        <m:r>
                          <m:t xml:space="preserve">T</m:t>
                        </m:r>
                      </m:sup>
                    </m:sSup>
                    <m:r>
                      <m:t xml:space="preserve">WU</m:t>
                    </m:r>
                    <m:r>
                      <m:t xml:space="preserve">+</m:t>
                    </m:r>
                    <m:r>
                      <m:t xml:space="preserve">2</m:t>
                    </m:r>
                    <m:sSup>
                      <m:e>
                        <m:r>
                          <m:t xml:space="preserve">U</m:t>
                        </m:r>
                      </m:e>
                      <m:sup>
                        <m:r>
                          <m:t xml:space="preserve">T</m:t>
                        </m:r>
                      </m:sup>
                    </m:sSup>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 of Key Idea</a:t>
            </a:r>
            <a:endParaRPr b="0" lang="en-US" sz="4400" spc="-1" strike="noStrike">
              <a:solidFill>
                <a:srgbClr val="6600cc"/>
              </a:solidFill>
              <a:latin typeface="Times New Roman"/>
            </a:endParaRPr>
          </a:p>
        </p:txBody>
      </p:sp>
      <p:sp>
        <p:nvSpPr>
          <p:cNvPr id="239" name=""/>
          <p:cNvSpPr/>
          <p:nvPr/>
        </p:nvSpPr>
        <p:spPr>
          <a:xfrm>
            <a:off x="685800" y="1981080"/>
            <a:ext cx="7772400" cy="933480"/>
          </a:xfrm>
          <a:prstGeom prst="rect">
            <a:avLst/>
          </a:prstGeom>
          <a:noFill/>
          <a:ln w="0">
            <a:noFill/>
          </a:ln>
        </p:spPr>
        <p:style>
          <a:lnRef idx="0"/>
          <a:fillRef idx="0"/>
          <a:effectRef idx="0"/>
          <a:fontRef idx="minor"/>
        </p:style>
        <p:txBody>
          <a:bodyPr lIns="90000" rIns="90000" tIns="46800" bIns="46800" anchor="t">
            <a:normAutofit/>
          </a:bodyPr>
          <a:p>
            <a:pPr marL="476280" indent="-4762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Solve receding horizontal optimal control problem subject to constraints</a:t>
            </a:r>
            <a:endParaRPr b="0" lang="en-US" sz="2400" spc="-1" strike="noStrike">
              <a:solidFill>
                <a:srgbClr val="333333"/>
              </a:solidFill>
              <a:latin typeface="Times New Roman"/>
            </a:endParaRPr>
          </a:p>
        </p:txBody>
      </p:sp>
      <mc:AlternateContent>
        <mc:Choice xmlns:a14="http://schemas.microsoft.com/office/drawing/2010/main" Requires="a14">
          <p:sp>
            <p:nvSpPr>
              <p:cNvPr id="240" name=""/>
              <p:cNvSpPr txBox="1"/>
              <p:nvPr/>
            </p:nvSpPr>
            <p:spPr>
              <a:xfrm>
                <a:off x="2171880" y="2889360"/>
                <a:ext cx="4800600" cy="1079280"/>
              </a:xfrm>
              <a:prstGeom prst="rect">
                <a:avLst/>
              </a:prstGeom>
            </p:spPr>
            <p:txBody>
              <a:bodyPr/>
              <a:p>
                <a14:m>
                  <m:oMath xmlns:m="http://schemas.openxmlformats.org/officeDocument/2006/math">
                    <m:r>
                      <m:t xml:space="preserve">V</m:t>
                    </m:r>
                    <m:r>
                      <m:t xml:space="preserve">=</m:t>
                    </m:r>
                    <m:limLow>
                      <m:e>
                        <m:r>
                          <m:rPr>
                            <m:lit/>
                            <m:nor/>
                          </m:rPr>
                          <m:t xml:space="preserve">Min</m:t>
                        </m:r>
                      </m:e>
                      <m:lim>
                        <m:limLow>
                          <m:e>
                            <m:r>
                              <m:t xml:space="preserve">u</m:t>
                            </m:r>
                            <m:r>
                              <m:t xml:space="preserve">∈</m:t>
                            </m:r>
                            <m:r>
                              <m:t xml:space="preserve">U</m:t>
                            </m:r>
                          </m:e>
                          <m:lim>
                            <m:r>
                              <m:t xml:space="preserve">x</m:t>
                            </m:r>
                            <m:r>
                              <m:t xml:space="preserve">∈</m:t>
                            </m:r>
                            <m:r>
                              <m:t xml:space="preserve">Ω</m:t>
                            </m:r>
                          </m:lim>
                        </m:limLow>
                      </m:lim>
                    </m:limLow>
                    <m:r>
                      <m:t xml:space="preserve"> </m:t>
                    </m:r>
                    <m:sSubSup>
                      <m:e>
                        <m:r>
                          <m:t xml:space="preserve">x</m:t>
                        </m:r>
                      </m:e>
                      <m:sub>
                        <m:r>
                          <m:t xml:space="preserve">N</m:t>
                        </m:r>
                      </m:sub>
                      <m:sup>
                        <m:r>
                          <m:t xml:space="preserve">T</m:t>
                        </m:r>
                      </m:sup>
                    </m:sSubSup>
                    <m:sSub>
                      <m:e>
                        <m:r>
                          <m:t xml:space="preserve">P</m:t>
                        </m:r>
                      </m:e>
                      <m:sub>
                        <m:r>
                          <m:t xml:space="preserve">N</m:t>
                        </m:r>
                      </m:sub>
                    </m:sSub>
                    <m:sSub>
                      <m:e>
                        <m:r>
                          <m:t xml:space="preserve">x</m:t>
                        </m:r>
                      </m:e>
                      <m:sub>
                        <m:r>
                          <m:t xml:space="preserve">N</m:t>
                        </m:r>
                      </m:sub>
                    </m:sSub>
                    <m:r>
                      <m:t xml:space="preserve">+</m:t>
                    </m:r>
                    <m:nary>
                      <m:naryPr>
                        <m:chr m:val="∑"/>
                      </m:naryPr>
                      <m:sub>
                        <m:r>
                          <m:t xml:space="preserve">k</m:t>
                        </m:r>
                        <m:r>
                          <m:t xml:space="preserve">+</m:t>
                        </m:r>
                        <m:r>
                          <m:t xml:space="preserve">1</m:t>
                        </m:r>
                      </m:sub>
                      <m:sup>
                        <m:r>
                          <m:t xml:space="preserve">N</m:t>
                        </m:r>
                      </m:sup>
                      <m:e/>
                    </m:nary>
                    <m:sSubSup>
                      <m:e>
                        <m:r>
                          <m:t xml:space="preserve">x</m:t>
                        </m:r>
                      </m:e>
                      <m:sub>
                        <m:r>
                          <m:t xml:space="preserve">k</m:t>
                        </m:r>
                      </m:sub>
                      <m:sup>
                        <m:r>
                          <m:t xml:space="preserve">T</m:t>
                        </m:r>
                      </m:sup>
                    </m:sSubSup>
                    <m:sSub>
                      <m:e>
                        <m:r>
                          <m:rPr>
                            <m:lit/>
                            <m:nor/>
                          </m:rPr>
                          <m:t xml:space="preserve">Qx</m:t>
                        </m:r>
                      </m:e>
                      <m:sub>
                        <m:r>
                          <m:t xml:space="preserve">k</m:t>
                        </m:r>
                      </m:sub>
                    </m:sSub>
                    <m:r>
                      <m:t xml:space="preserve">+</m:t>
                    </m:r>
                    <m:sSubSup>
                      <m:e>
                        <m:r>
                          <m:t xml:space="preserve">u</m:t>
                        </m:r>
                      </m:e>
                      <m:sub>
                        <m:r>
                          <m:t xml:space="preserve">k</m:t>
                        </m:r>
                      </m:sub>
                      <m:sup>
                        <m:r>
                          <m:t xml:space="preserve">T</m:t>
                        </m:r>
                      </m:sup>
                    </m:sSubSup>
                    <m:sSub>
                      <m:e>
                        <m:r>
                          <m:rPr>
                            <m:lit/>
                            <m:nor/>
                          </m:rPr>
                          <m:t xml:space="preserve">Ru</m:t>
                        </m:r>
                      </m:e>
                      <m:sub>
                        <m:r>
                          <m:t xml:space="preserve">k</m:t>
                        </m:r>
                      </m:sub>
                    </m:sSub>
                  </m:oMath>
                </a14:m>
              </a:p>
            </p:txBody>
          </p:sp>
        </mc:Choice>
        <mc:Fallback/>
      </mc:AlternateContent>
      <p:sp>
        <p:nvSpPr>
          <p:cNvPr id="241" name=""/>
          <p:cNvSpPr/>
          <p:nvPr/>
        </p:nvSpPr>
        <p:spPr>
          <a:xfrm>
            <a:off x="704880" y="4305240"/>
            <a:ext cx="7772400" cy="933480"/>
          </a:xfrm>
          <a:prstGeom prst="rect">
            <a:avLst/>
          </a:prstGeom>
          <a:noFill/>
          <a:ln w="0">
            <a:noFill/>
          </a:ln>
        </p:spPr>
        <p:style>
          <a:lnRef idx="0"/>
          <a:fillRef idx="0"/>
          <a:effectRef idx="0"/>
          <a:fontRef idx="minor"/>
        </p:style>
        <p:txBody>
          <a:bodyPr lIns="90000" rIns="90000" tIns="46800" bIns="46800" anchor="t">
            <a:normAutofit fontScale="83000"/>
          </a:bodyPr>
          <a:p>
            <a:pPr marL="395280" indent="-3952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Apply first step of control - move forward one step</a:t>
            </a:r>
            <a:endParaRPr b="0" lang="en-US" sz="2400" spc="-1" strike="noStrike">
              <a:solidFill>
                <a:srgbClr val="333333"/>
              </a:solidFill>
              <a:latin typeface="Times New Roman"/>
            </a:endParaRPr>
          </a:p>
          <a:p>
            <a:pPr marL="395280" indent="-395280">
              <a:spcBef>
                <a:spcPts val="21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Stability can be established - terminal constraint of  </a:t>
            </a:r>
            <a:r>
              <a:rPr b="0" i="1" lang="en-AU" sz="2400" spc="-1" strike="noStrike">
                <a:solidFill>
                  <a:srgbClr val="333333"/>
                </a:solidFill>
                <a:latin typeface="Times New Roman"/>
              </a:rPr>
              <a:t>x</a:t>
            </a:r>
            <a:r>
              <a:rPr b="0" lang="en-AU" sz="2400" spc="-1" strike="noStrike">
                <a:solidFill>
                  <a:srgbClr val="333333"/>
                </a:solidFill>
                <a:latin typeface="Times New Roman"/>
              </a:rPr>
              <a:t>  crucial.</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grpSp>
        <p:nvGrpSpPr>
          <p:cNvPr id="243" name=""/>
          <p:cNvGrpSpPr/>
          <p:nvPr/>
        </p:nvGrpSpPr>
        <p:grpSpPr>
          <a:xfrm>
            <a:off x="1566720" y="2198520"/>
            <a:ext cx="5294520" cy="3292560"/>
            <a:chOff x="1566720" y="2198520"/>
            <a:chExt cx="5294520" cy="3292560"/>
          </a:xfrm>
        </p:grpSpPr>
        <mc:AlternateContent>
          <mc:Choice xmlns:a14="http://schemas.microsoft.com/office/drawing/2010/main" Requires="a14">
            <p:sp>
              <p:nvSpPr>
                <p:cNvPr id="244" name=""/>
                <p:cNvSpPr txBox="1"/>
                <p:nvPr/>
              </p:nvSpPr>
              <p:spPr>
                <a:xfrm>
                  <a:off x="4524480" y="2198520"/>
                  <a:ext cx="2336760" cy="772920"/>
                </a:xfrm>
                <a:prstGeom prst="rect">
                  <a:avLst/>
                </a:prstGeom>
              </p:spPr>
              <p:txBody>
                <a:bodyPr/>
                <a:p>
                  <a14:m>
                    <m:oMath xmlns:m="http://schemas.openxmlformats.org/officeDocument/2006/math">
                      <m:r>
                        <m:t xml:space="preserve">G</m:t>
                      </m:r>
                      <m:r>
                        <m:t xml:space="preserve">(</m:t>
                      </m:r>
                      <m:r>
                        <m:t xml:space="preserve">s</m:t>
                      </m:r>
                      <m:r>
                        <m:t xml:space="preserve">)</m:t>
                      </m:r>
                      <m:r>
                        <m:t xml:space="preserve">=</m:t>
                      </m:r>
                      <m:f>
                        <m:num>
                          <m:r>
                            <m:t xml:space="preserve">3</m:t>
                          </m:r>
                        </m:num>
                        <m:den>
                          <m:sSup>
                            <m:e>
                              <m:r>
                                <m:t xml:space="preserve">s</m:t>
                              </m:r>
                            </m:e>
                            <m:sup>
                              <m:r>
                                <m:t xml:space="preserve">2</m:t>
                              </m:r>
                            </m:sup>
                          </m:sSup>
                          <m:r>
                            <m:t xml:space="preserve">+</m:t>
                          </m:r>
                          <m:r>
                            <m:t xml:space="preserve">0</m:t>
                          </m:r>
                          <m:r>
                            <m:rPr>
                              <m:lit/>
                              <m:nor/>
                            </m:rPr>
                            <m:t xml:space="preserve">.</m:t>
                          </m:r>
                          <m:r>
                            <m:t xml:space="preserve">2</m:t>
                          </m:r>
                          <m:r>
                            <m:t xml:space="preserve">s</m:t>
                          </m:r>
                          <m:r>
                            <m:t xml:space="preserve">+</m:t>
                          </m:r>
                          <m:r>
                            <m:t xml:space="preserve">1</m:t>
                          </m:r>
                        </m:den>
                      </m:f>
                    </m:oMath>
                  </a14:m>
                </a:p>
              </p:txBody>
            </p:sp>
          </mc:Choice>
          <mc:Fallback/>
        </mc:AlternateContent>
        <p:sp>
          <p:nvSpPr>
            <p:cNvPr id="245" name=""/>
            <p:cNvSpPr/>
            <p:nvPr/>
          </p:nvSpPr>
          <p:spPr>
            <a:xfrm>
              <a:off x="4537080" y="4098600"/>
              <a:ext cx="1395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33"/>
                  </a:solidFill>
                  <a:latin typeface="Times New Roman"/>
                </a:rPr>
                <a:t>U</a:t>
              </a:r>
              <a:r>
                <a:rPr b="0" i="1" lang="en-AU" sz="2400" spc="-1" strike="noStrike" baseline="-25000">
                  <a:solidFill>
                    <a:srgbClr val="333333"/>
                  </a:solidFill>
                  <a:latin typeface="Times New Roman"/>
                </a:rPr>
                <a:t>ss</a:t>
              </a:r>
              <a:r>
                <a:rPr b="0" lang="en-AU" sz="2400" spc="-1" strike="noStrike">
                  <a:solidFill>
                    <a:srgbClr val="333333"/>
                  </a:solidFill>
                  <a:latin typeface="Times New Roman"/>
                </a:rPr>
                <a:t> = 0.33</a:t>
              </a:r>
              <a:endParaRPr b="0" lang="en-US" sz="2400" spc="-1" strike="noStrike">
                <a:solidFill>
                  <a:srgbClr val="333333"/>
                </a:solidFill>
                <a:latin typeface="Times New Roman"/>
              </a:endParaRPr>
            </a:p>
          </p:txBody>
        </p:sp>
        <mc:AlternateContent>
          <mc:Choice xmlns:a14="http://schemas.microsoft.com/office/drawing/2010/main" Requires="a14">
            <p:sp>
              <p:nvSpPr>
                <p:cNvPr id="246" name=""/>
                <p:cNvSpPr txBox="1"/>
                <p:nvPr/>
              </p:nvSpPr>
              <p:spPr>
                <a:xfrm>
                  <a:off x="4524480" y="4982760"/>
                  <a:ext cx="914400" cy="508320"/>
                </a:xfrm>
                <a:prstGeom prst="rect">
                  <a:avLst/>
                </a:prstGeom>
              </p:spPr>
              <p:txBody>
                <a:bodyPr/>
                <a:p>
                  <a14:m>
                    <m:oMath xmlns:m="http://schemas.openxmlformats.org/officeDocument/2006/math">
                      <m:d>
                        <m:dPr>
                          <m:begChr m:val="|"/>
                          <m:endChr m:val="|"/>
                        </m:dPr>
                        <m:e>
                          <m:r>
                            <m:t xml:space="preserve">u</m:t>
                          </m:r>
                        </m:e>
                      </m:d>
                      <m:r>
                        <m:t xml:space="preserve">&lt;</m:t>
                      </m:r>
                      <m:r>
                        <m:t xml:space="preserve">0</m:t>
                      </m:r>
                      <m:r>
                        <m:rPr>
                          <m:lit/>
                          <m:nor/>
                        </m:rPr>
                        <m:t xml:space="preserve">.</m:t>
                      </m:r>
                      <m:r>
                        <m:t xml:space="preserve">4</m:t>
                      </m:r>
                    </m:oMath>
                  </a14:m>
                </a:p>
              </p:txBody>
            </p:sp>
          </mc:Choice>
          <mc:Fallback/>
        </mc:AlternateContent>
        <p:sp>
          <p:nvSpPr>
            <p:cNvPr id="247" name=""/>
            <p:cNvSpPr/>
            <p:nvPr/>
          </p:nvSpPr>
          <p:spPr>
            <a:xfrm>
              <a:off x="3284640" y="23414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lant:</a:t>
              </a:r>
              <a:endParaRPr b="0" lang="en-US" sz="2400" spc="-1" strike="noStrike">
                <a:solidFill>
                  <a:srgbClr val="333333"/>
                </a:solidFill>
                <a:latin typeface="Times New Roman"/>
              </a:endParaRPr>
            </a:p>
          </p:txBody>
        </p:sp>
        <p:sp>
          <p:nvSpPr>
            <p:cNvPr id="248" name=""/>
            <p:cNvSpPr/>
            <p:nvPr/>
          </p:nvSpPr>
          <p:spPr>
            <a:xfrm>
              <a:off x="2039760" y="321300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esired Output:</a:t>
              </a:r>
              <a:endParaRPr b="0" lang="en-US" sz="2400" spc="-1" strike="noStrike">
                <a:solidFill>
                  <a:srgbClr val="333333"/>
                </a:solidFill>
                <a:latin typeface="Times New Roman"/>
              </a:endParaRPr>
            </a:p>
          </p:txBody>
        </p:sp>
        <p:sp>
          <p:nvSpPr>
            <p:cNvPr id="249" name=""/>
            <p:cNvSpPr/>
            <p:nvPr/>
          </p:nvSpPr>
          <p:spPr>
            <a:xfrm>
              <a:off x="1676160" y="4086000"/>
              <a:ext cx="25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eady State Input:</a:t>
              </a:r>
              <a:endParaRPr b="0" lang="en-US" sz="2400" spc="-1" strike="noStrike">
                <a:solidFill>
                  <a:srgbClr val="333333"/>
                </a:solidFill>
                <a:latin typeface="Times New Roman"/>
              </a:endParaRPr>
            </a:p>
          </p:txBody>
        </p:sp>
        <p:sp>
          <p:nvSpPr>
            <p:cNvPr id="250" name=""/>
            <p:cNvSpPr/>
            <p:nvPr/>
          </p:nvSpPr>
          <p:spPr>
            <a:xfrm>
              <a:off x="1566720" y="495900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onstraint on Input:</a:t>
              </a:r>
              <a:endParaRPr b="0" lang="en-US" sz="2400" spc="-1" strike="noStrike">
                <a:solidFill>
                  <a:srgbClr val="333333"/>
                </a:solidFill>
                <a:latin typeface="Times New Roman"/>
              </a:endParaRPr>
            </a:p>
          </p:txBody>
        </p:sp>
        <mc:AlternateContent>
          <mc:Choice xmlns:a14="http://schemas.microsoft.com/office/drawing/2010/main" Requires="a14">
            <p:sp>
              <p:nvSpPr>
                <p:cNvPr id="251" name=""/>
                <p:cNvSpPr txBox="1"/>
                <p:nvPr/>
              </p:nvSpPr>
              <p:spPr>
                <a:xfrm>
                  <a:off x="4524480" y="3308040"/>
                  <a:ext cx="825480" cy="381240"/>
                </a:xfrm>
                <a:prstGeom prst="rect">
                  <a:avLst/>
                </a:prstGeom>
              </p:spPr>
              <p:txBody>
                <a:bodyPr/>
                <a:p>
                  <a14:m>
                    <m:oMath xmlns:m="http://schemas.openxmlformats.org/officeDocument/2006/math">
                      <m:sSub>
                        <m:e>
                          <m:r>
                            <m:t xml:space="preserve">Y</m:t>
                          </m:r>
                        </m:e>
                        <m:sub>
                          <m:r>
                            <m:rPr>
                              <m:lit/>
                              <m:nor/>
                            </m:rPr>
                            <m:t xml:space="preserve">ss</m:t>
                          </m:r>
                        </m:sub>
                      </m:sSub>
                      <m:r>
                        <m:t xml:space="preserve">=</m:t>
                      </m:r>
                      <m:r>
                        <m:t xml:space="preserve">1</m:t>
                      </m:r>
                    </m:oMath>
                  </a14:m>
                </a:p>
              </p:txBody>
            </p:sp>
          </mc:Choice>
          <mc:Fallback/>
        </mc:AlternateContent>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456840"/>
            <a:ext cx="8110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Results:  </a:t>
            </a:r>
            <a:r>
              <a:rPr b="0" i="1" lang="en-US" sz="2800" spc="-1" strike="noStrike">
                <a:solidFill>
                  <a:srgbClr val="333333"/>
                </a:solidFill>
                <a:latin typeface="Times New Roman"/>
              </a:rPr>
              <a:t>dashed line - unconstrained input</a:t>
            </a:r>
            <a:br>
              <a:rPr sz="2800"/>
            </a:br>
            <a:r>
              <a:rPr b="0" i="1" lang="en-US" sz="2800" spc="-1" strike="noStrike">
                <a:solidFill>
                  <a:srgbClr val="333333"/>
                </a:solidFill>
                <a:latin typeface="Times New Roman"/>
              </a:rPr>
              <a:t>	</a:t>
            </a:r>
            <a:r>
              <a:rPr b="0" i="1" lang="en-US" sz="2800" spc="-1" strike="noStrike">
                <a:solidFill>
                  <a:srgbClr val="333333"/>
                </a:solidFill>
                <a:latin typeface="Times New Roman"/>
              </a:rPr>
              <a:t>     solid line - constrained input found via MPC</a:t>
            </a:r>
            <a:endParaRPr b="0" lang="en-US" sz="2800" spc="-1" strike="noStrike">
              <a:solidFill>
                <a:srgbClr val="6600cc"/>
              </a:solidFill>
              <a:latin typeface="Times New Roman"/>
            </a:endParaRPr>
          </a:p>
        </p:txBody>
      </p:sp>
      <p:pic>
        <p:nvPicPr>
          <p:cNvPr id="253" name="" descr=""/>
          <p:cNvPicPr/>
          <p:nvPr/>
        </p:nvPicPr>
        <p:blipFill>
          <a:blip r:embed="rId2"/>
          <a:stretch/>
        </p:blipFill>
        <p:spPr>
          <a:xfrm>
            <a:off x="1925640" y="2041560"/>
            <a:ext cx="5529240" cy="4646520"/>
          </a:xfrm>
          <a:prstGeom prst="rect">
            <a:avLst/>
          </a:prstGeom>
          <a:ln w="57240">
            <a:solidFill>
              <a:srgbClr val="004c2b"/>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456840"/>
            <a:ext cx="822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cc"/>
                </a:solidFill>
                <a:latin typeface="Times New Roman"/>
              </a:rPr>
              <a:t>Output Response:  </a:t>
            </a:r>
            <a:r>
              <a:rPr b="0" lang="en-US" sz="2200" spc="-1" strike="noStrike">
                <a:solidFill>
                  <a:srgbClr val="333333"/>
                </a:solidFill>
                <a:latin typeface="Times New Roman"/>
              </a:rPr>
              <a:t>Dashed line</a:t>
            </a:r>
            <a:r>
              <a:rPr b="0" i="1" lang="en-US" sz="2200" spc="-1" strike="noStrike">
                <a:solidFill>
                  <a:srgbClr val="333333"/>
                </a:solidFill>
                <a:latin typeface="Times New Roman"/>
              </a:rPr>
              <a:t> - response when unconstrained  input is  </a:t>
            </a:r>
            <a:r>
              <a:rPr b="0" i="1" lang="en-US" sz="2200" spc="-1" strike="noStrike">
                <a:solidFill>
                  <a:srgbClr val="333333"/>
                </a:solidFill>
                <a:latin typeface="Times New Roman"/>
              </a:rPr>
              <a:t>	</a:t>
            </a:r>
            <a:r>
              <a:rPr b="0" i="1" lang="en-US" sz="2200" spc="-1" strike="noStrike">
                <a:solidFill>
                  <a:srgbClr val="333333"/>
                </a:solidFill>
                <a:latin typeface="Times New Roman"/>
              </a:rPr>
              <a:t>	</a:t>
            </a:r>
            <a:r>
              <a:rPr b="0" i="1" lang="en-US" sz="2200" spc="-1" strike="noStrike">
                <a:solidFill>
                  <a:srgbClr val="333333"/>
                </a:solidFill>
                <a:latin typeface="Times New Roman"/>
              </a:rPr>
              <a:t>     saturated and applied to plant</a:t>
            </a:r>
            <a:br>
              <a:rPr sz="2200"/>
            </a:br>
            <a:r>
              <a:rPr b="0" i="1" lang="en-US" sz="2200" spc="-1" strike="noStrike">
                <a:solidFill>
                  <a:srgbClr val="333333"/>
                </a:solidFill>
                <a:latin typeface="Times New Roman"/>
              </a:rPr>
              <a:t>	</a:t>
            </a:r>
            <a:r>
              <a:rPr b="0" i="1" lang="en-US" sz="2200" spc="-1" strike="noStrike">
                <a:solidFill>
                  <a:srgbClr val="333333"/>
                </a:solidFill>
                <a:latin typeface="Times New Roman"/>
              </a:rPr>
              <a:t>                  </a:t>
            </a:r>
            <a:r>
              <a:rPr b="0" lang="en-US" sz="2200" spc="-1" strike="noStrike">
                <a:solidFill>
                  <a:srgbClr val="333333"/>
                </a:solidFill>
                <a:latin typeface="Times New Roman"/>
              </a:rPr>
              <a:t>Solid line</a:t>
            </a:r>
            <a:r>
              <a:rPr b="0" i="1" lang="en-US" sz="2200" spc="-1" strike="noStrike">
                <a:solidFill>
                  <a:srgbClr val="333333"/>
                </a:solidFill>
                <a:latin typeface="Times New Roman"/>
              </a:rPr>
              <a:t> - response obtained from MPC algorithm</a:t>
            </a:r>
            <a:endParaRPr b="0" lang="en-US" sz="2200" spc="-1" strike="noStrike">
              <a:solidFill>
                <a:srgbClr val="6600cc"/>
              </a:solidFill>
              <a:latin typeface="Times New Roman"/>
            </a:endParaRPr>
          </a:p>
        </p:txBody>
      </p:sp>
      <p:pic>
        <p:nvPicPr>
          <p:cNvPr id="255" name="" descr=""/>
          <p:cNvPicPr/>
          <p:nvPr/>
        </p:nvPicPr>
        <p:blipFill>
          <a:blip r:embed="rId2"/>
          <a:stretch/>
        </p:blipFill>
        <p:spPr>
          <a:xfrm>
            <a:off x="1690560" y="1932120"/>
            <a:ext cx="5791320" cy="4784760"/>
          </a:xfrm>
          <a:prstGeom prst="rect">
            <a:avLst/>
          </a:prstGeom>
          <a:ln w="57240">
            <a:solidFill>
              <a:srgbClr val="004c2b"/>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56840"/>
            <a:ext cx="8158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ne Degree of Freedom Controller</a:t>
            </a:r>
            <a:endParaRPr b="0" lang="en-US" sz="4400" spc="-1" strike="noStrike">
              <a:solidFill>
                <a:srgbClr val="6600cc"/>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one-degree of freedom output feedback controller is obtained by including the set point in the quantities to be estimated. The resultant output feedback MPC strategy is schematically depicted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23.14:  </a:t>
            </a:r>
            <a:r>
              <a:rPr b="0" i="1" lang="en-US" sz="2400" spc="-1" strike="noStrike">
                <a:solidFill>
                  <a:srgbClr val="333333"/>
                </a:solidFill>
                <a:latin typeface="Times New Roman"/>
              </a:rPr>
              <a:t>One-degree-of-freedom MPC architecture</a:t>
            </a:r>
            <a:endParaRPr b="0" lang="en-US" sz="2400" spc="-1" strike="noStrike">
              <a:solidFill>
                <a:srgbClr val="6600cc"/>
              </a:solidFill>
              <a:latin typeface="Times New Roman"/>
            </a:endParaRPr>
          </a:p>
        </p:txBody>
      </p:sp>
      <p:pic>
        <p:nvPicPr>
          <p:cNvPr id="259" name="Fig23_10" descr=""/>
          <p:cNvPicPr/>
          <p:nvPr/>
        </p:nvPicPr>
        <p:blipFill>
          <a:blip r:embed="rId2"/>
          <a:srcRect l="16406" t="0" r="0" b="0"/>
          <a:stretch/>
        </p:blipFill>
        <p:spPr>
          <a:xfrm>
            <a:off x="1305000" y="2371680"/>
            <a:ext cx="6491160" cy="293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tegral Action</a:t>
            </a:r>
            <a:endParaRPr b="0" lang="en-US" sz="4400" spc="-1" strike="noStrike">
              <a:solidFill>
                <a:srgbClr val="6600cc"/>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important observation is that the architecture described above gives a form of integral action. In particular </a:t>
            </a:r>
            <a:r>
              <a:rPr b="0" i="1" lang="en-US" sz="2800" spc="-1" strike="noStrike">
                <a:solidFill>
                  <a:srgbClr val="333333"/>
                </a:solidFill>
                <a:latin typeface="Times New Roman"/>
              </a:rPr>
              <a:t>y</a:t>
            </a:r>
            <a:r>
              <a:rPr b="0" lang="en-US" sz="2800" spc="-1" strike="noStrike">
                <a:solidFill>
                  <a:srgbClr val="333333"/>
                </a:solidFill>
                <a:latin typeface="Times New Roman"/>
              </a:rPr>
              <a:t> is taken to the set-point </a:t>
            </a:r>
            <a:r>
              <a:rPr b="0" i="1" lang="en-US" sz="2800" spc="-1" strike="noStrike">
                <a:solidFill>
                  <a:srgbClr val="333333"/>
                </a:solidFill>
                <a:latin typeface="Times New Roman"/>
              </a:rPr>
              <a:t>y</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irrespective of the true plant description (provided a steady state is reached and provided that, in this steady state,</a:t>
            </a:r>
            <a:r>
              <a:rPr b="0" i="1" lang="en-US" sz="2800" spc="-1" strike="noStrike">
                <a:solidFill>
                  <a:srgbClr val="333333"/>
                </a:solidFill>
                <a:latin typeface="Times New Roman"/>
              </a:rPr>
              <a:t> u</a:t>
            </a:r>
            <a:r>
              <a:rPr b="0" lang="en-US" sz="2800" spc="-1" strike="noStrike">
                <a:solidFill>
                  <a:srgbClr val="333333"/>
                </a:solidFill>
                <a:latin typeface="Times New Roman"/>
              </a:rPr>
              <a:t> is not constrain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dvantages of Model Predictive Control</a:t>
            </a:r>
            <a:endParaRPr b="0" lang="en-US" sz="4400" spc="-1" strike="noStrike">
              <a:solidFill>
                <a:srgbClr val="6600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04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ain advantages of MPC are:</a:t>
            </a:r>
            <a:endParaRPr b="0" lang="en-US" sz="2800" spc="-1" strike="noStrike">
              <a:solidFill>
                <a:srgbClr val="333333"/>
              </a:solidFill>
              <a:latin typeface="Times New Roman"/>
            </a:endParaRPr>
          </a:p>
          <a:p>
            <a:pPr marL="404640" indent="-40464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t provides a one-stop-shop for MIMO control in</a:t>
            </a:r>
            <a:r>
              <a:rPr b="0" lang="en-US" sz="2800" spc="-1" strike="noStrike">
                <a:solidFill>
                  <a:srgbClr val="333333"/>
                </a:solidFill>
                <a:latin typeface="Times New Roman"/>
              </a:rPr>
              <a:t> </a:t>
            </a:r>
            <a:r>
              <a:rPr b="0" lang="en-US" sz="2400" spc="-1" strike="noStrike">
                <a:solidFill>
                  <a:srgbClr val="333333"/>
                </a:solidFill>
                <a:latin typeface="Times New Roman"/>
              </a:rPr>
              <a:t>the presence of constraints,</a:t>
            </a:r>
            <a:endParaRPr b="0" lang="en-US" sz="2400" spc="-1" strike="noStrike">
              <a:solidFill>
                <a:srgbClr val="333333"/>
              </a:solidFill>
              <a:latin typeface="Times New Roman"/>
            </a:endParaRPr>
          </a:p>
          <a:p>
            <a:pPr marL="404640" indent="-40464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t is one of the few methods that allows one to treat state constraints, and</a:t>
            </a:r>
            <a:endParaRPr b="0" lang="en-US" sz="2400" spc="-1" strike="noStrike">
              <a:solidFill>
                <a:srgbClr val="333333"/>
              </a:solidFill>
              <a:latin typeface="Times New Roman"/>
            </a:endParaRPr>
          </a:p>
          <a:p>
            <a:pPr marL="404640" indent="-404640">
              <a:spcBef>
                <a:spcPts val="1349"/>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everal commercial packages are available which give industrially robust versions of the algorithms aimed at chemical process control.</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56840"/>
            <a:ext cx="7997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udder Roll Stabilization of Ships</a:t>
            </a:r>
            <a:endParaRPr b="0" lang="en-US" sz="4400" spc="-1" strike="noStrike">
              <a:solidFill>
                <a:srgbClr val="6600cc"/>
              </a:solidFill>
              <a:latin typeface="Times New Roman"/>
            </a:endParaRPr>
          </a:p>
        </p:txBody>
      </p:sp>
      <p:sp>
        <p:nvSpPr>
          <p:cNvPr id="263" name="PlaceHolder 2"/>
          <p:cNvSpPr>
            <a:spLocks noGrp="1"/>
          </p:cNvSpPr>
          <p:nvPr>
            <p:ph/>
          </p:nvPr>
        </p:nvSpPr>
        <p:spPr>
          <a:xfrm>
            <a:off x="592200" y="1981080"/>
            <a:ext cx="8223120" cy="4114800"/>
          </a:xfrm>
          <a:prstGeom prst="rect">
            <a:avLst/>
          </a:prstGeom>
          <a:noFill/>
          <a:ln w="0">
            <a:noFill/>
          </a:ln>
        </p:spPr>
        <p:txBody>
          <a:bodyPr lIns="90000" rIns="90000" tIns="46800" bIns="46800" anchor="t">
            <a:normAutofit fontScale="91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Here we present a realistic application of model </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predictive control to rudder roll stabilization of ships.</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It is desirable to reduce the rolling motion of ships produced by wave action so as to prevent cargo damage and improve crew efficiency and passenger comfort.  Conventional methods for ship roll stabilization include water tanks, stabilization fins and bilge keels. Another alternative is to use the rudder for roll stabilization as well as course keeping. However, using the rudder for simultaneous course keeping and roll reduction is non-trivial since only one actuator is available to deal with two objectives.</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straint</a:t>
            </a:r>
            <a:endParaRPr b="0" lang="en-US" sz="4400" spc="-1" strike="noStrike">
              <a:solidFill>
                <a:srgbClr val="6600cc"/>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important issue in this problem is that the rudder mechanism is usually limited in amplitude and slew rate. Hence this is a suitable problem for model predictive control.</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23.15:  </a:t>
            </a:r>
            <a:r>
              <a:rPr b="0" i="1" lang="en-US" sz="2400" spc="-1" strike="noStrike">
                <a:solidFill>
                  <a:srgbClr val="333333"/>
                </a:solidFill>
                <a:latin typeface="Times New Roman"/>
              </a:rPr>
              <a:t>Magnitudes and conventions for ship motion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description</a:t>
            </a:r>
            <a:endParaRPr b="0" lang="en-US" sz="2400" spc="-1" strike="noStrike">
              <a:solidFill>
                <a:srgbClr val="6600cc"/>
              </a:solidFill>
              <a:latin typeface="Times New Roman"/>
            </a:endParaRPr>
          </a:p>
        </p:txBody>
      </p:sp>
      <p:pic>
        <p:nvPicPr>
          <p:cNvPr id="267" name="Fig23_11" descr=""/>
          <p:cNvPicPr/>
          <p:nvPr/>
        </p:nvPicPr>
        <p:blipFill>
          <a:blip r:embed="rId2"/>
          <a:stretch/>
        </p:blipFill>
        <p:spPr>
          <a:xfrm>
            <a:off x="1608120" y="2266920"/>
            <a:ext cx="5838840" cy="3141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he Model</a:t>
            </a:r>
            <a:endParaRPr b="0" lang="en-US" sz="4400" spc="-1" strike="noStrike">
              <a:solidFill>
                <a:srgbClr val="6600cc"/>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ve disturbances are usually considered at the output, and the complete model of the ship dynamics including the output equation is of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only the roll and yaw are typically directly measured i.e. </a:t>
            </a:r>
            <a:r>
              <a:rPr b="0" i="1" lang="en-US" sz="2800" spc="-1" strike="noStrike">
                <a:solidFill>
                  <a:srgbClr val="333333"/>
                </a:solidFill>
                <a:latin typeface="Times New Roman"/>
              </a:rPr>
              <a:t>y</a:t>
            </a:r>
            <a:r>
              <a:rPr b="0" lang="en-US" sz="2800" spc="-1" strike="noStrike">
                <a:solidFill>
                  <a:srgbClr val="333333"/>
                </a:solidFill>
                <a:latin typeface="Times New Roman"/>
              </a:rPr>
              <a:t> := [</a:t>
            </a:r>
            <a:r>
              <a:rPr b="0" lang="en-US" sz="2800" spc="-1" strike="noStrike">
                <a:solidFill>
                  <a:srgbClr val="333333"/>
                </a:solidFill>
                <a:latin typeface="TECHMath"/>
                <a:ea typeface="TECHMath"/>
              </a:rPr>
              <a:t></a:t>
            </a:r>
            <a:r>
              <a:rPr b="0" lang="en-US" sz="2800" spc="-1" strike="noStrike">
                <a:solidFill>
                  <a:srgbClr val="333333"/>
                </a:solidFill>
                <a:latin typeface="Times New Roman"/>
              </a:rPr>
              <a:t>, </a:t>
            </a:r>
            <a:r>
              <a:rPr b="0" lang="en-US" sz="2800" spc="-1" strike="noStrike">
                <a:solidFill>
                  <a:srgbClr val="333333"/>
                </a:solidFill>
                <a:latin typeface="TECHMath"/>
                <a:ea typeface="TECHMath"/>
              </a:rPr>
              <a:t></a:t>
            </a:r>
            <a:r>
              <a:rPr b="0" lang="en-US" sz="2800" spc="-1" strike="noStrike">
                <a:solidFill>
                  <a:srgbClr val="333333"/>
                </a:solidFill>
                <a:latin typeface="Times New Roman"/>
              </a:rPr>
              <a:t>]</a:t>
            </a:r>
            <a:r>
              <a:rPr b="0" lang="en-US" sz="2800" spc="-1" strike="noStrike" baseline="30000">
                <a:solidFill>
                  <a:srgbClr val="333333"/>
                </a:solidFill>
                <a:latin typeface="Times New Roman"/>
              </a:rPr>
              <a:t>T</a:t>
            </a:r>
            <a:r>
              <a:rPr b="0" lang="en-US" sz="2800" spc="-1" strike="noStrike">
                <a:solidFill>
                  <a:srgbClr val="333333"/>
                </a:solidFill>
                <a:latin typeface="Times New Roman"/>
              </a:rPr>
              <a:t>.  </a:t>
            </a:r>
            <a:r>
              <a:rPr b="0" i="1" lang="en-US" sz="2800" spc="-1" strike="noStrike">
                <a:solidFill>
                  <a:srgbClr val="333333"/>
                </a:solidFill>
                <a:latin typeface="Times New Roman"/>
              </a:rPr>
              <a:t>d</a:t>
            </a:r>
            <a:r>
              <a:rPr b="0" i="1" lang="en-US" sz="2800" spc="-1" strike="noStrike" baseline="-25000">
                <a:solidFill>
                  <a:srgbClr val="333333"/>
                </a:solidFill>
                <a:latin typeface="Times New Roman"/>
              </a:rPr>
              <a:t>wave</a:t>
            </a:r>
            <a:r>
              <a:rPr b="0" lang="en-US" sz="2800" spc="-1" strike="noStrike">
                <a:solidFill>
                  <a:srgbClr val="333333"/>
                </a:solidFill>
                <a:latin typeface="Times New Roman"/>
              </a:rPr>
              <a:t> is the wave induced disturbance on the output variables.</a:t>
            </a:r>
            <a:endParaRPr b="0" lang="en-US" sz="2800" spc="-1" strike="noStrike">
              <a:solidFill>
                <a:srgbClr val="333333"/>
              </a:solidFill>
              <a:latin typeface="Times New Roman"/>
            </a:endParaRPr>
          </a:p>
        </p:txBody>
      </p:sp>
      <mc:AlternateContent>
        <mc:Choice xmlns:a14="http://schemas.microsoft.com/office/drawing/2010/main" Requires="a14">
          <p:sp>
            <p:nvSpPr>
              <p:cNvPr id="270" name=""/>
              <p:cNvSpPr txBox="1"/>
              <p:nvPr/>
            </p:nvSpPr>
            <p:spPr>
              <a:xfrm>
                <a:off x="3638520" y="3541680"/>
                <a:ext cx="1866960" cy="660600"/>
              </a:xfrm>
              <a:prstGeom prst="rect">
                <a:avLst/>
              </a:prstGeom>
            </p:spPr>
            <p:txBody>
              <a:bodyPr/>
              <a:p>
                <a14:m>
                  <m:oMath xmlns:m="http://schemas.openxmlformats.org/officeDocument/2006/math">
                    <m:eqArr>
                      <m:e>
                        <m:acc>
                          <m:accPr>
                            <m:chr m:val="˙"/>
                          </m:accPr>
                          <m:e>
                            <m:r>
                              <m:t xml:space="preserve">x</m:t>
                            </m:r>
                          </m:e>
                        </m:acc>
                        <m:r>
                          <m:t xml:space="preserve">=</m:t>
                        </m:r>
                        <m:r>
                          <m:t xml:space="preserve">Ax</m:t>
                        </m:r>
                        <m:r>
                          <m:t xml:space="preserve">+</m:t>
                        </m:r>
                        <m:r>
                          <m:t xml:space="preserve">Bδ</m:t>
                        </m:r>
                      </m:e>
                      <m:e>
                        <m:r>
                          <m:t xml:space="preserve">y</m:t>
                        </m:r>
                        <m:r>
                          <m:t xml:space="preserve">=</m:t>
                        </m:r>
                        <m:r>
                          <m:t xml:space="preserve">Cx</m:t>
                        </m:r>
                        <m:r>
                          <m:t xml:space="preserve">+</m:t>
                        </m:r>
                        <m:sSub>
                          <m:e>
                            <m:r>
                              <m:t xml:space="preserve">d</m:t>
                            </m:r>
                          </m:e>
                          <m:sub>
                            <m:r>
                              <m:rPr>
                                <m:lit/>
                                <m:nor/>
                              </m:rPr>
                              <m:t xml:space="preserve">wave</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 for Wave Disturbances</a:t>
            </a:r>
            <a:endParaRPr b="0" lang="en-US" sz="4400" spc="-1" strike="noStrike">
              <a:solidFill>
                <a:srgbClr val="6600cc"/>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wave disturbances can be characterized in terms of their frequency spectrum.  This frequency spectrum can be simulated by using filtered white noise.  The filter used to approximate the spectrum is usually a second order one of the form</a:t>
            </a:r>
            <a:endParaRPr b="0" lang="en-US" sz="2800" spc="-1" strike="noStrike">
              <a:solidFill>
                <a:srgbClr val="333333"/>
              </a:solidFill>
              <a:latin typeface="Times New Roman"/>
            </a:endParaRPr>
          </a:p>
        </p:txBody>
      </p:sp>
      <mc:AlternateContent>
        <mc:Choice xmlns:a14="http://schemas.microsoft.com/office/drawing/2010/main" Requires="a14">
          <p:sp>
            <p:nvSpPr>
              <p:cNvPr id="273" name=""/>
              <p:cNvSpPr txBox="1"/>
              <p:nvPr/>
            </p:nvSpPr>
            <p:spPr>
              <a:xfrm>
                <a:off x="3054240" y="4460760"/>
                <a:ext cx="2997360" cy="85104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sSub>
                          <m:e>
                            <m:r>
                              <m:t xml:space="preserve">K</m:t>
                            </m:r>
                          </m:e>
                          <m:sub>
                            <m:r>
                              <m:t xml:space="preserve">w</m:t>
                            </m:r>
                          </m:sub>
                        </m:sSub>
                        <m:r>
                          <m:t xml:space="preserve">s</m:t>
                        </m:r>
                      </m:num>
                      <m:den>
                        <m:sSup>
                          <m:e>
                            <m:r>
                              <m:t xml:space="preserve">s</m:t>
                            </m:r>
                          </m:e>
                          <m:sup>
                            <m:r>
                              <m:t xml:space="preserve">2</m:t>
                            </m:r>
                          </m:sup>
                        </m:sSup>
                        <m:r>
                          <m:t xml:space="preserve">+</m:t>
                        </m:r>
                        <m:r>
                          <m:t xml:space="preserve">2</m:t>
                        </m:r>
                        <m:sSub>
                          <m:e>
                            <m:r>
                              <m:rPr>
                                <m:lit/>
                                <m:nor/>
                              </m:rPr>
                              <m:t xml:space="preserve">ξω</m:t>
                            </m:r>
                          </m:e>
                          <m:sub>
                            <m:r>
                              <m:t xml:space="preserve">0</m:t>
                            </m:r>
                          </m:sub>
                        </m:sSub>
                        <m:r>
                          <m:t xml:space="preserve">s</m:t>
                        </m:r>
                        <m:r>
                          <m:t xml:space="preserve">+</m:t>
                        </m:r>
                        <m:sSubSup>
                          <m:e>
                            <m:r>
                              <m:t xml:space="preserve">ω</m:t>
                            </m:r>
                          </m:e>
                          <m:sub>
                            <m:r>
                              <m:t xml:space="preserve">0</m:t>
                            </m:r>
                          </m:sub>
                          <m:sup>
                            <m:r>
                              <m:t xml:space="preserve">2</m:t>
                            </m:r>
                          </m:sup>
                        </m:sSubSup>
                      </m:den>
                    </m:f>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trol Objectives</a:t>
            </a:r>
            <a:endParaRPr b="0" lang="en-US" sz="4400" spc="-1" strike="noStrike">
              <a:solidFill>
                <a:srgbClr val="6600cc"/>
              </a:solidFill>
              <a:latin typeface="Times New Roman"/>
            </a:endParaRPr>
          </a:p>
        </p:txBody>
      </p:sp>
      <p:sp>
        <p:nvSpPr>
          <p:cNvPr id="275" name="PlaceHolder 2"/>
          <p:cNvSpPr>
            <a:spLocks noGrp="1"/>
          </p:cNvSpPr>
          <p:nvPr>
            <p:ph/>
          </p:nvPr>
        </p:nvSpPr>
        <p:spPr>
          <a:xfrm>
            <a:off x="807840" y="1973160"/>
            <a:ext cx="7978680" cy="4114800"/>
          </a:xfrm>
          <a:prstGeom prst="rect">
            <a:avLst/>
          </a:prstGeom>
          <a:noFill/>
          <a:ln w="0">
            <a:noFill/>
          </a:ln>
        </p:spPr>
        <p:txBody>
          <a:bodyPr lIns="90000" rIns="90000" tIns="46800" bIns="46800" anchor="t">
            <a:normAutofit/>
          </a:bodyPr>
          <a:p>
            <a:pPr marL="46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design objectives for rudder roll stabilization are:</a:t>
            </a:r>
            <a:endParaRPr b="0" lang="en-US" sz="2800" spc="-1" strike="noStrike">
              <a:solidFill>
                <a:srgbClr val="333333"/>
              </a:solidFill>
              <a:latin typeface="Times New Roman"/>
            </a:endParaRPr>
          </a:p>
          <a:p>
            <a:pPr marL="460440" indent="-4604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crease the damping and reduce the roll amplitude</a:t>
            </a:r>
            <a:endParaRPr b="0" lang="en-US" sz="2400" spc="-1" strike="noStrike">
              <a:solidFill>
                <a:srgbClr val="333333"/>
              </a:solidFill>
              <a:latin typeface="Times New Roman"/>
            </a:endParaRPr>
          </a:p>
          <a:p>
            <a:pPr marL="460440" indent="-46044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ontrol the heading of the ship</a:t>
            </a:r>
            <a:endParaRPr b="0" lang="en-US" sz="2400" spc="-1" strike="noStrike">
              <a:solidFill>
                <a:srgbClr val="333333"/>
              </a:solidFill>
              <a:latin typeface="Times New Roman"/>
            </a:endParaRPr>
          </a:p>
          <a:p>
            <a:pPr marL="46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tails of the Model</a:t>
            </a:r>
            <a:endParaRPr b="0" lang="en-US" sz="4400" spc="-1" strike="noStrike">
              <a:solidFill>
                <a:srgbClr val="6600cc"/>
              </a:solidFill>
              <a:latin typeface="Times New Roman"/>
            </a:endParaRPr>
          </a:p>
        </p:txBody>
      </p:sp>
      <p:sp>
        <p:nvSpPr>
          <p:cNvPr id="277" name="PlaceHolder 2"/>
          <p:cNvSpPr>
            <a:spLocks noGrp="1"/>
          </p:cNvSpPr>
          <p:nvPr>
            <p:ph/>
          </p:nvPr>
        </p:nvSpPr>
        <p:spPr>
          <a:xfrm>
            <a:off x="685800" y="1981080"/>
            <a:ext cx="7772400" cy="59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following model was used for the ship</a:t>
            </a:r>
            <a:endParaRPr b="0" lang="en-US" sz="2800" spc="-1" strike="noStrike">
              <a:solidFill>
                <a:srgbClr val="333333"/>
              </a:solidFill>
              <a:latin typeface="Times New Roman"/>
            </a:endParaRPr>
          </a:p>
        </p:txBody>
      </p:sp>
      <p:sp>
        <p:nvSpPr>
          <p:cNvPr id="278" name=""/>
          <p:cNvSpPr/>
          <p:nvPr/>
        </p:nvSpPr>
        <p:spPr>
          <a:xfrm>
            <a:off x="686880" y="5207040"/>
            <a:ext cx="7117920" cy="1529280"/>
          </a:xfrm>
          <a:prstGeom prst="rect">
            <a:avLst/>
          </a:prstGeom>
          <a:noFill/>
          <a:ln w="0">
            <a:noFill/>
          </a:ln>
        </p:spPr>
        <p:style>
          <a:lnRef idx="0"/>
          <a:fillRef idx="0"/>
          <a:effectRef idx="0"/>
          <a:fontRef idx="minor"/>
        </p:style>
        <p:txBody>
          <a:bodyPr wrap="none"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system was sampled with a zero order hold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sampling period of 0.5.</a:t>
            </a:r>
            <a:endParaRPr b="0" lang="en-US" sz="2800" spc="-1" strike="noStrike">
              <a:solidFill>
                <a:srgbClr val="333333"/>
              </a:solidFill>
              <a:latin typeface="Times New Roman"/>
            </a:endParaRPr>
          </a:p>
        </p:txBody>
      </p:sp>
      <p:pic>
        <p:nvPicPr>
          <p:cNvPr id="279" name="Eqn23_07_04" descr=""/>
          <p:cNvPicPr/>
          <p:nvPr/>
        </p:nvPicPr>
        <p:blipFill>
          <a:blip r:embed="rId2"/>
          <a:stretch/>
        </p:blipFill>
        <p:spPr>
          <a:xfrm>
            <a:off x="1652760" y="2593800"/>
            <a:ext cx="5651280" cy="3157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tails of the Optimization Criterion</a:t>
            </a:r>
            <a:endParaRPr b="0" lang="en-US" sz="4400" spc="-1" strike="noStrike">
              <a:solidFill>
                <a:srgbClr val="6600cc"/>
              </a:solidFill>
              <a:latin typeface="Times New Roman"/>
            </a:endParaRPr>
          </a:p>
        </p:txBody>
      </p:sp>
      <p:sp>
        <p:nvSpPr>
          <p:cNvPr id="281" name="PlaceHolder 2"/>
          <p:cNvSpPr>
            <a:spLocks noGrp="1"/>
          </p:cNvSpPr>
          <p:nvPr>
            <p:ph/>
          </p:nvPr>
        </p:nvSpPr>
        <p:spPr>
          <a:xfrm>
            <a:off x="685800" y="1981080"/>
            <a:ext cx="82900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tails of the model predictive control optimization criterion were that a standard LQR cost function was employed with</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ptimization horizon, </a:t>
            </a:r>
            <a:r>
              <a:rPr b="0" i="1" lang="en-US" sz="2800" spc="-1" strike="noStrike">
                <a:solidFill>
                  <a:srgbClr val="333333"/>
                </a:solidFill>
                <a:latin typeface="Times New Roman"/>
              </a:rPr>
              <a:t>N</a:t>
            </a:r>
            <a:r>
              <a:rPr b="0" lang="en-US" sz="2800" spc="-1" strike="noStrike">
                <a:solidFill>
                  <a:srgbClr val="333333"/>
                </a:solidFill>
                <a:latin typeface="Times New Roman"/>
              </a:rPr>
              <a:t> = 20;  Control horizon </a:t>
            </a:r>
            <a:r>
              <a:rPr b="0" i="1" lang="en-US" sz="2800" spc="-1" strike="noStrike">
                <a:solidFill>
                  <a:srgbClr val="333333"/>
                </a:solidFill>
                <a:latin typeface="Times New Roman"/>
              </a:rPr>
              <a:t>M</a:t>
            </a:r>
            <a:r>
              <a:rPr b="0" lang="en-US" sz="2800" spc="-1" strike="noStrike">
                <a:solidFill>
                  <a:srgbClr val="333333"/>
                </a:solidFill>
                <a:latin typeface="Times New Roman"/>
              </a:rPr>
              <a:t> = 18.</a:t>
            </a:r>
            <a:endParaRPr b="0" lang="en-US" sz="2800" spc="-1" strike="noStrike">
              <a:solidFill>
                <a:srgbClr val="333333"/>
              </a:solidFill>
              <a:latin typeface="Times New Roman"/>
            </a:endParaRPr>
          </a:p>
        </p:txBody>
      </p:sp>
      <mc:AlternateContent>
        <mc:Choice xmlns:a14="http://schemas.microsoft.com/office/drawing/2010/main" Requires="a14">
          <p:sp>
            <p:nvSpPr>
              <p:cNvPr id="282" name=""/>
              <p:cNvSpPr txBox="1"/>
              <p:nvPr/>
            </p:nvSpPr>
            <p:spPr>
              <a:xfrm>
                <a:off x="2890800" y="3390840"/>
                <a:ext cx="3149640" cy="862200"/>
              </a:xfrm>
              <a:prstGeom prst="rect">
                <a:avLst/>
              </a:prstGeom>
            </p:spPr>
            <p:txBody>
              <a:bodyPr/>
              <a:p>
                <a14:m>
                  <m:oMath xmlns:m="http://schemas.openxmlformats.org/officeDocument/2006/math">
                    <m:r>
                      <m:t xml:space="preserve">Ψ</m:t>
                    </m:r>
                    <m:r>
                      <m:t xml:space="preserve">=</m:t>
                    </m:r>
                    <m:d>
                      <m:dPr>
                        <m:begChr m:val="["/>
                        <m:endChr m:val="]"/>
                      </m:dPr>
                      <m:e>
                        <m:m>
                          <m:mr>
                            <m:e>
                              <m:r>
                                <m:rPr>
                                  <m:lit/>
                                  <m:nor/>
                                </m:rPr>
                                <m:t xml:space="preserve">90</m:t>
                              </m:r>
                            </m:e>
                            <m:e>
                              <m:r>
                                <m:t xml:space="preserve">0</m:t>
                              </m:r>
                            </m:e>
                          </m:mr>
                          <m:mr>
                            <m:e>
                              <m:r>
                                <m:t xml:space="preserve">0</m:t>
                              </m:r>
                            </m:e>
                            <m:e>
                              <m:r>
                                <m:t xml:space="preserve">3</m:t>
                              </m:r>
                            </m:e>
                          </m:mr>
                        </m:m>
                      </m:e>
                    </m:d>
                    <m:r>
                      <m:t xml:space="preserve">;</m:t>
                    </m:r>
                    <m:r>
                      <m:t xml:space="preserve"> </m:t>
                    </m:r>
                    <m:r>
                      <m:t xml:space="preserve">Φ</m:t>
                    </m:r>
                    <m:r>
                      <m:t xml:space="preserve">=</m:t>
                    </m:r>
                    <m:r>
                      <m:t xml:space="preserve">0</m:t>
                    </m:r>
                    <m:r>
                      <m:rPr>
                        <m:lit/>
                        <m:nor/>
                      </m:rP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stimating the System State</a:t>
            </a:r>
            <a:endParaRPr b="0" lang="en-US" sz="4400" spc="-1" strike="noStrike">
              <a:solidFill>
                <a:srgbClr val="6600cc"/>
              </a:solidFill>
              <a:latin typeface="Times New Roman"/>
            </a:endParaRPr>
          </a:p>
        </p:txBody>
      </p:sp>
      <p:sp>
        <p:nvSpPr>
          <p:cNvPr id="284" name="PlaceHolder 2"/>
          <p:cNvSpPr>
            <a:spLocks noGrp="1"/>
          </p:cNvSpPr>
          <p:nvPr>
            <p:ph/>
          </p:nvPr>
        </p:nvSpPr>
        <p:spPr>
          <a:xfrm>
            <a:off x="685800" y="1981080"/>
            <a:ext cx="7772400" cy="33242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nce only roll, </a:t>
            </a:r>
            <a:r>
              <a:rPr b="0" lang="en-US" sz="2800" spc="-1" strike="noStrike">
                <a:solidFill>
                  <a:srgbClr val="333333"/>
                </a:solidFill>
                <a:latin typeface="TECHMath"/>
                <a:ea typeface="TECHMath"/>
              </a:rPr>
              <a:t></a:t>
            </a:r>
            <a:r>
              <a:rPr b="0" lang="en-US" sz="2800" spc="-1" strike="noStrike">
                <a:solidFill>
                  <a:srgbClr val="333333"/>
                </a:solidFill>
                <a:latin typeface="Times New Roman"/>
              </a:rPr>
              <a:t>, and yaw, </a:t>
            </a:r>
            <a:r>
              <a:rPr b="0" lang="en-US" sz="2800" spc="-1" strike="noStrike">
                <a:solidFill>
                  <a:srgbClr val="333333"/>
                </a:solidFill>
                <a:latin typeface="TECHMath"/>
                <a:ea typeface="TECHMath"/>
              </a:rPr>
              <a:t></a:t>
            </a:r>
            <a:r>
              <a:rPr b="0" lang="en-US" sz="2800" spc="-1" strike="noStrike">
                <a:solidFill>
                  <a:srgbClr val="333333"/>
                </a:solidFill>
                <a:latin typeface="Times New Roman"/>
              </a:rPr>
              <a:t>, were assumed to be directly measured, then a Kalman filter was employed to estimate the 5 system states and 2 noise states in the composite model.</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s of applying MPC to this problem are shown on the following slid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onsider three cases:</a:t>
            </a:r>
            <a:endParaRPr b="0" lang="en-US" sz="2800" spc="-1" strike="noStrike">
              <a:solidFill>
                <a:srgbClr val="333333"/>
              </a:solidFill>
              <a:latin typeface="Times New Roman"/>
            </a:endParaRPr>
          </a:p>
        </p:txBody>
      </p:sp>
      <p:sp>
        <p:nvSpPr>
          <p:cNvPr id="285" name=""/>
          <p:cNvSpPr/>
          <p:nvPr/>
        </p:nvSpPr>
        <p:spPr>
          <a:xfrm>
            <a:off x="712440" y="4997520"/>
            <a:ext cx="8161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No constraints on the rudder</a:t>
            </a:r>
            <a:endParaRPr b="0" lang="en-US" sz="2400" spc="-1" strike="noStrike">
              <a:solidFill>
                <a:srgbClr val="333333"/>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Rudder constrained to a maximum angle of 30 degrees and a</a:t>
            </a:r>
            <a:endParaRPr b="0" lang="en-US" sz="2400" spc="-1" strike="noStrike">
              <a:solidFill>
                <a:srgbClr val="333333"/>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maximum slew rate of 15 degrees per second</a:t>
            </a:r>
            <a:endParaRPr b="0" lang="en-US" sz="2400" spc="-1" strike="noStrike">
              <a:solidFill>
                <a:srgbClr val="333333"/>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r>
              <a:rPr b="0" i="1" lang="en-US" sz="2400" spc="-1" strike="noStrike">
                <a:solidFill>
                  <a:srgbClr val="333333"/>
                </a:solidFill>
                <a:latin typeface="Times New Roman"/>
              </a:rPr>
              <a:t>i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Rudder constrained to a maximum angle of 20 degrees and</a:t>
            </a:r>
            <a:endParaRPr b="0" lang="en-US" sz="2400" spc="-1" strike="noStrike">
              <a:solidFill>
                <a:srgbClr val="333333"/>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 maximum slew rate of 8 degrees per second.</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23.16:  </a:t>
            </a:r>
            <a:r>
              <a:rPr b="0" i="1" lang="en-US" sz="2400" spc="-1" strike="noStrike">
                <a:solidFill>
                  <a:srgbClr val="333333"/>
                </a:solidFill>
                <a:latin typeface="Times New Roman"/>
              </a:rPr>
              <a:t>Ship motion with no constraints on rudder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motion</a:t>
            </a:r>
            <a:endParaRPr b="0" lang="en-US" sz="2400" spc="-1" strike="noStrike">
              <a:solidFill>
                <a:srgbClr val="6600cc"/>
              </a:solidFill>
              <a:latin typeface="Times New Roman"/>
            </a:endParaRPr>
          </a:p>
        </p:txBody>
      </p:sp>
      <p:pic>
        <p:nvPicPr>
          <p:cNvPr id="287" name="Fig23_12" descr=""/>
          <p:cNvPicPr/>
          <p:nvPr/>
        </p:nvPicPr>
        <p:blipFill>
          <a:blip r:embed="rId2"/>
          <a:stretch/>
        </p:blipFill>
        <p:spPr>
          <a:xfrm>
            <a:off x="1940040" y="2062080"/>
            <a:ext cx="5195880" cy="421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nti-Windup Revisited</a:t>
            </a:r>
            <a:endParaRPr b="0" lang="en-US" sz="4400" spc="-1" strike="noStrike">
              <a:solidFill>
                <a:srgbClr val="6600cc"/>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ssume that the complete state of a system is directly measured.  Then, if one has a time-invariant model for a system and if the objectives and constraints are time-invariant, it follows that the control policy should be expressible as a fixed mapping from the state to the control.  That is, the optimal control policy will be expressible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some static mapping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lang="en-US" sz="2000" spc="-1" strike="noStrike" baseline="30000">
                <a:solidFill>
                  <a:srgbClr val="333333"/>
                </a:solidFill>
                <a:latin typeface="CommonBullets"/>
                <a:ea typeface="CommonBullets"/>
              </a:rPr>
              <a:t></a:t>
            </a:r>
            <a:r>
              <a:rPr b="0" lang="en-US" sz="2800" spc="-1" strike="noStrike">
                <a:solidFill>
                  <a:srgbClr val="333333"/>
                </a:solidFill>
                <a:latin typeface="Times New Roman"/>
              </a:rPr>
              <a:t>). What remains is to give a characterization of the mapping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lang="en-US" sz="2000" spc="-1" strike="noStrike" baseline="30000">
                <a:solidFill>
                  <a:srgbClr val="333333"/>
                </a:solidFill>
                <a:latin typeface="CommonBullets"/>
                <a:ea typeface="CommonBullets"/>
              </a:rPr>
              <a:t></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104" name="Eqn23_02_01" descr=""/>
          <p:cNvPicPr/>
          <p:nvPr/>
        </p:nvPicPr>
        <p:blipFill>
          <a:blip r:embed="rId2"/>
          <a:stretch/>
        </p:blipFill>
        <p:spPr>
          <a:xfrm>
            <a:off x="3352680" y="5181480"/>
            <a:ext cx="1700280" cy="262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6600cc"/>
                </a:solidFill>
                <a:latin typeface="Times New Roman"/>
              </a:rPr>
              <a:t>Figure 23.17:  </a:t>
            </a:r>
            <a:r>
              <a:rPr b="0" i="1" lang="en-US" sz="2400" spc="-1" strike="noStrike">
                <a:solidFill>
                  <a:srgbClr val="333333"/>
                </a:solidFill>
                <a:latin typeface="Times New Roman"/>
              </a:rPr>
              <a:t>Ship motion when rudder constrained to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maximum angle of 30 degrees and maximum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slew rate of 15 degrees/sec.</a:t>
            </a:r>
            <a:endParaRPr b="0" lang="en-US" sz="2400" spc="-1" strike="noStrike">
              <a:solidFill>
                <a:srgbClr val="6600cc"/>
              </a:solidFill>
              <a:latin typeface="Times New Roman"/>
            </a:endParaRPr>
          </a:p>
        </p:txBody>
      </p:sp>
      <p:pic>
        <p:nvPicPr>
          <p:cNvPr id="289" name="Fig23_13" descr=""/>
          <p:cNvPicPr/>
          <p:nvPr/>
        </p:nvPicPr>
        <p:blipFill>
          <a:blip r:embed="rId2"/>
          <a:stretch/>
        </p:blipFill>
        <p:spPr>
          <a:xfrm>
            <a:off x="1859040" y="2006640"/>
            <a:ext cx="5346720" cy="434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23.18:  </a:t>
            </a:r>
            <a:r>
              <a:rPr b="0" i="1" lang="en-US" sz="2400" spc="-1" strike="noStrike">
                <a:solidFill>
                  <a:srgbClr val="333333"/>
                </a:solidFill>
                <a:latin typeface="Times New Roman"/>
              </a:rPr>
              <a:t>Ship motion when rudder constrained to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maximum angle of 20 degrees and maximum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slew rate of 8 degrees/sec.</a:t>
            </a:r>
            <a:endParaRPr b="0" lang="en-US" sz="2400" spc="-1" strike="noStrike">
              <a:solidFill>
                <a:srgbClr val="6600cc"/>
              </a:solidFill>
              <a:latin typeface="Times New Roman"/>
            </a:endParaRPr>
          </a:p>
        </p:txBody>
      </p:sp>
      <p:pic>
        <p:nvPicPr>
          <p:cNvPr id="291" name="Fig23_14" descr=""/>
          <p:cNvPicPr/>
          <p:nvPr/>
        </p:nvPicPr>
        <p:blipFill>
          <a:blip r:embed="rId2"/>
          <a:stretch/>
        </p:blipFill>
        <p:spPr>
          <a:xfrm>
            <a:off x="1762200" y="1959120"/>
            <a:ext cx="5405400" cy="4389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tions</a:t>
            </a:r>
            <a:endParaRPr b="0" lang="en-US" sz="4400" spc="-1" strike="noStrike">
              <a:solidFill>
                <a:srgbClr val="6600cc"/>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MPC offers a satisfactory solution to this problem.  Roll motion has been significantly reduced and, when reformulated as part of the problem description, constraints on maximum rudder angle and slew rate have been impos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PC provides a systematic procedure for dealing with constraints (both input and state) in MIMO control problems.</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t has been widely used in industry.</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emarkable properties of the method can be established, e.g. global asymptotic stability provided certain conditions are satisfied (e.g. appropriate weighting on the final stat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key elements of MPC for linear systems are:</a:t>
            </a:r>
            <a:endParaRPr b="0" lang="en-US" sz="2400" spc="-1" strike="noStrike">
              <a:solidFill>
                <a:srgbClr val="333333"/>
              </a:solidFill>
              <a:latin typeface="Times New Roman"/>
            </a:endParaRPr>
          </a:p>
          <a:p>
            <a:pPr lvl="1" marL="743040" indent="-285840">
              <a:spcBef>
                <a:spcPts val="15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ate space (or equivalent) model,</a:t>
            </a:r>
            <a:endParaRPr b="0" lang="en-US" sz="2400" spc="-1" strike="noStrike">
              <a:solidFill>
                <a:srgbClr val="333333"/>
              </a:solidFill>
              <a:latin typeface="Times New Roman"/>
            </a:endParaRPr>
          </a:p>
          <a:p>
            <a:pPr lvl="1" marL="743040" indent="-285840">
              <a:spcBef>
                <a:spcPts val="134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n-line state estimation (including disturbances),</a:t>
            </a:r>
            <a:endParaRPr b="0" lang="en-US" sz="2400" spc="-1" strike="noStrike">
              <a:solidFill>
                <a:srgbClr val="333333"/>
              </a:solidFill>
              <a:latin typeface="Times New Roman"/>
            </a:endParaRPr>
          </a:p>
          <a:p>
            <a:pPr lvl="1" marL="743040" indent="-285840">
              <a:spcBef>
                <a:spcPts val="134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rediction of future states (including disturbances),</a:t>
            </a:r>
            <a:endParaRPr b="0" lang="en-US" sz="2400" spc="-1" strike="noStrike">
              <a:solidFill>
                <a:srgbClr val="333333"/>
              </a:solidFill>
              <a:latin typeface="Times New Roman"/>
            </a:endParaRPr>
          </a:p>
          <a:p>
            <a:pPr lvl="1" marL="743040" indent="-285840">
              <a:spcBef>
                <a:spcPts val="134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n-line optimization of future trajectory subject to constraints using Quadratic Programming, and</a:t>
            </a:r>
            <a:endParaRPr b="0" lang="en-US" sz="2400" spc="-1" strike="noStrike">
              <a:solidFill>
                <a:srgbClr val="333333"/>
              </a:solidFill>
              <a:latin typeface="Times New Roman"/>
            </a:endParaRPr>
          </a:p>
          <a:p>
            <a:pPr lvl="1" marL="743040" indent="-285840">
              <a:spcBef>
                <a:spcPts val="134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mplementation of first step of control sequence.</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mbellishments</a:t>
            </a:r>
            <a:endParaRPr b="0" lang="en-US" sz="4400" spc="-1" strike="noStrike">
              <a:solidFill>
                <a:srgbClr val="6600cc"/>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sults presented in this chapter suggest there is a close connection between MPC and anti-windup provided the demands made on the system are not too sev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ctually, recent research has shown that there exists a non-trivial region of state space in which MPC and anti-windup are equivalen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ext slides illustrate this idea.</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llustrative Example</a:t>
            </a:r>
            <a:endParaRPr b="0" lang="en-US" sz="4400" spc="-1" strike="noStrike">
              <a:solidFill>
                <a:srgbClr val="6600cc"/>
              </a:solidFill>
              <a:latin typeface="Times New Roman"/>
            </a:endParaRPr>
          </a:p>
        </p:txBody>
      </p:sp>
      <mc:AlternateContent>
        <mc:Choice xmlns:a14="http://schemas.microsoft.com/office/drawing/2010/main" Requires="a14">
          <p:sp>
            <p:nvSpPr>
              <p:cNvPr id="301" name=""/>
              <p:cNvSpPr txBox="1"/>
              <p:nvPr/>
            </p:nvSpPr>
            <p:spPr>
              <a:xfrm>
                <a:off x="2543040" y="2330280"/>
                <a:ext cx="4280040" cy="939960"/>
              </a:xfrm>
              <a:prstGeom prst="rect">
                <a:avLst/>
              </a:prstGeom>
            </p:spPr>
            <p:txBody>
              <a:bodyPr/>
              <a:p>
                <a14:m>
                  <m:oMath xmlns:m="http://schemas.openxmlformats.org/officeDocument/2006/math">
                    <m:r>
                      <m:t xml:space="preserve">A</m:t>
                    </m:r>
                    <m:r>
                      <m:t xml:space="preserve">=</m:t>
                    </m:r>
                    <m:d>
                      <m:dPr>
                        <m:begChr m:val="["/>
                        <m:endChr m:val="]"/>
                      </m:dPr>
                      <m:e>
                        <m:m>
                          <m:mr>
                            <m:e>
                              <m:r>
                                <m:t xml:space="preserve">1</m:t>
                              </m:r>
                            </m:e>
                            <m:e>
                              <m:r>
                                <m:t xml:space="preserve">0</m:t>
                              </m:r>
                            </m:e>
                          </m:mr>
                          <m:mr>
                            <m:e>
                              <m:r>
                                <m:t xml:space="preserve">0</m:t>
                              </m:r>
                              <m:r>
                                <m:rPr>
                                  <m:lit/>
                                  <m:nor/>
                                </m:rPr>
                                <m:t xml:space="preserve">.</m:t>
                              </m:r>
                              <m:r>
                                <m:t xml:space="preserve">4</m:t>
                              </m:r>
                            </m:e>
                            <m:e>
                              <m:r>
                                <m:t xml:space="preserve">1</m:t>
                              </m:r>
                            </m:e>
                          </m:mr>
                        </m:m>
                      </m:e>
                    </m:d>
                    <m:r>
                      <m:t xml:space="preserve">,</m:t>
                    </m:r>
                    <m:r>
                      <m:t xml:space="preserve"> </m:t>
                    </m:r>
                    <m:r>
                      <m:t xml:space="preserve">B</m:t>
                    </m:r>
                    <m:r>
                      <m:t xml:space="preserve">=</m:t>
                    </m:r>
                    <m:d>
                      <m:dPr>
                        <m:begChr m:val="["/>
                        <m:endChr m:val="]"/>
                      </m:dPr>
                      <m:e>
                        <m:m>
                          <m:mr>
                            <m:e>
                              <m:r>
                                <m:t xml:space="preserve">0</m:t>
                              </m:r>
                              <m:r>
                                <m:rPr>
                                  <m:lit/>
                                  <m:nor/>
                                </m:rPr>
                                <m:t xml:space="preserve">.</m:t>
                              </m:r>
                              <m:r>
                                <m:t xml:space="preserve">4</m:t>
                              </m:r>
                            </m:e>
                          </m:mr>
                          <m:mr>
                            <m:e>
                              <m:r>
                                <m:t xml:space="preserve">0</m:t>
                              </m:r>
                              <m:r>
                                <m:rPr>
                                  <m:lit/>
                                  <m:nor/>
                                </m:rPr>
                                <m:t xml:space="preserve">.</m:t>
                              </m:r>
                              <m:r>
                                <m:rPr>
                                  <m:lit/>
                                  <m:nor/>
                                </m:rPr>
                                <m:t xml:space="preserve">08</m:t>
                              </m:r>
                            </m:e>
                          </m:mr>
                        </m:m>
                      </m:e>
                    </m:d>
                    <m:r>
                      <m:t xml:space="preserve">,</m:t>
                    </m:r>
                    <m:r>
                      <m:t xml:space="preserve">C</m:t>
                    </m:r>
                    <m:r>
                      <m:t xml:space="preserve">=</m:t>
                    </m:r>
                    <m:d>
                      <m:dPr>
                        <m:begChr m:val="["/>
                        <m:endChr m:val="]"/>
                      </m:dPr>
                      <m:e>
                        <m:r>
                          <m:t xml:space="preserve">0</m:t>
                        </m:r>
                        <m:r>
                          <m:t xml:space="preserve"> </m:t>
                        </m:r>
                        <m:r>
                          <m:t xml:space="preserve">1</m:t>
                        </m:r>
                      </m:e>
                    </m:d>
                    <m:r>
                      <m:t xml:space="preserve">,</m:t>
                    </m:r>
                  </m:oMath>
                </a14:m>
              </a:p>
            </p:txBody>
          </p:sp>
        </mc:Choice>
        <mc:Fallback/>
      </mc:AlternateContent>
      <p:sp>
        <p:nvSpPr>
          <p:cNvPr id="302" name=""/>
          <p:cNvSpPr/>
          <p:nvPr/>
        </p:nvSpPr>
        <p:spPr>
          <a:xfrm>
            <a:off x="669960" y="3467160"/>
            <a:ext cx="90583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This is the zero-order hold discretisation (with sampling</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period  </a:t>
            </a:r>
            <a:r>
              <a:rPr b="0" i="1" lang="en-AU" sz="2400" spc="-1" strike="noStrike">
                <a:solidFill>
                  <a:srgbClr val="333333"/>
                </a:solidFill>
                <a:latin typeface="Times New Roman"/>
              </a:rPr>
              <a:t>T</a:t>
            </a:r>
            <a:r>
              <a:rPr b="0" i="1" lang="en-AU" sz="2400" spc="-1" strike="noStrike" baseline="-25000">
                <a:solidFill>
                  <a:srgbClr val="333333"/>
                </a:solidFill>
                <a:latin typeface="Times New Roman"/>
              </a:rPr>
              <a:t>s</a:t>
            </a:r>
            <a:r>
              <a:rPr b="0" lang="en-AU" sz="2400" spc="-1" strike="noStrike">
                <a:solidFill>
                  <a:srgbClr val="333333"/>
                </a:solidFill>
                <a:latin typeface="Times New Roman"/>
              </a:rPr>
              <a:t> - 0.4 sec.) of the double integrator</a:t>
            </a:r>
            <a:endParaRPr b="0" lang="en-US" sz="2400" spc="-1" strike="noStrike">
              <a:solidFill>
                <a:srgbClr val="333333"/>
              </a:solidFill>
              <a:latin typeface="Times New Roman"/>
            </a:endParaRPr>
          </a:p>
        </p:txBody>
      </p:sp>
      <mc:AlternateContent>
        <mc:Choice xmlns:a14="http://schemas.microsoft.com/office/drawing/2010/main" Requires="a14">
          <p:sp>
            <p:nvSpPr>
              <p:cNvPr id="303" name=""/>
              <p:cNvSpPr txBox="1"/>
              <p:nvPr/>
            </p:nvSpPr>
            <p:spPr>
              <a:xfrm>
                <a:off x="1682640" y="4691160"/>
                <a:ext cx="1549440" cy="1295280"/>
              </a:xfrm>
              <a:prstGeom prst="rect">
                <a:avLst/>
              </a:prstGeom>
            </p:spPr>
            <p:txBody>
              <a:bodyPr/>
              <a:p>
                <a14:m>
                  <m:oMath xmlns:m="http://schemas.openxmlformats.org/officeDocument/2006/math">
                    <m:eqArr>
                      <m:e>
                        <m:sSub>
                          <m:e>
                            <m:acc>
                              <m:accPr>
                                <m:chr m:val="˙"/>
                              </m:accPr>
                              <m:e>
                                <m:r>
                                  <m:t xml:space="preserve">x</m:t>
                                </m:r>
                              </m:e>
                            </m:acc>
                          </m:e>
                          <m:sub>
                            <m:r>
                              <m:t xml:space="preserve">1</m:t>
                            </m:r>
                          </m:sub>
                        </m:sSub>
                        <m:r>
                          <m:t xml:space="preserve">(</m:t>
                        </m:r>
                        <m:r>
                          <m:t xml:space="preserve">t</m:t>
                        </m:r>
                        <m:r>
                          <m:t xml:space="preserve">)</m:t>
                        </m:r>
                        <m:r>
                          <m:t xml:space="preserve">=</m:t>
                        </m:r>
                        <m:r>
                          <m:t xml:space="preserve">u</m:t>
                        </m:r>
                        <m:r>
                          <m:t xml:space="preserve">(</m:t>
                        </m:r>
                        <m:r>
                          <m:t xml:space="preserve">t</m:t>
                        </m:r>
                        <m:r>
                          <m:t xml:space="preserve">)</m:t>
                        </m:r>
                        <m:r>
                          <m:t xml:space="preserve">,</m:t>
                        </m:r>
                      </m:e>
                      <m:e>
                        <m:sSub>
                          <m:e>
                            <m:acc>
                              <m:accPr>
                                <m:chr m:val="˙"/>
                              </m:accPr>
                              <m:e>
                                <m:r>
                                  <m:t xml:space="preserve">x</m:t>
                                </m:r>
                              </m:e>
                            </m:acc>
                          </m:e>
                          <m:sub>
                            <m:r>
                              <m:t xml:space="preserve">2</m:t>
                            </m:r>
                          </m:sub>
                        </m:sSub>
                        <m:r>
                          <m:t xml:space="preserve">(</m:t>
                        </m:r>
                        <m:r>
                          <m:t xml:space="preserve">t</m:t>
                        </m:r>
                        <m:r>
                          <m:t xml:space="preserve">)</m:t>
                        </m:r>
                        <m:r>
                          <m:t xml:space="preserve">=</m:t>
                        </m:r>
                        <m:sSub>
                          <m:e>
                            <m:r>
                              <m:t xml:space="preserve">x</m:t>
                            </m:r>
                          </m:e>
                          <m:sub>
                            <m:r>
                              <m:t xml:space="preserve">1</m:t>
                            </m:r>
                          </m:sub>
                        </m:sSub>
                        <m:r>
                          <m:t xml:space="preserve">(</m:t>
                        </m:r>
                        <m:r>
                          <m:t xml:space="preserve">t</m:t>
                        </m:r>
                        <m:r>
                          <m:t xml:space="preserve">)</m:t>
                        </m:r>
                        <m:r>
                          <m:t xml:space="preserve">,</m:t>
                        </m:r>
                      </m:e>
                      <m:e>
                        <m:r>
                          <m:t xml:space="preserve">y</m:t>
                        </m:r>
                        <m:r>
                          <m:t xml:space="preserve">(</m:t>
                        </m:r>
                        <m:r>
                          <m:t xml:space="preserve">t</m:t>
                        </m:r>
                        <m:r>
                          <m:t xml:space="preserve">)</m:t>
                        </m:r>
                        <m:r>
                          <m:t xml:space="preserve">=</m:t>
                        </m:r>
                        <m:sSub>
                          <m:e>
                            <m:r>
                              <m:t xml:space="preserve">x</m:t>
                            </m:r>
                          </m:e>
                          <m:sub>
                            <m:r>
                              <m:t xml:space="preserve">2</m:t>
                            </m:r>
                          </m:sub>
                        </m:sSub>
                        <m:r>
                          <m:t xml:space="preserve">(</m:t>
                        </m:r>
                        <m:r>
                          <m:t xml:space="preserve">t</m:t>
                        </m:r>
                        <m:r>
                          <m:t xml:space="preserve">)</m:t>
                        </m:r>
                        <m:r>
                          <m:rPr>
                            <m:lit/>
                            <m:nor/>
                          </m:rPr>
                          <m:t xml:space="preserve">.</m:t>
                        </m:r>
                      </m:e>
                    </m:eqArr>
                  </m:oMath>
                </a14:m>
              </a:p>
            </p:txBody>
          </p:sp>
        </mc:Choice>
        <mc:Fallback/>
      </mc:AlternateContent>
      <p:sp>
        <p:nvSpPr>
          <p:cNvPr id="304" name=""/>
          <p:cNvSpPr/>
          <p:nvPr/>
        </p:nvSpPr>
        <p:spPr>
          <a:xfrm>
            <a:off x="4143960" y="5489640"/>
            <a:ext cx="3256200" cy="520560"/>
          </a:xfrm>
          <a:prstGeom prst="rect">
            <a:avLst/>
          </a:prstGeom>
          <a:noFill/>
          <a:ln w="0">
            <a:noFill/>
          </a:ln>
        </p:spPr>
        <p:style>
          <a:lnRef idx="0"/>
          <a:fillRef idx="0"/>
          <a:effectRef idx="0"/>
          <a:fontRef idx="minor"/>
        </p:style>
        <p:txBody>
          <a:bodyPr wrap="none" lIns="90000" rIns="90000" tIns="46800" bIns="46800" anchor="t">
            <a:spAutoFit/>
          </a:bodyPr>
          <a:p>
            <a:pPr marL="380880" indent="-380880">
              <a:buClr>
                <a:srgbClr val="66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Saturation level:    </a:t>
            </a:r>
            <a:endParaRPr b="0" lang="en-US" sz="2800" spc="-1" strike="noStrike">
              <a:solidFill>
                <a:srgbClr val="333333"/>
              </a:solidFill>
              <a:latin typeface="Times New Roman"/>
            </a:endParaRPr>
          </a:p>
        </p:txBody>
      </p:sp>
      <mc:AlternateContent>
        <mc:Choice xmlns:a14="http://schemas.microsoft.com/office/drawing/2010/main" Requires="a14">
          <p:sp>
            <p:nvSpPr>
              <p:cNvPr id="305" name=""/>
              <p:cNvSpPr txBox="1"/>
              <p:nvPr/>
            </p:nvSpPr>
            <p:spPr>
              <a:xfrm>
                <a:off x="7129440" y="5608800"/>
                <a:ext cx="698400" cy="290520"/>
              </a:xfrm>
              <a:prstGeom prst="rect">
                <a:avLst/>
              </a:prstGeom>
            </p:spPr>
            <p:txBody>
              <a:bodyPr/>
              <a:p>
                <a14:m>
                  <m:oMath xmlns:m="http://schemas.openxmlformats.org/officeDocument/2006/math">
                    <m:acc>
                      <m:accPr>
                        <m:chr m:val="¯"/>
                      </m:accPr>
                      <m:e>
                        <m:r>
                          <m:t xml:space="preserve">U</m:t>
                        </m:r>
                      </m:e>
                    </m:acc>
                    <m:r>
                      <m:t xml:space="preserve">=</m:t>
                    </m:r>
                    <m:r>
                      <m:t xml:space="preserve">1</m:t>
                    </m:r>
                  </m:oMath>
                </a14:m>
              </a:p>
            </p:txBody>
          </p:sp>
        </mc:Choice>
        <mc:Fallback/>
      </mc:AlternateContent>
      <p:sp>
        <p:nvSpPr>
          <p:cNvPr id="306" name=""/>
          <p:cNvSpPr/>
          <p:nvPr/>
        </p:nvSpPr>
        <p:spPr>
          <a:xfrm>
            <a:off x="4144320" y="6097680"/>
            <a:ext cx="3001680" cy="520560"/>
          </a:xfrm>
          <a:prstGeom prst="rect">
            <a:avLst/>
          </a:prstGeom>
          <a:noFill/>
          <a:ln w="0">
            <a:noFill/>
          </a:ln>
        </p:spPr>
        <p:style>
          <a:lnRef idx="0"/>
          <a:fillRef idx="0"/>
          <a:effectRef idx="0"/>
          <a:fontRef idx="minor"/>
        </p:style>
        <p:txBody>
          <a:bodyPr wrap="none" lIns="90000" rIns="90000" tIns="46800" bIns="46800" anchor="t">
            <a:spAutoFit/>
          </a:bodyPr>
          <a:p>
            <a:pPr marL="380880" indent="-380880">
              <a:buClr>
                <a:srgbClr val="66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Times New Roman"/>
              </a:rPr>
              <a:t>Fixed horizon:    </a:t>
            </a:r>
            <a:endParaRPr b="0" lang="en-US" sz="2800" spc="-1" strike="noStrike">
              <a:solidFill>
                <a:srgbClr val="333333"/>
              </a:solidFill>
              <a:latin typeface="Times New Roman"/>
            </a:endParaRPr>
          </a:p>
        </p:txBody>
      </p:sp>
      <mc:AlternateContent>
        <mc:Choice xmlns:a14="http://schemas.microsoft.com/office/drawing/2010/main" Requires="a14">
          <p:sp>
            <p:nvSpPr>
              <p:cNvPr id="307" name=""/>
              <p:cNvSpPr txBox="1"/>
              <p:nvPr/>
            </p:nvSpPr>
            <p:spPr>
              <a:xfrm>
                <a:off x="7067520" y="6253200"/>
                <a:ext cx="933480" cy="279360"/>
              </a:xfrm>
              <a:prstGeom prst="rect">
                <a:avLst/>
              </a:prstGeom>
            </p:spPr>
            <p:txBody>
              <a:bodyPr/>
              <a:p>
                <a14:m>
                  <m:oMath xmlns:m="http://schemas.openxmlformats.org/officeDocument/2006/math">
                    <m:r>
                      <m:t xml:space="preserve">N</m:t>
                    </m:r>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456840"/>
            <a:ext cx="819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Regions of State Space:  </a:t>
            </a:r>
            <a:r>
              <a:rPr b="0" lang="en-US" sz="2400" spc="-1" strike="noStrike">
                <a:solidFill>
                  <a:srgbClr val="333333"/>
                </a:solidFill>
                <a:latin typeface="Times New Roman"/>
              </a:rPr>
              <a:t>A : </a:t>
            </a:r>
            <a:r>
              <a:rPr b="0" i="1" lang="en-US" sz="2400" spc="-1" strike="noStrike">
                <a:solidFill>
                  <a:srgbClr val="333333"/>
                </a:solidFill>
                <a:latin typeface="Times New Roman"/>
              </a:rPr>
              <a:t>Region where no saturation occurs</a:t>
            </a:r>
            <a:br>
              <a:rPr sz="2400"/>
            </a:b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B : </a:t>
            </a:r>
            <a:r>
              <a:rPr b="0" i="1" lang="en-US" sz="2400" spc="-1" strike="noStrike">
                <a:solidFill>
                  <a:srgbClr val="333333"/>
                </a:solidFill>
                <a:latin typeface="Times New Roman"/>
              </a:rPr>
              <a:t>Region in which MPC and anti-</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          windup are equivalent.</a:t>
            </a:r>
            <a:endParaRPr b="0" lang="en-US" sz="2400" spc="-1" strike="noStrike">
              <a:solidFill>
                <a:srgbClr val="6600cc"/>
              </a:solidFill>
              <a:latin typeface="Times New Roman"/>
            </a:endParaRPr>
          </a:p>
        </p:txBody>
      </p:sp>
      <p:grpSp>
        <p:nvGrpSpPr>
          <p:cNvPr id="309" name=""/>
          <p:cNvGrpSpPr/>
          <p:nvPr/>
        </p:nvGrpSpPr>
        <p:grpSpPr>
          <a:xfrm>
            <a:off x="1309680" y="1992240"/>
            <a:ext cx="6574320" cy="4866480"/>
            <a:chOff x="1309680" y="1992240"/>
            <a:chExt cx="6574320" cy="4866480"/>
          </a:xfrm>
        </p:grpSpPr>
        <p:sp>
          <p:nvSpPr>
            <p:cNvPr id="310" name=""/>
            <p:cNvSpPr/>
            <p:nvPr/>
          </p:nvSpPr>
          <p:spPr>
            <a:xfrm flipV="1">
              <a:off x="1857240" y="2084400"/>
              <a:ext cx="1800" cy="4176720"/>
            </a:xfrm>
            <a:prstGeom prst="line">
              <a:avLst/>
            </a:prstGeom>
            <a:ln w="936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11" name=""/>
            <p:cNvSpPr/>
            <p:nvPr/>
          </p:nvSpPr>
          <p:spPr>
            <a:xfrm flipV="1">
              <a:off x="1857240" y="2084400"/>
              <a:ext cx="1800" cy="4176720"/>
            </a:xfrm>
            <a:prstGeom prst="line">
              <a:avLst/>
            </a:prstGeom>
            <a:ln w="936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12" name=""/>
            <p:cNvSpPr/>
            <p:nvPr/>
          </p:nvSpPr>
          <p:spPr>
            <a:xfrm flipV="1">
              <a:off x="1857240" y="6202080"/>
              <a:ext cx="180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13" name=""/>
            <p:cNvSpPr/>
            <p:nvPr/>
          </p:nvSpPr>
          <p:spPr>
            <a:xfrm>
              <a:off x="1857240" y="2084400"/>
              <a:ext cx="180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14" name=""/>
            <p:cNvSpPr/>
            <p:nvPr/>
          </p:nvSpPr>
          <p:spPr>
            <a:xfrm>
              <a:off x="1792080" y="638820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4</a:t>
              </a:r>
              <a:endParaRPr b="0" lang="en-US" sz="1700" spc="-1" strike="noStrike">
                <a:solidFill>
                  <a:srgbClr val="333333"/>
                </a:solidFill>
                <a:latin typeface="Times New Roman"/>
              </a:endParaRPr>
            </a:p>
          </p:txBody>
        </p:sp>
        <p:sp>
          <p:nvSpPr>
            <p:cNvPr id="315" name=""/>
            <p:cNvSpPr/>
            <p:nvPr/>
          </p:nvSpPr>
          <p:spPr>
            <a:xfrm flipV="1">
              <a:off x="2598840" y="6202080"/>
              <a:ext cx="324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16" name=""/>
            <p:cNvSpPr/>
            <p:nvPr/>
          </p:nvSpPr>
          <p:spPr>
            <a:xfrm>
              <a:off x="2598840" y="2084400"/>
              <a:ext cx="324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17" name=""/>
            <p:cNvSpPr/>
            <p:nvPr/>
          </p:nvSpPr>
          <p:spPr>
            <a:xfrm>
              <a:off x="2533320" y="638820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3</a:t>
              </a:r>
              <a:endParaRPr b="0" lang="en-US" sz="1700" spc="-1" strike="noStrike">
                <a:solidFill>
                  <a:srgbClr val="333333"/>
                </a:solidFill>
                <a:latin typeface="Times New Roman"/>
              </a:endParaRPr>
            </a:p>
          </p:txBody>
        </p:sp>
        <p:sp>
          <p:nvSpPr>
            <p:cNvPr id="318" name=""/>
            <p:cNvSpPr/>
            <p:nvPr/>
          </p:nvSpPr>
          <p:spPr>
            <a:xfrm flipV="1">
              <a:off x="3343320" y="6202080"/>
              <a:ext cx="144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19" name=""/>
            <p:cNvSpPr/>
            <p:nvPr/>
          </p:nvSpPr>
          <p:spPr>
            <a:xfrm>
              <a:off x="3343320" y="2084400"/>
              <a:ext cx="144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20" name=""/>
            <p:cNvSpPr/>
            <p:nvPr/>
          </p:nvSpPr>
          <p:spPr>
            <a:xfrm>
              <a:off x="3274920" y="638820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321" name=""/>
            <p:cNvSpPr/>
            <p:nvPr/>
          </p:nvSpPr>
          <p:spPr>
            <a:xfrm flipV="1">
              <a:off x="4073400" y="6202080"/>
              <a:ext cx="180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22" name=""/>
            <p:cNvSpPr/>
            <p:nvPr/>
          </p:nvSpPr>
          <p:spPr>
            <a:xfrm>
              <a:off x="4073400" y="2084400"/>
              <a:ext cx="180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23" name=""/>
            <p:cNvSpPr/>
            <p:nvPr/>
          </p:nvSpPr>
          <p:spPr>
            <a:xfrm>
              <a:off x="4006800" y="638820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324" name=""/>
            <p:cNvSpPr/>
            <p:nvPr/>
          </p:nvSpPr>
          <p:spPr>
            <a:xfrm flipV="1">
              <a:off x="4818240" y="6202080"/>
              <a:ext cx="288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25" name=""/>
            <p:cNvSpPr/>
            <p:nvPr/>
          </p:nvSpPr>
          <p:spPr>
            <a:xfrm>
              <a:off x="4803840" y="63882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326" name=""/>
            <p:cNvSpPr/>
            <p:nvPr/>
          </p:nvSpPr>
          <p:spPr>
            <a:xfrm flipV="1">
              <a:off x="5560920" y="6202080"/>
              <a:ext cx="180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27" name=""/>
            <p:cNvSpPr/>
            <p:nvPr/>
          </p:nvSpPr>
          <p:spPr>
            <a:xfrm>
              <a:off x="5546880" y="63882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328" name=""/>
            <p:cNvSpPr/>
            <p:nvPr/>
          </p:nvSpPr>
          <p:spPr>
            <a:xfrm flipV="1">
              <a:off x="6305400" y="6202080"/>
              <a:ext cx="180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29" name=""/>
            <p:cNvSpPr/>
            <p:nvPr/>
          </p:nvSpPr>
          <p:spPr>
            <a:xfrm>
              <a:off x="6289560" y="63882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330" name=""/>
            <p:cNvSpPr/>
            <p:nvPr/>
          </p:nvSpPr>
          <p:spPr>
            <a:xfrm flipV="1">
              <a:off x="7035840" y="6202080"/>
              <a:ext cx="324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31" name=""/>
            <p:cNvSpPr/>
            <p:nvPr/>
          </p:nvSpPr>
          <p:spPr>
            <a:xfrm>
              <a:off x="7020000" y="63882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3</a:t>
              </a:r>
              <a:endParaRPr b="0" lang="en-US" sz="1700" spc="-1" strike="noStrike">
                <a:solidFill>
                  <a:srgbClr val="333333"/>
                </a:solidFill>
                <a:latin typeface="Times New Roman"/>
              </a:endParaRPr>
            </a:p>
          </p:txBody>
        </p:sp>
        <p:sp>
          <p:nvSpPr>
            <p:cNvPr id="332" name=""/>
            <p:cNvSpPr/>
            <p:nvPr/>
          </p:nvSpPr>
          <p:spPr>
            <a:xfrm flipV="1">
              <a:off x="7778880" y="6202080"/>
              <a:ext cx="288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33" name=""/>
            <p:cNvSpPr/>
            <p:nvPr/>
          </p:nvSpPr>
          <p:spPr>
            <a:xfrm>
              <a:off x="7763040" y="63882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4</a:t>
              </a:r>
              <a:endParaRPr b="0" lang="en-US" sz="1700" spc="-1" strike="noStrike">
                <a:solidFill>
                  <a:srgbClr val="333333"/>
                </a:solidFill>
                <a:latin typeface="Times New Roman"/>
              </a:endParaRPr>
            </a:p>
          </p:txBody>
        </p:sp>
        <p:sp>
          <p:nvSpPr>
            <p:cNvPr id="334" name=""/>
            <p:cNvSpPr/>
            <p:nvPr/>
          </p:nvSpPr>
          <p:spPr>
            <a:xfrm>
              <a:off x="1857240" y="6261120"/>
              <a:ext cx="59040" cy="1440"/>
            </a:xfrm>
            <a:prstGeom prst="line">
              <a:avLst/>
            </a:prstGeom>
            <a:ln w="936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335" name=""/>
            <p:cNvSpPr/>
            <p:nvPr/>
          </p:nvSpPr>
          <p:spPr>
            <a:xfrm flipH="1">
              <a:off x="7718400" y="6261120"/>
              <a:ext cx="60480" cy="1440"/>
            </a:xfrm>
            <a:prstGeom prst="line">
              <a:avLst/>
            </a:prstGeom>
            <a:ln w="936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336" name=""/>
            <p:cNvSpPr/>
            <p:nvPr/>
          </p:nvSpPr>
          <p:spPr>
            <a:xfrm>
              <a:off x="1589040" y="616896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8</a:t>
              </a:r>
              <a:endParaRPr b="0" lang="en-US" sz="1700" spc="-1" strike="noStrike">
                <a:solidFill>
                  <a:srgbClr val="333333"/>
                </a:solidFill>
                <a:latin typeface="Times New Roman"/>
              </a:endParaRPr>
            </a:p>
          </p:txBody>
        </p:sp>
        <p:sp>
          <p:nvSpPr>
            <p:cNvPr id="337" name=""/>
            <p:cNvSpPr/>
            <p:nvPr/>
          </p:nvSpPr>
          <p:spPr>
            <a:xfrm>
              <a:off x="1857240" y="5737320"/>
              <a:ext cx="59040" cy="1440"/>
            </a:xfrm>
            <a:prstGeom prst="line">
              <a:avLst/>
            </a:prstGeom>
            <a:ln w="936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338" name=""/>
            <p:cNvSpPr/>
            <p:nvPr/>
          </p:nvSpPr>
          <p:spPr>
            <a:xfrm flipH="1">
              <a:off x="7718400" y="5737320"/>
              <a:ext cx="60480" cy="1440"/>
            </a:xfrm>
            <a:prstGeom prst="line">
              <a:avLst/>
            </a:prstGeom>
            <a:ln w="936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339" name=""/>
            <p:cNvSpPr/>
            <p:nvPr/>
          </p:nvSpPr>
          <p:spPr>
            <a:xfrm>
              <a:off x="1589040" y="564516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6</a:t>
              </a:r>
              <a:endParaRPr b="0" lang="en-US" sz="1700" spc="-1" strike="noStrike">
                <a:solidFill>
                  <a:srgbClr val="333333"/>
                </a:solidFill>
                <a:latin typeface="Times New Roman"/>
              </a:endParaRPr>
            </a:p>
          </p:txBody>
        </p:sp>
        <p:sp>
          <p:nvSpPr>
            <p:cNvPr id="340" name=""/>
            <p:cNvSpPr/>
            <p:nvPr/>
          </p:nvSpPr>
          <p:spPr>
            <a:xfrm>
              <a:off x="1857240" y="5213520"/>
              <a:ext cx="59040" cy="1440"/>
            </a:xfrm>
            <a:prstGeom prst="line">
              <a:avLst/>
            </a:prstGeom>
            <a:ln w="936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341" name=""/>
            <p:cNvSpPr/>
            <p:nvPr/>
          </p:nvSpPr>
          <p:spPr>
            <a:xfrm flipH="1">
              <a:off x="7718400" y="5213520"/>
              <a:ext cx="60480" cy="1440"/>
            </a:xfrm>
            <a:prstGeom prst="line">
              <a:avLst/>
            </a:prstGeom>
            <a:ln w="936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342" name=""/>
            <p:cNvSpPr/>
            <p:nvPr/>
          </p:nvSpPr>
          <p:spPr>
            <a:xfrm>
              <a:off x="1589040" y="511956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4</a:t>
              </a:r>
              <a:endParaRPr b="0" lang="en-US" sz="1700" spc="-1" strike="noStrike">
                <a:solidFill>
                  <a:srgbClr val="333333"/>
                </a:solidFill>
                <a:latin typeface="Times New Roman"/>
              </a:endParaRPr>
            </a:p>
          </p:txBody>
        </p:sp>
        <p:sp>
          <p:nvSpPr>
            <p:cNvPr id="343" name=""/>
            <p:cNvSpPr/>
            <p:nvPr/>
          </p:nvSpPr>
          <p:spPr>
            <a:xfrm>
              <a:off x="1857240" y="4689360"/>
              <a:ext cx="59040" cy="1800"/>
            </a:xfrm>
            <a:prstGeom prst="line">
              <a:avLst/>
            </a:prstGeom>
            <a:ln w="936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344" name=""/>
            <p:cNvSpPr/>
            <p:nvPr/>
          </p:nvSpPr>
          <p:spPr>
            <a:xfrm flipH="1">
              <a:off x="7718400" y="4689360"/>
              <a:ext cx="60480" cy="1800"/>
            </a:xfrm>
            <a:prstGeom prst="line">
              <a:avLst/>
            </a:prstGeom>
            <a:ln w="936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345" name=""/>
            <p:cNvSpPr/>
            <p:nvPr/>
          </p:nvSpPr>
          <p:spPr>
            <a:xfrm>
              <a:off x="1589040" y="459756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346" name=""/>
            <p:cNvSpPr/>
            <p:nvPr/>
          </p:nvSpPr>
          <p:spPr>
            <a:xfrm>
              <a:off x="1857240" y="4178160"/>
              <a:ext cx="59040" cy="1800"/>
            </a:xfrm>
            <a:prstGeom prst="line">
              <a:avLst/>
            </a:prstGeom>
            <a:ln w="936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347" name=""/>
            <p:cNvSpPr/>
            <p:nvPr/>
          </p:nvSpPr>
          <p:spPr>
            <a:xfrm flipH="1">
              <a:off x="7718400" y="4178160"/>
              <a:ext cx="60480" cy="1800"/>
            </a:xfrm>
            <a:prstGeom prst="line">
              <a:avLst/>
            </a:prstGeom>
            <a:ln w="936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348" name=""/>
            <p:cNvSpPr/>
            <p:nvPr/>
          </p:nvSpPr>
          <p:spPr>
            <a:xfrm>
              <a:off x="1649520" y="40878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349" name=""/>
            <p:cNvSpPr/>
            <p:nvPr/>
          </p:nvSpPr>
          <p:spPr>
            <a:xfrm>
              <a:off x="1857240" y="3656160"/>
              <a:ext cx="59040" cy="1440"/>
            </a:xfrm>
            <a:prstGeom prst="line">
              <a:avLst/>
            </a:prstGeom>
            <a:ln w="936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350" name=""/>
            <p:cNvSpPr/>
            <p:nvPr/>
          </p:nvSpPr>
          <p:spPr>
            <a:xfrm flipH="1">
              <a:off x="7718400" y="3656160"/>
              <a:ext cx="60480" cy="1440"/>
            </a:xfrm>
            <a:prstGeom prst="line">
              <a:avLst/>
            </a:prstGeom>
            <a:ln w="936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351" name=""/>
            <p:cNvSpPr/>
            <p:nvPr/>
          </p:nvSpPr>
          <p:spPr>
            <a:xfrm>
              <a:off x="1649520" y="35622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352" name=""/>
            <p:cNvSpPr/>
            <p:nvPr/>
          </p:nvSpPr>
          <p:spPr>
            <a:xfrm>
              <a:off x="1857240" y="3133800"/>
              <a:ext cx="59040" cy="1440"/>
            </a:xfrm>
            <a:prstGeom prst="line">
              <a:avLst/>
            </a:prstGeom>
            <a:ln w="936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353" name=""/>
            <p:cNvSpPr/>
            <p:nvPr/>
          </p:nvSpPr>
          <p:spPr>
            <a:xfrm flipH="1">
              <a:off x="7718400" y="3133800"/>
              <a:ext cx="60480" cy="1440"/>
            </a:xfrm>
            <a:prstGeom prst="line">
              <a:avLst/>
            </a:prstGeom>
            <a:ln w="936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354" name=""/>
            <p:cNvSpPr/>
            <p:nvPr/>
          </p:nvSpPr>
          <p:spPr>
            <a:xfrm>
              <a:off x="1649520" y="30402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4</a:t>
              </a:r>
              <a:endParaRPr b="0" lang="en-US" sz="1700" spc="-1" strike="noStrike">
                <a:solidFill>
                  <a:srgbClr val="333333"/>
                </a:solidFill>
                <a:latin typeface="Times New Roman"/>
              </a:endParaRPr>
            </a:p>
          </p:txBody>
        </p:sp>
        <p:sp>
          <p:nvSpPr>
            <p:cNvPr id="355" name=""/>
            <p:cNvSpPr/>
            <p:nvPr/>
          </p:nvSpPr>
          <p:spPr>
            <a:xfrm>
              <a:off x="1857240" y="2608200"/>
              <a:ext cx="59040" cy="1800"/>
            </a:xfrm>
            <a:prstGeom prst="line">
              <a:avLst/>
            </a:prstGeom>
            <a:ln w="936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356" name=""/>
            <p:cNvSpPr/>
            <p:nvPr/>
          </p:nvSpPr>
          <p:spPr>
            <a:xfrm flipH="1">
              <a:off x="7718400" y="2608200"/>
              <a:ext cx="60480" cy="1800"/>
            </a:xfrm>
            <a:prstGeom prst="line">
              <a:avLst/>
            </a:prstGeom>
            <a:ln w="936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357" name=""/>
            <p:cNvSpPr/>
            <p:nvPr/>
          </p:nvSpPr>
          <p:spPr>
            <a:xfrm>
              <a:off x="1649520" y="25160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6</a:t>
              </a:r>
              <a:endParaRPr b="0" lang="en-US" sz="1700" spc="-1" strike="noStrike">
                <a:solidFill>
                  <a:srgbClr val="333333"/>
                </a:solidFill>
                <a:latin typeface="Times New Roman"/>
              </a:endParaRPr>
            </a:p>
          </p:txBody>
        </p:sp>
        <p:sp>
          <p:nvSpPr>
            <p:cNvPr id="358" name=""/>
            <p:cNvSpPr/>
            <p:nvPr/>
          </p:nvSpPr>
          <p:spPr>
            <a:xfrm>
              <a:off x="1857240" y="2084400"/>
              <a:ext cx="59040" cy="4680"/>
            </a:xfrm>
            <a:prstGeom prst="line">
              <a:avLst/>
            </a:prstGeom>
            <a:ln w="9360">
              <a:solidFill>
                <a:srgbClr val="004c2b"/>
              </a:solidFill>
              <a:miter/>
            </a:ln>
          </p:spPr>
          <p:style>
            <a:lnRef idx="0"/>
            <a:fillRef idx="0"/>
            <a:effectRef idx="0"/>
            <a:fontRef idx="minor"/>
          </p:style>
          <p:txBody>
            <a:bodyPr lIns="90000" rIns="90000" tIns="-42120" bIns="-42120" anchor="t">
              <a:noAutofit/>
            </a:bodyPr>
            <a:p>
              <a:endParaRPr b="0" lang="en-US" sz="2400" spc="-1" strike="noStrike">
                <a:solidFill>
                  <a:srgbClr val="333333"/>
                </a:solidFill>
                <a:latin typeface="Times New Roman"/>
              </a:endParaRPr>
            </a:p>
          </p:txBody>
        </p:sp>
        <p:sp>
          <p:nvSpPr>
            <p:cNvPr id="359" name=""/>
            <p:cNvSpPr/>
            <p:nvPr/>
          </p:nvSpPr>
          <p:spPr>
            <a:xfrm>
              <a:off x="1649520" y="19922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8</a:t>
              </a:r>
              <a:endParaRPr b="0" lang="en-US" sz="1700" spc="-1" strike="noStrike">
                <a:solidFill>
                  <a:srgbClr val="333333"/>
                </a:solidFill>
                <a:latin typeface="Times New Roman"/>
              </a:endParaRPr>
            </a:p>
          </p:txBody>
        </p:sp>
        <p:sp>
          <p:nvSpPr>
            <p:cNvPr id="360" name=""/>
            <p:cNvSpPr/>
            <p:nvPr/>
          </p:nvSpPr>
          <p:spPr>
            <a:xfrm flipV="1">
              <a:off x="1857240" y="2084400"/>
              <a:ext cx="1800" cy="4176720"/>
            </a:xfrm>
            <a:prstGeom prst="line">
              <a:avLst/>
            </a:prstGeom>
            <a:ln w="936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61" name=""/>
            <p:cNvSpPr/>
            <p:nvPr/>
          </p:nvSpPr>
          <p:spPr>
            <a:xfrm>
              <a:off x="4471920" y="2093760"/>
              <a:ext cx="2695680" cy="4159440"/>
            </a:xfrm>
            <a:custGeom>
              <a:avLst/>
              <a:gdLst/>
              <a:ahLst/>
              <a:rect l="l" t="t" r="r" b="b"/>
              <a:pathLst>
                <a:path w="2533" h="4029">
                  <a:moveTo>
                    <a:pt x="0" y="0"/>
                  </a:moveTo>
                  <a:lnTo>
                    <a:pt x="12" y="18"/>
                  </a:lnTo>
                  <a:lnTo>
                    <a:pt x="30" y="48"/>
                  </a:lnTo>
                  <a:lnTo>
                    <a:pt x="48" y="78"/>
                  </a:lnTo>
                  <a:lnTo>
                    <a:pt x="66" y="108"/>
                  </a:lnTo>
                  <a:lnTo>
                    <a:pt x="84" y="138"/>
                  </a:lnTo>
                  <a:lnTo>
                    <a:pt x="102" y="168"/>
                  </a:lnTo>
                  <a:lnTo>
                    <a:pt x="120" y="198"/>
                  </a:lnTo>
                  <a:lnTo>
                    <a:pt x="138" y="228"/>
                  </a:lnTo>
                  <a:lnTo>
                    <a:pt x="162" y="258"/>
                  </a:lnTo>
                  <a:lnTo>
                    <a:pt x="180" y="288"/>
                  </a:lnTo>
                  <a:lnTo>
                    <a:pt x="198" y="318"/>
                  </a:lnTo>
                  <a:lnTo>
                    <a:pt x="216" y="348"/>
                  </a:lnTo>
                  <a:lnTo>
                    <a:pt x="234" y="372"/>
                  </a:lnTo>
                  <a:lnTo>
                    <a:pt x="252" y="402"/>
                  </a:lnTo>
                  <a:lnTo>
                    <a:pt x="270" y="432"/>
                  </a:lnTo>
                  <a:lnTo>
                    <a:pt x="288" y="462"/>
                  </a:lnTo>
                  <a:lnTo>
                    <a:pt x="306" y="492"/>
                  </a:lnTo>
                  <a:lnTo>
                    <a:pt x="324" y="522"/>
                  </a:lnTo>
                  <a:lnTo>
                    <a:pt x="342" y="552"/>
                  </a:lnTo>
                  <a:lnTo>
                    <a:pt x="366" y="582"/>
                  </a:lnTo>
                  <a:lnTo>
                    <a:pt x="384" y="606"/>
                  </a:lnTo>
                  <a:lnTo>
                    <a:pt x="402" y="636"/>
                  </a:lnTo>
                  <a:lnTo>
                    <a:pt x="420" y="666"/>
                  </a:lnTo>
                  <a:lnTo>
                    <a:pt x="438" y="696"/>
                  </a:lnTo>
                  <a:lnTo>
                    <a:pt x="456" y="720"/>
                  </a:lnTo>
                  <a:lnTo>
                    <a:pt x="474" y="750"/>
                  </a:lnTo>
                  <a:lnTo>
                    <a:pt x="492" y="780"/>
                  </a:lnTo>
                  <a:lnTo>
                    <a:pt x="510" y="810"/>
                  </a:lnTo>
                  <a:lnTo>
                    <a:pt x="528" y="840"/>
                  </a:lnTo>
                  <a:lnTo>
                    <a:pt x="546" y="870"/>
                  </a:lnTo>
                  <a:lnTo>
                    <a:pt x="564" y="900"/>
                  </a:lnTo>
                  <a:lnTo>
                    <a:pt x="589" y="930"/>
                  </a:lnTo>
                  <a:lnTo>
                    <a:pt x="607" y="960"/>
                  </a:lnTo>
                  <a:lnTo>
                    <a:pt x="625" y="990"/>
                  </a:lnTo>
                  <a:lnTo>
                    <a:pt x="643" y="1020"/>
                  </a:lnTo>
                  <a:lnTo>
                    <a:pt x="661" y="1050"/>
                  </a:lnTo>
                  <a:lnTo>
                    <a:pt x="679" y="1074"/>
                  </a:lnTo>
                  <a:lnTo>
                    <a:pt x="697" y="1104"/>
                  </a:lnTo>
                  <a:lnTo>
                    <a:pt x="715" y="1134"/>
                  </a:lnTo>
                  <a:lnTo>
                    <a:pt x="733" y="1164"/>
                  </a:lnTo>
                  <a:lnTo>
                    <a:pt x="751" y="1194"/>
                  </a:lnTo>
                  <a:lnTo>
                    <a:pt x="769" y="1224"/>
                  </a:lnTo>
                  <a:lnTo>
                    <a:pt x="793" y="1255"/>
                  </a:lnTo>
                  <a:lnTo>
                    <a:pt x="811" y="1285"/>
                  </a:lnTo>
                  <a:lnTo>
                    <a:pt x="829" y="1315"/>
                  </a:lnTo>
                  <a:lnTo>
                    <a:pt x="847" y="1345"/>
                  </a:lnTo>
                  <a:lnTo>
                    <a:pt x="865" y="1375"/>
                  </a:lnTo>
                  <a:lnTo>
                    <a:pt x="883" y="1405"/>
                  </a:lnTo>
                  <a:lnTo>
                    <a:pt x="901" y="1429"/>
                  </a:lnTo>
                  <a:lnTo>
                    <a:pt x="919" y="1459"/>
                  </a:lnTo>
                  <a:lnTo>
                    <a:pt x="937" y="1489"/>
                  </a:lnTo>
                  <a:lnTo>
                    <a:pt x="955" y="1519"/>
                  </a:lnTo>
                  <a:lnTo>
                    <a:pt x="973" y="1549"/>
                  </a:lnTo>
                  <a:lnTo>
                    <a:pt x="991" y="1579"/>
                  </a:lnTo>
                  <a:lnTo>
                    <a:pt x="1015" y="1609"/>
                  </a:lnTo>
                  <a:lnTo>
                    <a:pt x="1033" y="1639"/>
                  </a:lnTo>
                  <a:lnTo>
                    <a:pt x="1051" y="1669"/>
                  </a:lnTo>
                  <a:lnTo>
                    <a:pt x="1069" y="1699"/>
                  </a:lnTo>
                  <a:lnTo>
                    <a:pt x="1087" y="1729"/>
                  </a:lnTo>
                  <a:lnTo>
                    <a:pt x="1105" y="1759"/>
                  </a:lnTo>
                  <a:lnTo>
                    <a:pt x="1123" y="1783"/>
                  </a:lnTo>
                  <a:lnTo>
                    <a:pt x="1141" y="1813"/>
                  </a:lnTo>
                  <a:lnTo>
                    <a:pt x="1159" y="1843"/>
                  </a:lnTo>
                  <a:lnTo>
                    <a:pt x="1177" y="1873"/>
                  </a:lnTo>
                  <a:lnTo>
                    <a:pt x="1195" y="1903"/>
                  </a:lnTo>
                  <a:lnTo>
                    <a:pt x="1219" y="1933"/>
                  </a:lnTo>
                  <a:lnTo>
                    <a:pt x="1237" y="1963"/>
                  </a:lnTo>
                  <a:lnTo>
                    <a:pt x="1255" y="1993"/>
                  </a:lnTo>
                  <a:lnTo>
                    <a:pt x="1273" y="2023"/>
                  </a:lnTo>
                  <a:lnTo>
                    <a:pt x="1291" y="2053"/>
                  </a:lnTo>
                  <a:lnTo>
                    <a:pt x="1309" y="2083"/>
                  </a:lnTo>
                  <a:lnTo>
                    <a:pt x="1327" y="2113"/>
                  </a:lnTo>
                  <a:lnTo>
                    <a:pt x="1345" y="2137"/>
                  </a:lnTo>
                  <a:lnTo>
                    <a:pt x="1363" y="2167"/>
                  </a:lnTo>
                  <a:lnTo>
                    <a:pt x="1381" y="2197"/>
                  </a:lnTo>
                  <a:lnTo>
                    <a:pt x="1399" y="2227"/>
                  </a:lnTo>
                  <a:lnTo>
                    <a:pt x="1423" y="2257"/>
                  </a:lnTo>
                  <a:lnTo>
                    <a:pt x="1441" y="2287"/>
                  </a:lnTo>
                  <a:lnTo>
                    <a:pt x="1459" y="2317"/>
                  </a:lnTo>
                  <a:lnTo>
                    <a:pt x="1477" y="2347"/>
                  </a:lnTo>
                  <a:lnTo>
                    <a:pt x="1495" y="2377"/>
                  </a:lnTo>
                  <a:lnTo>
                    <a:pt x="1513" y="2407"/>
                  </a:lnTo>
                  <a:lnTo>
                    <a:pt x="1531" y="2437"/>
                  </a:lnTo>
                  <a:lnTo>
                    <a:pt x="1549" y="2467"/>
                  </a:lnTo>
                  <a:lnTo>
                    <a:pt x="1567" y="2491"/>
                  </a:lnTo>
                  <a:lnTo>
                    <a:pt x="1585" y="2521"/>
                  </a:lnTo>
                  <a:lnTo>
                    <a:pt x="1603" y="2551"/>
                  </a:lnTo>
                  <a:lnTo>
                    <a:pt x="1621" y="2582"/>
                  </a:lnTo>
                  <a:lnTo>
                    <a:pt x="1645" y="2612"/>
                  </a:lnTo>
                  <a:lnTo>
                    <a:pt x="1663" y="2642"/>
                  </a:lnTo>
                  <a:lnTo>
                    <a:pt x="1681" y="2672"/>
                  </a:lnTo>
                  <a:lnTo>
                    <a:pt x="1699" y="2702"/>
                  </a:lnTo>
                  <a:lnTo>
                    <a:pt x="1717" y="2732"/>
                  </a:lnTo>
                  <a:lnTo>
                    <a:pt x="1735" y="2762"/>
                  </a:lnTo>
                  <a:lnTo>
                    <a:pt x="1753" y="2792"/>
                  </a:lnTo>
                  <a:lnTo>
                    <a:pt x="1771" y="2822"/>
                  </a:lnTo>
                  <a:lnTo>
                    <a:pt x="1789" y="2846"/>
                  </a:lnTo>
                  <a:lnTo>
                    <a:pt x="1807" y="2876"/>
                  </a:lnTo>
                  <a:lnTo>
                    <a:pt x="1825" y="2906"/>
                  </a:lnTo>
                  <a:lnTo>
                    <a:pt x="1849" y="2936"/>
                  </a:lnTo>
                  <a:lnTo>
                    <a:pt x="1867" y="2966"/>
                  </a:lnTo>
                  <a:lnTo>
                    <a:pt x="1885" y="2996"/>
                  </a:lnTo>
                  <a:lnTo>
                    <a:pt x="1903" y="3026"/>
                  </a:lnTo>
                  <a:lnTo>
                    <a:pt x="1921" y="3056"/>
                  </a:lnTo>
                  <a:lnTo>
                    <a:pt x="1939" y="3086"/>
                  </a:lnTo>
                  <a:lnTo>
                    <a:pt x="1957" y="3116"/>
                  </a:lnTo>
                  <a:lnTo>
                    <a:pt x="1975" y="3146"/>
                  </a:lnTo>
                  <a:lnTo>
                    <a:pt x="1993" y="3176"/>
                  </a:lnTo>
                  <a:lnTo>
                    <a:pt x="2011" y="3200"/>
                  </a:lnTo>
                  <a:lnTo>
                    <a:pt x="2029" y="3230"/>
                  </a:lnTo>
                  <a:lnTo>
                    <a:pt x="2047" y="3260"/>
                  </a:lnTo>
                  <a:lnTo>
                    <a:pt x="2071" y="3290"/>
                  </a:lnTo>
                  <a:lnTo>
                    <a:pt x="2089" y="3320"/>
                  </a:lnTo>
                  <a:lnTo>
                    <a:pt x="2107" y="3350"/>
                  </a:lnTo>
                  <a:lnTo>
                    <a:pt x="2125" y="3380"/>
                  </a:lnTo>
                  <a:lnTo>
                    <a:pt x="2143" y="3410"/>
                  </a:lnTo>
                  <a:lnTo>
                    <a:pt x="2161" y="3440"/>
                  </a:lnTo>
                  <a:lnTo>
                    <a:pt x="2179" y="3470"/>
                  </a:lnTo>
                  <a:lnTo>
                    <a:pt x="2197" y="3500"/>
                  </a:lnTo>
                  <a:lnTo>
                    <a:pt x="2215" y="3530"/>
                  </a:lnTo>
                  <a:lnTo>
                    <a:pt x="2233" y="3554"/>
                  </a:lnTo>
                  <a:lnTo>
                    <a:pt x="2251" y="3584"/>
                  </a:lnTo>
                  <a:lnTo>
                    <a:pt x="2275" y="3614"/>
                  </a:lnTo>
                  <a:lnTo>
                    <a:pt x="2293" y="3644"/>
                  </a:lnTo>
                  <a:lnTo>
                    <a:pt x="2311" y="3674"/>
                  </a:lnTo>
                  <a:lnTo>
                    <a:pt x="2329" y="3704"/>
                  </a:lnTo>
                  <a:lnTo>
                    <a:pt x="2347" y="3734"/>
                  </a:lnTo>
                  <a:lnTo>
                    <a:pt x="2365" y="3764"/>
                  </a:lnTo>
                  <a:lnTo>
                    <a:pt x="2383" y="3794"/>
                  </a:lnTo>
                  <a:lnTo>
                    <a:pt x="2401" y="3824"/>
                  </a:lnTo>
                  <a:lnTo>
                    <a:pt x="2419" y="3854"/>
                  </a:lnTo>
                  <a:lnTo>
                    <a:pt x="2437" y="3885"/>
                  </a:lnTo>
                  <a:lnTo>
                    <a:pt x="2455" y="3909"/>
                  </a:lnTo>
                  <a:lnTo>
                    <a:pt x="2473" y="3939"/>
                  </a:lnTo>
                  <a:lnTo>
                    <a:pt x="2497" y="3969"/>
                  </a:lnTo>
                  <a:lnTo>
                    <a:pt x="2515" y="3999"/>
                  </a:lnTo>
                  <a:lnTo>
                    <a:pt x="2533" y="4029"/>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62" name=""/>
            <p:cNvSpPr/>
            <p:nvPr/>
          </p:nvSpPr>
          <p:spPr>
            <a:xfrm>
              <a:off x="4744800" y="659916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x1</a:t>
              </a:r>
              <a:endParaRPr b="0" lang="en-US" sz="1700" spc="-1" strike="noStrike">
                <a:solidFill>
                  <a:srgbClr val="333333"/>
                </a:solidFill>
                <a:latin typeface="Times New Roman"/>
              </a:endParaRPr>
            </a:p>
          </p:txBody>
        </p:sp>
        <p:sp>
          <p:nvSpPr>
            <p:cNvPr id="363" name=""/>
            <p:cNvSpPr/>
            <p:nvPr/>
          </p:nvSpPr>
          <p:spPr>
            <a:xfrm rot="16200000">
              <a:off x="1324800" y="399564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x2</a:t>
              </a:r>
              <a:endParaRPr b="0" lang="en-US" sz="1700" spc="-1" strike="noStrike">
                <a:solidFill>
                  <a:srgbClr val="333333"/>
                </a:solidFill>
                <a:latin typeface="Times New Roman"/>
              </a:endParaRPr>
            </a:p>
          </p:txBody>
        </p:sp>
        <p:sp>
          <p:nvSpPr>
            <p:cNvPr id="364" name=""/>
            <p:cNvSpPr/>
            <p:nvPr/>
          </p:nvSpPr>
          <p:spPr>
            <a:xfrm>
              <a:off x="2454120" y="2075040"/>
              <a:ext cx="2708280" cy="4181400"/>
            </a:xfrm>
            <a:custGeom>
              <a:avLst/>
              <a:gdLst/>
              <a:ahLst/>
              <a:rect l="l" t="t" r="r" b="b"/>
              <a:pathLst>
                <a:path w="2797" h="4455">
                  <a:moveTo>
                    <a:pt x="0" y="0"/>
                  </a:moveTo>
                  <a:lnTo>
                    <a:pt x="12" y="24"/>
                  </a:lnTo>
                  <a:lnTo>
                    <a:pt x="30" y="54"/>
                  </a:lnTo>
                  <a:lnTo>
                    <a:pt x="48" y="84"/>
                  </a:lnTo>
                  <a:lnTo>
                    <a:pt x="66" y="114"/>
                  </a:lnTo>
                  <a:lnTo>
                    <a:pt x="84" y="144"/>
                  </a:lnTo>
                  <a:lnTo>
                    <a:pt x="108" y="174"/>
                  </a:lnTo>
                  <a:lnTo>
                    <a:pt x="126" y="204"/>
                  </a:lnTo>
                  <a:lnTo>
                    <a:pt x="144" y="228"/>
                  </a:lnTo>
                  <a:lnTo>
                    <a:pt x="162" y="258"/>
                  </a:lnTo>
                  <a:lnTo>
                    <a:pt x="180" y="288"/>
                  </a:lnTo>
                  <a:lnTo>
                    <a:pt x="198" y="318"/>
                  </a:lnTo>
                  <a:lnTo>
                    <a:pt x="216" y="348"/>
                  </a:lnTo>
                  <a:lnTo>
                    <a:pt x="234" y="378"/>
                  </a:lnTo>
                  <a:lnTo>
                    <a:pt x="252" y="408"/>
                  </a:lnTo>
                  <a:lnTo>
                    <a:pt x="270" y="438"/>
                  </a:lnTo>
                  <a:lnTo>
                    <a:pt x="288" y="468"/>
                  </a:lnTo>
                  <a:lnTo>
                    <a:pt x="312" y="498"/>
                  </a:lnTo>
                  <a:lnTo>
                    <a:pt x="330" y="528"/>
                  </a:lnTo>
                  <a:lnTo>
                    <a:pt x="348" y="558"/>
                  </a:lnTo>
                  <a:lnTo>
                    <a:pt x="366" y="582"/>
                  </a:lnTo>
                  <a:lnTo>
                    <a:pt x="384" y="606"/>
                  </a:lnTo>
                  <a:lnTo>
                    <a:pt x="402" y="636"/>
                  </a:lnTo>
                  <a:lnTo>
                    <a:pt x="420" y="666"/>
                  </a:lnTo>
                  <a:lnTo>
                    <a:pt x="438" y="696"/>
                  </a:lnTo>
                  <a:lnTo>
                    <a:pt x="456" y="726"/>
                  </a:lnTo>
                  <a:lnTo>
                    <a:pt x="474" y="756"/>
                  </a:lnTo>
                  <a:lnTo>
                    <a:pt x="492" y="786"/>
                  </a:lnTo>
                  <a:lnTo>
                    <a:pt x="510" y="816"/>
                  </a:lnTo>
                  <a:lnTo>
                    <a:pt x="534" y="846"/>
                  </a:lnTo>
                  <a:lnTo>
                    <a:pt x="552" y="876"/>
                  </a:lnTo>
                  <a:lnTo>
                    <a:pt x="570" y="906"/>
                  </a:lnTo>
                  <a:lnTo>
                    <a:pt x="588" y="930"/>
                  </a:lnTo>
                  <a:lnTo>
                    <a:pt x="606" y="960"/>
                  </a:lnTo>
                  <a:lnTo>
                    <a:pt x="624" y="990"/>
                  </a:lnTo>
                  <a:lnTo>
                    <a:pt x="642" y="1020"/>
                  </a:lnTo>
                  <a:lnTo>
                    <a:pt x="660" y="1050"/>
                  </a:lnTo>
                  <a:lnTo>
                    <a:pt x="678" y="1080"/>
                  </a:lnTo>
                  <a:lnTo>
                    <a:pt x="696" y="1110"/>
                  </a:lnTo>
                  <a:lnTo>
                    <a:pt x="714" y="1140"/>
                  </a:lnTo>
                  <a:lnTo>
                    <a:pt x="738" y="1170"/>
                  </a:lnTo>
                  <a:lnTo>
                    <a:pt x="756" y="1200"/>
                  </a:lnTo>
                  <a:lnTo>
                    <a:pt x="774" y="1230"/>
                  </a:lnTo>
                  <a:lnTo>
                    <a:pt x="792" y="1261"/>
                  </a:lnTo>
                  <a:lnTo>
                    <a:pt x="810" y="1285"/>
                  </a:lnTo>
                  <a:lnTo>
                    <a:pt x="828" y="1315"/>
                  </a:lnTo>
                  <a:lnTo>
                    <a:pt x="846" y="1345"/>
                  </a:lnTo>
                  <a:lnTo>
                    <a:pt x="864" y="1375"/>
                  </a:lnTo>
                  <a:lnTo>
                    <a:pt x="882" y="1405"/>
                  </a:lnTo>
                  <a:lnTo>
                    <a:pt x="900" y="1435"/>
                  </a:lnTo>
                  <a:lnTo>
                    <a:pt x="918" y="1465"/>
                  </a:lnTo>
                  <a:lnTo>
                    <a:pt x="942" y="1495"/>
                  </a:lnTo>
                  <a:lnTo>
                    <a:pt x="960" y="1525"/>
                  </a:lnTo>
                  <a:lnTo>
                    <a:pt x="978" y="1555"/>
                  </a:lnTo>
                  <a:lnTo>
                    <a:pt x="996" y="1585"/>
                  </a:lnTo>
                  <a:lnTo>
                    <a:pt x="1014" y="1615"/>
                  </a:lnTo>
                  <a:lnTo>
                    <a:pt x="1032" y="1639"/>
                  </a:lnTo>
                  <a:lnTo>
                    <a:pt x="1050" y="1669"/>
                  </a:lnTo>
                  <a:lnTo>
                    <a:pt x="1068" y="1699"/>
                  </a:lnTo>
                  <a:lnTo>
                    <a:pt x="1086" y="1729"/>
                  </a:lnTo>
                  <a:lnTo>
                    <a:pt x="1104" y="1759"/>
                  </a:lnTo>
                  <a:lnTo>
                    <a:pt x="1122" y="1789"/>
                  </a:lnTo>
                  <a:lnTo>
                    <a:pt x="1140" y="1819"/>
                  </a:lnTo>
                  <a:lnTo>
                    <a:pt x="1164" y="1849"/>
                  </a:lnTo>
                  <a:lnTo>
                    <a:pt x="1182" y="1879"/>
                  </a:lnTo>
                  <a:lnTo>
                    <a:pt x="1200" y="1909"/>
                  </a:lnTo>
                  <a:lnTo>
                    <a:pt x="1218" y="1939"/>
                  </a:lnTo>
                  <a:lnTo>
                    <a:pt x="1236" y="1969"/>
                  </a:lnTo>
                  <a:lnTo>
                    <a:pt x="1254" y="1993"/>
                  </a:lnTo>
                  <a:lnTo>
                    <a:pt x="1272" y="2023"/>
                  </a:lnTo>
                  <a:lnTo>
                    <a:pt x="1290" y="2053"/>
                  </a:lnTo>
                  <a:lnTo>
                    <a:pt x="1308" y="2083"/>
                  </a:lnTo>
                  <a:lnTo>
                    <a:pt x="1326" y="2113"/>
                  </a:lnTo>
                  <a:lnTo>
                    <a:pt x="1344" y="2143"/>
                  </a:lnTo>
                  <a:lnTo>
                    <a:pt x="1368" y="2173"/>
                  </a:lnTo>
                  <a:lnTo>
                    <a:pt x="1386" y="2203"/>
                  </a:lnTo>
                  <a:lnTo>
                    <a:pt x="1404" y="2233"/>
                  </a:lnTo>
                  <a:lnTo>
                    <a:pt x="1422" y="2263"/>
                  </a:lnTo>
                  <a:lnTo>
                    <a:pt x="1440" y="2293"/>
                  </a:lnTo>
                  <a:lnTo>
                    <a:pt x="1458" y="2323"/>
                  </a:lnTo>
                  <a:lnTo>
                    <a:pt x="1476" y="2347"/>
                  </a:lnTo>
                  <a:lnTo>
                    <a:pt x="1494" y="2377"/>
                  </a:lnTo>
                  <a:lnTo>
                    <a:pt x="1512" y="2407"/>
                  </a:lnTo>
                  <a:lnTo>
                    <a:pt x="1530" y="2437"/>
                  </a:lnTo>
                  <a:lnTo>
                    <a:pt x="1548" y="2467"/>
                  </a:lnTo>
                  <a:lnTo>
                    <a:pt x="1566" y="2497"/>
                  </a:lnTo>
                  <a:lnTo>
                    <a:pt x="1591" y="2527"/>
                  </a:lnTo>
                  <a:lnTo>
                    <a:pt x="1609" y="2558"/>
                  </a:lnTo>
                  <a:lnTo>
                    <a:pt x="1627" y="2588"/>
                  </a:lnTo>
                  <a:lnTo>
                    <a:pt x="1645" y="2618"/>
                  </a:lnTo>
                  <a:lnTo>
                    <a:pt x="1663" y="2648"/>
                  </a:lnTo>
                  <a:lnTo>
                    <a:pt x="1681" y="2678"/>
                  </a:lnTo>
                  <a:lnTo>
                    <a:pt x="1699" y="2702"/>
                  </a:lnTo>
                  <a:lnTo>
                    <a:pt x="1717" y="2732"/>
                  </a:lnTo>
                  <a:lnTo>
                    <a:pt x="1735" y="2762"/>
                  </a:lnTo>
                  <a:lnTo>
                    <a:pt x="1753" y="2792"/>
                  </a:lnTo>
                  <a:lnTo>
                    <a:pt x="1771" y="2822"/>
                  </a:lnTo>
                  <a:lnTo>
                    <a:pt x="1795" y="2852"/>
                  </a:lnTo>
                  <a:lnTo>
                    <a:pt x="1813" y="2882"/>
                  </a:lnTo>
                  <a:lnTo>
                    <a:pt x="1831" y="2912"/>
                  </a:lnTo>
                  <a:lnTo>
                    <a:pt x="1849" y="2942"/>
                  </a:lnTo>
                  <a:lnTo>
                    <a:pt x="1867" y="2972"/>
                  </a:lnTo>
                  <a:lnTo>
                    <a:pt x="1885" y="3002"/>
                  </a:lnTo>
                  <a:lnTo>
                    <a:pt x="1903" y="3032"/>
                  </a:lnTo>
                  <a:lnTo>
                    <a:pt x="1921" y="3056"/>
                  </a:lnTo>
                  <a:lnTo>
                    <a:pt x="1939" y="3086"/>
                  </a:lnTo>
                  <a:lnTo>
                    <a:pt x="1957" y="3116"/>
                  </a:lnTo>
                  <a:lnTo>
                    <a:pt x="1975" y="3146"/>
                  </a:lnTo>
                  <a:lnTo>
                    <a:pt x="1993" y="3176"/>
                  </a:lnTo>
                  <a:lnTo>
                    <a:pt x="2017" y="3206"/>
                  </a:lnTo>
                  <a:lnTo>
                    <a:pt x="2035" y="3236"/>
                  </a:lnTo>
                  <a:lnTo>
                    <a:pt x="2053" y="3266"/>
                  </a:lnTo>
                  <a:lnTo>
                    <a:pt x="2071" y="3296"/>
                  </a:lnTo>
                  <a:lnTo>
                    <a:pt x="2089" y="3326"/>
                  </a:lnTo>
                  <a:lnTo>
                    <a:pt x="2107" y="3356"/>
                  </a:lnTo>
                  <a:lnTo>
                    <a:pt x="2125" y="3386"/>
                  </a:lnTo>
                  <a:lnTo>
                    <a:pt x="2143" y="3410"/>
                  </a:lnTo>
                  <a:lnTo>
                    <a:pt x="2161" y="3440"/>
                  </a:lnTo>
                  <a:lnTo>
                    <a:pt x="2179" y="3470"/>
                  </a:lnTo>
                  <a:lnTo>
                    <a:pt x="2197" y="3500"/>
                  </a:lnTo>
                  <a:lnTo>
                    <a:pt x="2221" y="3530"/>
                  </a:lnTo>
                  <a:lnTo>
                    <a:pt x="2239" y="3560"/>
                  </a:lnTo>
                  <a:lnTo>
                    <a:pt x="2257" y="3590"/>
                  </a:lnTo>
                  <a:lnTo>
                    <a:pt x="2275" y="3620"/>
                  </a:lnTo>
                  <a:lnTo>
                    <a:pt x="2293" y="3650"/>
                  </a:lnTo>
                  <a:lnTo>
                    <a:pt x="2311" y="3680"/>
                  </a:lnTo>
                  <a:lnTo>
                    <a:pt x="2329" y="3710"/>
                  </a:lnTo>
                  <a:lnTo>
                    <a:pt x="2347" y="3740"/>
                  </a:lnTo>
                  <a:lnTo>
                    <a:pt x="2365" y="3764"/>
                  </a:lnTo>
                  <a:lnTo>
                    <a:pt x="2383" y="3794"/>
                  </a:lnTo>
                  <a:lnTo>
                    <a:pt x="2401" y="3824"/>
                  </a:lnTo>
                  <a:lnTo>
                    <a:pt x="2425" y="3854"/>
                  </a:lnTo>
                  <a:lnTo>
                    <a:pt x="2443" y="3885"/>
                  </a:lnTo>
                  <a:lnTo>
                    <a:pt x="2461" y="3915"/>
                  </a:lnTo>
                  <a:lnTo>
                    <a:pt x="2479" y="3945"/>
                  </a:lnTo>
                  <a:lnTo>
                    <a:pt x="2497" y="3975"/>
                  </a:lnTo>
                  <a:lnTo>
                    <a:pt x="2515" y="4005"/>
                  </a:lnTo>
                  <a:lnTo>
                    <a:pt x="2533" y="4035"/>
                  </a:lnTo>
                  <a:lnTo>
                    <a:pt x="2551" y="4065"/>
                  </a:lnTo>
                  <a:lnTo>
                    <a:pt x="2569" y="4095"/>
                  </a:lnTo>
                  <a:lnTo>
                    <a:pt x="2587" y="4119"/>
                  </a:lnTo>
                  <a:lnTo>
                    <a:pt x="2605" y="4149"/>
                  </a:lnTo>
                  <a:lnTo>
                    <a:pt x="2623" y="4179"/>
                  </a:lnTo>
                  <a:lnTo>
                    <a:pt x="2647" y="4209"/>
                  </a:lnTo>
                  <a:lnTo>
                    <a:pt x="2665" y="4239"/>
                  </a:lnTo>
                  <a:lnTo>
                    <a:pt x="2683" y="4269"/>
                  </a:lnTo>
                  <a:lnTo>
                    <a:pt x="2701" y="4299"/>
                  </a:lnTo>
                  <a:lnTo>
                    <a:pt x="2719" y="4329"/>
                  </a:lnTo>
                  <a:lnTo>
                    <a:pt x="2737" y="4359"/>
                  </a:lnTo>
                  <a:lnTo>
                    <a:pt x="2755" y="4389"/>
                  </a:lnTo>
                  <a:lnTo>
                    <a:pt x="2773" y="4419"/>
                  </a:lnTo>
                  <a:lnTo>
                    <a:pt x="2791" y="4449"/>
                  </a:lnTo>
                  <a:lnTo>
                    <a:pt x="2797" y="4455"/>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65" name=""/>
            <p:cNvSpPr/>
            <p:nvPr/>
          </p:nvSpPr>
          <p:spPr>
            <a:xfrm>
              <a:off x="6154560" y="2068560"/>
              <a:ext cx="573120" cy="4151160"/>
            </a:xfrm>
            <a:custGeom>
              <a:avLst/>
              <a:gdLst/>
              <a:ahLst/>
              <a:rect l="l" t="t" r="r" b="b"/>
              <a:pathLst>
                <a:path w="618" h="4455">
                  <a:moveTo>
                    <a:pt x="0" y="4455"/>
                  </a:moveTo>
                  <a:lnTo>
                    <a:pt x="12" y="4359"/>
                  </a:lnTo>
                  <a:lnTo>
                    <a:pt x="30" y="4227"/>
                  </a:lnTo>
                  <a:lnTo>
                    <a:pt x="48" y="4095"/>
                  </a:lnTo>
                  <a:lnTo>
                    <a:pt x="66" y="3963"/>
                  </a:lnTo>
                  <a:lnTo>
                    <a:pt x="90" y="3830"/>
                  </a:lnTo>
                  <a:lnTo>
                    <a:pt x="108" y="3692"/>
                  </a:lnTo>
                  <a:lnTo>
                    <a:pt x="126" y="3560"/>
                  </a:lnTo>
                  <a:lnTo>
                    <a:pt x="144" y="3428"/>
                  </a:lnTo>
                  <a:lnTo>
                    <a:pt x="162" y="3296"/>
                  </a:lnTo>
                  <a:lnTo>
                    <a:pt x="180" y="3164"/>
                  </a:lnTo>
                  <a:lnTo>
                    <a:pt x="198" y="3032"/>
                  </a:lnTo>
                  <a:lnTo>
                    <a:pt x="216" y="2894"/>
                  </a:lnTo>
                  <a:lnTo>
                    <a:pt x="234" y="2762"/>
                  </a:lnTo>
                  <a:lnTo>
                    <a:pt x="252" y="2630"/>
                  </a:lnTo>
                  <a:lnTo>
                    <a:pt x="270" y="2497"/>
                  </a:lnTo>
                  <a:lnTo>
                    <a:pt x="294" y="2365"/>
                  </a:lnTo>
                  <a:lnTo>
                    <a:pt x="312" y="2233"/>
                  </a:lnTo>
                  <a:lnTo>
                    <a:pt x="330" y="2095"/>
                  </a:lnTo>
                  <a:lnTo>
                    <a:pt x="348" y="1963"/>
                  </a:lnTo>
                  <a:lnTo>
                    <a:pt x="366" y="1831"/>
                  </a:lnTo>
                  <a:lnTo>
                    <a:pt x="384" y="1699"/>
                  </a:lnTo>
                  <a:lnTo>
                    <a:pt x="402" y="1567"/>
                  </a:lnTo>
                  <a:lnTo>
                    <a:pt x="420" y="1435"/>
                  </a:lnTo>
                  <a:lnTo>
                    <a:pt x="438" y="1297"/>
                  </a:lnTo>
                  <a:lnTo>
                    <a:pt x="456" y="1164"/>
                  </a:lnTo>
                  <a:lnTo>
                    <a:pt x="474" y="1032"/>
                  </a:lnTo>
                  <a:lnTo>
                    <a:pt x="492" y="900"/>
                  </a:lnTo>
                  <a:lnTo>
                    <a:pt x="516" y="768"/>
                  </a:lnTo>
                  <a:lnTo>
                    <a:pt x="534" y="636"/>
                  </a:lnTo>
                  <a:lnTo>
                    <a:pt x="552" y="504"/>
                  </a:lnTo>
                  <a:lnTo>
                    <a:pt x="570" y="372"/>
                  </a:lnTo>
                  <a:lnTo>
                    <a:pt x="588" y="240"/>
                  </a:lnTo>
                  <a:lnTo>
                    <a:pt x="606" y="108"/>
                  </a:lnTo>
                  <a:lnTo>
                    <a:pt x="618"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66" name=""/>
            <p:cNvSpPr/>
            <p:nvPr/>
          </p:nvSpPr>
          <p:spPr>
            <a:xfrm>
              <a:off x="2895480" y="2076480"/>
              <a:ext cx="608040" cy="4200480"/>
            </a:xfrm>
            <a:custGeom>
              <a:avLst/>
              <a:gdLst/>
              <a:ahLst/>
              <a:rect l="l" t="t" r="r" b="b"/>
              <a:pathLst>
                <a:path w="624" h="4455">
                  <a:moveTo>
                    <a:pt x="0" y="4455"/>
                  </a:moveTo>
                  <a:lnTo>
                    <a:pt x="0" y="4449"/>
                  </a:lnTo>
                  <a:lnTo>
                    <a:pt x="24" y="4317"/>
                  </a:lnTo>
                  <a:lnTo>
                    <a:pt x="42" y="4185"/>
                  </a:lnTo>
                  <a:lnTo>
                    <a:pt x="60" y="4053"/>
                  </a:lnTo>
                  <a:lnTo>
                    <a:pt x="78" y="3915"/>
                  </a:lnTo>
                  <a:lnTo>
                    <a:pt x="96" y="3782"/>
                  </a:lnTo>
                  <a:lnTo>
                    <a:pt x="114" y="3650"/>
                  </a:lnTo>
                  <a:lnTo>
                    <a:pt x="132" y="3518"/>
                  </a:lnTo>
                  <a:lnTo>
                    <a:pt x="150" y="3386"/>
                  </a:lnTo>
                  <a:lnTo>
                    <a:pt x="168" y="3254"/>
                  </a:lnTo>
                  <a:lnTo>
                    <a:pt x="186" y="3116"/>
                  </a:lnTo>
                  <a:lnTo>
                    <a:pt x="204" y="2984"/>
                  </a:lnTo>
                  <a:lnTo>
                    <a:pt x="228" y="2852"/>
                  </a:lnTo>
                  <a:lnTo>
                    <a:pt x="246" y="2720"/>
                  </a:lnTo>
                  <a:lnTo>
                    <a:pt x="264" y="2588"/>
                  </a:lnTo>
                  <a:lnTo>
                    <a:pt x="282" y="2455"/>
                  </a:lnTo>
                  <a:lnTo>
                    <a:pt x="300" y="2317"/>
                  </a:lnTo>
                  <a:lnTo>
                    <a:pt x="318" y="2185"/>
                  </a:lnTo>
                  <a:lnTo>
                    <a:pt x="336" y="2053"/>
                  </a:lnTo>
                  <a:lnTo>
                    <a:pt x="354" y="1921"/>
                  </a:lnTo>
                  <a:lnTo>
                    <a:pt x="372" y="1789"/>
                  </a:lnTo>
                  <a:lnTo>
                    <a:pt x="390" y="1657"/>
                  </a:lnTo>
                  <a:lnTo>
                    <a:pt x="408" y="1519"/>
                  </a:lnTo>
                  <a:lnTo>
                    <a:pt x="432" y="1387"/>
                  </a:lnTo>
                  <a:lnTo>
                    <a:pt x="450" y="1255"/>
                  </a:lnTo>
                  <a:lnTo>
                    <a:pt x="468" y="1122"/>
                  </a:lnTo>
                  <a:lnTo>
                    <a:pt x="486" y="990"/>
                  </a:lnTo>
                  <a:lnTo>
                    <a:pt x="504" y="858"/>
                  </a:lnTo>
                  <a:lnTo>
                    <a:pt x="522" y="720"/>
                  </a:lnTo>
                  <a:lnTo>
                    <a:pt x="540" y="594"/>
                  </a:lnTo>
                  <a:lnTo>
                    <a:pt x="558" y="462"/>
                  </a:lnTo>
                  <a:lnTo>
                    <a:pt x="576" y="330"/>
                  </a:lnTo>
                  <a:lnTo>
                    <a:pt x="594" y="198"/>
                  </a:lnTo>
                  <a:lnTo>
                    <a:pt x="612" y="66"/>
                  </a:lnTo>
                  <a:lnTo>
                    <a:pt x="624"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67" name=""/>
            <p:cNvSpPr/>
            <p:nvPr/>
          </p:nvSpPr>
          <p:spPr>
            <a:xfrm>
              <a:off x="5478480" y="3214800"/>
              <a:ext cx="2295360" cy="3051000"/>
            </a:xfrm>
            <a:custGeom>
              <a:avLst/>
              <a:gdLst/>
              <a:ahLst/>
              <a:rect l="l" t="t" r="r" b="b"/>
              <a:pathLst>
                <a:path w="2617" h="3585">
                  <a:moveTo>
                    <a:pt x="0" y="3585"/>
                  </a:moveTo>
                  <a:lnTo>
                    <a:pt x="0" y="3573"/>
                  </a:lnTo>
                  <a:lnTo>
                    <a:pt x="24" y="3549"/>
                  </a:lnTo>
                  <a:lnTo>
                    <a:pt x="42" y="3525"/>
                  </a:lnTo>
                  <a:lnTo>
                    <a:pt x="60" y="3501"/>
                  </a:lnTo>
                  <a:lnTo>
                    <a:pt x="78" y="3477"/>
                  </a:lnTo>
                  <a:lnTo>
                    <a:pt x="96" y="3447"/>
                  </a:lnTo>
                  <a:lnTo>
                    <a:pt x="114" y="3423"/>
                  </a:lnTo>
                  <a:lnTo>
                    <a:pt x="132" y="3399"/>
                  </a:lnTo>
                  <a:lnTo>
                    <a:pt x="150" y="3375"/>
                  </a:lnTo>
                  <a:lnTo>
                    <a:pt x="168" y="3345"/>
                  </a:lnTo>
                  <a:lnTo>
                    <a:pt x="186" y="3321"/>
                  </a:lnTo>
                  <a:lnTo>
                    <a:pt x="204" y="3297"/>
                  </a:lnTo>
                  <a:lnTo>
                    <a:pt x="222" y="3273"/>
                  </a:lnTo>
                  <a:lnTo>
                    <a:pt x="246" y="3249"/>
                  </a:lnTo>
                  <a:lnTo>
                    <a:pt x="264" y="3219"/>
                  </a:lnTo>
                  <a:lnTo>
                    <a:pt x="282" y="3195"/>
                  </a:lnTo>
                  <a:lnTo>
                    <a:pt x="300" y="3171"/>
                  </a:lnTo>
                  <a:lnTo>
                    <a:pt x="318" y="3147"/>
                  </a:lnTo>
                  <a:lnTo>
                    <a:pt x="336" y="3117"/>
                  </a:lnTo>
                  <a:lnTo>
                    <a:pt x="354" y="3093"/>
                  </a:lnTo>
                  <a:lnTo>
                    <a:pt x="372" y="3069"/>
                  </a:lnTo>
                  <a:lnTo>
                    <a:pt x="390" y="3045"/>
                  </a:lnTo>
                  <a:lnTo>
                    <a:pt x="408" y="3021"/>
                  </a:lnTo>
                  <a:lnTo>
                    <a:pt x="426" y="2991"/>
                  </a:lnTo>
                  <a:lnTo>
                    <a:pt x="450" y="2966"/>
                  </a:lnTo>
                  <a:lnTo>
                    <a:pt x="468" y="2942"/>
                  </a:lnTo>
                  <a:lnTo>
                    <a:pt x="486" y="2918"/>
                  </a:lnTo>
                  <a:lnTo>
                    <a:pt x="504" y="2888"/>
                  </a:lnTo>
                  <a:lnTo>
                    <a:pt x="522" y="2864"/>
                  </a:lnTo>
                  <a:lnTo>
                    <a:pt x="540" y="2840"/>
                  </a:lnTo>
                  <a:lnTo>
                    <a:pt x="558" y="2816"/>
                  </a:lnTo>
                  <a:lnTo>
                    <a:pt x="576" y="2792"/>
                  </a:lnTo>
                  <a:lnTo>
                    <a:pt x="594" y="2762"/>
                  </a:lnTo>
                  <a:lnTo>
                    <a:pt x="612" y="2738"/>
                  </a:lnTo>
                  <a:lnTo>
                    <a:pt x="630" y="2714"/>
                  </a:lnTo>
                  <a:lnTo>
                    <a:pt x="648" y="2690"/>
                  </a:lnTo>
                  <a:lnTo>
                    <a:pt x="673" y="2660"/>
                  </a:lnTo>
                  <a:lnTo>
                    <a:pt x="691" y="2636"/>
                  </a:lnTo>
                  <a:lnTo>
                    <a:pt x="709" y="2612"/>
                  </a:lnTo>
                  <a:lnTo>
                    <a:pt x="727" y="2588"/>
                  </a:lnTo>
                  <a:lnTo>
                    <a:pt x="745" y="2558"/>
                  </a:lnTo>
                  <a:lnTo>
                    <a:pt x="763" y="2534"/>
                  </a:lnTo>
                  <a:lnTo>
                    <a:pt x="781" y="2510"/>
                  </a:lnTo>
                  <a:lnTo>
                    <a:pt x="799" y="2486"/>
                  </a:lnTo>
                  <a:lnTo>
                    <a:pt x="817" y="2462"/>
                  </a:lnTo>
                  <a:lnTo>
                    <a:pt x="835" y="2432"/>
                  </a:lnTo>
                  <a:lnTo>
                    <a:pt x="853" y="2408"/>
                  </a:lnTo>
                  <a:lnTo>
                    <a:pt x="877" y="2384"/>
                  </a:lnTo>
                  <a:lnTo>
                    <a:pt x="895" y="2360"/>
                  </a:lnTo>
                  <a:lnTo>
                    <a:pt x="913" y="2330"/>
                  </a:lnTo>
                  <a:lnTo>
                    <a:pt x="931" y="2306"/>
                  </a:lnTo>
                  <a:lnTo>
                    <a:pt x="949" y="2282"/>
                  </a:lnTo>
                  <a:lnTo>
                    <a:pt x="967" y="2258"/>
                  </a:lnTo>
                  <a:lnTo>
                    <a:pt x="985" y="2234"/>
                  </a:lnTo>
                  <a:lnTo>
                    <a:pt x="1003" y="2204"/>
                  </a:lnTo>
                  <a:lnTo>
                    <a:pt x="1021" y="2180"/>
                  </a:lnTo>
                  <a:lnTo>
                    <a:pt x="1039" y="2156"/>
                  </a:lnTo>
                  <a:lnTo>
                    <a:pt x="1057" y="2132"/>
                  </a:lnTo>
                  <a:lnTo>
                    <a:pt x="1075" y="2102"/>
                  </a:lnTo>
                  <a:lnTo>
                    <a:pt x="1099" y="2078"/>
                  </a:lnTo>
                  <a:lnTo>
                    <a:pt x="1117" y="2054"/>
                  </a:lnTo>
                  <a:lnTo>
                    <a:pt x="1135" y="2030"/>
                  </a:lnTo>
                  <a:lnTo>
                    <a:pt x="1153" y="2006"/>
                  </a:lnTo>
                  <a:lnTo>
                    <a:pt x="1171" y="1976"/>
                  </a:lnTo>
                  <a:lnTo>
                    <a:pt x="1189" y="1952"/>
                  </a:lnTo>
                  <a:lnTo>
                    <a:pt x="1207" y="1928"/>
                  </a:lnTo>
                  <a:lnTo>
                    <a:pt x="1225" y="1904"/>
                  </a:lnTo>
                  <a:lnTo>
                    <a:pt x="1243" y="1874"/>
                  </a:lnTo>
                  <a:lnTo>
                    <a:pt x="1261" y="1850"/>
                  </a:lnTo>
                  <a:lnTo>
                    <a:pt x="1279" y="1826"/>
                  </a:lnTo>
                  <a:lnTo>
                    <a:pt x="1303" y="1802"/>
                  </a:lnTo>
                  <a:lnTo>
                    <a:pt x="1321" y="1778"/>
                  </a:lnTo>
                  <a:lnTo>
                    <a:pt x="1339" y="1748"/>
                  </a:lnTo>
                  <a:lnTo>
                    <a:pt x="1357" y="1724"/>
                  </a:lnTo>
                  <a:lnTo>
                    <a:pt x="1375" y="1700"/>
                  </a:lnTo>
                  <a:lnTo>
                    <a:pt x="1393" y="1675"/>
                  </a:lnTo>
                  <a:lnTo>
                    <a:pt x="1411" y="1645"/>
                  </a:lnTo>
                  <a:lnTo>
                    <a:pt x="1429" y="1621"/>
                  </a:lnTo>
                  <a:lnTo>
                    <a:pt x="1447" y="1597"/>
                  </a:lnTo>
                  <a:lnTo>
                    <a:pt x="1465" y="1573"/>
                  </a:lnTo>
                  <a:lnTo>
                    <a:pt x="1483" y="1543"/>
                  </a:lnTo>
                  <a:lnTo>
                    <a:pt x="1507" y="1519"/>
                  </a:lnTo>
                  <a:lnTo>
                    <a:pt x="1525" y="1495"/>
                  </a:lnTo>
                  <a:lnTo>
                    <a:pt x="1543" y="1471"/>
                  </a:lnTo>
                  <a:lnTo>
                    <a:pt x="1561" y="1447"/>
                  </a:lnTo>
                  <a:lnTo>
                    <a:pt x="1579" y="1417"/>
                  </a:lnTo>
                  <a:lnTo>
                    <a:pt x="1597" y="1393"/>
                  </a:lnTo>
                  <a:lnTo>
                    <a:pt x="1615" y="1369"/>
                  </a:lnTo>
                  <a:lnTo>
                    <a:pt x="1633" y="1345"/>
                  </a:lnTo>
                  <a:lnTo>
                    <a:pt x="1651" y="1315"/>
                  </a:lnTo>
                  <a:lnTo>
                    <a:pt x="1669" y="1291"/>
                  </a:lnTo>
                  <a:lnTo>
                    <a:pt x="1687" y="1267"/>
                  </a:lnTo>
                  <a:lnTo>
                    <a:pt x="1705" y="1243"/>
                  </a:lnTo>
                  <a:lnTo>
                    <a:pt x="1729" y="1219"/>
                  </a:lnTo>
                  <a:lnTo>
                    <a:pt x="1747" y="1189"/>
                  </a:lnTo>
                  <a:lnTo>
                    <a:pt x="1765" y="1165"/>
                  </a:lnTo>
                  <a:lnTo>
                    <a:pt x="1783" y="1141"/>
                  </a:lnTo>
                  <a:lnTo>
                    <a:pt x="1801" y="1117"/>
                  </a:lnTo>
                  <a:lnTo>
                    <a:pt x="1819" y="1087"/>
                  </a:lnTo>
                  <a:lnTo>
                    <a:pt x="1837" y="1063"/>
                  </a:lnTo>
                  <a:lnTo>
                    <a:pt x="1855" y="1039"/>
                  </a:lnTo>
                  <a:lnTo>
                    <a:pt x="1873" y="1015"/>
                  </a:lnTo>
                  <a:lnTo>
                    <a:pt x="1891" y="991"/>
                  </a:lnTo>
                  <a:lnTo>
                    <a:pt x="1909" y="961"/>
                  </a:lnTo>
                  <a:lnTo>
                    <a:pt x="1933" y="937"/>
                  </a:lnTo>
                  <a:lnTo>
                    <a:pt x="1951" y="913"/>
                  </a:lnTo>
                  <a:lnTo>
                    <a:pt x="1969" y="889"/>
                  </a:lnTo>
                  <a:lnTo>
                    <a:pt x="1987" y="859"/>
                  </a:lnTo>
                  <a:lnTo>
                    <a:pt x="2005" y="835"/>
                  </a:lnTo>
                  <a:lnTo>
                    <a:pt x="2023" y="811"/>
                  </a:lnTo>
                  <a:lnTo>
                    <a:pt x="2041" y="787"/>
                  </a:lnTo>
                  <a:lnTo>
                    <a:pt x="2059" y="763"/>
                  </a:lnTo>
                  <a:lnTo>
                    <a:pt x="2077" y="733"/>
                  </a:lnTo>
                  <a:lnTo>
                    <a:pt x="2095" y="709"/>
                  </a:lnTo>
                  <a:lnTo>
                    <a:pt x="2113" y="685"/>
                  </a:lnTo>
                  <a:lnTo>
                    <a:pt x="2131" y="661"/>
                  </a:lnTo>
                  <a:lnTo>
                    <a:pt x="2155" y="631"/>
                  </a:lnTo>
                  <a:lnTo>
                    <a:pt x="2173" y="607"/>
                  </a:lnTo>
                  <a:lnTo>
                    <a:pt x="2191" y="583"/>
                  </a:lnTo>
                  <a:lnTo>
                    <a:pt x="2209" y="559"/>
                  </a:lnTo>
                  <a:lnTo>
                    <a:pt x="2227" y="535"/>
                  </a:lnTo>
                  <a:lnTo>
                    <a:pt x="2245" y="505"/>
                  </a:lnTo>
                  <a:lnTo>
                    <a:pt x="2263" y="481"/>
                  </a:lnTo>
                  <a:lnTo>
                    <a:pt x="2281" y="457"/>
                  </a:lnTo>
                  <a:lnTo>
                    <a:pt x="2299" y="433"/>
                  </a:lnTo>
                  <a:lnTo>
                    <a:pt x="2317" y="403"/>
                  </a:lnTo>
                  <a:lnTo>
                    <a:pt x="2335" y="378"/>
                  </a:lnTo>
                  <a:lnTo>
                    <a:pt x="2359" y="354"/>
                  </a:lnTo>
                  <a:lnTo>
                    <a:pt x="2377" y="330"/>
                  </a:lnTo>
                  <a:lnTo>
                    <a:pt x="2395" y="300"/>
                  </a:lnTo>
                  <a:lnTo>
                    <a:pt x="2413" y="276"/>
                  </a:lnTo>
                  <a:lnTo>
                    <a:pt x="2431" y="252"/>
                  </a:lnTo>
                  <a:lnTo>
                    <a:pt x="2449" y="228"/>
                  </a:lnTo>
                  <a:lnTo>
                    <a:pt x="2467" y="204"/>
                  </a:lnTo>
                  <a:lnTo>
                    <a:pt x="2485" y="174"/>
                  </a:lnTo>
                  <a:lnTo>
                    <a:pt x="2503" y="150"/>
                  </a:lnTo>
                  <a:lnTo>
                    <a:pt x="2521" y="126"/>
                  </a:lnTo>
                  <a:lnTo>
                    <a:pt x="2539" y="102"/>
                  </a:lnTo>
                  <a:lnTo>
                    <a:pt x="2557" y="72"/>
                  </a:lnTo>
                  <a:lnTo>
                    <a:pt x="2581" y="48"/>
                  </a:lnTo>
                  <a:lnTo>
                    <a:pt x="2599" y="24"/>
                  </a:lnTo>
                  <a:lnTo>
                    <a:pt x="2617"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68" name=""/>
            <p:cNvSpPr/>
            <p:nvPr/>
          </p:nvSpPr>
          <p:spPr>
            <a:xfrm>
              <a:off x="1878120" y="2077920"/>
              <a:ext cx="2293920" cy="3030480"/>
            </a:xfrm>
            <a:custGeom>
              <a:avLst/>
              <a:gdLst/>
              <a:ahLst/>
              <a:rect l="l" t="t" r="r" b="b"/>
              <a:pathLst>
                <a:path w="2113" h="2882">
                  <a:moveTo>
                    <a:pt x="0" y="2882"/>
                  </a:moveTo>
                  <a:lnTo>
                    <a:pt x="18" y="2858"/>
                  </a:lnTo>
                  <a:lnTo>
                    <a:pt x="36" y="2834"/>
                  </a:lnTo>
                  <a:lnTo>
                    <a:pt x="60" y="2810"/>
                  </a:lnTo>
                  <a:lnTo>
                    <a:pt x="78" y="2780"/>
                  </a:lnTo>
                  <a:lnTo>
                    <a:pt x="96" y="2756"/>
                  </a:lnTo>
                  <a:lnTo>
                    <a:pt x="114" y="2732"/>
                  </a:lnTo>
                  <a:lnTo>
                    <a:pt x="132" y="2708"/>
                  </a:lnTo>
                  <a:lnTo>
                    <a:pt x="150" y="2678"/>
                  </a:lnTo>
                  <a:lnTo>
                    <a:pt x="168" y="2654"/>
                  </a:lnTo>
                  <a:lnTo>
                    <a:pt x="186" y="2630"/>
                  </a:lnTo>
                  <a:lnTo>
                    <a:pt x="204" y="2606"/>
                  </a:lnTo>
                  <a:lnTo>
                    <a:pt x="222" y="2582"/>
                  </a:lnTo>
                  <a:lnTo>
                    <a:pt x="240" y="2551"/>
                  </a:lnTo>
                  <a:lnTo>
                    <a:pt x="258" y="2527"/>
                  </a:lnTo>
                  <a:lnTo>
                    <a:pt x="282" y="2503"/>
                  </a:lnTo>
                  <a:lnTo>
                    <a:pt x="300" y="2479"/>
                  </a:lnTo>
                  <a:lnTo>
                    <a:pt x="318" y="2449"/>
                  </a:lnTo>
                  <a:lnTo>
                    <a:pt x="336" y="2425"/>
                  </a:lnTo>
                  <a:lnTo>
                    <a:pt x="354" y="2401"/>
                  </a:lnTo>
                  <a:lnTo>
                    <a:pt x="372" y="2377"/>
                  </a:lnTo>
                  <a:lnTo>
                    <a:pt x="390" y="2347"/>
                  </a:lnTo>
                  <a:lnTo>
                    <a:pt x="408" y="2323"/>
                  </a:lnTo>
                  <a:lnTo>
                    <a:pt x="426" y="2299"/>
                  </a:lnTo>
                  <a:lnTo>
                    <a:pt x="444" y="2275"/>
                  </a:lnTo>
                  <a:lnTo>
                    <a:pt x="462" y="2251"/>
                  </a:lnTo>
                  <a:lnTo>
                    <a:pt x="486" y="2221"/>
                  </a:lnTo>
                  <a:lnTo>
                    <a:pt x="504" y="2197"/>
                  </a:lnTo>
                  <a:lnTo>
                    <a:pt x="522" y="2173"/>
                  </a:lnTo>
                  <a:lnTo>
                    <a:pt x="540" y="2149"/>
                  </a:lnTo>
                  <a:lnTo>
                    <a:pt x="558" y="2119"/>
                  </a:lnTo>
                  <a:lnTo>
                    <a:pt x="576" y="2095"/>
                  </a:lnTo>
                  <a:lnTo>
                    <a:pt x="594" y="2071"/>
                  </a:lnTo>
                  <a:lnTo>
                    <a:pt x="612" y="2047"/>
                  </a:lnTo>
                  <a:lnTo>
                    <a:pt x="630" y="2023"/>
                  </a:lnTo>
                  <a:lnTo>
                    <a:pt x="648" y="1993"/>
                  </a:lnTo>
                  <a:lnTo>
                    <a:pt x="666" y="1969"/>
                  </a:lnTo>
                  <a:lnTo>
                    <a:pt x="684" y="1945"/>
                  </a:lnTo>
                  <a:lnTo>
                    <a:pt x="708" y="1921"/>
                  </a:lnTo>
                  <a:lnTo>
                    <a:pt x="726" y="1891"/>
                  </a:lnTo>
                  <a:lnTo>
                    <a:pt x="744" y="1867"/>
                  </a:lnTo>
                  <a:lnTo>
                    <a:pt x="762" y="1843"/>
                  </a:lnTo>
                  <a:lnTo>
                    <a:pt x="780" y="1819"/>
                  </a:lnTo>
                  <a:lnTo>
                    <a:pt x="798" y="1795"/>
                  </a:lnTo>
                  <a:lnTo>
                    <a:pt x="816" y="1765"/>
                  </a:lnTo>
                  <a:lnTo>
                    <a:pt x="834" y="1741"/>
                  </a:lnTo>
                  <a:lnTo>
                    <a:pt x="852" y="1717"/>
                  </a:lnTo>
                  <a:lnTo>
                    <a:pt x="870" y="1693"/>
                  </a:lnTo>
                  <a:lnTo>
                    <a:pt x="888" y="1663"/>
                  </a:lnTo>
                  <a:lnTo>
                    <a:pt x="912" y="1639"/>
                  </a:lnTo>
                  <a:lnTo>
                    <a:pt x="930" y="1615"/>
                  </a:lnTo>
                  <a:lnTo>
                    <a:pt x="948" y="1591"/>
                  </a:lnTo>
                  <a:lnTo>
                    <a:pt x="966" y="1567"/>
                  </a:lnTo>
                  <a:lnTo>
                    <a:pt x="984" y="1537"/>
                  </a:lnTo>
                  <a:lnTo>
                    <a:pt x="1002" y="1513"/>
                  </a:lnTo>
                  <a:lnTo>
                    <a:pt x="1020" y="1489"/>
                  </a:lnTo>
                  <a:lnTo>
                    <a:pt x="1038" y="1465"/>
                  </a:lnTo>
                  <a:lnTo>
                    <a:pt x="1056" y="1435"/>
                  </a:lnTo>
                  <a:lnTo>
                    <a:pt x="1074" y="1411"/>
                  </a:lnTo>
                  <a:lnTo>
                    <a:pt x="1092" y="1387"/>
                  </a:lnTo>
                  <a:lnTo>
                    <a:pt x="1116" y="1363"/>
                  </a:lnTo>
                  <a:lnTo>
                    <a:pt x="1134" y="1339"/>
                  </a:lnTo>
                  <a:lnTo>
                    <a:pt x="1152" y="1309"/>
                  </a:lnTo>
                  <a:lnTo>
                    <a:pt x="1170" y="1285"/>
                  </a:lnTo>
                  <a:lnTo>
                    <a:pt x="1188" y="1261"/>
                  </a:lnTo>
                  <a:lnTo>
                    <a:pt x="1206" y="1236"/>
                  </a:lnTo>
                  <a:lnTo>
                    <a:pt x="1224" y="1206"/>
                  </a:lnTo>
                  <a:lnTo>
                    <a:pt x="1242" y="1182"/>
                  </a:lnTo>
                  <a:lnTo>
                    <a:pt x="1260" y="1158"/>
                  </a:lnTo>
                  <a:lnTo>
                    <a:pt x="1278" y="1134"/>
                  </a:lnTo>
                  <a:lnTo>
                    <a:pt x="1296" y="1104"/>
                  </a:lnTo>
                  <a:lnTo>
                    <a:pt x="1314" y="1080"/>
                  </a:lnTo>
                  <a:lnTo>
                    <a:pt x="1338" y="1056"/>
                  </a:lnTo>
                  <a:lnTo>
                    <a:pt x="1356" y="1032"/>
                  </a:lnTo>
                  <a:lnTo>
                    <a:pt x="1374" y="1008"/>
                  </a:lnTo>
                  <a:lnTo>
                    <a:pt x="1392" y="978"/>
                  </a:lnTo>
                  <a:lnTo>
                    <a:pt x="1410" y="954"/>
                  </a:lnTo>
                  <a:lnTo>
                    <a:pt x="1428" y="930"/>
                  </a:lnTo>
                  <a:lnTo>
                    <a:pt x="1446" y="906"/>
                  </a:lnTo>
                  <a:lnTo>
                    <a:pt x="1464" y="876"/>
                  </a:lnTo>
                  <a:lnTo>
                    <a:pt x="1482" y="852"/>
                  </a:lnTo>
                  <a:lnTo>
                    <a:pt x="1500" y="828"/>
                  </a:lnTo>
                  <a:lnTo>
                    <a:pt x="1518" y="804"/>
                  </a:lnTo>
                  <a:lnTo>
                    <a:pt x="1542" y="780"/>
                  </a:lnTo>
                  <a:lnTo>
                    <a:pt x="1560" y="750"/>
                  </a:lnTo>
                  <a:lnTo>
                    <a:pt x="1578" y="726"/>
                  </a:lnTo>
                  <a:lnTo>
                    <a:pt x="1596" y="702"/>
                  </a:lnTo>
                  <a:lnTo>
                    <a:pt x="1614" y="678"/>
                  </a:lnTo>
                  <a:lnTo>
                    <a:pt x="1632" y="648"/>
                  </a:lnTo>
                  <a:lnTo>
                    <a:pt x="1650" y="624"/>
                  </a:lnTo>
                  <a:lnTo>
                    <a:pt x="1668" y="600"/>
                  </a:lnTo>
                  <a:lnTo>
                    <a:pt x="1686" y="582"/>
                  </a:lnTo>
                  <a:lnTo>
                    <a:pt x="1704" y="558"/>
                  </a:lnTo>
                  <a:lnTo>
                    <a:pt x="1722" y="528"/>
                  </a:lnTo>
                  <a:lnTo>
                    <a:pt x="1740" y="504"/>
                  </a:lnTo>
                  <a:lnTo>
                    <a:pt x="1765" y="480"/>
                  </a:lnTo>
                  <a:lnTo>
                    <a:pt x="1783" y="456"/>
                  </a:lnTo>
                  <a:lnTo>
                    <a:pt x="1801" y="426"/>
                  </a:lnTo>
                  <a:lnTo>
                    <a:pt x="1819" y="402"/>
                  </a:lnTo>
                  <a:lnTo>
                    <a:pt x="1837" y="378"/>
                  </a:lnTo>
                  <a:lnTo>
                    <a:pt x="1855" y="354"/>
                  </a:lnTo>
                  <a:lnTo>
                    <a:pt x="1873" y="330"/>
                  </a:lnTo>
                  <a:lnTo>
                    <a:pt x="1891" y="300"/>
                  </a:lnTo>
                  <a:lnTo>
                    <a:pt x="1909" y="276"/>
                  </a:lnTo>
                  <a:lnTo>
                    <a:pt x="1927" y="252"/>
                  </a:lnTo>
                  <a:lnTo>
                    <a:pt x="1945" y="228"/>
                  </a:lnTo>
                  <a:lnTo>
                    <a:pt x="1969" y="198"/>
                  </a:lnTo>
                  <a:lnTo>
                    <a:pt x="1987" y="174"/>
                  </a:lnTo>
                  <a:lnTo>
                    <a:pt x="2005" y="150"/>
                  </a:lnTo>
                  <a:lnTo>
                    <a:pt x="2023" y="126"/>
                  </a:lnTo>
                  <a:lnTo>
                    <a:pt x="2041" y="96"/>
                  </a:lnTo>
                  <a:lnTo>
                    <a:pt x="2059" y="72"/>
                  </a:lnTo>
                  <a:lnTo>
                    <a:pt x="2077" y="48"/>
                  </a:lnTo>
                  <a:lnTo>
                    <a:pt x="2095" y="24"/>
                  </a:lnTo>
                  <a:lnTo>
                    <a:pt x="2113"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69" name=""/>
            <p:cNvSpPr/>
            <p:nvPr/>
          </p:nvSpPr>
          <p:spPr>
            <a:xfrm>
              <a:off x="5121360" y="4094280"/>
              <a:ext cx="2644560" cy="2139840"/>
            </a:xfrm>
            <a:custGeom>
              <a:avLst/>
              <a:gdLst/>
              <a:ahLst/>
              <a:rect l="l" t="t" r="r" b="b"/>
              <a:pathLst>
                <a:path w="3517" h="2936">
                  <a:moveTo>
                    <a:pt x="0" y="2936"/>
                  </a:moveTo>
                  <a:lnTo>
                    <a:pt x="12" y="2918"/>
                  </a:lnTo>
                  <a:lnTo>
                    <a:pt x="30" y="2906"/>
                  </a:lnTo>
                  <a:lnTo>
                    <a:pt x="48" y="2888"/>
                  </a:lnTo>
                  <a:lnTo>
                    <a:pt x="66" y="2876"/>
                  </a:lnTo>
                  <a:lnTo>
                    <a:pt x="90" y="2858"/>
                  </a:lnTo>
                  <a:lnTo>
                    <a:pt x="108" y="2840"/>
                  </a:lnTo>
                  <a:lnTo>
                    <a:pt x="126" y="2828"/>
                  </a:lnTo>
                  <a:lnTo>
                    <a:pt x="144" y="2810"/>
                  </a:lnTo>
                  <a:lnTo>
                    <a:pt x="162" y="2798"/>
                  </a:lnTo>
                  <a:lnTo>
                    <a:pt x="180" y="2780"/>
                  </a:lnTo>
                  <a:lnTo>
                    <a:pt x="198" y="2768"/>
                  </a:lnTo>
                  <a:lnTo>
                    <a:pt x="216" y="2750"/>
                  </a:lnTo>
                  <a:lnTo>
                    <a:pt x="234" y="2732"/>
                  </a:lnTo>
                  <a:lnTo>
                    <a:pt x="252" y="2720"/>
                  </a:lnTo>
                  <a:lnTo>
                    <a:pt x="270" y="2702"/>
                  </a:lnTo>
                  <a:lnTo>
                    <a:pt x="294" y="2690"/>
                  </a:lnTo>
                  <a:lnTo>
                    <a:pt x="312" y="2672"/>
                  </a:lnTo>
                  <a:lnTo>
                    <a:pt x="330" y="2660"/>
                  </a:lnTo>
                  <a:lnTo>
                    <a:pt x="348" y="2642"/>
                  </a:lnTo>
                  <a:lnTo>
                    <a:pt x="366" y="2624"/>
                  </a:lnTo>
                  <a:lnTo>
                    <a:pt x="384" y="2612"/>
                  </a:lnTo>
                  <a:lnTo>
                    <a:pt x="402" y="2594"/>
                  </a:lnTo>
                  <a:lnTo>
                    <a:pt x="420" y="2582"/>
                  </a:lnTo>
                  <a:lnTo>
                    <a:pt x="438" y="2564"/>
                  </a:lnTo>
                  <a:lnTo>
                    <a:pt x="456" y="2552"/>
                  </a:lnTo>
                  <a:lnTo>
                    <a:pt x="474" y="2534"/>
                  </a:lnTo>
                  <a:lnTo>
                    <a:pt x="492" y="2516"/>
                  </a:lnTo>
                  <a:lnTo>
                    <a:pt x="516" y="2504"/>
                  </a:lnTo>
                  <a:lnTo>
                    <a:pt x="534" y="2486"/>
                  </a:lnTo>
                  <a:lnTo>
                    <a:pt x="552" y="2474"/>
                  </a:lnTo>
                  <a:lnTo>
                    <a:pt x="570" y="2456"/>
                  </a:lnTo>
                  <a:lnTo>
                    <a:pt x="588" y="2444"/>
                  </a:lnTo>
                  <a:lnTo>
                    <a:pt x="606" y="2426"/>
                  </a:lnTo>
                  <a:lnTo>
                    <a:pt x="624" y="2408"/>
                  </a:lnTo>
                  <a:lnTo>
                    <a:pt x="642" y="2396"/>
                  </a:lnTo>
                  <a:lnTo>
                    <a:pt x="660" y="2378"/>
                  </a:lnTo>
                  <a:lnTo>
                    <a:pt x="678" y="2366"/>
                  </a:lnTo>
                  <a:lnTo>
                    <a:pt x="696" y="2348"/>
                  </a:lnTo>
                  <a:lnTo>
                    <a:pt x="720" y="2335"/>
                  </a:lnTo>
                  <a:lnTo>
                    <a:pt x="738" y="2317"/>
                  </a:lnTo>
                  <a:lnTo>
                    <a:pt x="756" y="2299"/>
                  </a:lnTo>
                  <a:lnTo>
                    <a:pt x="774" y="2287"/>
                  </a:lnTo>
                  <a:lnTo>
                    <a:pt x="792" y="2269"/>
                  </a:lnTo>
                  <a:lnTo>
                    <a:pt x="810" y="2257"/>
                  </a:lnTo>
                  <a:lnTo>
                    <a:pt x="828" y="2239"/>
                  </a:lnTo>
                  <a:lnTo>
                    <a:pt x="846" y="2227"/>
                  </a:lnTo>
                  <a:lnTo>
                    <a:pt x="864" y="2209"/>
                  </a:lnTo>
                  <a:lnTo>
                    <a:pt x="882" y="2191"/>
                  </a:lnTo>
                  <a:lnTo>
                    <a:pt x="900" y="2179"/>
                  </a:lnTo>
                  <a:lnTo>
                    <a:pt x="924" y="2161"/>
                  </a:lnTo>
                  <a:lnTo>
                    <a:pt x="942" y="2149"/>
                  </a:lnTo>
                  <a:lnTo>
                    <a:pt x="960" y="2131"/>
                  </a:lnTo>
                  <a:lnTo>
                    <a:pt x="978" y="2119"/>
                  </a:lnTo>
                  <a:lnTo>
                    <a:pt x="996" y="2101"/>
                  </a:lnTo>
                  <a:lnTo>
                    <a:pt x="1014" y="2083"/>
                  </a:lnTo>
                  <a:lnTo>
                    <a:pt x="1032" y="2071"/>
                  </a:lnTo>
                  <a:lnTo>
                    <a:pt x="1050" y="2053"/>
                  </a:lnTo>
                  <a:lnTo>
                    <a:pt x="1068" y="2041"/>
                  </a:lnTo>
                  <a:lnTo>
                    <a:pt x="1086" y="2023"/>
                  </a:lnTo>
                  <a:lnTo>
                    <a:pt x="1104" y="2011"/>
                  </a:lnTo>
                  <a:lnTo>
                    <a:pt x="1122" y="1993"/>
                  </a:lnTo>
                  <a:lnTo>
                    <a:pt x="1146" y="1975"/>
                  </a:lnTo>
                  <a:lnTo>
                    <a:pt x="1164" y="1963"/>
                  </a:lnTo>
                  <a:lnTo>
                    <a:pt x="1182" y="1945"/>
                  </a:lnTo>
                  <a:lnTo>
                    <a:pt x="1200" y="1933"/>
                  </a:lnTo>
                  <a:lnTo>
                    <a:pt x="1218" y="1915"/>
                  </a:lnTo>
                  <a:lnTo>
                    <a:pt x="1236" y="1903"/>
                  </a:lnTo>
                  <a:lnTo>
                    <a:pt x="1254" y="1885"/>
                  </a:lnTo>
                  <a:lnTo>
                    <a:pt x="1272" y="1867"/>
                  </a:lnTo>
                  <a:lnTo>
                    <a:pt x="1290" y="1855"/>
                  </a:lnTo>
                  <a:lnTo>
                    <a:pt x="1308" y="1837"/>
                  </a:lnTo>
                  <a:lnTo>
                    <a:pt x="1326" y="1825"/>
                  </a:lnTo>
                  <a:lnTo>
                    <a:pt x="1350" y="1807"/>
                  </a:lnTo>
                  <a:lnTo>
                    <a:pt x="1368" y="1795"/>
                  </a:lnTo>
                  <a:lnTo>
                    <a:pt x="1386" y="1777"/>
                  </a:lnTo>
                  <a:lnTo>
                    <a:pt x="1404" y="1759"/>
                  </a:lnTo>
                  <a:lnTo>
                    <a:pt x="1422" y="1747"/>
                  </a:lnTo>
                  <a:lnTo>
                    <a:pt x="1440" y="1729"/>
                  </a:lnTo>
                  <a:lnTo>
                    <a:pt x="1458" y="1717"/>
                  </a:lnTo>
                  <a:lnTo>
                    <a:pt x="1476" y="1699"/>
                  </a:lnTo>
                  <a:lnTo>
                    <a:pt x="1494" y="1687"/>
                  </a:lnTo>
                  <a:lnTo>
                    <a:pt x="1512" y="1669"/>
                  </a:lnTo>
                  <a:lnTo>
                    <a:pt x="1530" y="1651"/>
                  </a:lnTo>
                  <a:lnTo>
                    <a:pt x="1548" y="1639"/>
                  </a:lnTo>
                  <a:lnTo>
                    <a:pt x="1573" y="1621"/>
                  </a:lnTo>
                  <a:lnTo>
                    <a:pt x="1591" y="1609"/>
                  </a:lnTo>
                  <a:lnTo>
                    <a:pt x="1609" y="1591"/>
                  </a:lnTo>
                  <a:lnTo>
                    <a:pt x="1627" y="1579"/>
                  </a:lnTo>
                  <a:lnTo>
                    <a:pt x="1645" y="1561"/>
                  </a:lnTo>
                  <a:lnTo>
                    <a:pt x="1663" y="1543"/>
                  </a:lnTo>
                  <a:lnTo>
                    <a:pt x="1681" y="1531"/>
                  </a:lnTo>
                  <a:lnTo>
                    <a:pt x="1699" y="1513"/>
                  </a:lnTo>
                  <a:lnTo>
                    <a:pt x="1717" y="1501"/>
                  </a:lnTo>
                  <a:lnTo>
                    <a:pt x="1735" y="1483"/>
                  </a:lnTo>
                  <a:lnTo>
                    <a:pt x="1753" y="1471"/>
                  </a:lnTo>
                  <a:lnTo>
                    <a:pt x="1777" y="1453"/>
                  </a:lnTo>
                  <a:lnTo>
                    <a:pt x="1795" y="1435"/>
                  </a:lnTo>
                  <a:lnTo>
                    <a:pt x="1813" y="1423"/>
                  </a:lnTo>
                  <a:lnTo>
                    <a:pt x="1831" y="1405"/>
                  </a:lnTo>
                  <a:lnTo>
                    <a:pt x="1849" y="1393"/>
                  </a:lnTo>
                  <a:lnTo>
                    <a:pt x="1867" y="1375"/>
                  </a:lnTo>
                  <a:lnTo>
                    <a:pt x="1885" y="1363"/>
                  </a:lnTo>
                  <a:lnTo>
                    <a:pt x="1903" y="1345"/>
                  </a:lnTo>
                  <a:lnTo>
                    <a:pt x="1921" y="1327"/>
                  </a:lnTo>
                  <a:lnTo>
                    <a:pt x="1939" y="1315"/>
                  </a:lnTo>
                  <a:lnTo>
                    <a:pt x="1957" y="1297"/>
                  </a:lnTo>
                  <a:lnTo>
                    <a:pt x="1975" y="1285"/>
                  </a:lnTo>
                  <a:lnTo>
                    <a:pt x="1999" y="1267"/>
                  </a:lnTo>
                  <a:lnTo>
                    <a:pt x="2017" y="1255"/>
                  </a:lnTo>
                  <a:lnTo>
                    <a:pt x="2035" y="1237"/>
                  </a:lnTo>
                  <a:lnTo>
                    <a:pt x="2053" y="1219"/>
                  </a:lnTo>
                  <a:lnTo>
                    <a:pt x="2071" y="1207"/>
                  </a:lnTo>
                  <a:lnTo>
                    <a:pt x="2089" y="1189"/>
                  </a:lnTo>
                  <a:lnTo>
                    <a:pt x="2107" y="1177"/>
                  </a:lnTo>
                  <a:lnTo>
                    <a:pt x="2125" y="1159"/>
                  </a:lnTo>
                  <a:lnTo>
                    <a:pt x="2143" y="1147"/>
                  </a:lnTo>
                  <a:lnTo>
                    <a:pt x="2161" y="1129"/>
                  </a:lnTo>
                  <a:lnTo>
                    <a:pt x="2179" y="1111"/>
                  </a:lnTo>
                  <a:lnTo>
                    <a:pt x="2203" y="1099"/>
                  </a:lnTo>
                  <a:lnTo>
                    <a:pt x="2221" y="1081"/>
                  </a:lnTo>
                  <a:lnTo>
                    <a:pt x="2239" y="1069"/>
                  </a:lnTo>
                  <a:lnTo>
                    <a:pt x="2257" y="1051"/>
                  </a:lnTo>
                  <a:lnTo>
                    <a:pt x="2275" y="1039"/>
                  </a:lnTo>
                  <a:lnTo>
                    <a:pt x="2293" y="1020"/>
                  </a:lnTo>
                  <a:lnTo>
                    <a:pt x="2311" y="1002"/>
                  </a:lnTo>
                  <a:lnTo>
                    <a:pt x="2329" y="990"/>
                  </a:lnTo>
                  <a:lnTo>
                    <a:pt x="2347" y="972"/>
                  </a:lnTo>
                  <a:lnTo>
                    <a:pt x="2365" y="960"/>
                  </a:lnTo>
                  <a:lnTo>
                    <a:pt x="2383" y="942"/>
                  </a:lnTo>
                  <a:lnTo>
                    <a:pt x="2407" y="930"/>
                  </a:lnTo>
                  <a:lnTo>
                    <a:pt x="2425" y="912"/>
                  </a:lnTo>
                  <a:lnTo>
                    <a:pt x="2443" y="894"/>
                  </a:lnTo>
                  <a:lnTo>
                    <a:pt x="2461" y="882"/>
                  </a:lnTo>
                  <a:lnTo>
                    <a:pt x="2479" y="864"/>
                  </a:lnTo>
                  <a:lnTo>
                    <a:pt x="2497" y="852"/>
                  </a:lnTo>
                  <a:lnTo>
                    <a:pt x="2515" y="834"/>
                  </a:lnTo>
                  <a:lnTo>
                    <a:pt x="2533" y="822"/>
                  </a:lnTo>
                  <a:lnTo>
                    <a:pt x="2551" y="804"/>
                  </a:lnTo>
                  <a:lnTo>
                    <a:pt x="2569" y="786"/>
                  </a:lnTo>
                  <a:lnTo>
                    <a:pt x="2587" y="774"/>
                  </a:lnTo>
                  <a:lnTo>
                    <a:pt x="2605" y="756"/>
                  </a:lnTo>
                  <a:lnTo>
                    <a:pt x="2629" y="744"/>
                  </a:lnTo>
                  <a:lnTo>
                    <a:pt x="2647" y="726"/>
                  </a:lnTo>
                  <a:lnTo>
                    <a:pt x="2665" y="714"/>
                  </a:lnTo>
                  <a:lnTo>
                    <a:pt x="2683" y="696"/>
                  </a:lnTo>
                  <a:lnTo>
                    <a:pt x="2701" y="678"/>
                  </a:lnTo>
                  <a:lnTo>
                    <a:pt x="2719" y="666"/>
                  </a:lnTo>
                  <a:lnTo>
                    <a:pt x="2737" y="648"/>
                  </a:lnTo>
                  <a:lnTo>
                    <a:pt x="2755" y="636"/>
                  </a:lnTo>
                  <a:lnTo>
                    <a:pt x="2773" y="618"/>
                  </a:lnTo>
                  <a:lnTo>
                    <a:pt x="2791" y="606"/>
                  </a:lnTo>
                  <a:lnTo>
                    <a:pt x="2809" y="588"/>
                  </a:lnTo>
                  <a:lnTo>
                    <a:pt x="2833" y="570"/>
                  </a:lnTo>
                  <a:lnTo>
                    <a:pt x="2851" y="558"/>
                  </a:lnTo>
                  <a:lnTo>
                    <a:pt x="2869" y="540"/>
                  </a:lnTo>
                  <a:lnTo>
                    <a:pt x="2887" y="528"/>
                  </a:lnTo>
                  <a:lnTo>
                    <a:pt x="2905" y="510"/>
                  </a:lnTo>
                  <a:lnTo>
                    <a:pt x="2923" y="498"/>
                  </a:lnTo>
                  <a:lnTo>
                    <a:pt x="2941" y="480"/>
                  </a:lnTo>
                  <a:lnTo>
                    <a:pt x="2959" y="462"/>
                  </a:lnTo>
                  <a:lnTo>
                    <a:pt x="2977" y="450"/>
                  </a:lnTo>
                  <a:lnTo>
                    <a:pt x="2995" y="432"/>
                  </a:lnTo>
                  <a:lnTo>
                    <a:pt x="3013" y="420"/>
                  </a:lnTo>
                  <a:lnTo>
                    <a:pt x="3031" y="402"/>
                  </a:lnTo>
                  <a:lnTo>
                    <a:pt x="3055" y="390"/>
                  </a:lnTo>
                  <a:lnTo>
                    <a:pt x="3073" y="372"/>
                  </a:lnTo>
                  <a:lnTo>
                    <a:pt x="3091" y="354"/>
                  </a:lnTo>
                  <a:lnTo>
                    <a:pt x="3109" y="342"/>
                  </a:lnTo>
                  <a:lnTo>
                    <a:pt x="3127" y="324"/>
                  </a:lnTo>
                  <a:lnTo>
                    <a:pt x="3145" y="312"/>
                  </a:lnTo>
                  <a:lnTo>
                    <a:pt x="3163" y="294"/>
                  </a:lnTo>
                  <a:lnTo>
                    <a:pt x="3181" y="282"/>
                  </a:lnTo>
                  <a:lnTo>
                    <a:pt x="3199" y="264"/>
                  </a:lnTo>
                  <a:lnTo>
                    <a:pt x="3217" y="246"/>
                  </a:lnTo>
                  <a:lnTo>
                    <a:pt x="3235" y="234"/>
                  </a:lnTo>
                  <a:lnTo>
                    <a:pt x="3259" y="216"/>
                  </a:lnTo>
                  <a:lnTo>
                    <a:pt x="3277" y="204"/>
                  </a:lnTo>
                  <a:lnTo>
                    <a:pt x="3295" y="186"/>
                  </a:lnTo>
                  <a:lnTo>
                    <a:pt x="3313" y="174"/>
                  </a:lnTo>
                  <a:lnTo>
                    <a:pt x="3331" y="156"/>
                  </a:lnTo>
                  <a:lnTo>
                    <a:pt x="3349" y="138"/>
                  </a:lnTo>
                  <a:lnTo>
                    <a:pt x="3367" y="126"/>
                  </a:lnTo>
                  <a:lnTo>
                    <a:pt x="3385" y="108"/>
                  </a:lnTo>
                  <a:lnTo>
                    <a:pt x="3403" y="96"/>
                  </a:lnTo>
                  <a:lnTo>
                    <a:pt x="3421" y="78"/>
                  </a:lnTo>
                  <a:lnTo>
                    <a:pt x="3439" y="66"/>
                  </a:lnTo>
                  <a:lnTo>
                    <a:pt x="3457" y="48"/>
                  </a:lnTo>
                  <a:lnTo>
                    <a:pt x="3481" y="30"/>
                  </a:lnTo>
                  <a:lnTo>
                    <a:pt x="3499" y="18"/>
                  </a:lnTo>
                  <a:lnTo>
                    <a:pt x="3517"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70" name=""/>
            <p:cNvSpPr/>
            <p:nvPr/>
          </p:nvSpPr>
          <p:spPr>
            <a:xfrm>
              <a:off x="1859040" y="2089080"/>
              <a:ext cx="2693880" cy="2173320"/>
            </a:xfrm>
            <a:custGeom>
              <a:avLst/>
              <a:gdLst/>
              <a:ahLst/>
              <a:rect l="l" t="t" r="r" b="b"/>
              <a:pathLst>
                <a:path w="2683" h="2233">
                  <a:moveTo>
                    <a:pt x="0" y="2233"/>
                  </a:moveTo>
                  <a:lnTo>
                    <a:pt x="18" y="2215"/>
                  </a:lnTo>
                  <a:lnTo>
                    <a:pt x="36" y="2203"/>
                  </a:lnTo>
                  <a:lnTo>
                    <a:pt x="60" y="2185"/>
                  </a:lnTo>
                  <a:lnTo>
                    <a:pt x="78" y="2167"/>
                  </a:lnTo>
                  <a:lnTo>
                    <a:pt x="96" y="2155"/>
                  </a:lnTo>
                  <a:lnTo>
                    <a:pt x="114" y="2137"/>
                  </a:lnTo>
                  <a:lnTo>
                    <a:pt x="132" y="2125"/>
                  </a:lnTo>
                  <a:lnTo>
                    <a:pt x="150" y="2107"/>
                  </a:lnTo>
                  <a:lnTo>
                    <a:pt x="168" y="2095"/>
                  </a:lnTo>
                  <a:lnTo>
                    <a:pt x="186" y="2077"/>
                  </a:lnTo>
                  <a:lnTo>
                    <a:pt x="204" y="2059"/>
                  </a:lnTo>
                  <a:lnTo>
                    <a:pt x="222" y="2047"/>
                  </a:lnTo>
                  <a:lnTo>
                    <a:pt x="240" y="2029"/>
                  </a:lnTo>
                  <a:lnTo>
                    <a:pt x="258" y="2017"/>
                  </a:lnTo>
                  <a:lnTo>
                    <a:pt x="282" y="1999"/>
                  </a:lnTo>
                  <a:lnTo>
                    <a:pt x="300" y="1987"/>
                  </a:lnTo>
                  <a:lnTo>
                    <a:pt x="318" y="1969"/>
                  </a:lnTo>
                  <a:lnTo>
                    <a:pt x="336" y="1951"/>
                  </a:lnTo>
                  <a:lnTo>
                    <a:pt x="354" y="1939"/>
                  </a:lnTo>
                  <a:lnTo>
                    <a:pt x="372" y="1921"/>
                  </a:lnTo>
                  <a:lnTo>
                    <a:pt x="390" y="1909"/>
                  </a:lnTo>
                  <a:lnTo>
                    <a:pt x="408" y="1891"/>
                  </a:lnTo>
                  <a:lnTo>
                    <a:pt x="426" y="1879"/>
                  </a:lnTo>
                  <a:lnTo>
                    <a:pt x="444" y="1861"/>
                  </a:lnTo>
                  <a:lnTo>
                    <a:pt x="462" y="1843"/>
                  </a:lnTo>
                  <a:lnTo>
                    <a:pt x="486" y="1831"/>
                  </a:lnTo>
                  <a:lnTo>
                    <a:pt x="504" y="1813"/>
                  </a:lnTo>
                  <a:lnTo>
                    <a:pt x="522" y="1801"/>
                  </a:lnTo>
                  <a:lnTo>
                    <a:pt x="540" y="1783"/>
                  </a:lnTo>
                  <a:lnTo>
                    <a:pt x="558" y="1771"/>
                  </a:lnTo>
                  <a:lnTo>
                    <a:pt x="576" y="1753"/>
                  </a:lnTo>
                  <a:lnTo>
                    <a:pt x="594" y="1735"/>
                  </a:lnTo>
                  <a:lnTo>
                    <a:pt x="612" y="1723"/>
                  </a:lnTo>
                  <a:lnTo>
                    <a:pt x="630" y="1705"/>
                  </a:lnTo>
                  <a:lnTo>
                    <a:pt x="648" y="1693"/>
                  </a:lnTo>
                  <a:lnTo>
                    <a:pt x="666" y="1675"/>
                  </a:lnTo>
                  <a:lnTo>
                    <a:pt x="684" y="1663"/>
                  </a:lnTo>
                  <a:lnTo>
                    <a:pt x="708" y="1645"/>
                  </a:lnTo>
                  <a:lnTo>
                    <a:pt x="726" y="1627"/>
                  </a:lnTo>
                  <a:lnTo>
                    <a:pt x="744" y="1615"/>
                  </a:lnTo>
                  <a:lnTo>
                    <a:pt x="762" y="1597"/>
                  </a:lnTo>
                  <a:lnTo>
                    <a:pt x="780" y="1585"/>
                  </a:lnTo>
                  <a:lnTo>
                    <a:pt x="798" y="1567"/>
                  </a:lnTo>
                  <a:lnTo>
                    <a:pt x="816" y="1555"/>
                  </a:lnTo>
                  <a:lnTo>
                    <a:pt x="834" y="1537"/>
                  </a:lnTo>
                  <a:lnTo>
                    <a:pt x="852" y="1519"/>
                  </a:lnTo>
                  <a:lnTo>
                    <a:pt x="870" y="1507"/>
                  </a:lnTo>
                  <a:lnTo>
                    <a:pt x="888" y="1489"/>
                  </a:lnTo>
                  <a:lnTo>
                    <a:pt x="912" y="1477"/>
                  </a:lnTo>
                  <a:lnTo>
                    <a:pt x="930" y="1459"/>
                  </a:lnTo>
                  <a:lnTo>
                    <a:pt x="948" y="1447"/>
                  </a:lnTo>
                  <a:lnTo>
                    <a:pt x="966" y="1429"/>
                  </a:lnTo>
                  <a:lnTo>
                    <a:pt x="984" y="1411"/>
                  </a:lnTo>
                  <a:lnTo>
                    <a:pt x="1002" y="1399"/>
                  </a:lnTo>
                  <a:lnTo>
                    <a:pt x="1020" y="1381"/>
                  </a:lnTo>
                  <a:lnTo>
                    <a:pt x="1038" y="1369"/>
                  </a:lnTo>
                  <a:lnTo>
                    <a:pt x="1056" y="1351"/>
                  </a:lnTo>
                  <a:lnTo>
                    <a:pt x="1074" y="1339"/>
                  </a:lnTo>
                  <a:lnTo>
                    <a:pt x="1092" y="1321"/>
                  </a:lnTo>
                  <a:lnTo>
                    <a:pt x="1116" y="1303"/>
                  </a:lnTo>
                  <a:lnTo>
                    <a:pt x="1134" y="1291"/>
                  </a:lnTo>
                  <a:lnTo>
                    <a:pt x="1152" y="1273"/>
                  </a:lnTo>
                  <a:lnTo>
                    <a:pt x="1170" y="1261"/>
                  </a:lnTo>
                  <a:lnTo>
                    <a:pt x="1188" y="1242"/>
                  </a:lnTo>
                  <a:lnTo>
                    <a:pt x="1206" y="1230"/>
                  </a:lnTo>
                  <a:lnTo>
                    <a:pt x="1224" y="1212"/>
                  </a:lnTo>
                  <a:lnTo>
                    <a:pt x="1242" y="1194"/>
                  </a:lnTo>
                  <a:lnTo>
                    <a:pt x="1260" y="1182"/>
                  </a:lnTo>
                  <a:lnTo>
                    <a:pt x="1278" y="1164"/>
                  </a:lnTo>
                  <a:lnTo>
                    <a:pt x="1296" y="1152"/>
                  </a:lnTo>
                  <a:lnTo>
                    <a:pt x="1314" y="1134"/>
                  </a:lnTo>
                  <a:lnTo>
                    <a:pt x="1338" y="1122"/>
                  </a:lnTo>
                  <a:lnTo>
                    <a:pt x="1356" y="1104"/>
                  </a:lnTo>
                  <a:lnTo>
                    <a:pt x="1374" y="1086"/>
                  </a:lnTo>
                  <a:lnTo>
                    <a:pt x="1392" y="1074"/>
                  </a:lnTo>
                  <a:lnTo>
                    <a:pt x="1410" y="1056"/>
                  </a:lnTo>
                  <a:lnTo>
                    <a:pt x="1428" y="1044"/>
                  </a:lnTo>
                  <a:lnTo>
                    <a:pt x="1446" y="1026"/>
                  </a:lnTo>
                  <a:lnTo>
                    <a:pt x="1464" y="1014"/>
                  </a:lnTo>
                  <a:lnTo>
                    <a:pt x="1482" y="996"/>
                  </a:lnTo>
                  <a:lnTo>
                    <a:pt x="1500" y="978"/>
                  </a:lnTo>
                  <a:lnTo>
                    <a:pt x="1518" y="966"/>
                  </a:lnTo>
                  <a:lnTo>
                    <a:pt x="1542" y="948"/>
                  </a:lnTo>
                  <a:lnTo>
                    <a:pt x="1560" y="936"/>
                  </a:lnTo>
                  <a:lnTo>
                    <a:pt x="1578" y="918"/>
                  </a:lnTo>
                  <a:lnTo>
                    <a:pt x="1596" y="906"/>
                  </a:lnTo>
                  <a:lnTo>
                    <a:pt x="1614" y="888"/>
                  </a:lnTo>
                  <a:lnTo>
                    <a:pt x="1632" y="870"/>
                  </a:lnTo>
                  <a:lnTo>
                    <a:pt x="1650" y="858"/>
                  </a:lnTo>
                  <a:lnTo>
                    <a:pt x="1668" y="840"/>
                  </a:lnTo>
                  <a:lnTo>
                    <a:pt x="1686" y="828"/>
                  </a:lnTo>
                  <a:lnTo>
                    <a:pt x="1704" y="810"/>
                  </a:lnTo>
                  <a:lnTo>
                    <a:pt x="1722" y="798"/>
                  </a:lnTo>
                  <a:lnTo>
                    <a:pt x="1740" y="780"/>
                  </a:lnTo>
                  <a:lnTo>
                    <a:pt x="1765" y="762"/>
                  </a:lnTo>
                  <a:lnTo>
                    <a:pt x="1783" y="750"/>
                  </a:lnTo>
                  <a:lnTo>
                    <a:pt x="1801" y="732"/>
                  </a:lnTo>
                  <a:lnTo>
                    <a:pt x="1819" y="720"/>
                  </a:lnTo>
                  <a:lnTo>
                    <a:pt x="1837" y="702"/>
                  </a:lnTo>
                  <a:lnTo>
                    <a:pt x="1855" y="690"/>
                  </a:lnTo>
                  <a:lnTo>
                    <a:pt x="1873" y="672"/>
                  </a:lnTo>
                  <a:lnTo>
                    <a:pt x="1891" y="654"/>
                  </a:lnTo>
                  <a:lnTo>
                    <a:pt x="1909" y="642"/>
                  </a:lnTo>
                  <a:lnTo>
                    <a:pt x="1927" y="624"/>
                  </a:lnTo>
                  <a:lnTo>
                    <a:pt x="1945" y="612"/>
                  </a:lnTo>
                  <a:lnTo>
                    <a:pt x="1969" y="600"/>
                  </a:lnTo>
                  <a:lnTo>
                    <a:pt x="1987" y="588"/>
                  </a:lnTo>
                  <a:lnTo>
                    <a:pt x="2005" y="570"/>
                  </a:lnTo>
                  <a:lnTo>
                    <a:pt x="2023" y="552"/>
                  </a:lnTo>
                  <a:lnTo>
                    <a:pt x="2041" y="540"/>
                  </a:lnTo>
                  <a:lnTo>
                    <a:pt x="2059" y="522"/>
                  </a:lnTo>
                  <a:lnTo>
                    <a:pt x="2077" y="510"/>
                  </a:lnTo>
                  <a:lnTo>
                    <a:pt x="2095" y="492"/>
                  </a:lnTo>
                  <a:lnTo>
                    <a:pt x="2113" y="480"/>
                  </a:lnTo>
                  <a:lnTo>
                    <a:pt x="2131" y="462"/>
                  </a:lnTo>
                  <a:lnTo>
                    <a:pt x="2149" y="444"/>
                  </a:lnTo>
                  <a:lnTo>
                    <a:pt x="2167" y="432"/>
                  </a:lnTo>
                  <a:lnTo>
                    <a:pt x="2191" y="414"/>
                  </a:lnTo>
                  <a:lnTo>
                    <a:pt x="2209" y="402"/>
                  </a:lnTo>
                  <a:lnTo>
                    <a:pt x="2227" y="384"/>
                  </a:lnTo>
                  <a:lnTo>
                    <a:pt x="2245" y="372"/>
                  </a:lnTo>
                  <a:lnTo>
                    <a:pt x="2263" y="354"/>
                  </a:lnTo>
                  <a:lnTo>
                    <a:pt x="2281" y="336"/>
                  </a:lnTo>
                  <a:lnTo>
                    <a:pt x="2299" y="324"/>
                  </a:lnTo>
                  <a:lnTo>
                    <a:pt x="2317" y="306"/>
                  </a:lnTo>
                  <a:lnTo>
                    <a:pt x="2335" y="294"/>
                  </a:lnTo>
                  <a:lnTo>
                    <a:pt x="2353" y="276"/>
                  </a:lnTo>
                  <a:lnTo>
                    <a:pt x="2371" y="264"/>
                  </a:lnTo>
                  <a:lnTo>
                    <a:pt x="2395" y="246"/>
                  </a:lnTo>
                  <a:lnTo>
                    <a:pt x="2413" y="228"/>
                  </a:lnTo>
                  <a:lnTo>
                    <a:pt x="2431" y="216"/>
                  </a:lnTo>
                  <a:lnTo>
                    <a:pt x="2449" y="198"/>
                  </a:lnTo>
                  <a:lnTo>
                    <a:pt x="2467" y="186"/>
                  </a:lnTo>
                  <a:lnTo>
                    <a:pt x="2485" y="168"/>
                  </a:lnTo>
                  <a:lnTo>
                    <a:pt x="2503" y="156"/>
                  </a:lnTo>
                  <a:lnTo>
                    <a:pt x="2521" y="138"/>
                  </a:lnTo>
                  <a:lnTo>
                    <a:pt x="2539" y="120"/>
                  </a:lnTo>
                  <a:lnTo>
                    <a:pt x="2557" y="108"/>
                  </a:lnTo>
                  <a:lnTo>
                    <a:pt x="2575" y="90"/>
                  </a:lnTo>
                  <a:lnTo>
                    <a:pt x="2599" y="78"/>
                  </a:lnTo>
                  <a:lnTo>
                    <a:pt x="2617" y="60"/>
                  </a:lnTo>
                  <a:lnTo>
                    <a:pt x="2635" y="48"/>
                  </a:lnTo>
                  <a:lnTo>
                    <a:pt x="2653" y="30"/>
                  </a:lnTo>
                  <a:lnTo>
                    <a:pt x="2671" y="12"/>
                  </a:lnTo>
                  <a:lnTo>
                    <a:pt x="2683"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71" name=""/>
            <p:cNvSpPr/>
            <p:nvPr/>
          </p:nvSpPr>
          <p:spPr>
            <a:xfrm>
              <a:off x="4871880" y="4494240"/>
              <a:ext cx="2889360" cy="1766880"/>
            </a:xfrm>
            <a:custGeom>
              <a:avLst/>
              <a:gdLst/>
              <a:ahLst/>
              <a:rect l="l" t="t" r="r" b="b"/>
              <a:pathLst>
                <a:path w="3709" h="2342">
                  <a:moveTo>
                    <a:pt x="0" y="2342"/>
                  </a:moveTo>
                  <a:lnTo>
                    <a:pt x="18" y="2330"/>
                  </a:lnTo>
                  <a:lnTo>
                    <a:pt x="36" y="2318"/>
                  </a:lnTo>
                  <a:lnTo>
                    <a:pt x="60" y="2306"/>
                  </a:lnTo>
                  <a:lnTo>
                    <a:pt x="78" y="2294"/>
                  </a:lnTo>
                  <a:lnTo>
                    <a:pt x="96" y="2282"/>
                  </a:lnTo>
                  <a:lnTo>
                    <a:pt x="114" y="2270"/>
                  </a:lnTo>
                  <a:lnTo>
                    <a:pt x="132" y="2264"/>
                  </a:lnTo>
                  <a:lnTo>
                    <a:pt x="150" y="2252"/>
                  </a:lnTo>
                  <a:lnTo>
                    <a:pt x="168" y="2240"/>
                  </a:lnTo>
                  <a:lnTo>
                    <a:pt x="186" y="2228"/>
                  </a:lnTo>
                  <a:lnTo>
                    <a:pt x="204" y="2216"/>
                  </a:lnTo>
                  <a:lnTo>
                    <a:pt x="222" y="2204"/>
                  </a:lnTo>
                  <a:lnTo>
                    <a:pt x="240" y="2192"/>
                  </a:lnTo>
                  <a:lnTo>
                    <a:pt x="258" y="2180"/>
                  </a:lnTo>
                  <a:lnTo>
                    <a:pt x="282" y="2168"/>
                  </a:lnTo>
                  <a:lnTo>
                    <a:pt x="300" y="2156"/>
                  </a:lnTo>
                  <a:lnTo>
                    <a:pt x="318" y="2144"/>
                  </a:lnTo>
                  <a:lnTo>
                    <a:pt x="336" y="2132"/>
                  </a:lnTo>
                  <a:lnTo>
                    <a:pt x="354" y="2120"/>
                  </a:lnTo>
                  <a:lnTo>
                    <a:pt x="372" y="2108"/>
                  </a:lnTo>
                  <a:lnTo>
                    <a:pt x="390" y="2096"/>
                  </a:lnTo>
                  <a:lnTo>
                    <a:pt x="408" y="2084"/>
                  </a:lnTo>
                  <a:lnTo>
                    <a:pt x="426" y="2072"/>
                  </a:lnTo>
                  <a:lnTo>
                    <a:pt x="444" y="2060"/>
                  </a:lnTo>
                  <a:lnTo>
                    <a:pt x="462" y="2047"/>
                  </a:lnTo>
                  <a:lnTo>
                    <a:pt x="486" y="2035"/>
                  </a:lnTo>
                  <a:lnTo>
                    <a:pt x="504" y="2029"/>
                  </a:lnTo>
                  <a:lnTo>
                    <a:pt x="522" y="2017"/>
                  </a:lnTo>
                  <a:lnTo>
                    <a:pt x="540" y="2005"/>
                  </a:lnTo>
                  <a:lnTo>
                    <a:pt x="558" y="1993"/>
                  </a:lnTo>
                  <a:lnTo>
                    <a:pt x="576" y="1981"/>
                  </a:lnTo>
                  <a:lnTo>
                    <a:pt x="594" y="1969"/>
                  </a:lnTo>
                  <a:lnTo>
                    <a:pt x="612" y="1957"/>
                  </a:lnTo>
                  <a:lnTo>
                    <a:pt x="630" y="1945"/>
                  </a:lnTo>
                  <a:lnTo>
                    <a:pt x="648" y="1933"/>
                  </a:lnTo>
                  <a:lnTo>
                    <a:pt x="666" y="1921"/>
                  </a:lnTo>
                  <a:lnTo>
                    <a:pt x="684" y="1909"/>
                  </a:lnTo>
                  <a:lnTo>
                    <a:pt x="708" y="1897"/>
                  </a:lnTo>
                  <a:lnTo>
                    <a:pt x="726" y="1885"/>
                  </a:lnTo>
                  <a:lnTo>
                    <a:pt x="744" y="1873"/>
                  </a:lnTo>
                  <a:lnTo>
                    <a:pt x="762" y="1861"/>
                  </a:lnTo>
                  <a:lnTo>
                    <a:pt x="780" y="1849"/>
                  </a:lnTo>
                  <a:lnTo>
                    <a:pt x="798" y="1837"/>
                  </a:lnTo>
                  <a:lnTo>
                    <a:pt x="816" y="1825"/>
                  </a:lnTo>
                  <a:lnTo>
                    <a:pt x="834" y="1813"/>
                  </a:lnTo>
                  <a:lnTo>
                    <a:pt x="852" y="1801"/>
                  </a:lnTo>
                  <a:lnTo>
                    <a:pt x="870" y="1789"/>
                  </a:lnTo>
                  <a:lnTo>
                    <a:pt x="888" y="1783"/>
                  </a:lnTo>
                  <a:lnTo>
                    <a:pt x="912" y="1771"/>
                  </a:lnTo>
                  <a:lnTo>
                    <a:pt x="930" y="1759"/>
                  </a:lnTo>
                  <a:lnTo>
                    <a:pt x="948" y="1747"/>
                  </a:lnTo>
                  <a:lnTo>
                    <a:pt x="966" y="1735"/>
                  </a:lnTo>
                  <a:lnTo>
                    <a:pt x="984" y="1723"/>
                  </a:lnTo>
                  <a:lnTo>
                    <a:pt x="1002" y="1711"/>
                  </a:lnTo>
                  <a:lnTo>
                    <a:pt x="1020" y="1699"/>
                  </a:lnTo>
                  <a:lnTo>
                    <a:pt x="1038" y="1687"/>
                  </a:lnTo>
                  <a:lnTo>
                    <a:pt x="1056" y="1675"/>
                  </a:lnTo>
                  <a:lnTo>
                    <a:pt x="1074" y="1663"/>
                  </a:lnTo>
                  <a:lnTo>
                    <a:pt x="1092" y="1651"/>
                  </a:lnTo>
                  <a:lnTo>
                    <a:pt x="1116" y="1639"/>
                  </a:lnTo>
                  <a:lnTo>
                    <a:pt x="1134" y="1627"/>
                  </a:lnTo>
                  <a:lnTo>
                    <a:pt x="1152" y="1615"/>
                  </a:lnTo>
                  <a:lnTo>
                    <a:pt x="1170" y="1603"/>
                  </a:lnTo>
                  <a:lnTo>
                    <a:pt x="1188" y="1591"/>
                  </a:lnTo>
                  <a:lnTo>
                    <a:pt x="1206" y="1579"/>
                  </a:lnTo>
                  <a:lnTo>
                    <a:pt x="1224" y="1567"/>
                  </a:lnTo>
                  <a:lnTo>
                    <a:pt x="1242" y="1555"/>
                  </a:lnTo>
                  <a:lnTo>
                    <a:pt x="1260" y="1549"/>
                  </a:lnTo>
                  <a:lnTo>
                    <a:pt x="1278" y="1537"/>
                  </a:lnTo>
                  <a:lnTo>
                    <a:pt x="1296" y="1525"/>
                  </a:lnTo>
                  <a:lnTo>
                    <a:pt x="1314" y="1513"/>
                  </a:lnTo>
                  <a:lnTo>
                    <a:pt x="1338" y="1501"/>
                  </a:lnTo>
                  <a:lnTo>
                    <a:pt x="1356" y="1489"/>
                  </a:lnTo>
                  <a:lnTo>
                    <a:pt x="1374" y="1477"/>
                  </a:lnTo>
                  <a:lnTo>
                    <a:pt x="1392" y="1465"/>
                  </a:lnTo>
                  <a:lnTo>
                    <a:pt x="1410" y="1453"/>
                  </a:lnTo>
                  <a:lnTo>
                    <a:pt x="1428" y="1441"/>
                  </a:lnTo>
                  <a:lnTo>
                    <a:pt x="1446" y="1429"/>
                  </a:lnTo>
                  <a:lnTo>
                    <a:pt x="1464" y="1417"/>
                  </a:lnTo>
                  <a:lnTo>
                    <a:pt x="1482" y="1405"/>
                  </a:lnTo>
                  <a:lnTo>
                    <a:pt x="1500" y="1393"/>
                  </a:lnTo>
                  <a:lnTo>
                    <a:pt x="1518" y="1381"/>
                  </a:lnTo>
                  <a:lnTo>
                    <a:pt x="1542" y="1369"/>
                  </a:lnTo>
                  <a:lnTo>
                    <a:pt x="1560" y="1357"/>
                  </a:lnTo>
                  <a:lnTo>
                    <a:pt x="1578" y="1345"/>
                  </a:lnTo>
                  <a:lnTo>
                    <a:pt x="1596" y="1333"/>
                  </a:lnTo>
                  <a:lnTo>
                    <a:pt x="1614" y="1321"/>
                  </a:lnTo>
                  <a:lnTo>
                    <a:pt x="1632" y="1315"/>
                  </a:lnTo>
                  <a:lnTo>
                    <a:pt x="1650" y="1303"/>
                  </a:lnTo>
                  <a:lnTo>
                    <a:pt x="1668" y="1291"/>
                  </a:lnTo>
                  <a:lnTo>
                    <a:pt x="1686" y="1279"/>
                  </a:lnTo>
                  <a:lnTo>
                    <a:pt x="1704" y="1267"/>
                  </a:lnTo>
                  <a:lnTo>
                    <a:pt x="1722" y="1255"/>
                  </a:lnTo>
                  <a:lnTo>
                    <a:pt x="1740" y="1243"/>
                  </a:lnTo>
                  <a:lnTo>
                    <a:pt x="1765" y="1231"/>
                  </a:lnTo>
                  <a:lnTo>
                    <a:pt x="1783" y="1219"/>
                  </a:lnTo>
                  <a:lnTo>
                    <a:pt x="1801" y="1207"/>
                  </a:lnTo>
                  <a:lnTo>
                    <a:pt x="1819" y="1195"/>
                  </a:lnTo>
                  <a:lnTo>
                    <a:pt x="1837" y="1183"/>
                  </a:lnTo>
                  <a:lnTo>
                    <a:pt x="1855" y="1171"/>
                  </a:lnTo>
                  <a:lnTo>
                    <a:pt x="1873" y="1159"/>
                  </a:lnTo>
                  <a:lnTo>
                    <a:pt x="1891" y="1147"/>
                  </a:lnTo>
                  <a:lnTo>
                    <a:pt x="1909" y="1135"/>
                  </a:lnTo>
                  <a:lnTo>
                    <a:pt x="1927" y="1123"/>
                  </a:lnTo>
                  <a:lnTo>
                    <a:pt x="1945" y="1111"/>
                  </a:lnTo>
                  <a:lnTo>
                    <a:pt x="1969" y="1099"/>
                  </a:lnTo>
                  <a:lnTo>
                    <a:pt x="1987" y="1087"/>
                  </a:lnTo>
                  <a:lnTo>
                    <a:pt x="2005" y="1081"/>
                  </a:lnTo>
                  <a:lnTo>
                    <a:pt x="2023" y="1069"/>
                  </a:lnTo>
                  <a:lnTo>
                    <a:pt x="2041" y="1057"/>
                  </a:lnTo>
                  <a:lnTo>
                    <a:pt x="2059" y="1045"/>
                  </a:lnTo>
                  <a:lnTo>
                    <a:pt x="2077" y="1033"/>
                  </a:lnTo>
                  <a:lnTo>
                    <a:pt x="2095" y="1021"/>
                  </a:lnTo>
                  <a:lnTo>
                    <a:pt x="2113" y="1009"/>
                  </a:lnTo>
                  <a:lnTo>
                    <a:pt x="2131" y="997"/>
                  </a:lnTo>
                  <a:lnTo>
                    <a:pt x="2149" y="985"/>
                  </a:lnTo>
                  <a:lnTo>
                    <a:pt x="2167" y="973"/>
                  </a:lnTo>
                  <a:lnTo>
                    <a:pt x="2191" y="961"/>
                  </a:lnTo>
                  <a:lnTo>
                    <a:pt x="2209" y="949"/>
                  </a:lnTo>
                  <a:lnTo>
                    <a:pt x="2227" y="937"/>
                  </a:lnTo>
                  <a:lnTo>
                    <a:pt x="2245" y="925"/>
                  </a:lnTo>
                  <a:lnTo>
                    <a:pt x="2263" y="913"/>
                  </a:lnTo>
                  <a:lnTo>
                    <a:pt x="2281" y="901"/>
                  </a:lnTo>
                  <a:lnTo>
                    <a:pt x="2299" y="889"/>
                  </a:lnTo>
                  <a:lnTo>
                    <a:pt x="2317" y="877"/>
                  </a:lnTo>
                  <a:lnTo>
                    <a:pt x="2335" y="865"/>
                  </a:lnTo>
                  <a:lnTo>
                    <a:pt x="2353" y="853"/>
                  </a:lnTo>
                  <a:lnTo>
                    <a:pt x="2371" y="847"/>
                  </a:lnTo>
                  <a:lnTo>
                    <a:pt x="2395" y="835"/>
                  </a:lnTo>
                  <a:lnTo>
                    <a:pt x="2413" y="823"/>
                  </a:lnTo>
                  <a:lnTo>
                    <a:pt x="2431" y="811"/>
                  </a:lnTo>
                  <a:lnTo>
                    <a:pt x="2449" y="799"/>
                  </a:lnTo>
                  <a:lnTo>
                    <a:pt x="2467" y="787"/>
                  </a:lnTo>
                  <a:lnTo>
                    <a:pt x="2485" y="775"/>
                  </a:lnTo>
                  <a:lnTo>
                    <a:pt x="2503" y="763"/>
                  </a:lnTo>
                  <a:lnTo>
                    <a:pt x="2521" y="750"/>
                  </a:lnTo>
                  <a:lnTo>
                    <a:pt x="2539" y="738"/>
                  </a:lnTo>
                  <a:lnTo>
                    <a:pt x="2557" y="726"/>
                  </a:lnTo>
                  <a:lnTo>
                    <a:pt x="2575" y="714"/>
                  </a:lnTo>
                  <a:lnTo>
                    <a:pt x="2599" y="702"/>
                  </a:lnTo>
                  <a:lnTo>
                    <a:pt x="2617" y="690"/>
                  </a:lnTo>
                  <a:lnTo>
                    <a:pt x="2635" y="678"/>
                  </a:lnTo>
                  <a:lnTo>
                    <a:pt x="2653" y="666"/>
                  </a:lnTo>
                  <a:lnTo>
                    <a:pt x="2671" y="654"/>
                  </a:lnTo>
                  <a:lnTo>
                    <a:pt x="2689" y="642"/>
                  </a:lnTo>
                  <a:lnTo>
                    <a:pt x="2707" y="630"/>
                  </a:lnTo>
                  <a:lnTo>
                    <a:pt x="2725" y="618"/>
                  </a:lnTo>
                  <a:lnTo>
                    <a:pt x="2743" y="612"/>
                  </a:lnTo>
                  <a:lnTo>
                    <a:pt x="2761" y="600"/>
                  </a:lnTo>
                  <a:lnTo>
                    <a:pt x="2779" y="588"/>
                  </a:lnTo>
                  <a:lnTo>
                    <a:pt x="2797" y="576"/>
                  </a:lnTo>
                  <a:lnTo>
                    <a:pt x="2821" y="564"/>
                  </a:lnTo>
                  <a:lnTo>
                    <a:pt x="2839" y="552"/>
                  </a:lnTo>
                  <a:lnTo>
                    <a:pt x="2857" y="540"/>
                  </a:lnTo>
                  <a:lnTo>
                    <a:pt x="2875" y="528"/>
                  </a:lnTo>
                  <a:lnTo>
                    <a:pt x="2893" y="516"/>
                  </a:lnTo>
                  <a:lnTo>
                    <a:pt x="2911" y="504"/>
                  </a:lnTo>
                  <a:lnTo>
                    <a:pt x="2929" y="492"/>
                  </a:lnTo>
                  <a:lnTo>
                    <a:pt x="2947" y="480"/>
                  </a:lnTo>
                  <a:lnTo>
                    <a:pt x="2965" y="468"/>
                  </a:lnTo>
                  <a:lnTo>
                    <a:pt x="2983" y="456"/>
                  </a:lnTo>
                  <a:lnTo>
                    <a:pt x="3001" y="444"/>
                  </a:lnTo>
                  <a:lnTo>
                    <a:pt x="3025" y="432"/>
                  </a:lnTo>
                  <a:lnTo>
                    <a:pt x="3043" y="420"/>
                  </a:lnTo>
                  <a:lnTo>
                    <a:pt x="3061" y="408"/>
                  </a:lnTo>
                  <a:lnTo>
                    <a:pt x="3079" y="396"/>
                  </a:lnTo>
                  <a:lnTo>
                    <a:pt x="3097" y="384"/>
                  </a:lnTo>
                  <a:lnTo>
                    <a:pt x="3115" y="378"/>
                  </a:lnTo>
                  <a:lnTo>
                    <a:pt x="3133" y="366"/>
                  </a:lnTo>
                  <a:lnTo>
                    <a:pt x="3151" y="354"/>
                  </a:lnTo>
                  <a:lnTo>
                    <a:pt x="3169" y="342"/>
                  </a:lnTo>
                  <a:lnTo>
                    <a:pt x="3187" y="330"/>
                  </a:lnTo>
                  <a:lnTo>
                    <a:pt x="3205" y="318"/>
                  </a:lnTo>
                  <a:lnTo>
                    <a:pt x="3223" y="306"/>
                  </a:lnTo>
                  <a:lnTo>
                    <a:pt x="3247" y="294"/>
                  </a:lnTo>
                  <a:lnTo>
                    <a:pt x="3265" y="282"/>
                  </a:lnTo>
                  <a:lnTo>
                    <a:pt x="3283" y="270"/>
                  </a:lnTo>
                  <a:lnTo>
                    <a:pt x="3301" y="258"/>
                  </a:lnTo>
                  <a:lnTo>
                    <a:pt x="3319" y="246"/>
                  </a:lnTo>
                  <a:lnTo>
                    <a:pt x="3337" y="234"/>
                  </a:lnTo>
                  <a:lnTo>
                    <a:pt x="3355" y="222"/>
                  </a:lnTo>
                  <a:lnTo>
                    <a:pt x="3373" y="210"/>
                  </a:lnTo>
                  <a:lnTo>
                    <a:pt x="3391" y="198"/>
                  </a:lnTo>
                  <a:lnTo>
                    <a:pt x="3409" y="186"/>
                  </a:lnTo>
                  <a:lnTo>
                    <a:pt x="3427" y="174"/>
                  </a:lnTo>
                  <a:lnTo>
                    <a:pt x="3451" y="162"/>
                  </a:lnTo>
                  <a:lnTo>
                    <a:pt x="3469" y="150"/>
                  </a:lnTo>
                  <a:lnTo>
                    <a:pt x="3487" y="144"/>
                  </a:lnTo>
                  <a:lnTo>
                    <a:pt x="3505" y="132"/>
                  </a:lnTo>
                  <a:lnTo>
                    <a:pt x="3523" y="120"/>
                  </a:lnTo>
                  <a:lnTo>
                    <a:pt x="3541" y="108"/>
                  </a:lnTo>
                  <a:lnTo>
                    <a:pt x="3559" y="96"/>
                  </a:lnTo>
                  <a:lnTo>
                    <a:pt x="3577" y="84"/>
                  </a:lnTo>
                  <a:lnTo>
                    <a:pt x="3595" y="72"/>
                  </a:lnTo>
                  <a:lnTo>
                    <a:pt x="3613" y="60"/>
                  </a:lnTo>
                  <a:lnTo>
                    <a:pt x="3631" y="48"/>
                  </a:lnTo>
                  <a:lnTo>
                    <a:pt x="3649" y="36"/>
                  </a:lnTo>
                  <a:lnTo>
                    <a:pt x="3673" y="24"/>
                  </a:lnTo>
                  <a:lnTo>
                    <a:pt x="3691" y="12"/>
                  </a:lnTo>
                  <a:lnTo>
                    <a:pt x="370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72" name=""/>
            <p:cNvSpPr/>
            <p:nvPr/>
          </p:nvSpPr>
          <p:spPr>
            <a:xfrm>
              <a:off x="1855800" y="2098800"/>
              <a:ext cx="2881440" cy="1766880"/>
            </a:xfrm>
            <a:custGeom>
              <a:avLst/>
              <a:gdLst/>
              <a:ahLst/>
              <a:rect l="l" t="t" r="r" b="b"/>
              <a:pathLst>
                <a:path w="3091" h="1951">
                  <a:moveTo>
                    <a:pt x="0" y="1951"/>
                  </a:moveTo>
                  <a:lnTo>
                    <a:pt x="18" y="1939"/>
                  </a:lnTo>
                  <a:lnTo>
                    <a:pt x="36" y="1927"/>
                  </a:lnTo>
                  <a:lnTo>
                    <a:pt x="60" y="1915"/>
                  </a:lnTo>
                  <a:lnTo>
                    <a:pt x="78" y="1903"/>
                  </a:lnTo>
                  <a:lnTo>
                    <a:pt x="96" y="1891"/>
                  </a:lnTo>
                  <a:lnTo>
                    <a:pt x="114" y="1879"/>
                  </a:lnTo>
                  <a:lnTo>
                    <a:pt x="132" y="1867"/>
                  </a:lnTo>
                  <a:lnTo>
                    <a:pt x="150" y="1855"/>
                  </a:lnTo>
                  <a:lnTo>
                    <a:pt x="168" y="1843"/>
                  </a:lnTo>
                  <a:lnTo>
                    <a:pt x="186" y="1831"/>
                  </a:lnTo>
                  <a:lnTo>
                    <a:pt x="204" y="1819"/>
                  </a:lnTo>
                  <a:lnTo>
                    <a:pt x="222" y="1807"/>
                  </a:lnTo>
                  <a:lnTo>
                    <a:pt x="240" y="1801"/>
                  </a:lnTo>
                  <a:lnTo>
                    <a:pt x="258" y="1789"/>
                  </a:lnTo>
                  <a:lnTo>
                    <a:pt x="282" y="1777"/>
                  </a:lnTo>
                  <a:lnTo>
                    <a:pt x="300" y="1765"/>
                  </a:lnTo>
                  <a:lnTo>
                    <a:pt x="318" y="1753"/>
                  </a:lnTo>
                  <a:lnTo>
                    <a:pt x="336" y="1741"/>
                  </a:lnTo>
                  <a:lnTo>
                    <a:pt x="354" y="1729"/>
                  </a:lnTo>
                  <a:lnTo>
                    <a:pt x="372" y="1717"/>
                  </a:lnTo>
                  <a:lnTo>
                    <a:pt x="390" y="1705"/>
                  </a:lnTo>
                  <a:lnTo>
                    <a:pt x="408" y="1693"/>
                  </a:lnTo>
                  <a:lnTo>
                    <a:pt x="426" y="1681"/>
                  </a:lnTo>
                  <a:lnTo>
                    <a:pt x="444" y="1669"/>
                  </a:lnTo>
                  <a:lnTo>
                    <a:pt x="462" y="1657"/>
                  </a:lnTo>
                  <a:lnTo>
                    <a:pt x="486" y="1645"/>
                  </a:lnTo>
                  <a:lnTo>
                    <a:pt x="504" y="1633"/>
                  </a:lnTo>
                  <a:lnTo>
                    <a:pt x="522" y="1621"/>
                  </a:lnTo>
                  <a:lnTo>
                    <a:pt x="540" y="1609"/>
                  </a:lnTo>
                  <a:lnTo>
                    <a:pt x="558" y="1597"/>
                  </a:lnTo>
                  <a:lnTo>
                    <a:pt x="576" y="1585"/>
                  </a:lnTo>
                  <a:lnTo>
                    <a:pt x="594" y="1573"/>
                  </a:lnTo>
                  <a:lnTo>
                    <a:pt x="612" y="1567"/>
                  </a:lnTo>
                  <a:lnTo>
                    <a:pt x="630" y="1555"/>
                  </a:lnTo>
                  <a:lnTo>
                    <a:pt x="648" y="1543"/>
                  </a:lnTo>
                  <a:lnTo>
                    <a:pt x="666" y="1531"/>
                  </a:lnTo>
                  <a:lnTo>
                    <a:pt x="684" y="1519"/>
                  </a:lnTo>
                  <a:lnTo>
                    <a:pt x="708" y="1507"/>
                  </a:lnTo>
                  <a:lnTo>
                    <a:pt x="726" y="1495"/>
                  </a:lnTo>
                  <a:lnTo>
                    <a:pt x="744" y="1483"/>
                  </a:lnTo>
                  <a:lnTo>
                    <a:pt x="762" y="1471"/>
                  </a:lnTo>
                  <a:lnTo>
                    <a:pt x="780" y="1459"/>
                  </a:lnTo>
                  <a:lnTo>
                    <a:pt x="798" y="1447"/>
                  </a:lnTo>
                  <a:lnTo>
                    <a:pt x="816" y="1435"/>
                  </a:lnTo>
                  <a:lnTo>
                    <a:pt x="834" y="1423"/>
                  </a:lnTo>
                  <a:lnTo>
                    <a:pt x="852" y="1411"/>
                  </a:lnTo>
                  <a:lnTo>
                    <a:pt x="870" y="1399"/>
                  </a:lnTo>
                  <a:lnTo>
                    <a:pt x="888" y="1387"/>
                  </a:lnTo>
                  <a:lnTo>
                    <a:pt x="912" y="1375"/>
                  </a:lnTo>
                  <a:lnTo>
                    <a:pt x="930" y="1363"/>
                  </a:lnTo>
                  <a:lnTo>
                    <a:pt x="948" y="1351"/>
                  </a:lnTo>
                  <a:lnTo>
                    <a:pt x="966" y="1339"/>
                  </a:lnTo>
                  <a:lnTo>
                    <a:pt x="984" y="1333"/>
                  </a:lnTo>
                  <a:lnTo>
                    <a:pt x="1002" y="1321"/>
                  </a:lnTo>
                  <a:lnTo>
                    <a:pt x="1020" y="1309"/>
                  </a:lnTo>
                  <a:lnTo>
                    <a:pt x="1038" y="1297"/>
                  </a:lnTo>
                  <a:lnTo>
                    <a:pt x="1056" y="1285"/>
                  </a:lnTo>
                  <a:lnTo>
                    <a:pt x="1074" y="1273"/>
                  </a:lnTo>
                  <a:lnTo>
                    <a:pt x="1092" y="1261"/>
                  </a:lnTo>
                  <a:lnTo>
                    <a:pt x="1116" y="1248"/>
                  </a:lnTo>
                  <a:lnTo>
                    <a:pt x="1134" y="1236"/>
                  </a:lnTo>
                  <a:lnTo>
                    <a:pt x="1152" y="1224"/>
                  </a:lnTo>
                  <a:lnTo>
                    <a:pt x="1170" y="1212"/>
                  </a:lnTo>
                  <a:lnTo>
                    <a:pt x="1188" y="1200"/>
                  </a:lnTo>
                  <a:lnTo>
                    <a:pt x="1206" y="1188"/>
                  </a:lnTo>
                  <a:lnTo>
                    <a:pt x="1224" y="1176"/>
                  </a:lnTo>
                  <a:lnTo>
                    <a:pt x="1242" y="1164"/>
                  </a:lnTo>
                  <a:lnTo>
                    <a:pt x="1260" y="1152"/>
                  </a:lnTo>
                  <a:lnTo>
                    <a:pt x="1278" y="1140"/>
                  </a:lnTo>
                  <a:lnTo>
                    <a:pt x="1296" y="1128"/>
                  </a:lnTo>
                  <a:lnTo>
                    <a:pt x="1314" y="1116"/>
                  </a:lnTo>
                  <a:lnTo>
                    <a:pt x="1338" y="1104"/>
                  </a:lnTo>
                  <a:lnTo>
                    <a:pt x="1356" y="1098"/>
                  </a:lnTo>
                  <a:lnTo>
                    <a:pt x="1374" y="1086"/>
                  </a:lnTo>
                  <a:lnTo>
                    <a:pt x="1392" y="1074"/>
                  </a:lnTo>
                  <a:lnTo>
                    <a:pt x="1410" y="1062"/>
                  </a:lnTo>
                  <a:lnTo>
                    <a:pt x="1428" y="1050"/>
                  </a:lnTo>
                  <a:lnTo>
                    <a:pt x="1446" y="1038"/>
                  </a:lnTo>
                  <a:lnTo>
                    <a:pt x="1464" y="1026"/>
                  </a:lnTo>
                  <a:lnTo>
                    <a:pt x="1482" y="1014"/>
                  </a:lnTo>
                  <a:lnTo>
                    <a:pt x="1500" y="1002"/>
                  </a:lnTo>
                  <a:lnTo>
                    <a:pt x="1518" y="990"/>
                  </a:lnTo>
                  <a:lnTo>
                    <a:pt x="1542" y="978"/>
                  </a:lnTo>
                  <a:lnTo>
                    <a:pt x="1560" y="966"/>
                  </a:lnTo>
                  <a:lnTo>
                    <a:pt x="1578" y="954"/>
                  </a:lnTo>
                  <a:lnTo>
                    <a:pt x="1596" y="942"/>
                  </a:lnTo>
                  <a:lnTo>
                    <a:pt x="1614" y="930"/>
                  </a:lnTo>
                  <a:lnTo>
                    <a:pt x="1632" y="918"/>
                  </a:lnTo>
                  <a:lnTo>
                    <a:pt x="1650" y="906"/>
                  </a:lnTo>
                  <a:lnTo>
                    <a:pt x="1668" y="894"/>
                  </a:lnTo>
                  <a:lnTo>
                    <a:pt x="1686" y="882"/>
                  </a:lnTo>
                  <a:lnTo>
                    <a:pt x="1704" y="870"/>
                  </a:lnTo>
                  <a:lnTo>
                    <a:pt x="1722" y="864"/>
                  </a:lnTo>
                  <a:lnTo>
                    <a:pt x="1740" y="852"/>
                  </a:lnTo>
                  <a:lnTo>
                    <a:pt x="1765" y="840"/>
                  </a:lnTo>
                  <a:lnTo>
                    <a:pt x="1783" y="828"/>
                  </a:lnTo>
                  <a:lnTo>
                    <a:pt x="1801" y="816"/>
                  </a:lnTo>
                  <a:lnTo>
                    <a:pt x="1819" y="804"/>
                  </a:lnTo>
                  <a:lnTo>
                    <a:pt x="1837" y="792"/>
                  </a:lnTo>
                  <a:lnTo>
                    <a:pt x="1855" y="780"/>
                  </a:lnTo>
                  <a:lnTo>
                    <a:pt x="1873" y="768"/>
                  </a:lnTo>
                  <a:lnTo>
                    <a:pt x="1891" y="756"/>
                  </a:lnTo>
                  <a:lnTo>
                    <a:pt x="1909" y="744"/>
                  </a:lnTo>
                  <a:lnTo>
                    <a:pt x="1927" y="732"/>
                  </a:lnTo>
                  <a:lnTo>
                    <a:pt x="1945" y="720"/>
                  </a:lnTo>
                  <a:lnTo>
                    <a:pt x="1969" y="708"/>
                  </a:lnTo>
                  <a:lnTo>
                    <a:pt x="1987" y="696"/>
                  </a:lnTo>
                  <a:lnTo>
                    <a:pt x="2005" y="684"/>
                  </a:lnTo>
                  <a:lnTo>
                    <a:pt x="2023" y="672"/>
                  </a:lnTo>
                  <a:lnTo>
                    <a:pt x="2041" y="660"/>
                  </a:lnTo>
                  <a:lnTo>
                    <a:pt x="2059" y="648"/>
                  </a:lnTo>
                  <a:lnTo>
                    <a:pt x="2077" y="636"/>
                  </a:lnTo>
                  <a:lnTo>
                    <a:pt x="2095" y="630"/>
                  </a:lnTo>
                  <a:lnTo>
                    <a:pt x="2113" y="618"/>
                  </a:lnTo>
                  <a:lnTo>
                    <a:pt x="2131" y="606"/>
                  </a:lnTo>
                  <a:lnTo>
                    <a:pt x="2149" y="600"/>
                  </a:lnTo>
                  <a:lnTo>
                    <a:pt x="2167" y="588"/>
                  </a:lnTo>
                  <a:lnTo>
                    <a:pt x="2191" y="576"/>
                  </a:lnTo>
                  <a:lnTo>
                    <a:pt x="2209" y="564"/>
                  </a:lnTo>
                  <a:lnTo>
                    <a:pt x="2227" y="552"/>
                  </a:lnTo>
                  <a:lnTo>
                    <a:pt x="2245" y="540"/>
                  </a:lnTo>
                  <a:lnTo>
                    <a:pt x="2263" y="528"/>
                  </a:lnTo>
                  <a:lnTo>
                    <a:pt x="2281" y="516"/>
                  </a:lnTo>
                  <a:lnTo>
                    <a:pt x="2299" y="504"/>
                  </a:lnTo>
                  <a:lnTo>
                    <a:pt x="2317" y="492"/>
                  </a:lnTo>
                  <a:lnTo>
                    <a:pt x="2335" y="480"/>
                  </a:lnTo>
                  <a:lnTo>
                    <a:pt x="2353" y="468"/>
                  </a:lnTo>
                  <a:lnTo>
                    <a:pt x="2371" y="456"/>
                  </a:lnTo>
                  <a:lnTo>
                    <a:pt x="2395" y="444"/>
                  </a:lnTo>
                  <a:lnTo>
                    <a:pt x="2413" y="432"/>
                  </a:lnTo>
                  <a:lnTo>
                    <a:pt x="2431" y="420"/>
                  </a:lnTo>
                  <a:lnTo>
                    <a:pt x="2449" y="408"/>
                  </a:lnTo>
                  <a:lnTo>
                    <a:pt x="2467" y="402"/>
                  </a:lnTo>
                  <a:lnTo>
                    <a:pt x="2485" y="390"/>
                  </a:lnTo>
                  <a:lnTo>
                    <a:pt x="2503" y="378"/>
                  </a:lnTo>
                  <a:lnTo>
                    <a:pt x="2521" y="366"/>
                  </a:lnTo>
                  <a:lnTo>
                    <a:pt x="2539" y="354"/>
                  </a:lnTo>
                  <a:lnTo>
                    <a:pt x="2557" y="342"/>
                  </a:lnTo>
                  <a:lnTo>
                    <a:pt x="2575" y="330"/>
                  </a:lnTo>
                  <a:lnTo>
                    <a:pt x="2599" y="318"/>
                  </a:lnTo>
                  <a:lnTo>
                    <a:pt x="2617" y="306"/>
                  </a:lnTo>
                  <a:lnTo>
                    <a:pt x="2635" y="294"/>
                  </a:lnTo>
                  <a:lnTo>
                    <a:pt x="2653" y="282"/>
                  </a:lnTo>
                  <a:lnTo>
                    <a:pt x="2671" y="270"/>
                  </a:lnTo>
                  <a:lnTo>
                    <a:pt x="2689" y="258"/>
                  </a:lnTo>
                  <a:lnTo>
                    <a:pt x="2707" y="246"/>
                  </a:lnTo>
                  <a:lnTo>
                    <a:pt x="2725" y="234"/>
                  </a:lnTo>
                  <a:lnTo>
                    <a:pt x="2743" y="222"/>
                  </a:lnTo>
                  <a:lnTo>
                    <a:pt x="2761" y="210"/>
                  </a:lnTo>
                  <a:lnTo>
                    <a:pt x="2779" y="198"/>
                  </a:lnTo>
                  <a:lnTo>
                    <a:pt x="2797" y="186"/>
                  </a:lnTo>
                  <a:lnTo>
                    <a:pt x="2821" y="174"/>
                  </a:lnTo>
                  <a:lnTo>
                    <a:pt x="2839" y="168"/>
                  </a:lnTo>
                  <a:lnTo>
                    <a:pt x="2857" y="156"/>
                  </a:lnTo>
                  <a:lnTo>
                    <a:pt x="2875" y="144"/>
                  </a:lnTo>
                  <a:lnTo>
                    <a:pt x="2893" y="132"/>
                  </a:lnTo>
                  <a:lnTo>
                    <a:pt x="2911" y="120"/>
                  </a:lnTo>
                  <a:lnTo>
                    <a:pt x="2929" y="108"/>
                  </a:lnTo>
                  <a:lnTo>
                    <a:pt x="2947" y="96"/>
                  </a:lnTo>
                  <a:lnTo>
                    <a:pt x="2965" y="84"/>
                  </a:lnTo>
                  <a:lnTo>
                    <a:pt x="2983" y="72"/>
                  </a:lnTo>
                  <a:lnTo>
                    <a:pt x="3001" y="60"/>
                  </a:lnTo>
                  <a:lnTo>
                    <a:pt x="3025" y="48"/>
                  </a:lnTo>
                  <a:lnTo>
                    <a:pt x="3043" y="36"/>
                  </a:lnTo>
                  <a:lnTo>
                    <a:pt x="3061" y="24"/>
                  </a:lnTo>
                  <a:lnTo>
                    <a:pt x="3079" y="12"/>
                  </a:lnTo>
                  <a:lnTo>
                    <a:pt x="3091"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73" name=""/>
            <p:cNvSpPr/>
            <p:nvPr/>
          </p:nvSpPr>
          <p:spPr>
            <a:xfrm>
              <a:off x="4838760" y="4753080"/>
              <a:ext cx="2925720" cy="1492200"/>
            </a:xfrm>
            <a:custGeom>
              <a:avLst/>
              <a:gdLst/>
              <a:ahLst/>
              <a:rect l="l" t="t" r="r" b="b"/>
              <a:pathLst>
                <a:path w="3709" h="1952">
                  <a:moveTo>
                    <a:pt x="0" y="1952"/>
                  </a:moveTo>
                  <a:lnTo>
                    <a:pt x="18" y="1946"/>
                  </a:lnTo>
                  <a:lnTo>
                    <a:pt x="36" y="1934"/>
                  </a:lnTo>
                  <a:lnTo>
                    <a:pt x="60" y="1922"/>
                  </a:lnTo>
                  <a:lnTo>
                    <a:pt x="78" y="1916"/>
                  </a:lnTo>
                  <a:lnTo>
                    <a:pt x="96" y="1904"/>
                  </a:lnTo>
                  <a:lnTo>
                    <a:pt x="114" y="1892"/>
                  </a:lnTo>
                  <a:lnTo>
                    <a:pt x="132" y="1886"/>
                  </a:lnTo>
                  <a:lnTo>
                    <a:pt x="150" y="1873"/>
                  </a:lnTo>
                  <a:lnTo>
                    <a:pt x="168" y="1867"/>
                  </a:lnTo>
                  <a:lnTo>
                    <a:pt x="186" y="1855"/>
                  </a:lnTo>
                  <a:lnTo>
                    <a:pt x="204" y="1843"/>
                  </a:lnTo>
                  <a:lnTo>
                    <a:pt x="222" y="1837"/>
                  </a:lnTo>
                  <a:lnTo>
                    <a:pt x="240" y="1825"/>
                  </a:lnTo>
                  <a:lnTo>
                    <a:pt x="258" y="1813"/>
                  </a:lnTo>
                  <a:lnTo>
                    <a:pt x="282" y="1807"/>
                  </a:lnTo>
                  <a:lnTo>
                    <a:pt x="300" y="1795"/>
                  </a:lnTo>
                  <a:lnTo>
                    <a:pt x="318" y="1789"/>
                  </a:lnTo>
                  <a:lnTo>
                    <a:pt x="336" y="1777"/>
                  </a:lnTo>
                  <a:lnTo>
                    <a:pt x="354" y="1765"/>
                  </a:lnTo>
                  <a:lnTo>
                    <a:pt x="372" y="1759"/>
                  </a:lnTo>
                  <a:lnTo>
                    <a:pt x="390" y="1747"/>
                  </a:lnTo>
                  <a:lnTo>
                    <a:pt x="408" y="1741"/>
                  </a:lnTo>
                  <a:lnTo>
                    <a:pt x="426" y="1729"/>
                  </a:lnTo>
                  <a:lnTo>
                    <a:pt x="444" y="1717"/>
                  </a:lnTo>
                  <a:lnTo>
                    <a:pt x="462" y="1711"/>
                  </a:lnTo>
                  <a:lnTo>
                    <a:pt x="486" y="1699"/>
                  </a:lnTo>
                  <a:lnTo>
                    <a:pt x="504" y="1687"/>
                  </a:lnTo>
                  <a:lnTo>
                    <a:pt x="522" y="1681"/>
                  </a:lnTo>
                  <a:lnTo>
                    <a:pt x="540" y="1669"/>
                  </a:lnTo>
                  <a:lnTo>
                    <a:pt x="558" y="1663"/>
                  </a:lnTo>
                  <a:lnTo>
                    <a:pt x="576" y="1651"/>
                  </a:lnTo>
                  <a:lnTo>
                    <a:pt x="594" y="1639"/>
                  </a:lnTo>
                  <a:lnTo>
                    <a:pt x="612" y="1633"/>
                  </a:lnTo>
                  <a:lnTo>
                    <a:pt x="630" y="1621"/>
                  </a:lnTo>
                  <a:lnTo>
                    <a:pt x="648" y="1609"/>
                  </a:lnTo>
                  <a:lnTo>
                    <a:pt x="666" y="1603"/>
                  </a:lnTo>
                  <a:lnTo>
                    <a:pt x="684" y="1591"/>
                  </a:lnTo>
                  <a:lnTo>
                    <a:pt x="708" y="1585"/>
                  </a:lnTo>
                  <a:lnTo>
                    <a:pt x="726" y="1573"/>
                  </a:lnTo>
                  <a:lnTo>
                    <a:pt x="744" y="1561"/>
                  </a:lnTo>
                  <a:lnTo>
                    <a:pt x="762" y="1555"/>
                  </a:lnTo>
                  <a:lnTo>
                    <a:pt x="780" y="1543"/>
                  </a:lnTo>
                  <a:lnTo>
                    <a:pt x="798" y="1531"/>
                  </a:lnTo>
                  <a:lnTo>
                    <a:pt x="816" y="1525"/>
                  </a:lnTo>
                  <a:lnTo>
                    <a:pt x="834" y="1513"/>
                  </a:lnTo>
                  <a:lnTo>
                    <a:pt x="852" y="1507"/>
                  </a:lnTo>
                  <a:lnTo>
                    <a:pt x="870" y="1495"/>
                  </a:lnTo>
                  <a:lnTo>
                    <a:pt x="888" y="1483"/>
                  </a:lnTo>
                  <a:lnTo>
                    <a:pt x="912" y="1477"/>
                  </a:lnTo>
                  <a:lnTo>
                    <a:pt x="930" y="1465"/>
                  </a:lnTo>
                  <a:lnTo>
                    <a:pt x="948" y="1453"/>
                  </a:lnTo>
                  <a:lnTo>
                    <a:pt x="966" y="1447"/>
                  </a:lnTo>
                  <a:lnTo>
                    <a:pt x="984" y="1435"/>
                  </a:lnTo>
                  <a:lnTo>
                    <a:pt x="1002" y="1429"/>
                  </a:lnTo>
                  <a:lnTo>
                    <a:pt x="1020" y="1417"/>
                  </a:lnTo>
                  <a:lnTo>
                    <a:pt x="1038" y="1405"/>
                  </a:lnTo>
                  <a:lnTo>
                    <a:pt x="1056" y="1399"/>
                  </a:lnTo>
                  <a:lnTo>
                    <a:pt x="1074" y="1387"/>
                  </a:lnTo>
                  <a:lnTo>
                    <a:pt x="1092" y="1375"/>
                  </a:lnTo>
                  <a:lnTo>
                    <a:pt x="1116" y="1369"/>
                  </a:lnTo>
                  <a:lnTo>
                    <a:pt x="1134" y="1357"/>
                  </a:lnTo>
                  <a:lnTo>
                    <a:pt x="1152" y="1351"/>
                  </a:lnTo>
                  <a:lnTo>
                    <a:pt x="1170" y="1339"/>
                  </a:lnTo>
                  <a:lnTo>
                    <a:pt x="1188" y="1327"/>
                  </a:lnTo>
                  <a:lnTo>
                    <a:pt x="1206" y="1321"/>
                  </a:lnTo>
                  <a:lnTo>
                    <a:pt x="1224" y="1309"/>
                  </a:lnTo>
                  <a:lnTo>
                    <a:pt x="1242" y="1297"/>
                  </a:lnTo>
                  <a:lnTo>
                    <a:pt x="1260" y="1291"/>
                  </a:lnTo>
                  <a:lnTo>
                    <a:pt x="1278" y="1279"/>
                  </a:lnTo>
                  <a:lnTo>
                    <a:pt x="1296" y="1273"/>
                  </a:lnTo>
                  <a:lnTo>
                    <a:pt x="1314" y="1261"/>
                  </a:lnTo>
                  <a:lnTo>
                    <a:pt x="1338" y="1249"/>
                  </a:lnTo>
                  <a:lnTo>
                    <a:pt x="1356" y="1243"/>
                  </a:lnTo>
                  <a:lnTo>
                    <a:pt x="1374" y="1231"/>
                  </a:lnTo>
                  <a:lnTo>
                    <a:pt x="1392" y="1219"/>
                  </a:lnTo>
                  <a:lnTo>
                    <a:pt x="1410" y="1213"/>
                  </a:lnTo>
                  <a:lnTo>
                    <a:pt x="1428" y="1201"/>
                  </a:lnTo>
                  <a:lnTo>
                    <a:pt x="1446" y="1195"/>
                  </a:lnTo>
                  <a:lnTo>
                    <a:pt x="1464" y="1183"/>
                  </a:lnTo>
                  <a:lnTo>
                    <a:pt x="1482" y="1171"/>
                  </a:lnTo>
                  <a:lnTo>
                    <a:pt x="1500" y="1165"/>
                  </a:lnTo>
                  <a:lnTo>
                    <a:pt x="1518" y="1153"/>
                  </a:lnTo>
                  <a:lnTo>
                    <a:pt x="1542" y="1141"/>
                  </a:lnTo>
                  <a:lnTo>
                    <a:pt x="1560" y="1135"/>
                  </a:lnTo>
                  <a:lnTo>
                    <a:pt x="1578" y="1123"/>
                  </a:lnTo>
                  <a:lnTo>
                    <a:pt x="1596" y="1117"/>
                  </a:lnTo>
                  <a:lnTo>
                    <a:pt x="1614" y="1105"/>
                  </a:lnTo>
                  <a:lnTo>
                    <a:pt x="1632" y="1093"/>
                  </a:lnTo>
                  <a:lnTo>
                    <a:pt x="1650" y="1087"/>
                  </a:lnTo>
                  <a:lnTo>
                    <a:pt x="1668" y="1075"/>
                  </a:lnTo>
                  <a:lnTo>
                    <a:pt x="1686" y="1063"/>
                  </a:lnTo>
                  <a:lnTo>
                    <a:pt x="1704" y="1057"/>
                  </a:lnTo>
                  <a:lnTo>
                    <a:pt x="1722" y="1045"/>
                  </a:lnTo>
                  <a:lnTo>
                    <a:pt x="1740" y="1039"/>
                  </a:lnTo>
                  <a:lnTo>
                    <a:pt x="1765" y="1027"/>
                  </a:lnTo>
                  <a:lnTo>
                    <a:pt x="1783" y="1015"/>
                  </a:lnTo>
                  <a:lnTo>
                    <a:pt x="1801" y="1009"/>
                  </a:lnTo>
                  <a:lnTo>
                    <a:pt x="1819" y="997"/>
                  </a:lnTo>
                  <a:lnTo>
                    <a:pt x="1837" y="985"/>
                  </a:lnTo>
                  <a:lnTo>
                    <a:pt x="1855" y="979"/>
                  </a:lnTo>
                  <a:lnTo>
                    <a:pt x="1873" y="967"/>
                  </a:lnTo>
                  <a:lnTo>
                    <a:pt x="1891" y="961"/>
                  </a:lnTo>
                  <a:lnTo>
                    <a:pt x="1909" y="949"/>
                  </a:lnTo>
                  <a:lnTo>
                    <a:pt x="1927" y="937"/>
                  </a:lnTo>
                  <a:lnTo>
                    <a:pt x="1945" y="931"/>
                  </a:lnTo>
                  <a:lnTo>
                    <a:pt x="1969" y="919"/>
                  </a:lnTo>
                  <a:lnTo>
                    <a:pt x="1987" y="907"/>
                  </a:lnTo>
                  <a:lnTo>
                    <a:pt x="2005" y="901"/>
                  </a:lnTo>
                  <a:lnTo>
                    <a:pt x="2023" y="889"/>
                  </a:lnTo>
                  <a:lnTo>
                    <a:pt x="2041" y="883"/>
                  </a:lnTo>
                  <a:lnTo>
                    <a:pt x="2059" y="871"/>
                  </a:lnTo>
                  <a:lnTo>
                    <a:pt x="2077" y="859"/>
                  </a:lnTo>
                  <a:lnTo>
                    <a:pt x="2095" y="853"/>
                  </a:lnTo>
                  <a:lnTo>
                    <a:pt x="2113" y="841"/>
                  </a:lnTo>
                  <a:lnTo>
                    <a:pt x="2131" y="829"/>
                  </a:lnTo>
                  <a:lnTo>
                    <a:pt x="2149" y="823"/>
                  </a:lnTo>
                  <a:lnTo>
                    <a:pt x="2167" y="811"/>
                  </a:lnTo>
                  <a:lnTo>
                    <a:pt x="2191" y="805"/>
                  </a:lnTo>
                  <a:lnTo>
                    <a:pt x="2209" y="793"/>
                  </a:lnTo>
                  <a:lnTo>
                    <a:pt x="2227" y="781"/>
                  </a:lnTo>
                  <a:lnTo>
                    <a:pt x="2245" y="775"/>
                  </a:lnTo>
                  <a:lnTo>
                    <a:pt x="2263" y="763"/>
                  </a:lnTo>
                  <a:lnTo>
                    <a:pt x="2281" y="751"/>
                  </a:lnTo>
                  <a:lnTo>
                    <a:pt x="2299" y="745"/>
                  </a:lnTo>
                  <a:lnTo>
                    <a:pt x="2317" y="733"/>
                  </a:lnTo>
                  <a:lnTo>
                    <a:pt x="2335" y="727"/>
                  </a:lnTo>
                  <a:lnTo>
                    <a:pt x="2353" y="715"/>
                  </a:lnTo>
                  <a:lnTo>
                    <a:pt x="2371" y="703"/>
                  </a:lnTo>
                  <a:lnTo>
                    <a:pt x="2395" y="697"/>
                  </a:lnTo>
                  <a:lnTo>
                    <a:pt x="2413" y="685"/>
                  </a:lnTo>
                  <a:lnTo>
                    <a:pt x="2431" y="673"/>
                  </a:lnTo>
                  <a:lnTo>
                    <a:pt x="2449" y="667"/>
                  </a:lnTo>
                  <a:lnTo>
                    <a:pt x="2467" y="655"/>
                  </a:lnTo>
                  <a:lnTo>
                    <a:pt x="2485" y="649"/>
                  </a:lnTo>
                  <a:lnTo>
                    <a:pt x="2503" y="637"/>
                  </a:lnTo>
                  <a:lnTo>
                    <a:pt x="2521" y="625"/>
                  </a:lnTo>
                  <a:lnTo>
                    <a:pt x="2539" y="619"/>
                  </a:lnTo>
                  <a:lnTo>
                    <a:pt x="2557" y="607"/>
                  </a:lnTo>
                  <a:lnTo>
                    <a:pt x="2575" y="595"/>
                  </a:lnTo>
                  <a:lnTo>
                    <a:pt x="2599" y="589"/>
                  </a:lnTo>
                  <a:lnTo>
                    <a:pt x="2617" y="576"/>
                  </a:lnTo>
                  <a:lnTo>
                    <a:pt x="2635" y="570"/>
                  </a:lnTo>
                  <a:lnTo>
                    <a:pt x="2653" y="558"/>
                  </a:lnTo>
                  <a:lnTo>
                    <a:pt x="2671" y="546"/>
                  </a:lnTo>
                  <a:lnTo>
                    <a:pt x="2689" y="540"/>
                  </a:lnTo>
                  <a:lnTo>
                    <a:pt x="2707" y="528"/>
                  </a:lnTo>
                  <a:lnTo>
                    <a:pt x="2725" y="516"/>
                  </a:lnTo>
                  <a:lnTo>
                    <a:pt x="2743" y="510"/>
                  </a:lnTo>
                  <a:lnTo>
                    <a:pt x="2761" y="498"/>
                  </a:lnTo>
                  <a:lnTo>
                    <a:pt x="2779" y="492"/>
                  </a:lnTo>
                  <a:lnTo>
                    <a:pt x="2797" y="480"/>
                  </a:lnTo>
                  <a:lnTo>
                    <a:pt x="2821" y="468"/>
                  </a:lnTo>
                  <a:lnTo>
                    <a:pt x="2839" y="462"/>
                  </a:lnTo>
                  <a:lnTo>
                    <a:pt x="2857" y="450"/>
                  </a:lnTo>
                  <a:lnTo>
                    <a:pt x="2875" y="438"/>
                  </a:lnTo>
                  <a:lnTo>
                    <a:pt x="2893" y="432"/>
                  </a:lnTo>
                  <a:lnTo>
                    <a:pt x="2911" y="420"/>
                  </a:lnTo>
                  <a:lnTo>
                    <a:pt x="2929" y="414"/>
                  </a:lnTo>
                  <a:lnTo>
                    <a:pt x="2947" y="402"/>
                  </a:lnTo>
                  <a:lnTo>
                    <a:pt x="2965" y="390"/>
                  </a:lnTo>
                  <a:lnTo>
                    <a:pt x="2983" y="384"/>
                  </a:lnTo>
                  <a:lnTo>
                    <a:pt x="3001" y="372"/>
                  </a:lnTo>
                  <a:lnTo>
                    <a:pt x="3025" y="360"/>
                  </a:lnTo>
                  <a:lnTo>
                    <a:pt x="3043" y="354"/>
                  </a:lnTo>
                  <a:lnTo>
                    <a:pt x="3061" y="342"/>
                  </a:lnTo>
                  <a:lnTo>
                    <a:pt x="3079" y="336"/>
                  </a:lnTo>
                  <a:lnTo>
                    <a:pt x="3097" y="324"/>
                  </a:lnTo>
                  <a:lnTo>
                    <a:pt x="3115" y="312"/>
                  </a:lnTo>
                  <a:lnTo>
                    <a:pt x="3133" y="306"/>
                  </a:lnTo>
                  <a:lnTo>
                    <a:pt x="3151" y="294"/>
                  </a:lnTo>
                  <a:lnTo>
                    <a:pt x="3169" y="282"/>
                  </a:lnTo>
                  <a:lnTo>
                    <a:pt x="3187" y="276"/>
                  </a:lnTo>
                  <a:lnTo>
                    <a:pt x="3205" y="264"/>
                  </a:lnTo>
                  <a:lnTo>
                    <a:pt x="3223" y="258"/>
                  </a:lnTo>
                  <a:lnTo>
                    <a:pt x="3247" y="246"/>
                  </a:lnTo>
                  <a:lnTo>
                    <a:pt x="3265" y="234"/>
                  </a:lnTo>
                  <a:lnTo>
                    <a:pt x="3283" y="228"/>
                  </a:lnTo>
                  <a:lnTo>
                    <a:pt x="3301" y="216"/>
                  </a:lnTo>
                  <a:lnTo>
                    <a:pt x="3319" y="204"/>
                  </a:lnTo>
                  <a:lnTo>
                    <a:pt x="3337" y="198"/>
                  </a:lnTo>
                  <a:lnTo>
                    <a:pt x="3355" y="186"/>
                  </a:lnTo>
                  <a:lnTo>
                    <a:pt x="3373" y="180"/>
                  </a:lnTo>
                  <a:lnTo>
                    <a:pt x="3391" y="168"/>
                  </a:lnTo>
                  <a:lnTo>
                    <a:pt x="3409" y="156"/>
                  </a:lnTo>
                  <a:lnTo>
                    <a:pt x="3427" y="150"/>
                  </a:lnTo>
                  <a:lnTo>
                    <a:pt x="3451" y="138"/>
                  </a:lnTo>
                  <a:lnTo>
                    <a:pt x="3469" y="126"/>
                  </a:lnTo>
                  <a:lnTo>
                    <a:pt x="3487" y="120"/>
                  </a:lnTo>
                  <a:lnTo>
                    <a:pt x="3505" y="108"/>
                  </a:lnTo>
                  <a:lnTo>
                    <a:pt x="3523" y="102"/>
                  </a:lnTo>
                  <a:lnTo>
                    <a:pt x="3541" y="90"/>
                  </a:lnTo>
                  <a:lnTo>
                    <a:pt x="3559" y="78"/>
                  </a:lnTo>
                  <a:lnTo>
                    <a:pt x="3577" y="72"/>
                  </a:lnTo>
                  <a:lnTo>
                    <a:pt x="3595" y="60"/>
                  </a:lnTo>
                  <a:lnTo>
                    <a:pt x="3613" y="48"/>
                  </a:lnTo>
                  <a:lnTo>
                    <a:pt x="3631" y="42"/>
                  </a:lnTo>
                  <a:lnTo>
                    <a:pt x="3649" y="30"/>
                  </a:lnTo>
                  <a:lnTo>
                    <a:pt x="3673" y="24"/>
                  </a:lnTo>
                  <a:lnTo>
                    <a:pt x="3691" y="12"/>
                  </a:lnTo>
                  <a:lnTo>
                    <a:pt x="370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74" name=""/>
            <p:cNvSpPr/>
            <p:nvPr/>
          </p:nvSpPr>
          <p:spPr>
            <a:xfrm>
              <a:off x="1860480" y="2101680"/>
              <a:ext cx="2938680" cy="1497240"/>
            </a:xfrm>
            <a:custGeom>
              <a:avLst/>
              <a:gdLst/>
              <a:ahLst/>
              <a:rect l="l" t="t" r="r" b="b"/>
              <a:pathLst>
                <a:path w="3379" h="1777">
                  <a:moveTo>
                    <a:pt x="0" y="1777"/>
                  </a:moveTo>
                  <a:lnTo>
                    <a:pt x="18" y="1765"/>
                  </a:lnTo>
                  <a:lnTo>
                    <a:pt x="36" y="1753"/>
                  </a:lnTo>
                  <a:lnTo>
                    <a:pt x="60" y="1747"/>
                  </a:lnTo>
                  <a:lnTo>
                    <a:pt x="78" y="1735"/>
                  </a:lnTo>
                  <a:lnTo>
                    <a:pt x="96" y="1729"/>
                  </a:lnTo>
                  <a:lnTo>
                    <a:pt x="114" y="1717"/>
                  </a:lnTo>
                  <a:lnTo>
                    <a:pt x="132" y="1705"/>
                  </a:lnTo>
                  <a:lnTo>
                    <a:pt x="150" y="1699"/>
                  </a:lnTo>
                  <a:lnTo>
                    <a:pt x="168" y="1687"/>
                  </a:lnTo>
                  <a:lnTo>
                    <a:pt x="186" y="1675"/>
                  </a:lnTo>
                  <a:lnTo>
                    <a:pt x="204" y="1669"/>
                  </a:lnTo>
                  <a:lnTo>
                    <a:pt x="222" y="1657"/>
                  </a:lnTo>
                  <a:lnTo>
                    <a:pt x="240" y="1651"/>
                  </a:lnTo>
                  <a:lnTo>
                    <a:pt x="258" y="1639"/>
                  </a:lnTo>
                  <a:lnTo>
                    <a:pt x="282" y="1627"/>
                  </a:lnTo>
                  <a:lnTo>
                    <a:pt x="300" y="1621"/>
                  </a:lnTo>
                  <a:lnTo>
                    <a:pt x="318" y="1609"/>
                  </a:lnTo>
                  <a:lnTo>
                    <a:pt x="336" y="1597"/>
                  </a:lnTo>
                  <a:lnTo>
                    <a:pt x="354" y="1591"/>
                  </a:lnTo>
                  <a:lnTo>
                    <a:pt x="372" y="1579"/>
                  </a:lnTo>
                  <a:lnTo>
                    <a:pt x="390" y="1573"/>
                  </a:lnTo>
                  <a:lnTo>
                    <a:pt x="408" y="1561"/>
                  </a:lnTo>
                  <a:lnTo>
                    <a:pt x="426" y="1549"/>
                  </a:lnTo>
                  <a:lnTo>
                    <a:pt x="444" y="1543"/>
                  </a:lnTo>
                  <a:lnTo>
                    <a:pt x="462" y="1531"/>
                  </a:lnTo>
                  <a:lnTo>
                    <a:pt x="486" y="1519"/>
                  </a:lnTo>
                  <a:lnTo>
                    <a:pt x="504" y="1513"/>
                  </a:lnTo>
                  <a:lnTo>
                    <a:pt x="522" y="1501"/>
                  </a:lnTo>
                  <a:lnTo>
                    <a:pt x="540" y="1495"/>
                  </a:lnTo>
                  <a:lnTo>
                    <a:pt x="558" y="1483"/>
                  </a:lnTo>
                  <a:lnTo>
                    <a:pt x="576" y="1471"/>
                  </a:lnTo>
                  <a:lnTo>
                    <a:pt x="594" y="1465"/>
                  </a:lnTo>
                  <a:lnTo>
                    <a:pt x="612" y="1453"/>
                  </a:lnTo>
                  <a:lnTo>
                    <a:pt x="630" y="1441"/>
                  </a:lnTo>
                  <a:lnTo>
                    <a:pt x="648" y="1435"/>
                  </a:lnTo>
                  <a:lnTo>
                    <a:pt x="666" y="1423"/>
                  </a:lnTo>
                  <a:lnTo>
                    <a:pt x="684" y="1417"/>
                  </a:lnTo>
                  <a:lnTo>
                    <a:pt x="708" y="1405"/>
                  </a:lnTo>
                  <a:lnTo>
                    <a:pt x="726" y="1393"/>
                  </a:lnTo>
                  <a:lnTo>
                    <a:pt x="744" y="1387"/>
                  </a:lnTo>
                  <a:lnTo>
                    <a:pt x="762" y="1375"/>
                  </a:lnTo>
                  <a:lnTo>
                    <a:pt x="780" y="1363"/>
                  </a:lnTo>
                  <a:lnTo>
                    <a:pt x="798" y="1357"/>
                  </a:lnTo>
                  <a:lnTo>
                    <a:pt x="816" y="1345"/>
                  </a:lnTo>
                  <a:lnTo>
                    <a:pt x="834" y="1339"/>
                  </a:lnTo>
                  <a:lnTo>
                    <a:pt x="852" y="1327"/>
                  </a:lnTo>
                  <a:lnTo>
                    <a:pt x="870" y="1315"/>
                  </a:lnTo>
                  <a:lnTo>
                    <a:pt x="888" y="1309"/>
                  </a:lnTo>
                  <a:lnTo>
                    <a:pt x="912" y="1297"/>
                  </a:lnTo>
                  <a:lnTo>
                    <a:pt x="930" y="1285"/>
                  </a:lnTo>
                  <a:lnTo>
                    <a:pt x="948" y="1279"/>
                  </a:lnTo>
                  <a:lnTo>
                    <a:pt x="966" y="1267"/>
                  </a:lnTo>
                  <a:lnTo>
                    <a:pt x="984" y="1261"/>
                  </a:lnTo>
                  <a:lnTo>
                    <a:pt x="1002" y="1248"/>
                  </a:lnTo>
                  <a:lnTo>
                    <a:pt x="1020" y="1236"/>
                  </a:lnTo>
                  <a:lnTo>
                    <a:pt x="1038" y="1230"/>
                  </a:lnTo>
                  <a:lnTo>
                    <a:pt x="1056" y="1218"/>
                  </a:lnTo>
                  <a:lnTo>
                    <a:pt x="1074" y="1206"/>
                  </a:lnTo>
                  <a:lnTo>
                    <a:pt x="1092" y="1200"/>
                  </a:lnTo>
                  <a:lnTo>
                    <a:pt x="1116" y="1188"/>
                  </a:lnTo>
                  <a:lnTo>
                    <a:pt x="1134" y="1182"/>
                  </a:lnTo>
                  <a:lnTo>
                    <a:pt x="1152" y="1170"/>
                  </a:lnTo>
                  <a:lnTo>
                    <a:pt x="1170" y="1158"/>
                  </a:lnTo>
                  <a:lnTo>
                    <a:pt x="1188" y="1152"/>
                  </a:lnTo>
                  <a:lnTo>
                    <a:pt x="1206" y="1140"/>
                  </a:lnTo>
                  <a:lnTo>
                    <a:pt x="1224" y="1128"/>
                  </a:lnTo>
                  <a:lnTo>
                    <a:pt x="1242" y="1122"/>
                  </a:lnTo>
                  <a:lnTo>
                    <a:pt x="1260" y="1110"/>
                  </a:lnTo>
                  <a:lnTo>
                    <a:pt x="1278" y="1104"/>
                  </a:lnTo>
                  <a:lnTo>
                    <a:pt x="1296" y="1092"/>
                  </a:lnTo>
                  <a:lnTo>
                    <a:pt x="1314" y="1080"/>
                  </a:lnTo>
                  <a:lnTo>
                    <a:pt x="1338" y="1074"/>
                  </a:lnTo>
                  <a:lnTo>
                    <a:pt x="1356" y="1062"/>
                  </a:lnTo>
                  <a:lnTo>
                    <a:pt x="1374" y="1050"/>
                  </a:lnTo>
                  <a:lnTo>
                    <a:pt x="1392" y="1044"/>
                  </a:lnTo>
                  <a:lnTo>
                    <a:pt x="1410" y="1032"/>
                  </a:lnTo>
                  <a:lnTo>
                    <a:pt x="1428" y="1026"/>
                  </a:lnTo>
                  <a:lnTo>
                    <a:pt x="1446" y="1014"/>
                  </a:lnTo>
                  <a:lnTo>
                    <a:pt x="1464" y="1002"/>
                  </a:lnTo>
                  <a:lnTo>
                    <a:pt x="1482" y="996"/>
                  </a:lnTo>
                  <a:lnTo>
                    <a:pt x="1500" y="984"/>
                  </a:lnTo>
                  <a:lnTo>
                    <a:pt x="1518" y="972"/>
                  </a:lnTo>
                  <a:lnTo>
                    <a:pt x="1542" y="966"/>
                  </a:lnTo>
                  <a:lnTo>
                    <a:pt x="1560" y="954"/>
                  </a:lnTo>
                  <a:lnTo>
                    <a:pt x="1578" y="948"/>
                  </a:lnTo>
                  <a:lnTo>
                    <a:pt x="1596" y="936"/>
                  </a:lnTo>
                  <a:lnTo>
                    <a:pt x="1614" y="924"/>
                  </a:lnTo>
                  <a:lnTo>
                    <a:pt x="1632" y="918"/>
                  </a:lnTo>
                  <a:lnTo>
                    <a:pt x="1650" y="906"/>
                  </a:lnTo>
                  <a:lnTo>
                    <a:pt x="1668" y="894"/>
                  </a:lnTo>
                  <a:lnTo>
                    <a:pt x="1686" y="888"/>
                  </a:lnTo>
                  <a:lnTo>
                    <a:pt x="1704" y="876"/>
                  </a:lnTo>
                  <a:lnTo>
                    <a:pt x="1722" y="870"/>
                  </a:lnTo>
                  <a:lnTo>
                    <a:pt x="1740" y="858"/>
                  </a:lnTo>
                  <a:lnTo>
                    <a:pt x="1765" y="846"/>
                  </a:lnTo>
                  <a:lnTo>
                    <a:pt x="1783" y="840"/>
                  </a:lnTo>
                  <a:lnTo>
                    <a:pt x="1801" y="828"/>
                  </a:lnTo>
                  <a:lnTo>
                    <a:pt x="1819" y="816"/>
                  </a:lnTo>
                  <a:lnTo>
                    <a:pt x="1837" y="810"/>
                  </a:lnTo>
                  <a:lnTo>
                    <a:pt x="1855" y="798"/>
                  </a:lnTo>
                  <a:lnTo>
                    <a:pt x="1873" y="792"/>
                  </a:lnTo>
                  <a:lnTo>
                    <a:pt x="1891" y="780"/>
                  </a:lnTo>
                  <a:lnTo>
                    <a:pt x="1909" y="768"/>
                  </a:lnTo>
                  <a:lnTo>
                    <a:pt x="1927" y="762"/>
                  </a:lnTo>
                  <a:lnTo>
                    <a:pt x="1945" y="750"/>
                  </a:lnTo>
                  <a:lnTo>
                    <a:pt x="1969" y="738"/>
                  </a:lnTo>
                  <a:lnTo>
                    <a:pt x="1987" y="732"/>
                  </a:lnTo>
                  <a:lnTo>
                    <a:pt x="2005" y="720"/>
                  </a:lnTo>
                  <a:lnTo>
                    <a:pt x="2023" y="714"/>
                  </a:lnTo>
                  <a:lnTo>
                    <a:pt x="2041" y="702"/>
                  </a:lnTo>
                  <a:lnTo>
                    <a:pt x="2059" y="690"/>
                  </a:lnTo>
                  <a:lnTo>
                    <a:pt x="2077" y="684"/>
                  </a:lnTo>
                  <a:lnTo>
                    <a:pt x="2095" y="672"/>
                  </a:lnTo>
                  <a:lnTo>
                    <a:pt x="2113" y="660"/>
                  </a:lnTo>
                  <a:lnTo>
                    <a:pt x="2131" y="654"/>
                  </a:lnTo>
                  <a:lnTo>
                    <a:pt x="2149" y="642"/>
                  </a:lnTo>
                  <a:lnTo>
                    <a:pt x="2167" y="636"/>
                  </a:lnTo>
                  <a:lnTo>
                    <a:pt x="2191" y="624"/>
                  </a:lnTo>
                  <a:lnTo>
                    <a:pt x="2209" y="612"/>
                  </a:lnTo>
                  <a:lnTo>
                    <a:pt x="2227" y="606"/>
                  </a:lnTo>
                  <a:lnTo>
                    <a:pt x="2245" y="600"/>
                  </a:lnTo>
                  <a:lnTo>
                    <a:pt x="2263" y="588"/>
                  </a:lnTo>
                  <a:lnTo>
                    <a:pt x="2281" y="582"/>
                  </a:lnTo>
                  <a:lnTo>
                    <a:pt x="2299" y="570"/>
                  </a:lnTo>
                  <a:lnTo>
                    <a:pt x="2317" y="564"/>
                  </a:lnTo>
                  <a:lnTo>
                    <a:pt x="2335" y="552"/>
                  </a:lnTo>
                  <a:lnTo>
                    <a:pt x="2353" y="540"/>
                  </a:lnTo>
                  <a:lnTo>
                    <a:pt x="2371" y="534"/>
                  </a:lnTo>
                  <a:lnTo>
                    <a:pt x="2395" y="522"/>
                  </a:lnTo>
                  <a:lnTo>
                    <a:pt x="2413" y="510"/>
                  </a:lnTo>
                  <a:lnTo>
                    <a:pt x="2431" y="504"/>
                  </a:lnTo>
                  <a:lnTo>
                    <a:pt x="2449" y="492"/>
                  </a:lnTo>
                  <a:lnTo>
                    <a:pt x="2467" y="486"/>
                  </a:lnTo>
                  <a:lnTo>
                    <a:pt x="2485" y="474"/>
                  </a:lnTo>
                  <a:lnTo>
                    <a:pt x="2503" y="462"/>
                  </a:lnTo>
                  <a:lnTo>
                    <a:pt x="2521" y="456"/>
                  </a:lnTo>
                  <a:lnTo>
                    <a:pt x="2539" y="444"/>
                  </a:lnTo>
                  <a:lnTo>
                    <a:pt x="2557" y="432"/>
                  </a:lnTo>
                  <a:lnTo>
                    <a:pt x="2575" y="426"/>
                  </a:lnTo>
                  <a:lnTo>
                    <a:pt x="2599" y="414"/>
                  </a:lnTo>
                  <a:lnTo>
                    <a:pt x="2617" y="408"/>
                  </a:lnTo>
                  <a:lnTo>
                    <a:pt x="2635" y="396"/>
                  </a:lnTo>
                  <a:lnTo>
                    <a:pt x="2653" y="384"/>
                  </a:lnTo>
                  <a:lnTo>
                    <a:pt x="2671" y="378"/>
                  </a:lnTo>
                  <a:lnTo>
                    <a:pt x="2689" y="366"/>
                  </a:lnTo>
                  <a:lnTo>
                    <a:pt x="2707" y="354"/>
                  </a:lnTo>
                  <a:lnTo>
                    <a:pt x="2725" y="348"/>
                  </a:lnTo>
                  <a:lnTo>
                    <a:pt x="2743" y="336"/>
                  </a:lnTo>
                  <a:lnTo>
                    <a:pt x="2761" y="330"/>
                  </a:lnTo>
                  <a:lnTo>
                    <a:pt x="2779" y="318"/>
                  </a:lnTo>
                  <a:lnTo>
                    <a:pt x="2797" y="306"/>
                  </a:lnTo>
                  <a:lnTo>
                    <a:pt x="2821" y="300"/>
                  </a:lnTo>
                  <a:lnTo>
                    <a:pt x="2839" y="288"/>
                  </a:lnTo>
                  <a:lnTo>
                    <a:pt x="2857" y="276"/>
                  </a:lnTo>
                  <a:lnTo>
                    <a:pt x="2875" y="270"/>
                  </a:lnTo>
                  <a:lnTo>
                    <a:pt x="2893" y="258"/>
                  </a:lnTo>
                  <a:lnTo>
                    <a:pt x="2911" y="252"/>
                  </a:lnTo>
                  <a:lnTo>
                    <a:pt x="2929" y="240"/>
                  </a:lnTo>
                  <a:lnTo>
                    <a:pt x="2947" y="228"/>
                  </a:lnTo>
                  <a:lnTo>
                    <a:pt x="2965" y="222"/>
                  </a:lnTo>
                  <a:lnTo>
                    <a:pt x="2983" y="210"/>
                  </a:lnTo>
                  <a:lnTo>
                    <a:pt x="3001" y="198"/>
                  </a:lnTo>
                  <a:lnTo>
                    <a:pt x="3025" y="192"/>
                  </a:lnTo>
                  <a:lnTo>
                    <a:pt x="3043" y="180"/>
                  </a:lnTo>
                  <a:lnTo>
                    <a:pt x="3061" y="174"/>
                  </a:lnTo>
                  <a:lnTo>
                    <a:pt x="3079" y="162"/>
                  </a:lnTo>
                  <a:lnTo>
                    <a:pt x="3097" y="150"/>
                  </a:lnTo>
                  <a:lnTo>
                    <a:pt x="3115" y="144"/>
                  </a:lnTo>
                  <a:lnTo>
                    <a:pt x="3133" y="132"/>
                  </a:lnTo>
                  <a:lnTo>
                    <a:pt x="3151" y="120"/>
                  </a:lnTo>
                  <a:lnTo>
                    <a:pt x="3169" y="114"/>
                  </a:lnTo>
                  <a:lnTo>
                    <a:pt x="3187" y="102"/>
                  </a:lnTo>
                  <a:lnTo>
                    <a:pt x="3205" y="96"/>
                  </a:lnTo>
                  <a:lnTo>
                    <a:pt x="3223" y="84"/>
                  </a:lnTo>
                  <a:lnTo>
                    <a:pt x="3247" y="72"/>
                  </a:lnTo>
                  <a:lnTo>
                    <a:pt x="3265" y="66"/>
                  </a:lnTo>
                  <a:lnTo>
                    <a:pt x="3283" y="54"/>
                  </a:lnTo>
                  <a:lnTo>
                    <a:pt x="3301" y="42"/>
                  </a:lnTo>
                  <a:lnTo>
                    <a:pt x="3319" y="36"/>
                  </a:lnTo>
                  <a:lnTo>
                    <a:pt x="3337" y="24"/>
                  </a:lnTo>
                  <a:lnTo>
                    <a:pt x="3355" y="18"/>
                  </a:lnTo>
                  <a:lnTo>
                    <a:pt x="3373" y="6"/>
                  </a:lnTo>
                  <a:lnTo>
                    <a:pt x="337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75" name=""/>
            <p:cNvSpPr/>
            <p:nvPr/>
          </p:nvSpPr>
          <p:spPr>
            <a:xfrm>
              <a:off x="4878360" y="4950000"/>
              <a:ext cx="2906640" cy="1299960"/>
            </a:xfrm>
            <a:custGeom>
              <a:avLst/>
              <a:gdLst/>
              <a:ahLst/>
              <a:rect l="l" t="t" r="r" b="b"/>
              <a:pathLst>
                <a:path w="3709" h="1711">
                  <a:moveTo>
                    <a:pt x="0" y="1711"/>
                  </a:moveTo>
                  <a:lnTo>
                    <a:pt x="18" y="1699"/>
                  </a:lnTo>
                  <a:lnTo>
                    <a:pt x="36" y="1693"/>
                  </a:lnTo>
                  <a:lnTo>
                    <a:pt x="60" y="1687"/>
                  </a:lnTo>
                  <a:lnTo>
                    <a:pt x="78" y="1675"/>
                  </a:lnTo>
                  <a:lnTo>
                    <a:pt x="96" y="1669"/>
                  </a:lnTo>
                  <a:lnTo>
                    <a:pt x="114" y="1657"/>
                  </a:lnTo>
                  <a:lnTo>
                    <a:pt x="132" y="1651"/>
                  </a:lnTo>
                  <a:lnTo>
                    <a:pt x="150" y="1639"/>
                  </a:lnTo>
                  <a:lnTo>
                    <a:pt x="168" y="1633"/>
                  </a:lnTo>
                  <a:lnTo>
                    <a:pt x="186" y="1627"/>
                  </a:lnTo>
                  <a:lnTo>
                    <a:pt x="204" y="1615"/>
                  </a:lnTo>
                  <a:lnTo>
                    <a:pt x="222" y="1609"/>
                  </a:lnTo>
                  <a:lnTo>
                    <a:pt x="240" y="1597"/>
                  </a:lnTo>
                  <a:lnTo>
                    <a:pt x="258" y="1591"/>
                  </a:lnTo>
                  <a:lnTo>
                    <a:pt x="282" y="1585"/>
                  </a:lnTo>
                  <a:lnTo>
                    <a:pt x="300" y="1573"/>
                  </a:lnTo>
                  <a:lnTo>
                    <a:pt x="318" y="1567"/>
                  </a:lnTo>
                  <a:lnTo>
                    <a:pt x="336" y="1555"/>
                  </a:lnTo>
                  <a:lnTo>
                    <a:pt x="354" y="1549"/>
                  </a:lnTo>
                  <a:lnTo>
                    <a:pt x="372" y="1537"/>
                  </a:lnTo>
                  <a:lnTo>
                    <a:pt x="390" y="1531"/>
                  </a:lnTo>
                  <a:lnTo>
                    <a:pt x="408" y="1525"/>
                  </a:lnTo>
                  <a:lnTo>
                    <a:pt x="426" y="1513"/>
                  </a:lnTo>
                  <a:lnTo>
                    <a:pt x="444" y="1507"/>
                  </a:lnTo>
                  <a:lnTo>
                    <a:pt x="462" y="1495"/>
                  </a:lnTo>
                  <a:lnTo>
                    <a:pt x="486" y="1489"/>
                  </a:lnTo>
                  <a:lnTo>
                    <a:pt x="504" y="1477"/>
                  </a:lnTo>
                  <a:lnTo>
                    <a:pt x="522" y="1471"/>
                  </a:lnTo>
                  <a:lnTo>
                    <a:pt x="540" y="1465"/>
                  </a:lnTo>
                  <a:lnTo>
                    <a:pt x="558" y="1453"/>
                  </a:lnTo>
                  <a:lnTo>
                    <a:pt x="576" y="1447"/>
                  </a:lnTo>
                  <a:lnTo>
                    <a:pt x="594" y="1435"/>
                  </a:lnTo>
                  <a:lnTo>
                    <a:pt x="612" y="1429"/>
                  </a:lnTo>
                  <a:lnTo>
                    <a:pt x="630" y="1417"/>
                  </a:lnTo>
                  <a:lnTo>
                    <a:pt x="648" y="1411"/>
                  </a:lnTo>
                  <a:lnTo>
                    <a:pt x="666" y="1405"/>
                  </a:lnTo>
                  <a:lnTo>
                    <a:pt x="684" y="1393"/>
                  </a:lnTo>
                  <a:lnTo>
                    <a:pt x="708" y="1387"/>
                  </a:lnTo>
                  <a:lnTo>
                    <a:pt x="726" y="1375"/>
                  </a:lnTo>
                  <a:lnTo>
                    <a:pt x="744" y="1369"/>
                  </a:lnTo>
                  <a:lnTo>
                    <a:pt x="762" y="1357"/>
                  </a:lnTo>
                  <a:lnTo>
                    <a:pt x="780" y="1351"/>
                  </a:lnTo>
                  <a:lnTo>
                    <a:pt x="798" y="1345"/>
                  </a:lnTo>
                  <a:lnTo>
                    <a:pt x="816" y="1333"/>
                  </a:lnTo>
                  <a:lnTo>
                    <a:pt x="834" y="1327"/>
                  </a:lnTo>
                  <a:lnTo>
                    <a:pt x="852" y="1315"/>
                  </a:lnTo>
                  <a:lnTo>
                    <a:pt x="870" y="1309"/>
                  </a:lnTo>
                  <a:lnTo>
                    <a:pt x="888" y="1303"/>
                  </a:lnTo>
                  <a:lnTo>
                    <a:pt x="912" y="1291"/>
                  </a:lnTo>
                  <a:lnTo>
                    <a:pt x="930" y="1285"/>
                  </a:lnTo>
                  <a:lnTo>
                    <a:pt x="948" y="1273"/>
                  </a:lnTo>
                  <a:lnTo>
                    <a:pt x="966" y="1267"/>
                  </a:lnTo>
                  <a:lnTo>
                    <a:pt x="984" y="1255"/>
                  </a:lnTo>
                  <a:lnTo>
                    <a:pt x="1002" y="1249"/>
                  </a:lnTo>
                  <a:lnTo>
                    <a:pt x="1020" y="1243"/>
                  </a:lnTo>
                  <a:lnTo>
                    <a:pt x="1038" y="1231"/>
                  </a:lnTo>
                  <a:lnTo>
                    <a:pt x="1056" y="1225"/>
                  </a:lnTo>
                  <a:lnTo>
                    <a:pt x="1074" y="1213"/>
                  </a:lnTo>
                  <a:lnTo>
                    <a:pt x="1092" y="1207"/>
                  </a:lnTo>
                  <a:lnTo>
                    <a:pt x="1116" y="1195"/>
                  </a:lnTo>
                  <a:lnTo>
                    <a:pt x="1134" y="1189"/>
                  </a:lnTo>
                  <a:lnTo>
                    <a:pt x="1152" y="1183"/>
                  </a:lnTo>
                  <a:lnTo>
                    <a:pt x="1170" y="1171"/>
                  </a:lnTo>
                  <a:lnTo>
                    <a:pt x="1188" y="1165"/>
                  </a:lnTo>
                  <a:lnTo>
                    <a:pt x="1206" y="1153"/>
                  </a:lnTo>
                  <a:lnTo>
                    <a:pt x="1224" y="1147"/>
                  </a:lnTo>
                  <a:lnTo>
                    <a:pt x="1242" y="1135"/>
                  </a:lnTo>
                  <a:lnTo>
                    <a:pt x="1260" y="1129"/>
                  </a:lnTo>
                  <a:lnTo>
                    <a:pt x="1278" y="1123"/>
                  </a:lnTo>
                  <a:lnTo>
                    <a:pt x="1296" y="1111"/>
                  </a:lnTo>
                  <a:lnTo>
                    <a:pt x="1314" y="1105"/>
                  </a:lnTo>
                  <a:lnTo>
                    <a:pt x="1338" y="1093"/>
                  </a:lnTo>
                  <a:lnTo>
                    <a:pt x="1356" y="1087"/>
                  </a:lnTo>
                  <a:lnTo>
                    <a:pt x="1374" y="1075"/>
                  </a:lnTo>
                  <a:lnTo>
                    <a:pt x="1392" y="1069"/>
                  </a:lnTo>
                  <a:lnTo>
                    <a:pt x="1410" y="1063"/>
                  </a:lnTo>
                  <a:lnTo>
                    <a:pt x="1428" y="1051"/>
                  </a:lnTo>
                  <a:lnTo>
                    <a:pt x="1446" y="1045"/>
                  </a:lnTo>
                  <a:lnTo>
                    <a:pt x="1464" y="1033"/>
                  </a:lnTo>
                  <a:lnTo>
                    <a:pt x="1482" y="1027"/>
                  </a:lnTo>
                  <a:lnTo>
                    <a:pt x="1500" y="1021"/>
                  </a:lnTo>
                  <a:lnTo>
                    <a:pt x="1518" y="1009"/>
                  </a:lnTo>
                  <a:lnTo>
                    <a:pt x="1542" y="1003"/>
                  </a:lnTo>
                  <a:lnTo>
                    <a:pt x="1560" y="991"/>
                  </a:lnTo>
                  <a:lnTo>
                    <a:pt x="1578" y="985"/>
                  </a:lnTo>
                  <a:lnTo>
                    <a:pt x="1596" y="973"/>
                  </a:lnTo>
                  <a:lnTo>
                    <a:pt x="1614" y="967"/>
                  </a:lnTo>
                  <a:lnTo>
                    <a:pt x="1632" y="961"/>
                  </a:lnTo>
                  <a:lnTo>
                    <a:pt x="1650" y="949"/>
                  </a:lnTo>
                  <a:lnTo>
                    <a:pt x="1668" y="943"/>
                  </a:lnTo>
                  <a:lnTo>
                    <a:pt x="1686" y="931"/>
                  </a:lnTo>
                  <a:lnTo>
                    <a:pt x="1704" y="925"/>
                  </a:lnTo>
                  <a:lnTo>
                    <a:pt x="1722" y="913"/>
                  </a:lnTo>
                  <a:lnTo>
                    <a:pt x="1740" y="907"/>
                  </a:lnTo>
                  <a:lnTo>
                    <a:pt x="1765" y="901"/>
                  </a:lnTo>
                  <a:lnTo>
                    <a:pt x="1783" y="889"/>
                  </a:lnTo>
                  <a:lnTo>
                    <a:pt x="1801" y="883"/>
                  </a:lnTo>
                  <a:lnTo>
                    <a:pt x="1819" y="871"/>
                  </a:lnTo>
                  <a:lnTo>
                    <a:pt x="1837" y="865"/>
                  </a:lnTo>
                  <a:lnTo>
                    <a:pt x="1855" y="853"/>
                  </a:lnTo>
                  <a:lnTo>
                    <a:pt x="1873" y="847"/>
                  </a:lnTo>
                  <a:lnTo>
                    <a:pt x="1891" y="841"/>
                  </a:lnTo>
                  <a:lnTo>
                    <a:pt x="1909" y="829"/>
                  </a:lnTo>
                  <a:lnTo>
                    <a:pt x="1927" y="823"/>
                  </a:lnTo>
                  <a:lnTo>
                    <a:pt x="1945" y="811"/>
                  </a:lnTo>
                  <a:lnTo>
                    <a:pt x="1969" y="805"/>
                  </a:lnTo>
                  <a:lnTo>
                    <a:pt x="1987" y="793"/>
                  </a:lnTo>
                  <a:lnTo>
                    <a:pt x="2005" y="787"/>
                  </a:lnTo>
                  <a:lnTo>
                    <a:pt x="2023" y="781"/>
                  </a:lnTo>
                  <a:lnTo>
                    <a:pt x="2041" y="769"/>
                  </a:lnTo>
                  <a:lnTo>
                    <a:pt x="2059" y="763"/>
                  </a:lnTo>
                  <a:lnTo>
                    <a:pt x="2077" y="751"/>
                  </a:lnTo>
                  <a:lnTo>
                    <a:pt x="2095" y="745"/>
                  </a:lnTo>
                  <a:lnTo>
                    <a:pt x="2113" y="739"/>
                  </a:lnTo>
                  <a:lnTo>
                    <a:pt x="2131" y="727"/>
                  </a:lnTo>
                  <a:lnTo>
                    <a:pt x="2149" y="721"/>
                  </a:lnTo>
                  <a:lnTo>
                    <a:pt x="2167" y="709"/>
                  </a:lnTo>
                  <a:lnTo>
                    <a:pt x="2191" y="703"/>
                  </a:lnTo>
                  <a:lnTo>
                    <a:pt x="2209" y="691"/>
                  </a:lnTo>
                  <a:lnTo>
                    <a:pt x="2227" y="685"/>
                  </a:lnTo>
                  <a:lnTo>
                    <a:pt x="2245" y="679"/>
                  </a:lnTo>
                  <a:lnTo>
                    <a:pt x="2263" y="667"/>
                  </a:lnTo>
                  <a:lnTo>
                    <a:pt x="2281" y="661"/>
                  </a:lnTo>
                  <a:lnTo>
                    <a:pt x="2299" y="649"/>
                  </a:lnTo>
                  <a:lnTo>
                    <a:pt x="2317" y="643"/>
                  </a:lnTo>
                  <a:lnTo>
                    <a:pt x="2335" y="631"/>
                  </a:lnTo>
                  <a:lnTo>
                    <a:pt x="2353" y="625"/>
                  </a:lnTo>
                  <a:lnTo>
                    <a:pt x="2371" y="619"/>
                  </a:lnTo>
                  <a:lnTo>
                    <a:pt x="2395" y="607"/>
                  </a:lnTo>
                  <a:lnTo>
                    <a:pt x="2413" y="601"/>
                  </a:lnTo>
                  <a:lnTo>
                    <a:pt x="2431" y="589"/>
                  </a:lnTo>
                  <a:lnTo>
                    <a:pt x="2449" y="583"/>
                  </a:lnTo>
                  <a:lnTo>
                    <a:pt x="2467" y="571"/>
                  </a:lnTo>
                  <a:lnTo>
                    <a:pt x="2485" y="565"/>
                  </a:lnTo>
                  <a:lnTo>
                    <a:pt x="2503" y="559"/>
                  </a:lnTo>
                  <a:lnTo>
                    <a:pt x="2521" y="547"/>
                  </a:lnTo>
                  <a:lnTo>
                    <a:pt x="2539" y="541"/>
                  </a:lnTo>
                  <a:lnTo>
                    <a:pt x="2557" y="529"/>
                  </a:lnTo>
                  <a:lnTo>
                    <a:pt x="2575" y="523"/>
                  </a:lnTo>
                  <a:lnTo>
                    <a:pt x="2599" y="511"/>
                  </a:lnTo>
                  <a:lnTo>
                    <a:pt x="2617" y="505"/>
                  </a:lnTo>
                  <a:lnTo>
                    <a:pt x="2635" y="499"/>
                  </a:lnTo>
                  <a:lnTo>
                    <a:pt x="2653" y="487"/>
                  </a:lnTo>
                  <a:lnTo>
                    <a:pt x="2671" y="481"/>
                  </a:lnTo>
                  <a:lnTo>
                    <a:pt x="2689" y="469"/>
                  </a:lnTo>
                  <a:lnTo>
                    <a:pt x="2707" y="463"/>
                  </a:lnTo>
                  <a:lnTo>
                    <a:pt x="2725" y="457"/>
                  </a:lnTo>
                  <a:lnTo>
                    <a:pt x="2743" y="444"/>
                  </a:lnTo>
                  <a:lnTo>
                    <a:pt x="2761" y="438"/>
                  </a:lnTo>
                  <a:lnTo>
                    <a:pt x="2779" y="426"/>
                  </a:lnTo>
                  <a:lnTo>
                    <a:pt x="2797" y="420"/>
                  </a:lnTo>
                  <a:lnTo>
                    <a:pt x="2821" y="408"/>
                  </a:lnTo>
                  <a:lnTo>
                    <a:pt x="2839" y="402"/>
                  </a:lnTo>
                  <a:lnTo>
                    <a:pt x="2857" y="396"/>
                  </a:lnTo>
                  <a:lnTo>
                    <a:pt x="2875" y="384"/>
                  </a:lnTo>
                  <a:lnTo>
                    <a:pt x="2893" y="378"/>
                  </a:lnTo>
                  <a:lnTo>
                    <a:pt x="2911" y="366"/>
                  </a:lnTo>
                  <a:lnTo>
                    <a:pt x="2929" y="360"/>
                  </a:lnTo>
                  <a:lnTo>
                    <a:pt x="2947" y="348"/>
                  </a:lnTo>
                  <a:lnTo>
                    <a:pt x="2965" y="342"/>
                  </a:lnTo>
                  <a:lnTo>
                    <a:pt x="2983" y="336"/>
                  </a:lnTo>
                  <a:lnTo>
                    <a:pt x="3001" y="324"/>
                  </a:lnTo>
                  <a:lnTo>
                    <a:pt x="3025" y="318"/>
                  </a:lnTo>
                  <a:lnTo>
                    <a:pt x="3043" y="306"/>
                  </a:lnTo>
                  <a:lnTo>
                    <a:pt x="3061" y="300"/>
                  </a:lnTo>
                  <a:lnTo>
                    <a:pt x="3079" y="288"/>
                  </a:lnTo>
                  <a:lnTo>
                    <a:pt x="3097" y="282"/>
                  </a:lnTo>
                  <a:lnTo>
                    <a:pt x="3115" y="276"/>
                  </a:lnTo>
                  <a:lnTo>
                    <a:pt x="3133" y="264"/>
                  </a:lnTo>
                  <a:lnTo>
                    <a:pt x="3151" y="258"/>
                  </a:lnTo>
                  <a:lnTo>
                    <a:pt x="3169" y="246"/>
                  </a:lnTo>
                  <a:lnTo>
                    <a:pt x="3187" y="240"/>
                  </a:lnTo>
                  <a:lnTo>
                    <a:pt x="3205" y="228"/>
                  </a:lnTo>
                  <a:lnTo>
                    <a:pt x="3223" y="222"/>
                  </a:lnTo>
                  <a:lnTo>
                    <a:pt x="3247" y="216"/>
                  </a:lnTo>
                  <a:lnTo>
                    <a:pt x="3265" y="204"/>
                  </a:lnTo>
                  <a:lnTo>
                    <a:pt x="3283" y="198"/>
                  </a:lnTo>
                  <a:lnTo>
                    <a:pt x="3301" y="186"/>
                  </a:lnTo>
                  <a:lnTo>
                    <a:pt x="3319" y="180"/>
                  </a:lnTo>
                  <a:lnTo>
                    <a:pt x="3337" y="174"/>
                  </a:lnTo>
                  <a:lnTo>
                    <a:pt x="3355" y="162"/>
                  </a:lnTo>
                  <a:lnTo>
                    <a:pt x="3373" y="156"/>
                  </a:lnTo>
                  <a:lnTo>
                    <a:pt x="3391" y="144"/>
                  </a:lnTo>
                  <a:lnTo>
                    <a:pt x="3409" y="138"/>
                  </a:lnTo>
                  <a:lnTo>
                    <a:pt x="3427" y="126"/>
                  </a:lnTo>
                  <a:lnTo>
                    <a:pt x="3451" y="120"/>
                  </a:lnTo>
                  <a:lnTo>
                    <a:pt x="3469" y="114"/>
                  </a:lnTo>
                  <a:lnTo>
                    <a:pt x="3487" y="102"/>
                  </a:lnTo>
                  <a:lnTo>
                    <a:pt x="3505" y="96"/>
                  </a:lnTo>
                  <a:lnTo>
                    <a:pt x="3523" y="84"/>
                  </a:lnTo>
                  <a:lnTo>
                    <a:pt x="3541" y="78"/>
                  </a:lnTo>
                  <a:lnTo>
                    <a:pt x="3559" y="66"/>
                  </a:lnTo>
                  <a:lnTo>
                    <a:pt x="3577" y="60"/>
                  </a:lnTo>
                  <a:lnTo>
                    <a:pt x="3595" y="54"/>
                  </a:lnTo>
                  <a:lnTo>
                    <a:pt x="3613" y="42"/>
                  </a:lnTo>
                  <a:lnTo>
                    <a:pt x="3631" y="36"/>
                  </a:lnTo>
                  <a:lnTo>
                    <a:pt x="3649" y="24"/>
                  </a:lnTo>
                  <a:lnTo>
                    <a:pt x="3673" y="18"/>
                  </a:lnTo>
                  <a:lnTo>
                    <a:pt x="3691" y="6"/>
                  </a:lnTo>
                  <a:lnTo>
                    <a:pt x="370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76" name=""/>
            <p:cNvSpPr/>
            <p:nvPr/>
          </p:nvSpPr>
          <p:spPr>
            <a:xfrm>
              <a:off x="1874880" y="2104920"/>
              <a:ext cx="2870280" cy="1281240"/>
            </a:xfrm>
            <a:custGeom>
              <a:avLst/>
              <a:gdLst/>
              <a:ahLst/>
              <a:rect l="l" t="t" r="r" b="b"/>
              <a:pathLst>
                <a:path w="3571" h="1645">
                  <a:moveTo>
                    <a:pt x="0" y="1645"/>
                  </a:moveTo>
                  <a:lnTo>
                    <a:pt x="18" y="1639"/>
                  </a:lnTo>
                  <a:lnTo>
                    <a:pt x="36" y="1627"/>
                  </a:lnTo>
                  <a:lnTo>
                    <a:pt x="60" y="1621"/>
                  </a:lnTo>
                  <a:lnTo>
                    <a:pt x="78" y="1609"/>
                  </a:lnTo>
                  <a:lnTo>
                    <a:pt x="96" y="1603"/>
                  </a:lnTo>
                  <a:lnTo>
                    <a:pt x="114" y="1591"/>
                  </a:lnTo>
                  <a:lnTo>
                    <a:pt x="132" y="1585"/>
                  </a:lnTo>
                  <a:lnTo>
                    <a:pt x="150" y="1579"/>
                  </a:lnTo>
                  <a:lnTo>
                    <a:pt x="168" y="1567"/>
                  </a:lnTo>
                  <a:lnTo>
                    <a:pt x="186" y="1561"/>
                  </a:lnTo>
                  <a:lnTo>
                    <a:pt x="204" y="1549"/>
                  </a:lnTo>
                  <a:lnTo>
                    <a:pt x="222" y="1543"/>
                  </a:lnTo>
                  <a:lnTo>
                    <a:pt x="240" y="1531"/>
                  </a:lnTo>
                  <a:lnTo>
                    <a:pt x="258" y="1525"/>
                  </a:lnTo>
                  <a:lnTo>
                    <a:pt x="282" y="1519"/>
                  </a:lnTo>
                  <a:lnTo>
                    <a:pt x="300" y="1507"/>
                  </a:lnTo>
                  <a:lnTo>
                    <a:pt x="318" y="1501"/>
                  </a:lnTo>
                  <a:lnTo>
                    <a:pt x="336" y="1489"/>
                  </a:lnTo>
                  <a:lnTo>
                    <a:pt x="354" y="1483"/>
                  </a:lnTo>
                  <a:lnTo>
                    <a:pt x="372" y="1471"/>
                  </a:lnTo>
                  <a:lnTo>
                    <a:pt x="390" y="1465"/>
                  </a:lnTo>
                  <a:lnTo>
                    <a:pt x="408" y="1459"/>
                  </a:lnTo>
                  <a:lnTo>
                    <a:pt x="426" y="1447"/>
                  </a:lnTo>
                  <a:lnTo>
                    <a:pt x="444" y="1441"/>
                  </a:lnTo>
                  <a:lnTo>
                    <a:pt x="462" y="1429"/>
                  </a:lnTo>
                  <a:lnTo>
                    <a:pt x="486" y="1423"/>
                  </a:lnTo>
                  <a:lnTo>
                    <a:pt x="504" y="1417"/>
                  </a:lnTo>
                  <a:lnTo>
                    <a:pt x="522" y="1405"/>
                  </a:lnTo>
                  <a:lnTo>
                    <a:pt x="540" y="1399"/>
                  </a:lnTo>
                  <a:lnTo>
                    <a:pt x="558" y="1387"/>
                  </a:lnTo>
                  <a:lnTo>
                    <a:pt x="576" y="1381"/>
                  </a:lnTo>
                  <a:lnTo>
                    <a:pt x="594" y="1369"/>
                  </a:lnTo>
                  <a:lnTo>
                    <a:pt x="612" y="1363"/>
                  </a:lnTo>
                  <a:lnTo>
                    <a:pt x="630" y="1357"/>
                  </a:lnTo>
                  <a:lnTo>
                    <a:pt x="648" y="1345"/>
                  </a:lnTo>
                  <a:lnTo>
                    <a:pt x="666" y="1339"/>
                  </a:lnTo>
                  <a:lnTo>
                    <a:pt x="684" y="1327"/>
                  </a:lnTo>
                  <a:lnTo>
                    <a:pt x="708" y="1321"/>
                  </a:lnTo>
                  <a:lnTo>
                    <a:pt x="726" y="1309"/>
                  </a:lnTo>
                  <a:lnTo>
                    <a:pt x="744" y="1303"/>
                  </a:lnTo>
                  <a:lnTo>
                    <a:pt x="762" y="1297"/>
                  </a:lnTo>
                  <a:lnTo>
                    <a:pt x="780" y="1285"/>
                  </a:lnTo>
                  <a:lnTo>
                    <a:pt x="798" y="1279"/>
                  </a:lnTo>
                  <a:lnTo>
                    <a:pt x="816" y="1267"/>
                  </a:lnTo>
                  <a:lnTo>
                    <a:pt x="834" y="1261"/>
                  </a:lnTo>
                  <a:lnTo>
                    <a:pt x="852" y="1248"/>
                  </a:lnTo>
                  <a:lnTo>
                    <a:pt x="870" y="1242"/>
                  </a:lnTo>
                  <a:lnTo>
                    <a:pt x="888" y="1236"/>
                  </a:lnTo>
                  <a:lnTo>
                    <a:pt x="912" y="1224"/>
                  </a:lnTo>
                  <a:lnTo>
                    <a:pt x="930" y="1218"/>
                  </a:lnTo>
                  <a:lnTo>
                    <a:pt x="948" y="1206"/>
                  </a:lnTo>
                  <a:lnTo>
                    <a:pt x="966" y="1200"/>
                  </a:lnTo>
                  <a:lnTo>
                    <a:pt x="984" y="1188"/>
                  </a:lnTo>
                  <a:lnTo>
                    <a:pt x="1002" y="1182"/>
                  </a:lnTo>
                  <a:lnTo>
                    <a:pt x="1020" y="1176"/>
                  </a:lnTo>
                  <a:lnTo>
                    <a:pt x="1038" y="1164"/>
                  </a:lnTo>
                  <a:lnTo>
                    <a:pt x="1056" y="1158"/>
                  </a:lnTo>
                  <a:lnTo>
                    <a:pt x="1074" y="1146"/>
                  </a:lnTo>
                  <a:lnTo>
                    <a:pt x="1092" y="1140"/>
                  </a:lnTo>
                  <a:lnTo>
                    <a:pt x="1116" y="1134"/>
                  </a:lnTo>
                  <a:lnTo>
                    <a:pt x="1134" y="1122"/>
                  </a:lnTo>
                  <a:lnTo>
                    <a:pt x="1152" y="1116"/>
                  </a:lnTo>
                  <a:lnTo>
                    <a:pt x="1170" y="1104"/>
                  </a:lnTo>
                  <a:lnTo>
                    <a:pt x="1188" y="1098"/>
                  </a:lnTo>
                  <a:lnTo>
                    <a:pt x="1206" y="1086"/>
                  </a:lnTo>
                  <a:lnTo>
                    <a:pt x="1224" y="1080"/>
                  </a:lnTo>
                  <a:lnTo>
                    <a:pt x="1242" y="1074"/>
                  </a:lnTo>
                  <a:lnTo>
                    <a:pt x="1260" y="1062"/>
                  </a:lnTo>
                  <a:lnTo>
                    <a:pt x="1278" y="1056"/>
                  </a:lnTo>
                  <a:lnTo>
                    <a:pt x="1296" y="1044"/>
                  </a:lnTo>
                  <a:lnTo>
                    <a:pt x="1314" y="1038"/>
                  </a:lnTo>
                  <a:lnTo>
                    <a:pt x="1338" y="1026"/>
                  </a:lnTo>
                  <a:lnTo>
                    <a:pt x="1356" y="1020"/>
                  </a:lnTo>
                  <a:lnTo>
                    <a:pt x="1374" y="1014"/>
                  </a:lnTo>
                  <a:lnTo>
                    <a:pt x="1392" y="1002"/>
                  </a:lnTo>
                  <a:lnTo>
                    <a:pt x="1410" y="996"/>
                  </a:lnTo>
                  <a:lnTo>
                    <a:pt x="1428" y="984"/>
                  </a:lnTo>
                  <a:lnTo>
                    <a:pt x="1446" y="978"/>
                  </a:lnTo>
                  <a:lnTo>
                    <a:pt x="1464" y="966"/>
                  </a:lnTo>
                  <a:lnTo>
                    <a:pt x="1482" y="960"/>
                  </a:lnTo>
                  <a:lnTo>
                    <a:pt x="1500" y="954"/>
                  </a:lnTo>
                  <a:lnTo>
                    <a:pt x="1518" y="942"/>
                  </a:lnTo>
                  <a:lnTo>
                    <a:pt x="1542" y="936"/>
                  </a:lnTo>
                  <a:lnTo>
                    <a:pt x="1560" y="924"/>
                  </a:lnTo>
                  <a:lnTo>
                    <a:pt x="1578" y="918"/>
                  </a:lnTo>
                  <a:lnTo>
                    <a:pt x="1596" y="906"/>
                  </a:lnTo>
                  <a:lnTo>
                    <a:pt x="1614" y="900"/>
                  </a:lnTo>
                  <a:lnTo>
                    <a:pt x="1632" y="894"/>
                  </a:lnTo>
                  <a:lnTo>
                    <a:pt x="1650" y="882"/>
                  </a:lnTo>
                  <a:lnTo>
                    <a:pt x="1668" y="876"/>
                  </a:lnTo>
                  <a:lnTo>
                    <a:pt x="1686" y="864"/>
                  </a:lnTo>
                  <a:lnTo>
                    <a:pt x="1704" y="858"/>
                  </a:lnTo>
                  <a:lnTo>
                    <a:pt x="1722" y="852"/>
                  </a:lnTo>
                  <a:lnTo>
                    <a:pt x="1740" y="840"/>
                  </a:lnTo>
                  <a:lnTo>
                    <a:pt x="1765" y="834"/>
                  </a:lnTo>
                  <a:lnTo>
                    <a:pt x="1783" y="822"/>
                  </a:lnTo>
                  <a:lnTo>
                    <a:pt x="1801" y="816"/>
                  </a:lnTo>
                  <a:lnTo>
                    <a:pt x="1819" y="804"/>
                  </a:lnTo>
                  <a:lnTo>
                    <a:pt x="1837" y="798"/>
                  </a:lnTo>
                  <a:lnTo>
                    <a:pt x="1855" y="792"/>
                  </a:lnTo>
                  <a:lnTo>
                    <a:pt x="1873" y="780"/>
                  </a:lnTo>
                  <a:lnTo>
                    <a:pt x="1891" y="774"/>
                  </a:lnTo>
                  <a:lnTo>
                    <a:pt x="1909" y="762"/>
                  </a:lnTo>
                  <a:lnTo>
                    <a:pt x="1927" y="756"/>
                  </a:lnTo>
                  <a:lnTo>
                    <a:pt x="1945" y="744"/>
                  </a:lnTo>
                  <a:lnTo>
                    <a:pt x="1969" y="738"/>
                  </a:lnTo>
                  <a:lnTo>
                    <a:pt x="1987" y="732"/>
                  </a:lnTo>
                  <a:lnTo>
                    <a:pt x="2005" y="720"/>
                  </a:lnTo>
                  <a:lnTo>
                    <a:pt x="2023" y="714"/>
                  </a:lnTo>
                  <a:lnTo>
                    <a:pt x="2041" y="702"/>
                  </a:lnTo>
                  <a:lnTo>
                    <a:pt x="2059" y="696"/>
                  </a:lnTo>
                  <a:lnTo>
                    <a:pt x="2077" y="684"/>
                  </a:lnTo>
                  <a:lnTo>
                    <a:pt x="2095" y="678"/>
                  </a:lnTo>
                  <a:lnTo>
                    <a:pt x="2113" y="672"/>
                  </a:lnTo>
                  <a:lnTo>
                    <a:pt x="2131" y="660"/>
                  </a:lnTo>
                  <a:lnTo>
                    <a:pt x="2149" y="654"/>
                  </a:lnTo>
                  <a:lnTo>
                    <a:pt x="2167" y="642"/>
                  </a:lnTo>
                  <a:lnTo>
                    <a:pt x="2191" y="636"/>
                  </a:lnTo>
                  <a:lnTo>
                    <a:pt x="2209" y="624"/>
                  </a:lnTo>
                  <a:lnTo>
                    <a:pt x="2227" y="618"/>
                  </a:lnTo>
                  <a:lnTo>
                    <a:pt x="2245" y="612"/>
                  </a:lnTo>
                  <a:lnTo>
                    <a:pt x="2263" y="600"/>
                  </a:lnTo>
                  <a:lnTo>
                    <a:pt x="2281" y="600"/>
                  </a:lnTo>
                  <a:lnTo>
                    <a:pt x="2299" y="588"/>
                  </a:lnTo>
                  <a:lnTo>
                    <a:pt x="2317" y="582"/>
                  </a:lnTo>
                  <a:lnTo>
                    <a:pt x="2335" y="576"/>
                  </a:lnTo>
                  <a:lnTo>
                    <a:pt x="2353" y="564"/>
                  </a:lnTo>
                  <a:lnTo>
                    <a:pt x="2371" y="558"/>
                  </a:lnTo>
                  <a:lnTo>
                    <a:pt x="2395" y="546"/>
                  </a:lnTo>
                  <a:lnTo>
                    <a:pt x="2413" y="540"/>
                  </a:lnTo>
                  <a:lnTo>
                    <a:pt x="2431" y="528"/>
                  </a:lnTo>
                  <a:lnTo>
                    <a:pt x="2449" y="522"/>
                  </a:lnTo>
                  <a:lnTo>
                    <a:pt x="2467" y="516"/>
                  </a:lnTo>
                  <a:lnTo>
                    <a:pt x="2485" y="504"/>
                  </a:lnTo>
                  <a:lnTo>
                    <a:pt x="2503" y="498"/>
                  </a:lnTo>
                  <a:lnTo>
                    <a:pt x="2521" y="486"/>
                  </a:lnTo>
                  <a:lnTo>
                    <a:pt x="2539" y="480"/>
                  </a:lnTo>
                  <a:lnTo>
                    <a:pt x="2557" y="468"/>
                  </a:lnTo>
                  <a:lnTo>
                    <a:pt x="2575" y="462"/>
                  </a:lnTo>
                  <a:lnTo>
                    <a:pt x="2599" y="456"/>
                  </a:lnTo>
                  <a:lnTo>
                    <a:pt x="2617" y="444"/>
                  </a:lnTo>
                  <a:lnTo>
                    <a:pt x="2635" y="438"/>
                  </a:lnTo>
                  <a:lnTo>
                    <a:pt x="2653" y="426"/>
                  </a:lnTo>
                  <a:lnTo>
                    <a:pt x="2671" y="420"/>
                  </a:lnTo>
                  <a:lnTo>
                    <a:pt x="2689" y="408"/>
                  </a:lnTo>
                  <a:lnTo>
                    <a:pt x="2707" y="402"/>
                  </a:lnTo>
                  <a:lnTo>
                    <a:pt x="2725" y="396"/>
                  </a:lnTo>
                  <a:lnTo>
                    <a:pt x="2743" y="384"/>
                  </a:lnTo>
                  <a:lnTo>
                    <a:pt x="2761" y="378"/>
                  </a:lnTo>
                  <a:lnTo>
                    <a:pt x="2779" y="366"/>
                  </a:lnTo>
                  <a:lnTo>
                    <a:pt x="2797" y="360"/>
                  </a:lnTo>
                  <a:lnTo>
                    <a:pt x="2821" y="348"/>
                  </a:lnTo>
                  <a:lnTo>
                    <a:pt x="2839" y="342"/>
                  </a:lnTo>
                  <a:lnTo>
                    <a:pt x="2857" y="336"/>
                  </a:lnTo>
                  <a:lnTo>
                    <a:pt x="2875" y="324"/>
                  </a:lnTo>
                  <a:lnTo>
                    <a:pt x="2893" y="318"/>
                  </a:lnTo>
                  <a:lnTo>
                    <a:pt x="2911" y="306"/>
                  </a:lnTo>
                  <a:lnTo>
                    <a:pt x="2929" y="300"/>
                  </a:lnTo>
                  <a:lnTo>
                    <a:pt x="2947" y="294"/>
                  </a:lnTo>
                  <a:lnTo>
                    <a:pt x="2965" y="282"/>
                  </a:lnTo>
                  <a:lnTo>
                    <a:pt x="2983" y="276"/>
                  </a:lnTo>
                  <a:lnTo>
                    <a:pt x="3001" y="264"/>
                  </a:lnTo>
                  <a:lnTo>
                    <a:pt x="3025" y="258"/>
                  </a:lnTo>
                  <a:lnTo>
                    <a:pt x="3043" y="246"/>
                  </a:lnTo>
                  <a:lnTo>
                    <a:pt x="3061" y="240"/>
                  </a:lnTo>
                  <a:lnTo>
                    <a:pt x="3079" y="234"/>
                  </a:lnTo>
                  <a:lnTo>
                    <a:pt x="3097" y="222"/>
                  </a:lnTo>
                  <a:lnTo>
                    <a:pt x="3115" y="216"/>
                  </a:lnTo>
                  <a:lnTo>
                    <a:pt x="3133" y="204"/>
                  </a:lnTo>
                  <a:lnTo>
                    <a:pt x="3151" y="198"/>
                  </a:lnTo>
                  <a:lnTo>
                    <a:pt x="3169" y="186"/>
                  </a:lnTo>
                  <a:lnTo>
                    <a:pt x="3187" y="180"/>
                  </a:lnTo>
                  <a:lnTo>
                    <a:pt x="3205" y="174"/>
                  </a:lnTo>
                  <a:lnTo>
                    <a:pt x="3223" y="162"/>
                  </a:lnTo>
                  <a:lnTo>
                    <a:pt x="3247" y="156"/>
                  </a:lnTo>
                  <a:lnTo>
                    <a:pt x="3265" y="144"/>
                  </a:lnTo>
                  <a:lnTo>
                    <a:pt x="3283" y="138"/>
                  </a:lnTo>
                  <a:lnTo>
                    <a:pt x="3301" y="126"/>
                  </a:lnTo>
                  <a:lnTo>
                    <a:pt x="3319" y="120"/>
                  </a:lnTo>
                  <a:lnTo>
                    <a:pt x="3337" y="114"/>
                  </a:lnTo>
                  <a:lnTo>
                    <a:pt x="3355" y="102"/>
                  </a:lnTo>
                  <a:lnTo>
                    <a:pt x="3373" y="96"/>
                  </a:lnTo>
                  <a:lnTo>
                    <a:pt x="3391" y="84"/>
                  </a:lnTo>
                  <a:lnTo>
                    <a:pt x="3409" y="78"/>
                  </a:lnTo>
                  <a:lnTo>
                    <a:pt x="3427" y="66"/>
                  </a:lnTo>
                  <a:lnTo>
                    <a:pt x="3451" y="60"/>
                  </a:lnTo>
                  <a:lnTo>
                    <a:pt x="3469" y="54"/>
                  </a:lnTo>
                  <a:lnTo>
                    <a:pt x="3487" y="42"/>
                  </a:lnTo>
                  <a:lnTo>
                    <a:pt x="3505" y="36"/>
                  </a:lnTo>
                  <a:lnTo>
                    <a:pt x="3523" y="24"/>
                  </a:lnTo>
                  <a:lnTo>
                    <a:pt x="3541" y="18"/>
                  </a:lnTo>
                  <a:lnTo>
                    <a:pt x="3559" y="12"/>
                  </a:lnTo>
                  <a:lnTo>
                    <a:pt x="3571"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77" name=""/>
            <p:cNvSpPr/>
            <p:nvPr/>
          </p:nvSpPr>
          <p:spPr>
            <a:xfrm>
              <a:off x="4973760" y="5100480"/>
              <a:ext cx="2795400" cy="1150920"/>
            </a:xfrm>
            <a:custGeom>
              <a:avLst/>
              <a:gdLst/>
              <a:ahLst/>
              <a:rect l="l" t="t" r="r" b="b"/>
              <a:pathLst>
                <a:path w="3709" h="1549">
                  <a:moveTo>
                    <a:pt x="0" y="1549"/>
                  </a:moveTo>
                  <a:lnTo>
                    <a:pt x="18" y="1537"/>
                  </a:lnTo>
                  <a:lnTo>
                    <a:pt x="36" y="1531"/>
                  </a:lnTo>
                  <a:lnTo>
                    <a:pt x="60" y="1525"/>
                  </a:lnTo>
                  <a:lnTo>
                    <a:pt x="78" y="1513"/>
                  </a:lnTo>
                  <a:lnTo>
                    <a:pt x="96" y="1507"/>
                  </a:lnTo>
                  <a:lnTo>
                    <a:pt x="114" y="1501"/>
                  </a:lnTo>
                  <a:lnTo>
                    <a:pt x="132" y="1495"/>
                  </a:lnTo>
                  <a:lnTo>
                    <a:pt x="150" y="1483"/>
                  </a:lnTo>
                  <a:lnTo>
                    <a:pt x="168" y="1477"/>
                  </a:lnTo>
                  <a:lnTo>
                    <a:pt x="186" y="1471"/>
                  </a:lnTo>
                  <a:lnTo>
                    <a:pt x="204" y="1459"/>
                  </a:lnTo>
                  <a:lnTo>
                    <a:pt x="222" y="1453"/>
                  </a:lnTo>
                  <a:lnTo>
                    <a:pt x="240" y="1447"/>
                  </a:lnTo>
                  <a:lnTo>
                    <a:pt x="258" y="1441"/>
                  </a:lnTo>
                  <a:lnTo>
                    <a:pt x="282" y="1429"/>
                  </a:lnTo>
                  <a:lnTo>
                    <a:pt x="300" y="1423"/>
                  </a:lnTo>
                  <a:lnTo>
                    <a:pt x="318" y="1417"/>
                  </a:lnTo>
                  <a:lnTo>
                    <a:pt x="336" y="1405"/>
                  </a:lnTo>
                  <a:lnTo>
                    <a:pt x="354" y="1399"/>
                  </a:lnTo>
                  <a:lnTo>
                    <a:pt x="372" y="1393"/>
                  </a:lnTo>
                  <a:lnTo>
                    <a:pt x="390" y="1387"/>
                  </a:lnTo>
                  <a:lnTo>
                    <a:pt x="408" y="1375"/>
                  </a:lnTo>
                  <a:lnTo>
                    <a:pt x="426" y="1369"/>
                  </a:lnTo>
                  <a:lnTo>
                    <a:pt x="444" y="1363"/>
                  </a:lnTo>
                  <a:lnTo>
                    <a:pt x="462" y="1351"/>
                  </a:lnTo>
                  <a:lnTo>
                    <a:pt x="486" y="1345"/>
                  </a:lnTo>
                  <a:lnTo>
                    <a:pt x="504" y="1339"/>
                  </a:lnTo>
                  <a:lnTo>
                    <a:pt x="522" y="1333"/>
                  </a:lnTo>
                  <a:lnTo>
                    <a:pt x="540" y="1321"/>
                  </a:lnTo>
                  <a:lnTo>
                    <a:pt x="558" y="1315"/>
                  </a:lnTo>
                  <a:lnTo>
                    <a:pt x="576" y="1309"/>
                  </a:lnTo>
                  <a:lnTo>
                    <a:pt x="594" y="1297"/>
                  </a:lnTo>
                  <a:lnTo>
                    <a:pt x="612" y="1291"/>
                  </a:lnTo>
                  <a:lnTo>
                    <a:pt x="630" y="1285"/>
                  </a:lnTo>
                  <a:lnTo>
                    <a:pt x="648" y="1273"/>
                  </a:lnTo>
                  <a:lnTo>
                    <a:pt x="666" y="1267"/>
                  </a:lnTo>
                  <a:lnTo>
                    <a:pt x="684" y="1261"/>
                  </a:lnTo>
                  <a:lnTo>
                    <a:pt x="708" y="1255"/>
                  </a:lnTo>
                  <a:lnTo>
                    <a:pt x="726" y="1243"/>
                  </a:lnTo>
                  <a:lnTo>
                    <a:pt x="744" y="1237"/>
                  </a:lnTo>
                  <a:lnTo>
                    <a:pt x="762" y="1231"/>
                  </a:lnTo>
                  <a:lnTo>
                    <a:pt x="780" y="1219"/>
                  </a:lnTo>
                  <a:lnTo>
                    <a:pt x="798" y="1213"/>
                  </a:lnTo>
                  <a:lnTo>
                    <a:pt x="816" y="1207"/>
                  </a:lnTo>
                  <a:lnTo>
                    <a:pt x="834" y="1201"/>
                  </a:lnTo>
                  <a:lnTo>
                    <a:pt x="852" y="1189"/>
                  </a:lnTo>
                  <a:lnTo>
                    <a:pt x="870" y="1183"/>
                  </a:lnTo>
                  <a:lnTo>
                    <a:pt x="888" y="1177"/>
                  </a:lnTo>
                  <a:lnTo>
                    <a:pt x="912" y="1165"/>
                  </a:lnTo>
                  <a:lnTo>
                    <a:pt x="930" y="1159"/>
                  </a:lnTo>
                  <a:lnTo>
                    <a:pt x="948" y="1153"/>
                  </a:lnTo>
                  <a:lnTo>
                    <a:pt x="966" y="1147"/>
                  </a:lnTo>
                  <a:lnTo>
                    <a:pt x="984" y="1135"/>
                  </a:lnTo>
                  <a:lnTo>
                    <a:pt x="1002" y="1129"/>
                  </a:lnTo>
                  <a:lnTo>
                    <a:pt x="1020" y="1123"/>
                  </a:lnTo>
                  <a:lnTo>
                    <a:pt x="1038" y="1111"/>
                  </a:lnTo>
                  <a:lnTo>
                    <a:pt x="1056" y="1105"/>
                  </a:lnTo>
                  <a:lnTo>
                    <a:pt x="1074" y="1099"/>
                  </a:lnTo>
                  <a:lnTo>
                    <a:pt x="1092" y="1093"/>
                  </a:lnTo>
                  <a:lnTo>
                    <a:pt x="1116" y="1081"/>
                  </a:lnTo>
                  <a:lnTo>
                    <a:pt x="1134" y="1075"/>
                  </a:lnTo>
                  <a:lnTo>
                    <a:pt x="1152" y="1069"/>
                  </a:lnTo>
                  <a:lnTo>
                    <a:pt x="1170" y="1057"/>
                  </a:lnTo>
                  <a:lnTo>
                    <a:pt x="1188" y="1051"/>
                  </a:lnTo>
                  <a:lnTo>
                    <a:pt x="1206" y="1045"/>
                  </a:lnTo>
                  <a:lnTo>
                    <a:pt x="1224" y="1039"/>
                  </a:lnTo>
                  <a:lnTo>
                    <a:pt x="1242" y="1027"/>
                  </a:lnTo>
                  <a:lnTo>
                    <a:pt x="1260" y="1021"/>
                  </a:lnTo>
                  <a:lnTo>
                    <a:pt x="1278" y="1015"/>
                  </a:lnTo>
                  <a:lnTo>
                    <a:pt x="1296" y="1003"/>
                  </a:lnTo>
                  <a:lnTo>
                    <a:pt x="1314" y="997"/>
                  </a:lnTo>
                  <a:lnTo>
                    <a:pt x="1338" y="991"/>
                  </a:lnTo>
                  <a:lnTo>
                    <a:pt x="1356" y="985"/>
                  </a:lnTo>
                  <a:lnTo>
                    <a:pt x="1374" y="973"/>
                  </a:lnTo>
                  <a:lnTo>
                    <a:pt x="1392" y="967"/>
                  </a:lnTo>
                  <a:lnTo>
                    <a:pt x="1410" y="961"/>
                  </a:lnTo>
                  <a:lnTo>
                    <a:pt x="1428" y="949"/>
                  </a:lnTo>
                  <a:lnTo>
                    <a:pt x="1446" y="943"/>
                  </a:lnTo>
                  <a:lnTo>
                    <a:pt x="1464" y="937"/>
                  </a:lnTo>
                  <a:lnTo>
                    <a:pt x="1482" y="931"/>
                  </a:lnTo>
                  <a:lnTo>
                    <a:pt x="1500" y="919"/>
                  </a:lnTo>
                  <a:lnTo>
                    <a:pt x="1518" y="913"/>
                  </a:lnTo>
                  <a:lnTo>
                    <a:pt x="1542" y="907"/>
                  </a:lnTo>
                  <a:lnTo>
                    <a:pt x="1560" y="895"/>
                  </a:lnTo>
                  <a:lnTo>
                    <a:pt x="1578" y="889"/>
                  </a:lnTo>
                  <a:lnTo>
                    <a:pt x="1596" y="883"/>
                  </a:lnTo>
                  <a:lnTo>
                    <a:pt x="1614" y="871"/>
                  </a:lnTo>
                  <a:lnTo>
                    <a:pt x="1632" y="865"/>
                  </a:lnTo>
                  <a:lnTo>
                    <a:pt x="1650" y="859"/>
                  </a:lnTo>
                  <a:lnTo>
                    <a:pt x="1668" y="853"/>
                  </a:lnTo>
                  <a:lnTo>
                    <a:pt x="1686" y="841"/>
                  </a:lnTo>
                  <a:lnTo>
                    <a:pt x="1704" y="835"/>
                  </a:lnTo>
                  <a:lnTo>
                    <a:pt x="1722" y="829"/>
                  </a:lnTo>
                  <a:lnTo>
                    <a:pt x="1740" y="817"/>
                  </a:lnTo>
                  <a:lnTo>
                    <a:pt x="1765" y="811"/>
                  </a:lnTo>
                  <a:lnTo>
                    <a:pt x="1783" y="805"/>
                  </a:lnTo>
                  <a:lnTo>
                    <a:pt x="1801" y="799"/>
                  </a:lnTo>
                  <a:lnTo>
                    <a:pt x="1819" y="787"/>
                  </a:lnTo>
                  <a:lnTo>
                    <a:pt x="1837" y="781"/>
                  </a:lnTo>
                  <a:lnTo>
                    <a:pt x="1855" y="775"/>
                  </a:lnTo>
                  <a:lnTo>
                    <a:pt x="1873" y="763"/>
                  </a:lnTo>
                  <a:lnTo>
                    <a:pt x="1891" y="757"/>
                  </a:lnTo>
                  <a:lnTo>
                    <a:pt x="1909" y="751"/>
                  </a:lnTo>
                  <a:lnTo>
                    <a:pt x="1927" y="745"/>
                  </a:lnTo>
                  <a:lnTo>
                    <a:pt x="1945" y="733"/>
                  </a:lnTo>
                  <a:lnTo>
                    <a:pt x="1969" y="727"/>
                  </a:lnTo>
                  <a:lnTo>
                    <a:pt x="1987" y="721"/>
                  </a:lnTo>
                  <a:lnTo>
                    <a:pt x="2005" y="709"/>
                  </a:lnTo>
                  <a:lnTo>
                    <a:pt x="2023" y="703"/>
                  </a:lnTo>
                  <a:lnTo>
                    <a:pt x="2041" y="697"/>
                  </a:lnTo>
                  <a:lnTo>
                    <a:pt x="2059" y="691"/>
                  </a:lnTo>
                  <a:lnTo>
                    <a:pt x="2077" y="679"/>
                  </a:lnTo>
                  <a:lnTo>
                    <a:pt x="2095" y="673"/>
                  </a:lnTo>
                  <a:lnTo>
                    <a:pt x="2113" y="667"/>
                  </a:lnTo>
                  <a:lnTo>
                    <a:pt x="2131" y="655"/>
                  </a:lnTo>
                  <a:lnTo>
                    <a:pt x="2149" y="649"/>
                  </a:lnTo>
                  <a:lnTo>
                    <a:pt x="2167" y="643"/>
                  </a:lnTo>
                  <a:lnTo>
                    <a:pt x="2191" y="637"/>
                  </a:lnTo>
                  <a:lnTo>
                    <a:pt x="2209" y="625"/>
                  </a:lnTo>
                  <a:lnTo>
                    <a:pt x="2227" y="619"/>
                  </a:lnTo>
                  <a:lnTo>
                    <a:pt x="2245" y="613"/>
                  </a:lnTo>
                  <a:lnTo>
                    <a:pt x="2263" y="601"/>
                  </a:lnTo>
                  <a:lnTo>
                    <a:pt x="2281" y="595"/>
                  </a:lnTo>
                  <a:lnTo>
                    <a:pt x="2299" y="589"/>
                  </a:lnTo>
                  <a:lnTo>
                    <a:pt x="2317" y="583"/>
                  </a:lnTo>
                  <a:lnTo>
                    <a:pt x="2335" y="571"/>
                  </a:lnTo>
                  <a:lnTo>
                    <a:pt x="2353" y="565"/>
                  </a:lnTo>
                  <a:lnTo>
                    <a:pt x="2371" y="559"/>
                  </a:lnTo>
                  <a:lnTo>
                    <a:pt x="2395" y="547"/>
                  </a:lnTo>
                  <a:lnTo>
                    <a:pt x="2413" y="541"/>
                  </a:lnTo>
                  <a:lnTo>
                    <a:pt x="2431" y="535"/>
                  </a:lnTo>
                  <a:lnTo>
                    <a:pt x="2449" y="529"/>
                  </a:lnTo>
                  <a:lnTo>
                    <a:pt x="2467" y="517"/>
                  </a:lnTo>
                  <a:lnTo>
                    <a:pt x="2485" y="511"/>
                  </a:lnTo>
                  <a:lnTo>
                    <a:pt x="2503" y="505"/>
                  </a:lnTo>
                  <a:lnTo>
                    <a:pt x="2521" y="493"/>
                  </a:lnTo>
                  <a:lnTo>
                    <a:pt x="2539" y="487"/>
                  </a:lnTo>
                  <a:lnTo>
                    <a:pt x="2557" y="481"/>
                  </a:lnTo>
                  <a:lnTo>
                    <a:pt x="2575" y="469"/>
                  </a:lnTo>
                  <a:lnTo>
                    <a:pt x="2599" y="463"/>
                  </a:lnTo>
                  <a:lnTo>
                    <a:pt x="2617" y="457"/>
                  </a:lnTo>
                  <a:lnTo>
                    <a:pt x="2635" y="451"/>
                  </a:lnTo>
                  <a:lnTo>
                    <a:pt x="2653" y="439"/>
                  </a:lnTo>
                  <a:lnTo>
                    <a:pt x="2671" y="433"/>
                  </a:lnTo>
                  <a:lnTo>
                    <a:pt x="2689" y="427"/>
                  </a:lnTo>
                  <a:lnTo>
                    <a:pt x="2707" y="415"/>
                  </a:lnTo>
                  <a:lnTo>
                    <a:pt x="2725" y="409"/>
                  </a:lnTo>
                  <a:lnTo>
                    <a:pt x="2743" y="403"/>
                  </a:lnTo>
                  <a:lnTo>
                    <a:pt x="2761" y="397"/>
                  </a:lnTo>
                  <a:lnTo>
                    <a:pt x="2779" y="385"/>
                  </a:lnTo>
                  <a:lnTo>
                    <a:pt x="2797" y="379"/>
                  </a:lnTo>
                  <a:lnTo>
                    <a:pt x="2821" y="373"/>
                  </a:lnTo>
                  <a:lnTo>
                    <a:pt x="2839" y="361"/>
                  </a:lnTo>
                  <a:lnTo>
                    <a:pt x="2857" y="355"/>
                  </a:lnTo>
                  <a:lnTo>
                    <a:pt x="2875" y="349"/>
                  </a:lnTo>
                  <a:lnTo>
                    <a:pt x="2893" y="343"/>
                  </a:lnTo>
                  <a:lnTo>
                    <a:pt x="2911" y="330"/>
                  </a:lnTo>
                  <a:lnTo>
                    <a:pt x="2929" y="324"/>
                  </a:lnTo>
                  <a:lnTo>
                    <a:pt x="2947" y="318"/>
                  </a:lnTo>
                  <a:lnTo>
                    <a:pt x="2965" y="306"/>
                  </a:lnTo>
                  <a:lnTo>
                    <a:pt x="2983" y="300"/>
                  </a:lnTo>
                  <a:lnTo>
                    <a:pt x="3001" y="294"/>
                  </a:lnTo>
                  <a:lnTo>
                    <a:pt x="3025" y="288"/>
                  </a:lnTo>
                  <a:lnTo>
                    <a:pt x="3043" y="276"/>
                  </a:lnTo>
                  <a:lnTo>
                    <a:pt x="3061" y="270"/>
                  </a:lnTo>
                  <a:lnTo>
                    <a:pt x="3079" y="264"/>
                  </a:lnTo>
                  <a:lnTo>
                    <a:pt x="3097" y="252"/>
                  </a:lnTo>
                  <a:lnTo>
                    <a:pt x="3115" y="246"/>
                  </a:lnTo>
                  <a:lnTo>
                    <a:pt x="3133" y="240"/>
                  </a:lnTo>
                  <a:lnTo>
                    <a:pt x="3151" y="234"/>
                  </a:lnTo>
                  <a:lnTo>
                    <a:pt x="3169" y="222"/>
                  </a:lnTo>
                  <a:lnTo>
                    <a:pt x="3187" y="216"/>
                  </a:lnTo>
                  <a:lnTo>
                    <a:pt x="3205" y="210"/>
                  </a:lnTo>
                  <a:lnTo>
                    <a:pt x="3223" y="198"/>
                  </a:lnTo>
                  <a:lnTo>
                    <a:pt x="3247" y="192"/>
                  </a:lnTo>
                  <a:lnTo>
                    <a:pt x="3265" y="186"/>
                  </a:lnTo>
                  <a:lnTo>
                    <a:pt x="3283" y="180"/>
                  </a:lnTo>
                  <a:lnTo>
                    <a:pt x="3301" y="168"/>
                  </a:lnTo>
                  <a:lnTo>
                    <a:pt x="3319" y="162"/>
                  </a:lnTo>
                  <a:lnTo>
                    <a:pt x="3337" y="156"/>
                  </a:lnTo>
                  <a:lnTo>
                    <a:pt x="3355" y="144"/>
                  </a:lnTo>
                  <a:lnTo>
                    <a:pt x="3373" y="138"/>
                  </a:lnTo>
                  <a:lnTo>
                    <a:pt x="3391" y="132"/>
                  </a:lnTo>
                  <a:lnTo>
                    <a:pt x="3409" y="126"/>
                  </a:lnTo>
                  <a:lnTo>
                    <a:pt x="3427" y="114"/>
                  </a:lnTo>
                  <a:lnTo>
                    <a:pt x="3451" y="108"/>
                  </a:lnTo>
                  <a:lnTo>
                    <a:pt x="3469" y="102"/>
                  </a:lnTo>
                  <a:lnTo>
                    <a:pt x="3487" y="90"/>
                  </a:lnTo>
                  <a:lnTo>
                    <a:pt x="3505" y="84"/>
                  </a:lnTo>
                  <a:lnTo>
                    <a:pt x="3523" y="78"/>
                  </a:lnTo>
                  <a:lnTo>
                    <a:pt x="3541" y="66"/>
                  </a:lnTo>
                  <a:lnTo>
                    <a:pt x="3559" y="60"/>
                  </a:lnTo>
                  <a:lnTo>
                    <a:pt x="3577" y="54"/>
                  </a:lnTo>
                  <a:lnTo>
                    <a:pt x="3595" y="48"/>
                  </a:lnTo>
                  <a:lnTo>
                    <a:pt x="3613" y="36"/>
                  </a:lnTo>
                  <a:lnTo>
                    <a:pt x="3631" y="30"/>
                  </a:lnTo>
                  <a:lnTo>
                    <a:pt x="3649" y="24"/>
                  </a:lnTo>
                  <a:lnTo>
                    <a:pt x="3673" y="12"/>
                  </a:lnTo>
                  <a:lnTo>
                    <a:pt x="3691" y="6"/>
                  </a:lnTo>
                  <a:lnTo>
                    <a:pt x="370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78" name=""/>
            <p:cNvSpPr/>
            <p:nvPr/>
          </p:nvSpPr>
          <p:spPr>
            <a:xfrm>
              <a:off x="1843200" y="2089080"/>
              <a:ext cx="2806560" cy="1133640"/>
            </a:xfrm>
            <a:custGeom>
              <a:avLst/>
              <a:gdLst/>
              <a:ahLst/>
              <a:rect l="l" t="t" r="r" b="b"/>
              <a:pathLst>
                <a:path w="3691" h="1537">
                  <a:moveTo>
                    <a:pt x="0" y="1537"/>
                  </a:moveTo>
                  <a:lnTo>
                    <a:pt x="18" y="1531"/>
                  </a:lnTo>
                  <a:lnTo>
                    <a:pt x="36" y="1525"/>
                  </a:lnTo>
                  <a:lnTo>
                    <a:pt x="60" y="1513"/>
                  </a:lnTo>
                  <a:lnTo>
                    <a:pt x="78" y="1507"/>
                  </a:lnTo>
                  <a:lnTo>
                    <a:pt x="96" y="1501"/>
                  </a:lnTo>
                  <a:lnTo>
                    <a:pt x="114" y="1489"/>
                  </a:lnTo>
                  <a:lnTo>
                    <a:pt x="132" y="1483"/>
                  </a:lnTo>
                  <a:lnTo>
                    <a:pt x="150" y="1477"/>
                  </a:lnTo>
                  <a:lnTo>
                    <a:pt x="168" y="1471"/>
                  </a:lnTo>
                  <a:lnTo>
                    <a:pt x="186" y="1459"/>
                  </a:lnTo>
                  <a:lnTo>
                    <a:pt x="204" y="1453"/>
                  </a:lnTo>
                  <a:lnTo>
                    <a:pt x="222" y="1447"/>
                  </a:lnTo>
                  <a:lnTo>
                    <a:pt x="240" y="1435"/>
                  </a:lnTo>
                  <a:lnTo>
                    <a:pt x="258" y="1429"/>
                  </a:lnTo>
                  <a:lnTo>
                    <a:pt x="282" y="1423"/>
                  </a:lnTo>
                  <a:lnTo>
                    <a:pt x="300" y="1411"/>
                  </a:lnTo>
                  <a:lnTo>
                    <a:pt x="318" y="1405"/>
                  </a:lnTo>
                  <a:lnTo>
                    <a:pt x="336" y="1399"/>
                  </a:lnTo>
                  <a:lnTo>
                    <a:pt x="354" y="1393"/>
                  </a:lnTo>
                  <a:lnTo>
                    <a:pt x="372" y="1381"/>
                  </a:lnTo>
                  <a:lnTo>
                    <a:pt x="390" y="1375"/>
                  </a:lnTo>
                  <a:lnTo>
                    <a:pt x="408" y="1369"/>
                  </a:lnTo>
                  <a:lnTo>
                    <a:pt x="426" y="1357"/>
                  </a:lnTo>
                  <a:lnTo>
                    <a:pt x="444" y="1351"/>
                  </a:lnTo>
                  <a:lnTo>
                    <a:pt x="462" y="1345"/>
                  </a:lnTo>
                  <a:lnTo>
                    <a:pt x="486" y="1339"/>
                  </a:lnTo>
                  <a:lnTo>
                    <a:pt x="504" y="1327"/>
                  </a:lnTo>
                  <a:lnTo>
                    <a:pt x="522" y="1321"/>
                  </a:lnTo>
                  <a:lnTo>
                    <a:pt x="540" y="1315"/>
                  </a:lnTo>
                  <a:lnTo>
                    <a:pt x="558" y="1303"/>
                  </a:lnTo>
                  <a:lnTo>
                    <a:pt x="576" y="1297"/>
                  </a:lnTo>
                  <a:lnTo>
                    <a:pt x="594" y="1291"/>
                  </a:lnTo>
                  <a:lnTo>
                    <a:pt x="612" y="1285"/>
                  </a:lnTo>
                  <a:lnTo>
                    <a:pt x="630" y="1273"/>
                  </a:lnTo>
                  <a:lnTo>
                    <a:pt x="648" y="1267"/>
                  </a:lnTo>
                  <a:lnTo>
                    <a:pt x="666" y="1261"/>
                  </a:lnTo>
                  <a:lnTo>
                    <a:pt x="684" y="1248"/>
                  </a:lnTo>
                  <a:lnTo>
                    <a:pt x="708" y="1242"/>
                  </a:lnTo>
                  <a:lnTo>
                    <a:pt x="726" y="1236"/>
                  </a:lnTo>
                  <a:lnTo>
                    <a:pt x="744" y="1230"/>
                  </a:lnTo>
                  <a:lnTo>
                    <a:pt x="762" y="1218"/>
                  </a:lnTo>
                  <a:lnTo>
                    <a:pt x="780" y="1212"/>
                  </a:lnTo>
                  <a:lnTo>
                    <a:pt x="798" y="1206"/>
                  </a:lnTo>
                  <a:lnTo>
                    <a:pt x="816" y="1194"/>
                  </a:lnTo>
                  <a:lnTo>
                    <a:pt x="834" y="1188"/>
                  </a:lnTo>
                  <a:lnTo>
                    <a:pt x="852" y="1182"/>
                  </a:lnTo>
                  <a:lnTo>
                    <a:pt x="870" y="1176"/>
                  </a:lnTo>
                  <a:lnTo>
                    <a:pt x="888" y="1164"/>
                  </a:lnTo>
                  <a:lnTo>
                    <a:pt x="912" y="1158"/>
                  </a:lnTo>
                  <a:lnTo>
                    <a:pt x="930" y="1152"/>
                  </a:lnTo>
                  <a:lnTo>
                    <a:pt x="948" y="1140"/>
                  </a:lnTo>
                  <a:lnTo>
                    <a:pt x="966" y="1134"/>
                  </a:lnTo>
                  <a:lnTo>
                    <a:pt x="984" y="1128"/>
                  </a:lnTo>
                  <a:lnTo>
                    <a:pt x="1002" y="1122"/>
                  </a:lnTo>
                  <a:lnTo>
                    <a:pt x="1020" y="1110"/>
                  </a:lnTo>
                  <a:lnTo>
                    <a:pt x="1038" y="1104"/>
                  </a:lnTo>
                  <a:lnTo>
                    <a:pt x="1056" y="1098"/>
                  </a:lnTo>
                  <a:lnTo>
                    <a:pt x="1074" y="1086"/>
                  </a:lnTo>
                  <a:lnTo>
                    <a:pt x="1092" y="1080"/>
                  </a:lnTo>
                  <a:lnTo>
                    <a:pt x="1116" y="1074"/>
                  </a:lnTo>
                  <a:lnTo>
                    <a:pt x="1134" y="1068"/>
                  </a:lnTo>
                  <a:lnTo>
                    <a:pt x="1152" y="1056"/>
                  </a:lnTo>
                  <a:lnTo>
                    <a:pt x="1170" y="1050"/>
                  </a:lnTo>
                  <a:lnTo>
                    <a:pt x="1188" y="1044"/>
                  </a:lnTo>
                  <a:lnTo>
                    <a:pt x="1206" y="1032"/>
                  </a:lnTo>
                  <a:lnTo>
                    <a:pt x="1224" y="1026"/>
                  </a:lnTo>
                  <a:lnTo>
                    <a:pt x="1242" y="1020"/>
                  </a:lnTo>
                  <a:lnTo>
                    <a:pt x="1260" y="1008"/>
                  </a:lnTo>
                  <a:lnTo>
                    <a:pt x="1278" y="1002"/>
                  </a:lnTo>
                  <a:lnTo>
                    <a:pt x="1296" y="996"/>
                  </a:lnTo>
                  <a:lnTo>
                    <a:pt x="1314" y="990"/>
                  </a:lnTo>
                  <a:lnTo>
                    <a:pt x="1338" y="978"/>
                  </a:lnTo>
                  <a:lnTo>
                    <a:pt x="1356" y="972"/>
                  </a:lnTo>
                  <a:lnTo>
                    <a:pt x="1374" y="966"/>
                  </a:lnTo>
                  <a:lnTo>
                    <a:pt x="1392" y="954"/>
                  </a:lnTo>
                  <a:lnTo>
                    <a:pt x="1410" y="948"/>
                  </a:lnTo>
                  <a:lnTo>
                    <a:pt x="1428" y="942"/>
                  </a:lnTo>
                  <a:lnTo>
                    <a:pt x="1446" y="936"/>
                  </a:lnTo>
                  <a:lnTo>
                    <a:pt x="1464" y="924"/>
                  </a:lnTo>
                  <a:lnTo>
                    <a:pt x="1482" y="918"/>
                  </a:lnTo>
                  <a:lnTo>
                    <a:pt x="1500" y="912"/>
                  </a:lnTo>
                  <a:lnTo>
                    <a:pt x="1518" y="900"/>
                  </a:lnTo>
                  <a:lnTo>
                    <a:pt x="1542" y="894"/>
                  </a:lnTo>
                  <a:lnTo>
                    <a:pt x="1560" y="888"/>
                  </a:lnTo>
                  <a:lnTo>
                    <a:pt x="1578" y="882"/>
                  </a:lnTo>
                  <a:lnTo>
                    <a:pt x="1596" y="870"/>
                  </a:lnTo>
                  <a:lnTo>
                    <a:pt x="1614" y="864"/>
                  </a:lnTo>
                  <a:lnTo>
                    <a:pt x="1632" y="858"/>
                  </a:lnTo>
                  <a:lnTo>
                    <a:pt x="1650" y="846"/>
                  </a:lnTo>
                  <a:lnTo>
                    <a:pt x="1668" y="840"/>
                  </a:lnTo>
                  <a:lnTo>
                    <a:pt x="1686" y="834"/>
                  </a:lnTo>
                  <a:lnTo>
                    <a:pt x="1704" y="828"/>
                  </a:lnTo>
                  <a:lnTo>
                    <a:pt x="1722" y="816"/>
                  </a:lnTo>
                  <a:lnTo>
                    <a:pt x="1740" y="810"/>
                  </a:lnTo>
                  <a:lnTo>
                    <a:pt x="1765" y="804"/>
                  </a:lnTo>
                  <a:lnTo>
                    <a:pt x="1783" y="792"/>
                  </a:lnTo>
                  <a:lnTo>
                    <a:pt x="1801" y="786"/>
                  </a:lnTo>
                  <a:lnTo>
                    <a:pt x="1819" y="780"/>
                  </a:lnTo>
                  <a:lnTo>
                    <a:pt x="1837" y="774"/>
                  </a:lnTo>
                  <a:lnTo>
                    <a:pt x="1855" y="762"/>
                  </a:lnTo>
                  <a:lnTo>
                    <a:pt x="1873" y="756"/>
                  </a:lnTo>
                  <a:lnTo>
                    <a:pt x="1891" y="750"/>
                  </a:lnTo>
                  <a:lnTo>
                    <a:pt x="1909" y="738"/>
                  </a:lnTo>
                  <a:lnTo>
                    <a:pt x="1927" y="732"/>
                  </a:lnTo>
                  <a:lnTo>
                    <a:pt x="1945" y="726"/>
                  </a:lnTo>
                  <a:lnTo>
                    <a:pt x="1969" y="720"/>
                  </a:lnTo>
                  <a:lnTo>
                    <a:pt x="1987" y="708"/>
                  </a:lnTo>
                  <a:lnTo>
                    <a:pt x="2005" y="702"/>
                  </a:lnTo>
                  <a:lnTo>
                    <a:pt x="2023" y="696"/>
                  </a:lnTo>
                  <a:lnTo>
                    <a:pt x="2041" y="684"/>
                  </a:lnTo>
                  <a:lnTo>
                    <a:pt x="2059" y="678"/>
                  </a:lnTo>
                  <a:lnTo>
                    <a:pt x="2077" y="672"/>
                  </a:lnTo>
                  <a:lnTo>
                    <a:pt x="2095" y="666"/>
                  </a:lnTo>
                  <a:lnTo>
                    <a:pt x="2113" y="654"/>
                  </a:lnTo>
                  <a:lnTo>
                    <a:pt x="2131" y="648"/>
                  </a:lnTo>
                  <a:lnTo>
                    <a:pt x="2149" y="642"/>
                  </a:lnTo>
                  <a:lnTo>
                    <a:pt x="2167" y="630"/>
                  </a:lnTo>
                  <a:lnTo>
                    <a:pt x="2191" y="624"/>
                  </a:lnTo>
                  <a:lnTo>
                    <a:pt x="2209" y="618"/>
                  </a:lnTo>
                  <a:lnTo>
                    <a:pt x="2227" y="606"/>
                  </a:lnTo>
                  <a:lnTo>
                    <a:pt x="2245" y="600"/>
                  </a:lnTo>
                  <a:lnTo>
                    <a:pt x="2263" y="600"/>
                  </a:lnTo>
                  <a:lnTo>
                    <a:pt x="2281" y="594"/>
                  </a:lnTo>
                  <a:lnTo>
                    <a:pt x="2299" y="582"/>
                  </a:lnTo>
                  <a:lnTo>
                    <a:pt x="2317" y="576"/>
                  </a:lnTo>
                  <a:lnTo>
                    <a:pt x="2335" y="570"/>
                  </a:lnTo>
                  <a:lnTo>
                    <a:pt x="2353" y="558"/>
                  </a:lnTo>
                  <a:lnTo>
                    <a:pt x="2371" y="552"/>
                  </a:lnTo>
                  <a:lnTo>
                    <a:pt x="2395" y="546"/>
                  </a:lnTo>
                  <a:lnTo>
                    <a:pt x="2413" y="540"/>
                  </a:lnTo>
                  <a:lnTo>
                    <a:pt x="2431" y="528"/>
                  </a:lnTo>
                  <a:lnTo>
                    <a:pt x="2449" y="522"/>
                  </a:lnTo>
                  <a:lnTo>
                    <a:pt x="2467" y="516"/>
                  </a:lnTo>
                  <a:lnTo>
                    <a:pt x="2485" y="504"/>
                  </a:lnTo>
                  <a:lnTo>
                    <a:pt x="2503" y="498"/>
                  </a:lnTo>
                  <a:lnTo>
                    <a:pt x="2521" y="492"/>
                  </a:lnTo>
                  <a:lnTo>
                    <a:pt x="2539" y="486"/>
                  </a:lnTo>
                  <a:lnTo>
                    <a:pt x="2557" y="474"/>
                  </a:lnTo>
                  <a:lnTo>
                    <a:pt x="2575" y="468"/>
                  </a:lnTo>
                  <a:lnTo>
                    <a:pt x="2599" y="462"/>
                  </a:lnTo>
                  <a:lnTo>
                    <a:pt x="2617" y="450"/>
                  </a:lnTo>
                  <a:lnTo>
                    <a:pt x="2635" y="444"/>
                  </a:lnTo>
                  <a:lnTo>
                    <a:pt x="2653" y="438"/>
                  </a:lnTo>
                  <a:lnTo>
                    <a:pt x="2671" y="432"/>
                  </a:lnTo>
                  <a:lnTo>
                    <a:pt x="2689" y="420"/>
                  </a:lnTo>
                  <a:lnTo>
                    <a:pt x="2707" y="414"/>
                  </a:lnTo>
                  <a:lnTo>
                    <a:pt x="2725" y="408"/>
                  </a:lnTo>
                  <a:lnTo>
                    <a:pt x="2743" y="396"/>
                  </a:lnTo>
                  <a:lnTo>
                    <a:pt x="2761" y="390"/>
                  </a:lnTo>
                  <a:lnTo>
                    <a:pt x="2779" y="384"/>
                  </a:lnTo>
                  <a:lnTo>
                    <a:pt x="2797" y="378"/>
                  </a:lnTo>
                  <a:lnTo>
                    <a:pt x="2821" y="366"/>
                  </a:lnTo>
                  <a:lnTo>
                    <a:pt x="2839" y="360"/>
                  </a:lnTo>
                  <a:lnTo>
                    <a:pt x="2857" y="354"/>
                  </a:lnTo>
                  <a:lnTo>
                    <a:pt x="2875" y="342"/>
                  </a:lnTo>
                  <a:lnTo>
                    <a:pt x="2893" y="336"/>
                  </a:lnTo>
                  <a:lnTo>
                    <a:pt x="2911" y="330"/>
                  </a:lnTo>
                  <a:lnTo>
                    <a:pt x="2929" y="324"/>
                  </a:lnTo>
                  <a:lnTo>
                    <a:pt x="2947" y="312"/>
                  </a:lnTo>
                  <a:lnTo>
                    <a:pt x="2965" y="306"/>
                  </a:lnTo>
                  <a:lnTo>
                    <a:pt x="2983" y="300"/>
                  </a:lnTo>
                  <a:lnTo>
                    <a:pt x="3001" y="288"/>
                  </a:lnTo>
                  <a:lnTo>
                    <a:pt x="3025" y="282"/>
                  </a:lnTo>
                  <a:lnTo>
                    <a:pt x="3043" y="276"/>
                  </a:lnTo>
                  <a:lnTo>
                    <a:pt x="3061" y="270"/>
                  </a:lnTo>
                  <a:lnTo>
                    <a:pt x="3079" y="258"/>
                  </a:lnTo>
                  <a:lnTo>
                    <a:pt x="3097" y="252"/>
                  </a:lnTo>
                  <a:lnTo>
                    <a:pt x="3115" y="246"/>
                  </a:lnTo>
                  <a:lnTo>
                    <a:pt x="3133" y="234"/>
                  </a:lnTo>
                  <a:lnTo>
                    <a:pt x="3151" y="228"/>
                  </a:lnTo>
                  <a:lnTo>
                    <a:pt x="3169" y="222"/>
                  </a:lnTo>
                  <a:lnTo>
                    <a:pt x="3187" y="210"/>
                  </a:lnTo>
                  <a:lnTo>
                    <a:pt x="3205" y="204"/>
                  </a:lnTo>
                  <a:lnTo>
                    <a:pt x="3223" y="198"/>
                  </a:lnTo>
                  <a:lnTo>
                    <a:pt x="3247" y="192"/>
                  </a:lnTo>
                  <a:lnTo>
                    <a:pt x="3265" y="180"/>
                  </a:lnTo>
                  <a:lnTo>
                    <a:pt x="3283" y="174"/>
                  </a:lnTo>
                  <a:lnTo>
                    <a:pt x="3301" y="168"/>
                  </a:lnTo>
                  <a:lnTo>
                    <a:pt x="3319" y="156"/>
                  </a:lnTo>
                  <a:lnTo>
                    <a:pt x="3337" y="150"/>
                  </a:lnTo>
                  <a:lnTo>
                    <a:pt x="3355" y="144"/>
                  </a:lnTo>
                  <a:lnTo>
                    <a:pt x="3373" y="138"/>
                  </a:lnTo>
                  <a:lnTo>
                    <a:pt x="3391" y="126"/>
                  </a:lnTo>
                  <a:lnTo>
                    <a:pt x="3409" y="120"/>
                  </a:lnTo>
                  <a:lnTo>
                    <a:pt x="3427" y="114"/>
                  </a:lnTo>
                  <a:lnTo>
                    <a:pt x="3451" y="102"/>
                  </a:lnTo>
                  <a:lnTo>
                    <a:pt x="3469" y="96"/>
                  </a:lnTo>
                  <a:lnTo>
                    <a:pt x="3487" y="90"/>
                  </a:lnTo>
                  <a:lnTo>
                    <a:pt x="3505" y="84"/>
                  </a:lnTo>
                  <a:lnTo>
                    <a:pt x="3523" y="72"/>
                  </a:lnTo>
                  <a:lnTo>
                    <a:pt x="3541" y="66"/>
                  </a:lnTo>
                  <a:lnTo>
                    <a:pt x="3559" y="60"/>
                  </a:lnTo>
                  <a:lnTo>
                    <a:pt x="3577" y="48"/>
                  </a:lnTo>
                  <a:lnTo>
                    <a:pt x="3595" y="42"/>
                  </a:lnTo>
                  <a:lnTo>
                    <a:pt x="3613" y="36"/>
                  </a:lnTo>
                  <a:lnTo>
                    <a:pt x="3631" y="30"/>
                  </a:lnTo>
                  <a:lnTo>
                    <a:pt x="3649" y="18"/>
                  </a:lnTo>
                  <a:lnTo>
                    <a:pt x="3673" y="12"/>
                  </a:lnTo>
                  <a:lnTo>
                    <a:pt x="3691"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79" name=""/>
            <p:cNvSpPr/>
            <p:nvPr/>
          </p:nvSpPr>
          <p:spPr>
            <a:xfrm>
              <a:off x="5208480" y="5294160"/>
              <a:ext cx="2567160" cy="957240"/>
            </a:xfrm>
            <a:custGeom>
              <a:avLst/>
              <a:gdLst/>
              <a:ahLst/>
              <a:rect l="l" t="t" r="r" b="b"/>
              <a:pathLst>
                <a:path w="3709" h="1429">
                  <a:moveTo>
                    <a:pt x="0" y="1429"/>
                  </a:moveTo>
                  <a:lnTo>
                    <a:pt x="18" y="1417"/>
                  </a:lnTo>
                  <a:lnTo>
                    <a:pt x="36" y="1411"/>
                  </a:lnTo>
                  <a:lnTo>
                    <a:pt x="60" y="1405"/>
                  </a:lnTo>
                  <a:lnTo>
                    <a:pt x="78" y="1399"/>
                  </a:lnTo>
                  <a:lnTo>
                    <a:pt x="96" y="1393"/>
                  </a:lnTo>
                  <a:lnTo>
                    <a:pt x="114" y="1381"/>
                  </a:lnTo>
                  <a:lnTo>
                    <a:pt x="132" y="1375"/>
                  </a:lnTo>
                  <a:lnTo>
                    <a:pt x="150" y="1369"/>
                  </a:lnTo>
                  <a:lnTo>
                    <a:pt x="168" y="1363"/>
                  </a:lnTo>
                  <a:lnTo>
                    <a:pt x="186" y="1357"/>
                  </a:lnTo>
                  <a:lnTo>
                    <a:pt x="204" y="1345"/>
                  </a:lnTo>
                  <a:lnTo>
                    <a:pt x="222" y="1339"/>
                  </a:lnTo>
                  <a:lnTo>
                    <a:pt x="240" y="1333"/>
                  </a:lnTo>
                  <a:lnTo>
                    <a:pt x="258" y="1327"/>
                  </a:lnTo>
                  <a:lnTo>
                    <a:pt x="282" y="1321"/>
                  </a:lnTo>
                  <a:lnTo>
                    <a:pt x="300" y="1315"/>
                  </a:lnTo>
                  <a:lnTo>
                    <a:pt x="318" y="1303"/>
                  </a:lnTo>
                  <a:lnTo>
                    <a:pt x="336" y="1297"/>
                  </a:lnTo>
                  <a:lnTo>
                    <a:pt x="354" y="1291"/>
                  </a:lnTo>
                  <a:lnTo>
                    <a:pt x="372" y="1285"/>
                  </a:lnTo>
                  <a:lnTo>
                    <a:pt x="390" y="1279"/>
                  </a:lnTo>
                  <a:lnTo>
                    <a:pt x="408" y="1267"/>
                  </a:lnTo>
                  <a:lnTo>
                    <a:pt x="426" y="1261"/>
                  </a:lnTo>
                  <a:lnTo>
                    <a:pt x="444" y="1255"/>
                  </a:lnTo>
                  <a:lnTo>
                    <a:pt x="462" y="1249"/>
                  </a:lnTo>
                  <a:lnTo>
                    <a:pt x="486" y="1243"/>
                  </a:lnTo>
                  <a:lnTo>
                    <a:pt x="504" y="1231"/>
                  </a:lnTo>
                  <a:lnTo>
                    <a:pt x="522" y="1225"/>
                  </a:lnTo>
                  <a:lnTo>
                    <a:pt x="540" y="1219"/>
                  </a:lnTo>
                  <a:lnTo>
                    <a:pt x="558" y="1213"/>
                  </a:lnTo>
                  <a:lnTo>
                    <a:pt x="576" y="1207"/>
                  </a:lnTo>
                  <a:lnTo>
                    <a:pt x="594" y="1195"/>
                  </a:lnTo>
                  <a:lnTo>
                    <a:pt x="612" y="1189"/>
                  </a:lnTo>
                  <a:lnTo>
                    <a:pt x="630" y="1183"/>
                  </a:lnTo>
                  <a:lnTo>
                    <a:pt x="648" y="1177"/>
                  </a:lnTo>
                  <a:lnTo>
                    <a:pt x="666" y="1171"/>
                  </a:lnTo>
                  <a:lnTo>
                    <a:pt x="684" y="1165"/>
                  </a:lnTo>
                  <a:lnTo>
                    <a:pt x="708" y="1153"/>
                  </a:lnTo>
                  <a:lnTo>
                    <a:pt x="726" y="1147"/>
                  </a:lnTo>
                  <a:lnTo>
                    <a:pt x="744" y="1141"/>
                  </a:lnTo>
                  <a:lnTo>
                    <a:pt x="762" y="1135"/>
                  </a:lnTo>
                  <a:lnTo>
                    <a:pt x="780" y="1129"/>
                  </a:lnTo>
                  <a:lnTo>
                    <a:pt x="798" y="1117"/>
                  </a:lnTo>
                  <a:lnTo>
                    <a:pt x="816" y="1111"/>
                  </a:lnTo>
                  <a:lnTo>
                    <a:pt x="834" y="1105"/>
                  </a:lnTo>
                  <a:lnTo>
                    <a:pt x="852" y="1099"/>
                  </a:lnTo>
                  <a:lnTo>
                    <a:pt x="870" y="1093"/>
                  </a:lnTo>
                  <a:lnTo>
                    <a:pt x="888" y="1081"/>
                  </a:lnTo>
                  <a:lnTo>
                    <a:pt x="912" y="1075"/>
                  </a:lnTo>
                  <a:lnTo>
                    <a:pt x="930" y="1069"/>
                  </a:lnTo>
                  <a:lnTo>
                    <a:pt x="948" y="1063"/>
                  </a:lnTo>
                  <a:lnTo>
                    <a:pt x="966" y="1057"/>
                  </a:lnTo>
                  <a:lnTo>
                    <a:pt x="984" y="1045"/>
                  </a:lnTo>
                  <a:lnTo>
                    <a:pt x="1002" y="1039"/>
                  </a:lnTo>
                  <a:lnTo>
                    <a:pt x="1020" y="1033"/>
                  </a:lnTo>
                  <a:lnTo>
                    <a:pt x="1038" y="1027"/>
                  </a:lnTo>
                  <a:lnTo>
                    <a:pt x="1056" y="1021"/>
                  </a:lnTo>
                  <a:lnTo>
                    <a:pt x="1074" y="1015"/>
                  </a:lnTo>
                  <a:lnTo>
                    <a:pt x="1092" y="1003"/>
                  </a:lnTo>
                  <a:lnTo>
                    <a:pt x="1116" y="997"/>
                  </a:lnTo>
                  <a:lnTo>
                    <a:pt x="1134" y="991"/>
                  </a:lnTo>
                  <a:lnTo>
                    <a:pt x="1152" y="985"/>
                  </a:lnTo>
                  <a:lnTo>
                    <a:pt x="1170" y="979"/>
                  </a:lnTo>
                  <a:lnTo>
                    <a:pt x="1188" y="967"/>
                  </a:lnTo>
                  <a:lnTo>
                    <a:pt x="1206" y="961"/>
                  </a:lnTo>
                  <a:lnTo>
                    <a:pt x="1224" y="955"/>
                  </a:lnTo>
                  <a:lnTo>
                    <a:pt x="1242" y="949"/>
                  </a:lnTo>
                  <a:lnTo>
                    <a:pt x="1260" y="943"/>
                  </a:lnTo>
                  <a:lnTo>
                    <a:pt x="1278" y="931"/>
                  </a:lnTo>
                  <a:lnTo>
                    <a:pt x="1296" y="925"/>
                  </a:lnTo>
                  <a:lnTo>
                    <a:pt x="1314" y="919"/>
                  </a:lnTo>
                  <a:lnTo>
                    <a:pt x="1338" y="913"/>
                  </a:lnTo>
                  <a:lnTo>
                    <a:pt x="1356" y="907"/>
                  </a:lnTo>
                  <a:lnTo>
                    <a:pt x="1374" y="895"/>
                  </a:lnTo>
                  <a:lnTo>
                    <a:pt x="1392" y="889"/>
                  </a:lnTo>
                  <a:lnTo>
                    <a:pt x="1410" y="883"/>
                  </a:lnTo>
                  <a:lnTo>
                    <a:pt x="1428" y="877"/>
                  </a:lnTo>
                  <a:lnTo>
                    <a:pt x="1446" y="871"/>
                  </a:lnTo>
                  <a:lnTo>
                    <a:pt x="1464" y="865"/>
                  </a:lnTo>
                  <a:lnTo>
                    <a:pt x="1482" y="853"/>
                  </a:lnTo>
                  <a:lnTo>
                    <a:pt x="1500" y="847"/>
                  </a:lnTo>
                  <a:lnTo>
                    <a:pt x="1518" y="841"/>
                  </a:lnTo>
                  <a:lnTo>
                    <a:pt x="1542" y="835"/>
                  </a:lnTo>
                  <a:lnTo>
                    <a:pt x="1560" y="829"/>
                  </a:lnTo>
                  <a:lnTo>
                    <a:pt x="1578" y="817"/>
                  </a:lnTo>
                  <a:lnTo>
                    <a:pt x="1596" y="811"/>
                  </a:lnTo>
                  <a:lnTo>
                    <a:pt x="1614" y="805"/>
                  </a:lnTo>
                  <a:lnTo>
                    <a:pt x="1632" y="799"/>
                  </a:lnTo>
                  <a:lnTo>
                    <a:pt x="1650" y="793"/>
                  </a:lnTo>
                  <a:lnTo>
                    <a:pt x="1668" y="781"/>
                  </a:lnTo>
                  <a:lnTo>
                    <a:pt x="1686" y="775"/>
                  </a:lnTo>
                  <a:lnTo>
                    <a:pt x="1704" y="769"/>
                  </a:lnTo>
                  <a:lnTo>
                    <a:pt x="1722" y="763"/>
                  </a:lnTo>
                  <a:lnTo>
                    <a:pt x="1740" y="757"/>
                  </a:lnTo>
                  <a:lnTo>
                    <a:pt x="1765" y="745"/>
                  </a:lnTo>
                  <a:lnTo>
                    <a:pt x="1783" y="739"/>
                  </a:lnTo>
                  <a:lnTo>
                    <a:pt x="1801" y="733"/>
                  </a:lnTo>
                  <a:lnTo>
                    <a:pt x="1819" y="727"/>
                  </a:lnTo>
                  <a:lnTo>
                    <a:pt x="1837" y="721"/>
                  </a:lnTo>
                  <a:lnTo>
                    <a:pt x="1855" y="715"/>
                  </a:lnTo>
                  <a:lnTo>
                    <a:pt x="1873" y="703"/>
                  </a:lnTo>
                  <a:lnTo>
                    <a:pt x="1891" y="697"/>
                  </a:lnTo>
                  <a:lnTo>
                    <a:pt x="1909" y="691"/>
                  </a:lnTo>
                  <a:lnTo>
                    <a:pt x="1927" y="685"/>
                  </a:lnTo>
                  <a:lnTo>
                    <a:pt x="1945" y="679"/>
                  </a:lnTo>
                  <a:lnTo>
                    <a:pt x="1969" y="667"/>
                  </a:lnTo>
                  <a:lnTo>
                    <a:pt x="1987" y="661"/>
                  </a:lnTo>
                  <a:lnTo>
                    <a:pt x="2005" y="655"/>
                  </a:lnTo>
                  <a:lnTo>
                    <a:pt x="2023" y="649"/>
                  </a:lnTo>
                  <a:lnTo>
                    <a:pt x="2041" y="643"/>
                  </a:lnTo>
                  <a:lnTo>
                    <a:pt x="2059" y="631"/>
                  </a:lnTo>
                  <a:lnTo>
                    <a:pt x="2077" y="625"/>
                  </a:lnTo>
                  <a:lnTo>
                    <a:pt x="2095" y="619"/>
                  </a:lnTo>
                  <a:lnTo>
                    <a:pt x="2113" y="613"/>
                  </a:lnTo>
                  <a:lnTo>
                    <a:pt x="2131" y="607"/>
                  </a:lnTo>
                  <a:lnTo>
                    <a:pt x="2149" y="595"/>
                  </a:lnTo>
                  <a:lnTo>
                    <a:pt x="2167" y="589"/>
                  </a:lnTo>
                  <a:lnTo>
                    <a:pt x="2191" y="583"/>
                  </a:lnTo>
                  <a:lnTo>
                    <a:pt x="2209" y="577"/>
                  </a:lnTo>
                  <a:lnTo>
                    <a:pt x="2227" y="571"/>
                  </a:lnTo>
                  <a:lnTo>
                    <a:pt x="2245" y="565"/>
                  </a:lnTo>
                  <a:lnTo>
                    <a:pt x="2263" y="553"/>
                  </a:lnTo>
                  <a:lnTo>
                    <a:pt x="2281" y="547"/>
                  </a:lnTo>
                  <a:lnTo>
                    <a:pt x="2299" y="541"/>
                  </a:lnTo>
                  <a:lnTo>
                    <a:pt x="2317" y="535"/>
                  </a:lnTo>
                  <a:lnTo>
                    <a:pt x="2335" y="529"/>
                  </a:lnTo>
                  <a:lnTo>
                    <a:pt x="2353" y="517"/>
                  </a:lnTo>
                  <a:lnTo>
                    <a:pt x="2371" y="511"/>
                  </a:lnTo>
                  <a:lnTo>
                    <a:pt x="2395" y="505"/>
                  </a:lnTo>
                  <a:lnTo>
                    <a:pt x="2413" y="499"/>
                  </a:lnTo>
                  <a:lnTo>
                    <a:pt x="2431" y="493"/>
                  </a:lnTo>
                  <a:lnTo>
                    <a:pt x="2449" y="481"/>
                  </a:lnTo>
                  <a:lnTo>
                    <a:pt x="2467" y="475"/>
                  </a:lnTo>
                  <a:lnTo>
                    <a:pt x="2485" y="469"/>
                  </a:lnTo>
                  <a:lnTo>
                    <a:pt x="2503" y="463"/>
                  </a:lnTo>
                  <a:lnTo>
                    <a:pt x="2521" y="457"/>
                  </a:lnTo>
                  <a:lnTo>
                    <a:pt x="2539" y="451"/>
                  </a:lnTo>
                  <a:lnTo>
                    <a:pt x="2557" y="439"/>
                  </a:lnTo>
                  <a:lnTo>
                    <a:pt x="2575" y="433"/>
                  </a:lnTo>
                  <a:lnTo>
                    <a:pt x="2599" y="427"/>
                  </a:lnTo>
                  <a:lnTo>
                    <a:pt x="2617" y="421"/>
                  </a:lnTo>
                  <a:lnTo>
                    <a:pt x="2635" y="415"/>
                  </a:lnTo>
                  <a:lnTo>
                    <a:pt x="2653" y="403"/>
                  </a:lnTo>
                  <a:lnTo>
                    <a:pt x="2671" y="397"/>
                  </a:lnTo>
                  <a:lnTo>
                    <a:pt x="2689" y="391"/>
                  </a:lnTo>
                  <a:lnTo>
                    <a:pt x="2707" y="385"/>
                  </a:lnTo>
                  <a:lnTo>
                    <a:pt x="2725" y="379"/>
                  </a:lnTo>
                  <a:lnTo>
                    <a:pt x="2743" y="367"/>
                  </a:lnTo>
                  <a:lnTo>
                    <a:pt x="2761" y="361"/>
                  </a:lnTo>
                  <a:lnTo>
                    <a:pt x="2779" y="355"/>
                  </a:lnTo>
                  <a:lnTo>
                    <a:pt x="2797" y="349"/>
                  </a:lnTo>
                  <a:lnTo>
                    <a:pt x="2821" y="343"/>
                  </a:lnTo>
                  <a:lnTo>
                    <a:pt x="2839" y="331"/>
                  </a:lnTo>
                  <a:lnTo>
                    <a:pt x="2857" y="325"/>
                  </a:lnTo>
                  <a:lnTo>
                    <a:pt x="2875" y="319"/>
                  </a:lnTo>
                  <a:lnTo>
                    <a:pt x="2893" y="313"/>
                  </a:lnTo>
                  <a:lnTo>
                    <a:pt x="2911" y="307"/>
                  </a:lnTo>
                  <a:lnTo>
                    <a:pt x="2929" y="301"/>
                  </a:lnTo>
                  <a:lnTo>
                    <a:pt x="2947" y="289"/>
                  </a:lnTo>
                  <a:lnTo>
                    <a:pt x="2965" y="283"/>
                  </a:lnTo>
                  <a:lnTo>
                    <a:pt x="2983" y="277"/>
                  </a:lnTo>
                  <a:lnTo>
                    <a:pt x="3001" y="271"/>
                  </a:lnTo>
                  <a:lnTo>
                    <a:pt x="3025" y="265"/>
                  </a:lnTo>
                  <a:lnTo>
                    <a:pt x="3043" y="253"/>
                  </a:lnTo>
                  <a:lnTo>
                    <a:pt x="3061" y="247"/>
                  </a:lnTo>
                  <a:lnTo>
                    <a:pt x="3079" y="240"/>
                  </a:lnTo>
                  <a:lnTo>
                    <a:pt x="3097" y="234"/>
                  </a:lnTo>
                  <a:lnTo>
                    <a:pt x="3115" y="228"/>
                  </a:lnTo>
                  <a:lnTo>
                    <a:pt x="3133" y="216"/>
                  </a:lnTo>
                  <a:lnTo>
                    <a:pt x="3151" y="210"/>
                  </a:lnTo>
                  <a:lnTo>
                    <a:pt x="3169" y="204"/>
                  </a:lnTo>
                  <a:lnTo>
                    <a:pt x="3187" y="198"/>
                  </a:lnTo>
                  <a:lnTo>
                    <a:pt x="3205" y="192"/>
                  </a:lnTo>
                  <a:lnTo>
                    <a:pt x="3223" y="180"/>
                  </a:lnTo>
                  <a:lnTo>
                    <a:pt x="3247" y="174"/>
                  </a:lnTo>
                  <a:lnTo>
                    <a:pt x="3265" y="168"/>
                  </a:lnTo>
                  <a:lnTo>
                    <a:pt x="3283" y="162"/>
                  </a:lnTo>
                  <a:lnTo>
                    <a:pt x="3301" y="156"/>
                  </a:lnTo>
                  <a:lnTo>
                    <a:pt x="3319" y="150"/>
                  </a:lnTo>
                  <a:lnTo>
                    <a:pt x="3337" y="138"/>
                  </a:lnTo>
                  <a:lnTo>
                    <a:pt x="3355" y="132"/>
                  </a:lnTo>
                  <a:lnTo>
                    <a:pt x="3373" y="126"/>
                  </a:lnTo>
                  <a:lnTo>
                    <a:pt x="3391" y="120"/>
                  </a:lnTo>
                  <a:lnTo>
                    <a:pt x="3409" y="114"/>
                  </a:lnTo>
                  <a:lnTo>
                    <a:pt x="3427" y="102"/>
                  </a:lnTo>
                  <a:lnTo>
                    <a:pt x="3451" y="96"/>
                  </a:lnTo>
                  <a:lnTo>
                    <a:pt x="3469" y="90"/>
                  </a:lnTo>
                  <a:lnTo>
                    <a:pt x="3487" y="84"/>
                  </a:lnTo>
                  <a:lnTo>
                    <a:pt x="3505" y="78"/>
                  </a:lnTo>
                  <a:lnTo>
                    <a:pt x="3523" y="66"/>
                  </a:lnTo>
                  <a:lnTo>
                    <a:pt x="3541" y="60"/>
                  </a:lnTo>
                  <a:lnTo>
                    <a:pt x="3559" y="54"/>
                  </a:lnTo>
                  <a:lnTo>
                    <a:pt x="3577" y="48"/>
                  </a:lnTo>
                  <a:lnTo>
                    <a:pt x="3595" y="42"/>
                  </a:lnTo>
                  <a:lnTo>
                    <a:pt x="3613" y="30"/>
                  </a:lnTo>
                  <a:lnTo>
                    <a:pt x="3631" y="24"/>
                  </a:lnTo>
                  <a:lnTo>
                    <a:pt x="3649" y="18"/>
                  </a:lnTo>
                  <a:lnTo>
                    <a:pt x="3673" y="12"/>
                  </a:lnTo>
                  <a:lnTo>
                    <a:pt x="3691" y="6"/>
                  </a:lnTo>
                  <a:lnTo>
                    <a:pt x="370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80" name=""/>
            <p:cNvSpPr/>
            <p:nvPr/>
          </p:nvSpPr>
          <p:spPr>
            <a:xfrm>
              <a:off x="1859040" y="2093760"/>
              <a:ext cx="2574720" cy="960480"/>
            </a:xfrm>
            <a:custGeom>
              <a:avLst/>
              <a:gdLst/>
              <a:ahLst/>
              <a:rect l="l" t="t" r="r" b="b"/>
              <a:pathLst>
                <a:path w="3709" h="1423">
                  <a:moveTo>
                    <a:pt x="0" y="1423"/>
                  </a:moveTo>
                  <a:lnTo>
                    <a:pt x="18" y="1417"/>
                  </a:lnTo>
                  <a:lnTo>
                    <a:pt x="36" y="1411"/>
                  </a:lnTo>
                  <a:lnTo>
                    <a:pt x="60" y="1405"/>
                  </a:lnTo>
                  <a:lnTo>
                    <a:pt x="78" y="1399"/>
                  </a:lnTo>
                  <a:lnTo>
                    <a:pt x="96" y="1393"/>
                  </a:lnTo>
                  <a:lnTo>
                    <a:pt x="114" y="1381"/>
                  </a:lnTo>
                  <a:lnTo>
                    <a:pt x="132" y="1375"/>
                  </a:lnTo>
                  <a:lnTo>
                    <a:pt x="150" y="1369"/>
                  </a:lnTo>
                  <a:lnTo>
                    <a:pt x="168" y="1363"/>
                  </a:lnTo>
                  <a:lnTo>
                    <a:pt x="186" y="1357"/>
                  </a:lnTo>
                  <a:lnTo>
                    <a:pt x="204" y="1345"/>
                  </a:lnTo>
                  <a:lnTo>
                    <a:pt x="222" y="1339"/>
                  </a:lnTo>
                  <a:lnTo>
                    <a:pt x="240" y="1333"/>
                  </a:lnTo>
                  <a:lnTo>
                    <a:pt x="258" y="1327"/>
                  </a:lnTo>
                  <a:lnTo>
                    <a:pt x="282" y="1321"/>
                  </a:lnTo>
                  <a:lnTo>
                    <a:pt x="300" y="1309"/>
                  </a:lnTo>
                  <a:lnTo>
                    <a:pt x="318" y="1303"/>
                  </a:lnTo>
                  <a:lnTo>
                    <a:pt x="336" y="1297"/>
                  </a:lnTo>
                  <a:lnTo>
                    <a:pt x="354" y="1291"/>
                  </a:lnTo>
                  <a:lnTo>
                    <a:pt x="372" y="1285"/>
                  </a:lnTo>
                  <a:lnTo>
                    <a:pt x="390" y="1273"/>
                  </a:lnTo>
                  <a:lnTo>
                    <a:pt x="408" y="1267"/>
                  </a:lnTo>
                  <a:lnTo>
                    <a:pt x="426" y="1261"/>
                  </a:lnTo>
                  <a:lnTo>
                    <a:pt x="444" y="1255"/>
                  </a:lnTo>
                  <a:lnTo>
                    <a:pt x="462" y="1249"/>
                  </a:lnTo>
                  <a:lnTo>
                    <a:pt x="486" y="1243"/>
                  </a:lnTo>
                  <a:lnTo>
                    <a:pt x="504" y="1230"/>
                  </a:lnTo>
                  <a:lnTo>
                    <a:pt x="522" y="1224"/>
                  </a:lnTo>
                  <a:lnTo>
                    <a:pt x="540" y="1218"/>
                  </a:lnTo>
                  <a:lnTo>
                    <a:pt x="558" y="1212"/>
                  </a:lnTo>
                  <a:lnTo>
                    <a:pt x="576" y="1206"/>
                  </a:lnTo>
                  <a:lnTo>
                    <a:pt x="594" y="1194"/>
                  </a:lnTo>
                  <a:lnTo>
                    <a:pt x="612" y="1188"/>
                  </a:lnTo>
                  <a:lnTo>
                    <a:pt x="630" y="1182"/>
                  </a:lnTo>
                  <a:lnTo>
                    <a:pt x="648" y="1176"/>
                  </a:lnTo>
                  <a:lnTo>
                    <a:pt x="666" y="1170"/>
                  </a:lnTo>
                  <a:lnTo>
                    <a:pt x="684" y="1158"/>
                  </a:lnTo>
                  <a:lnTo>
                    <a:pt x="708" y="1152"/>
                  </a:lnTo>
                  <a:lnTo>
                    <a:pt x="726" y="1146"/>
                  </a:lnTo>
                  <a:lnTo>
                    <a:pt x="744" y="1140"/>
                  </a:lnTo>
                  <a:lnTo>
                    <a:pt x="762" y="1134"/>
                  </a:lnTo>
                  <a:lnTo>
                    <a:pt x="780" y="1122"/>
                  </a:lnTo>
                  <a:lnTo>
                    <a:pt x="798" y="1116"/>
                  </a:lnTo>
                  <a:lnTo>
                    <a:pt x="816" y="1110"/>
                  </a:lnTo>
                  <a:lnTo>
                    <a:pt x="834" y="1104"/>
                  </a:lnTo>
                  <a:lnTo>
                    <a:pt x="852" y="1098"/>
                  </a:lnTo>
                  <a:lnTo>
                    <a:pt x="870" y="1092"/>
                  </a:lnTo>
                  <a:lnTo>
                    <a:pt x="888" y="1080"/>
                  </a:lnTo>
                  <a:lnTo>
                    <a:pt x="912" y="1074"/>
                  </a:lnTo>
                  <a:lnTo>
                    <a:pt x="930" y="1068"/>
                  </a:lnTo>
                  <a:lnTo>
                    <a:pt x="948" y="1062"/>
                  </a:lnTo>
                  <a:lnTo>
                    <a:pt x="966" y="1056"/>
                  </a:lnTo>
                  <a:lnTo>
                    <a:pt x="984" y="1044"/>
                  </a:lnTo>
                  <a:lnTo>
                    <a:pt x="1002" y="1038"/>
                  </a:lnTo>
                  <a:lnTo>
                    <a:pt x="1020" y="1032"/>
                  </a:lnTo>
                  <a:lnTo>
                    <a:pt x="1038" y="1026"/>
                  </a:lnTo>
                  <a:lnTo>
                    <a:pt x="1056" y="1020"/>
                  </a:lnTo>
                  <a:lnTo>
                    <a:pt x="1074" y="1008"/>
                  </a:lnTo>
                  <a:lnTo>
                    <a:pt x="1092" y="1002"/>
                  </a:lnTo>
                  <a:lnTo>
                    <a:pt x="1116" y="996"/>
                  </a:lnTo>
                  <a:lnTo>
                    <a:pt x="1134" y="990"/>
                  </a:lnTo>
                  <a:lnTo>
                    <a:pt x="1152" y="984"/>
                  </a:lnTo>
                  <a:lnTo>
                    <a:pt x="1170" y="972"/>
                  </a:lnTo>
                  <a:lnTo>
                    <a:pt x="1188" y="966"/>
                  </a:lnTo>
                  <a:lnTo>
                    <a:pt x="1206" y="960"/>
                  </a:lnTo>
                  <a:lnTo>
                    <a:pt x="1224" y="954"/>
                  </a:lnTo>
                  <a:lnTo>
                    <a:pt x="1242" y="948"/>
                  </a:lnTo>
                  <a:lnTo>
                    <a:pt x="1260" y="942"/>
                  </a:lnTo>
                  <a:lnTo>
                    <a:pt x="1278" y="930"/>
                  </a:lnTo>
                  <a:lnTo>
                    <a:pt x="1296" y="924"/>
                  </a:lnTo>
                  <a:lnTo>
                    <a:pt x="1314" y="918"/>
                  </a:lnTo>
                  <a:lnTo>
                    <a:pt x="1338" y="912"/>
                  </a:lnTo>
                  <a:lnTo>
                    <a:pt x="1356" y="906"/>
                  </a:lnTo>
                  <a:lnTo>
                    <a:pt x="1374" y="894"/>
                  </a:lnTo>
                  <a:lnTo>
                    <a:pt x="1392" y="888"/>
                  </a:lnTo>
                  <a:lnTo>
                    <a:pt x="1410" y="882"/>
                  </a:lnTo>
                  <a:lnTo>
                    <a:pt x="1428" y="876"/>
                  </a:lnTo>
                  <a:lnTo>
                    <a:pt x="1446" y="870"/>
                  </a:lnTo>
                  <a:lnTo>
                    <a:pt x="1464" y="858"/>
                  </a:lnTo>
                  <a:lnTo>
                    <a:pt x="1482" y="852"/>
                  </a:lnTo>
                  <a:lnTo>
                    <a:pt x="1500" y="846"/>
                  </a:lnTo>
                  <a:lnTo>
                    <a:pt x="1518" y="840"/>
                  </a:lnTo>
                  <a:lnTo>
                    <a:pt x="1542" y="834"/>
                  </a:lnTo>
                  <a:lnTo>
                    <a:pt x="1560" y="828"/>
                  </a:lnTo>
                  <a:lnTo>
                    <a:pt x="1578" y="816"/>
                  </a:lnTo>
                  <a:lnTo>
                    <a:pt x="1596" y="810"/>
                  </a:lnTo>
                  <a:lnTo>
                    <a:pt x="1614" y="804"/>
                  </a:lnTo>
                  <a:lnTo>
                    <a:pt x="1632" y="798"/>
                  </a:lnTo>
                  <a:lnTo>
                    <a:pt x="1650" y="792"/>
                  </a:lnTo>
                  <a:lnTo>
                    <a:pt x="1668" y="780"/>
                  </a:lnTo>
                  <a:lnTo>
                    <a:pt x="1686" y="774"/>
                  </a:lnTo>
                  <a:lnTo>
                    <a:pt x="1704" y="768"/>
                  </a:lnTo>
                  <a:lnTo>
                    <a:pt x="1722" y="762"/>
                  </a:lnTo>
                  <a:lnTo>
                    <a:pt x="1740" y="756"/>
                  </a:lnTo>
                  <a:lnTo>
                    <a:pt x="1765" y="744"/>
                  </a:lnTo>
                  <a:lnTo>
                    <a:pt x="1783" y="738"/>
                  </a:lnTo>
                  <a:lnTo>
                    <a:pt x="1801" y="732"/>
                  </a:lnTo>
                  <a:lnTo>
                    <a:pt x="1819" y="726"/>
                  </a:lnTo>
                  <a:lnTo>
                    <a:pt x="1837" y="720"/>
                  </a:lnTo>
                  <a:lnTo>
                    <a:pt x="1855" y="708"/>
                  </a:lnTo>
                  <a:lnTo>
                    <a:pt x="1873" y="702"/>
                  </a:lnTo>
                  <a:lnTo>
                    <a:pt x="1891" y="696"/>
                  </a:lnTo>
                  <a:lnTo>
                    <a:pt x="1909" y="690"/>
                  </a:lnTo>
                  <a:lnTo>
                    <a:pt x="1927" y="684"/>
                  </a:lnTo>
                  <a:lnTo>
                    <a:pt x="1945" y="678"/>
                  </a:lnTo>
                  <a:lnTo>
                    <a:pt x="1969" y="666"/>
                  </a:lnTo>
                  <a:lnTo>
                    <a:pt x="1987" y="660"/>
                  </a:lnTo>
                  <a:lnTo>
                    <a:pt x="2005" y="654"/>
                  </a:lnTo>
                  <a:lnTo>
                    <a:pt x="2023" y="648"/>
                  </a:lnTo>
                  <a:lnTo>
                    <a:pt x="2041" y="642"/>
                  </a:lnTo>
                  <a:lnTo>
                    <a:pt x="2059" y="630"/>
                  </a:lnTo>
                  <a:lnTo>
                    <a:pt x="2077" y="624"/>
                  </a:lnTo>
                  <a:lnTo>
                    <a:pt x="2095" y="618"/>
                  </a:lnTo>
                  <a:lnTo>
                    <a:pt x="2113" y="612"/>
                  </a:lnTo>
                  <a:lnTo>
                    <a:pt x="2131" y="606"/>
                  </a:lnTo>
                  <a:lnTo>
                    <a:pt x="2149" y="594"/>
                  </a:lnTo>
                  <a:lnTo>
                    <a:pt x="2167" y="588"/>
                  </a:lnTo>
                  <a:lnTo>
                    <a:pt x="2191" y="582"/>
                  </a:lnTo>
                  <a:lnTo>
                    <a:pt x="2209" y="582"/>
                  </a:lnTo>
                  <a:lnTo>
                    <a:pt x="2227" y="576"/>
                  </a:lnTo>
                  <a:lnTo>
                    <a:pt x="2245" y="564"/>
                  </a:lnTo>
                  <a:lnTo>
                    <a:pt x="2263" y="558"/>
                  </a:lnTo>
                  <a:lnTo>
                    <a:pt x="2281" y="552"/>
                  </a:lnTo>
                  <a:lnTo>
                    <a:pt x="2299" y="546"/>
                  </a:lnTo>
                  <a:lnTo>
                    <a:pt x="2317" y="540"/>
                  </a:lnTo>
                  <a:lnTo>
                    <a:pt x="2335" y="534"/>
                  </a:lnTo>
                  <a:lnTo>
                    <a:pt x="2353" y="522"/>
                  </a:lnTo>
                  <a:lnTo>
                    <a:pt x="2371" y="516"/>
                  </a:lnTo>
                  <a:lnTo>
                    <a:pt x="2395" y="510"/>
                  </a:lnTo>
                  <a:lnTo>
                    <a:pt x="2413" y="504"/>
                  </a:lnTo>
                  <a:lnTo>
                    <a:pt x="2431" y="498"/>
                  </a:lnTo>
                  <a:lnTo>
                    <a:pt x="2449" y="486"/>
                  </a:lnTo>
                  <a:lnTo>
                    <a:pt x="2467" y="480"/>
                  </a:lnTo>
                  <a:lnTo>
                    <a:pt x="2485" y="474"/>
                  </a:lnTo>
                  <a:lnTo>
                    <a:pt x="2503" y="468"/>
                  </a:lnTo>
                  <a:lnTo>
                    <a:pt x="2521" y="462"/>
                  </a:lnTo>
                  <a:lnTo>
                    <a:pt x="2539" y="450"/>
                  </a:lnTo>
                  <a:lnTo>
                    <a:pt x="2557" y="444"/>
                  </a:lnTo>
                  <a:lnTo>
                    <a:pt x="2575" y="438"/>
                  </a:lnTo>
                  <a:lnTo>
                    <a:pt x="2599" y="432"/>
                  </a:lnTo>
                  <a:lnTo>
                    <a:pt x="2617" y="426"/>
                  </a:lnTo>
                  <a:lnTo>
                    <a:pt x="2635" y="414"/>
                  </a:lnTo>
                  <a:lnTo>
                    <a:pt x="2653" y="408"/>
                  </a:lnTo>
                  <a:lnTo>
                    <a:pt x="2671" y="402"/>
                  </a:lnTo>
                  <a:lnTo>
                    <a:pt x="2689" y="396"/>
                  </a:lnTo>
                  <a:lnTo>
                    <a:pt x="2707" y="390"/>
                  </a:lnTo>
                  <a:lnTo>
                    <a:pt x="2725" y="384"/>
                  </a:lnTo>
                  <a:lnTo>
                    <a:pt x="2743" y="372"/>
                  </a:lnTo>
                  <a:lnTo>
                    <a:pt x="2761" y="366"/>
                  </a:lnTo>
                  <a:lnTo>
                    <a:pt x="2779" y="360"/>
                  </a:lnTo>
                  <a:lnTo>
                    <a:pt x="2797" y="354"/>
                  </a:lnTo>
                  <a:lnTo>
                    <a:pt x="2821" y="348"/>
                  </a:lnTo>
                  <a:lnTo>
                    <a:pt x="2839" y="336"/>
                  </a:lnTo>
                  <a:lnTo>
                    <a:pt x="2857" y="330"/>
                  </a:lnTo>
                  <a:lnTo>
                    <a:pt x="2875" y="324"/>
                  </a:lnTo>
                  <a:lnTo>
                    <a:pt x="2893" y="318"/>
                  </a:lnTo>
                  <a:lnTo>
                    <a:pt x="2911" y="312"/>
                  </a:lnTo>
                  <a:lnTo>
                    <a:pt x="2929" y="300"/>
                  </a:lnTo>
                  <a:lnTo>
                    <a:pt x="2947" y="294"/>
                  </a:lnTo>
                  <a:lnTo>
                    <a:pt x="2965" y="288"/>
                  </a:lnTo>
                  <a:lnTo>
                    <a:pt x="2983" y="282"/>
                  </a:lnTo>
                  <a:lnTo>
                    <a:pt x="3001" y="276"/>
                  </a:lnTo>
                  <a:lnTo>
                    <a:pt x="3025" y="264"/>
                  </a:lnTo>
                  <a:lnTo>
                    <a:pt x="3043" y="258"/>
                  </a:lnTo>
                  <a:lnTo>
                    <a:pt x="3061" y="252"/>
                  </a:lnTo>
                  <a:lnTo>
                    <a:pt x="3079" y="246"/>
                  </a:lnTo>
                  <a:lnTo>
                    <a:pt x="3097" y="240"/>
                  </a:lnTo>
                  <a:lnTo>
                    <a:pt x="3115" y="234"/>
                  </a:lnTo>
                  <a:lnTo>
                    <a:pt x="3133" y="222"/>
                  </a:lnTo>
                  <a:lnTo>
                    <a:pt x="3151" y="216"/>
                  </a:lnTo>
                  <a:lnTo>
                    <a:pt x="3169" y="210"/>
                  </a:lnTo>
                  <a:lnTo>
                    <a:pt x="3187" y="204"/>
                  </a:lnTo>
                  <a:lnTo>
                    <a:pt x="3205" y="198"/>
                  </a:lnTo>
                  <a:lnTo>
                    <a:pt x="3223" y="186"/>
                  </a:lnTo>
                  <a:lnTo>
                    <a:pt x="3247" y="180"/>
                  </a:lnTo>
                  <a:lnTo>
                    <a:pt x="3265" y="174"/>
                  </a:lnTo>
                  <a:lnTo>
                    <a:pt x="3283" y="168"/>
                  </a:lnTo>
                  <a:lnTo>
                    <a:pt x="3301" y="162"/>
                  </a:lnTo>
                  <a:lnTo>
                    <a:pt x="3319" y="150"/>
                  </a:lnTo>
                  <a:lnTo>
                    <a:pt x="3337" y="144"/>
                  </a:lnTo>
                  <a:lnTo>
                    <a:pt x="3355" y="138"/>
                  </a:lnTo>
                  <a:lnTo>
                    <a:pt x="3373" y="132"/>
                  </a:lnTo>
                  <a:lnTo>
                    <a:pt x="3391" y="126"/>
                  </a:lnTo>
                  <a:lnTo>
                    <a:pt x="3409" y="114"/>
                  </a:lnTo>
                  <a:lnTo>
                    <a:pt x="3427" y="108"/>
                  </a:lnTo>
                  <a:lnTo>
                    <a:pt x="3451" y="102"/>
                  </a:lnTo>
                  <a:lnTo>
                    <a:pt x="3469" y="96"/>
                  </a:lnTo>
                  <a:lnTo>
                    <a:pt x="3487" y="90"/>
                  </a:lnTo>
                  <a:lnTo>
                    <a:pt x="3505" y="84"/>
                  </a:lnTo>
                  <a:lnTo>
                    <a:pt x="3523" y="72"/>
                  </a:lnTo>
                  <a:lnTo>
                    <a:pt x="3541" y="66"/>
                  </a:lnTo>
                  <a:lnTo>
                    <a:pt x="3559" y="60"/>
                  </a:lnTo>
                  <a:lnTo>
                    <a:pt x="3577" y="54"/>
                  </a:lnTo>
                  <a:lnTo>
                    <a:pt x="3595" y="48"/>
                  </a:lnTo>
                  <a:lnTo>
                    <a:pt x="3613" y="36"/>
                  </a:lnTo>
                  <a:lnTo>
                    <a:pt x="3631" y="30"/>
                  </a:lnTo>
                  <a:lnTo>
                    <a:pt x="3649" y="24"/>
                  </a:lnTo>
                  <a:lnTo>
                    <a:pt x="3673" y="18"/>
                  </a:lnTo>
                  <a:lnTo>
                    <a:pt x="3691" y="12"/>
                  </a:lnTo>
                  <a:lnTo>
                    <a:pt x="370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81" name=""/>
            <p:cNvSpPr/>
            <p:nvPr/>
          </p:nvSpPr>
          <p:spPr>
            <a:xfrm>
              <a:off x="1857240" y="2219400"/>
              <a:ext cx="5904000" cy="3456000"/>
            </a:xfrm>
            <a:custGeom>
              <a:avLst/>
              <a:gdLst/>
              <a:ahLst/>
              <a:rect l="l" t="t" r="r" b="b"/>
              <a:pathLst>
                <a:path w="3709" h="2234">
                  <a:moveTo>
                    <a:pt x="0" y="0"/>
                  </a:moveTo>
                  <a:lnTo>
                    <a:pt x="18" y="12"/>
                  </a:lnTo>
                  <a:lnTo>
                    <a:pt x="36" y="24"/>
                  </a:lnTo>
                  <a:lnTo>
                    <a:pt x="60" y="36"/>
                  </a:lnTo>
                  <a:lnTo>
                    <a:pt x="78" y="48"/>
                  </a:lnTo>
                  <a:lnTo>
                    <a:pt x="96" y="60"/>
                  </a:lnTo>
                  <a:lnTo>
                    <a:pt x="114" y="66"/>
                  </a:lnTo>
                  <a:lnTo>
                    <a:pt x="132" y="78"/>
                  </a:lnTo>
                  <a:lnTo>
                    <a:pt x="150" y="90"/>
                  </a:lnTo>
                  <a:lnTo>
                    <a:pt x="168" y="102"/>
                  </a:lnTo>
                  <a:lnTo>
                    <a:pt x="186" y="114"/>
                  </a:lnTo>
                  <a:lnTo>
                    <a:pt x="204" y="126"/>
                  </a:lnTo>
                  <a:lnTo>
                    <a:pt x="222" y="138"/>
                  </a:lnTo>
                  <a:lnTo>
                    <a:pt x="240" y="144"/>
                  </a:lnTo>
                  <a:lnTo>
                    <a:pt x="258" y="156"/>
                  </a:lnTo>
                  <a:lnTo>
                    <a:pt x="282" y="168"/>
                  </a:lnTo>
                  <a:lnTo>
                    <a:pt x="300" y="180"/>
                  </a:lnTo>
                  <a:lnTo>
                    <a:pt x="318" y="192"/>
                  </a:lnTo>
                  <a:lnTo>
                    <a:pt x="336" y="204"/>
                  </a:lnTo>
                  <a:lnTo>
                    <a:pt x="354" y="216"/>
                  </a:lnTo>
                  <a:lnTo>
                    <a:pt x="372" y="222"/>
                  </a:lnTo>
                  <a:lnTo>
                    <a:pt x="390" y="234"/>
                  </a:lnTo>
                  <a:lnTo>
                    <a:pt x="408" y="246"/>
                  </a:lnTo>
                  <a:lnTo>
                    <a:pt x="426" y="258"/>
                  </a:lnTo>
                  <a:lnTo>
                    <a:pt x="444" y="270"/>
                  </a:lnTo>
                  <a:lnTo>
                    <a:pt x="462" y="282"/>
                  </a:lnTo>
                  <a:lnTo>
                    <a:pt x="486" y="294"/>
                  </a:lnTo>
                  <a:lnTo>
                    <a:pt x="504" y="300"/>
                  </a:lnTo>
                  <a:lnTo>
                    <a:pt x="522" y="312"/>
                  </a:lnTo>
                  <a:lnTo>
                    <a:pt x="540" y="324"/>
                  </a:lnTo>
                  <a:lnTo>
                    <a:pt x="558" y="336"/>
                  </a:lnTo>
                  <a:lnTo>
                    <a:pt x="576" y="348"/>
                  </a:lnTo>
                  <a:lnTo>
                    <a:pt x="594" y="360"/>
                  </a:lnTo>
                  <a:lnTo>
                    <a:pt x="612" y="372"/>
                  </a:lnTo>
                  <a:lnTo>
                    <a:pt x="630" y="378"/>
                  </a:lnTo>
                  <a:lnTo>
                    <a:pt x="648" y="390"/>
                  </a:lnTo>
                  <a:lnTo>
                    <a:pt x="666" y="402"/>
                  </a:lnTo>
                  <a:lnTo>
                    <a:pt x="684" y="414"/>
                  </a:lnTo>
                  <a:lnTo>
                    <a:pt x="708" y="426"/>
                  </a:lnTo>
                  <a:lnTo>
                    <a:pt x="726" y="438"/>
                  </a:lnTo>
                  <a:lnTo>
                    <a:pt x="744" y="450"/>
                  </a:lnTo>
                  <a:lnTo>
                    <a:pt x="762" y="456"/>
                  </a:lnTo>
                  <a:lnTo>
                    <a:pt x="780" y="468"/>
                  </a:lnTo>
                  <a:lnTo>
                    <a:pt x="798" y="480"/>
                  </a:lnTo>
                  <a:lnTo>
                    <a:pt x="816" y="492"/>
                  </a:lnTo>
                  <a:lnTo>
                    <a:pt x="834" y="504"/>
                  </a:lnTo>
                  <a:lnTo>
                    <a:pt x="852" y="516"/>
                  </a:lnTo>
                  <a:lnTo>
                    <a:pt x="870" y="528"/>
                  </a:lnTo>
                  <a:lnTo>
                    <a:pt x="888" y="534"/>
                  </a:lnTo>
                  <a:lnTo>
                    <a:pt x="912" y="546"/>
                  </a:lnTo>
                  <a:lnTo>
                    <a:pt x="930" y="558"/>
                  </a:lnTo>
                  <a:lnTo>
                    <a:pt x="948" y="570"/>
                  </a:lnTo>
                  <a:lnTo>
                    <a:pt x="966" y="582"/>
                  </a:lnTo>
                  <a:lnTo>
                    <a:pt x="984" y="594"/>
                  </a:lnTo>
                  <a:lnTo>
                    <a:pt x="1002" y="606"/>
                  </a:lnTo>
                  <a:lnTo>
                    <a:pt x="1020" y="613"/>
                  </a:lnTo>
                  <a:lnTo>
                    <a:pt x="1038" y="625"/>
                  </a:lnTo>
                  <a:lnTo>
                    <a:pt x="1056" y="637"/>
                  </a:lnTo>
                  <a:lnTo>
                    <a:pt x="1074" y="649"/>
                  </a:lnTo>
                  <a:lnTo>
                    <a:pt x="1092" y="661"/>
                  </a:lnTo>
                  <a:lnTo>
                    <a:pt x="1116" y="673"/>
                  </a:lnTo>
                  <a:lnTo>
                    <a:pt x="1134" y="685"/>
                  </a:lnTo>
                  <a:lnTo>
                    <a:pt x="1152" y="691"/>
                  </a:lnTo>
                  <a:lnTo>
                    <a:pt x="1170" y="703"/>
                  </a:lnTo>
                  <a:lnTo>
                    <a:pt x="1188" y="715"/>
                  </a:lnTo>
                  <a:lnTo>
                    <a:pt x="1206" y="727"/>
                  </a:lnTo>
                  <a:lnTo>
                    <a:pt x="1224" y="739"/>
                  </a:lnTo>
                  <a:lnTo>
                    <a:pt x="1242" y="751"/>
                  </a:lnTo>
                  <a:lnTo>
                    <a:pt x="1260" y="763"/>
                  </a:lnTo>
                  <a:lnTo>
                    <a:pt x="1278" y="769"/>
                  </a:lnTo>
                  <a:lnTo>
                    <a:pt x="1296" y="781"/>
                  </a:lnTo>
                  <a:lnTo>
                    <a:pt x="1314" y="793"/>
                  </a:lnTo>
                  <a:lnTo>
                    <a:pt x="1338" y="805"/>
                  </a:lnTo>
                  <a:lnTo>
                    <a:pt x="1356" y="817"/>
                  </a:lnTo>
                  <a:lnTo>
                    <a:pt x="1374" y="829"/>
                  </a:lnTo>
                  <a:lnTo>
                    <a:pt x="1392" y="841"/>
                  </a:lnTo>
                  <a:lnTo>
                    <a:pt x="1410" y="847"/>
                  </a:lnTo>
                  <a:lnTo>
                    <a:pt x="1428" y="859"/>
                  </a:lnTo>
                  <a:lnTo>
                    <a:pt x="1446" y="871"/>
                  </a:lnTo>
                  <a:lnTo>
                    <a:pt x="1464" y="883"/>
                  </a:lnTo>
                  <a:lnTo>
                    <a:pt x="1482" y="895"/>
                  </a:lnTo>
                  <a:lnTo>
                    <a:pt x="1500" y="907"/>
                  </a:lnTo>
                  <a:lnTo>
                    <a:pt x="1518" y="919"/>
                  </a:lnTo>
                  <a:lnTo>
                    <a:pt x="1542" y="925"/>
                  </a:lnTo>
                  <a:lnTo>
                    <a:pt x="1560" y="937"/>
                  </a:lnTo>
                  <a:lnTo>
                    <a:pt x="1578" y="949"/>
                  </a:lnTo>
                  <a:lnTo>
                    <a:pt x="1596" y="961"/>
                  </a:lnTo>
                  <a:lnTo>
                    <a:pt x="1614" y="973"/>
                  </a:lnTo>
                  <a:lnTo>
                    <a:pt x="1632" y="985"/>
                  </a:lnTo>
                  <a:lnTo>
                    <a:pt x="1650" y="997"/>
                  </a:lnTo>
                  <a:lnTo>
                    <a:pt x="1668" y="1003"/>
                  </a:lnTo>
                  <a:lnTo>
                    <a:pt x="1686" y="1015"/>
                  </a:lnTo>
                  <a:lnTo>
                    <a:pt x="1704" y="1027"/>
                  </a:lnTo>
                  <a:lnTo>
                    <a:pt x="1722" y="1039"/>
                  </a:lnTo>
                  <a:lnTo>
                    <a:pt x="1740" y="1051"/>
                  </a:lnTo>
                  <a:lnTo>
                    <a:pt x="1765" y="1063"/>
                  </a:lnTo>
                  <a:lnTo>
                    <a:pt x="1783" y="1075"/>
                  </a:lnTo>
                  <a:lnTo>
                    <a:pt x="1801" y="1081"/>
                  </a:lnTo>
                  <a:lnTo>
                    <a:pt x="1819" y="1093"/>
                  </a:lnTo>
                  <a:lnTo>
                    <a:pt x="1837" y="1105"/>
                  </a:lnTo>
                  <a:lnTo>
                    <a:pt x="1855" y="1117"/>
                  </a:lnTo>
                  <a:lnTo>
                    <a:pt x="1873" y="1129"/>
                  </a:lnTo>
                  <a:lnTo>
                    <a:pt x="1891" y="1141"/>
                  </a:lnTo>
                  <a:lnTo>
                    <a:pt x="1909" y="1153"/>
                  </a:lnTo>
                  <a:lnTo>
                    <a:pt x="1927" y="1159"/>
                  </a:lnTo>
                  <a:lnTo>
                    <a:pt x="1945" y="1171"/>
                  </a:lnTo>
                  <a:lnTo>
                    <a:pt x="1969" y="1183"/>
                  </a:lnTo>
                  <a:lnTo>
                    <a:pt x="1987" y="1195"/>
                  </a:lnTo>
                  <a:lnTo>
                    <a:pt x="2005" y="1207"/>
                  </a:lnTo>
                  <a:lnTo>
                    <a:pt x="2023" y="1219"/>
                  </a:lnTo>
                  <a:lnTo>
                    <a:pt x="2041" y="1231"/>
                  </a:lnTo>
                  <a:lnTo>
                    <a:pt x="2059" y="1237"/>
                  </a:lnTo>
                  <a:lnTo>
                    <a:pt x="2077" y="1249"/>
                  </a:lnTo>
                  <a:lnTo>
                    <a:pt x="2095" y="1261"/>
                  </a:lnTo>
                  <a:lnTo>
                    <a:pt x="2113" y="1273"/>
                  </a:lnTo>
                  <a:lnTo>
                    <a:pt x="2131" y="1285"/>
                  </a:lnTo>
                  <a:lnTo>
                    <a:pt x="2149" y="1297"/>
                  </a:lnTo>
                  <a:lnTo>
                    <a:pt x="2167" y="1309"/>
                  </a:lnTo>
                  <a:lnTo>
                    <a:pt x="2191" y="1315"/>
                  </a:lnTo>
                  <a:lnTo>
                    <a:pt x="2209" y="1327"/>
                  </a:lnTo>
                  <a:lnTo>
                    <a:pt x="2227" y="1339"/>
                  </a:lnTo>
                  <a:lnTo>
                    <a:pt x="2245" y="1351"/>
                  </a:lnTo>
                  <a:lnTo>
                    <a:pt x="2263" y="1363"/>
                  </a:lnTo>
                  <a:lnTo>
                    <a:pt x="2281" y="1375"/>
                  </a:lnTo>
                  <a:lnTo>
                    <a:pt x="2299" y="1387"/>
                  </a:lnTo>
                  <a:lnTo>
                    <a:pt x="2317" y="1393"/>
                  </a:lnTo>
                  <a:lnTo>
                    <a:pt x="2335" y="1405"/>
                  </a:lnTo>
                  <a:lnTo>
                    <a:pt x="2353" y="1417"/>
                  </a:lnTo>
                  <a:lnTo>
                    <a:pt x="2371" y="1429"/>
                  </a:lnTo>
                  <a:lnTo>
                    <a:pt x="2395" y="1441"/>
                  </a:lnTo>
                  <a:lnTo>
                    <a:pt x="2413" y="1453"/>
                  </a:lnTo>
                  <a:lnTo>
                    <a:pt x="2431" y="1465"/>
                  </a:lnTo>
                  <a:lnTo>
                    <a:pt x="2449" y="1471"/>
                  </a:lnTo>
                  <a:lnTo>
                    <a:pt x="2467" y="1483"/>
                  </a:lnTo>
                  <a:lnTo>
                    <a:pt x="2485" y="1495"/>
                  </a:lnTo>
                  <a:lnTo>
                    <a:pt x="2503" y="1507"/>
                  </a:lnTo>
                  <a:lnTo>
                    <a:pt x="2521" y="1519"/>
                  </a:lnTo>
                  <a:lnTo>
                    <a:pt x="2539" y="1531"/>
                  </a:lnTo>
                  <a:lnTo>
                    <a:pt x="2557" y="1543"/>
                  </a:lnTo>
                  <a:lnTo>
                    <a:pt x="2575" y="1549"/>
                  </a:lnTo>
                  <a:lnTo>
                    <a:pt x="2599" y="1561"/>
                  </a:lnTo>
                  <a:lnTo>
                    <a:pt x="2617" y="1573"/>
                  </a:lnTo>
                  <a:lnTo>
                    <a:pt x="2635" y="1585"/>
                  </a:lnTo>
                  <a:lnTo>
                    <a:pt x="2653" y="1597"/>
                  </a:lnTo>
                  <a:lnTo>
                    <a:pt x="2671" y="1609"/>
                  </a:lnTo>
                  <a:lnTo>
                    <a:pt x="2689" y="1621"/>
                  </a:lnTo>
                  <a:lnTo>
                    <a:pt x="2707" y="1627"/>
                  </a:lnTo>
                  <a:lnTo>
                    <a:pt x="2725" y="1639"/>
                  </a:lnTo>
                  <a:lnTo>
                    <a:pt x="2743" y="1651"/>
                  </a:lnTo>
                  <a:lnTo>
                    <a:pt x="2761" y="1663"/>
                  </a:lnTo>
                  <a:lnTo>
                    <a:pt x="2779" y="1675"/>
                  </a:lnTo>
                  <a:lnTo>
                    <a:pt x="2797" y="1687"/>
                  </a:lnTo>
                  <a:lnTo>
                    <a:pt x="2821" y="1699"/>
                  </a:lnTo>
                  <a:lnTo>
                    <a:pt x="2839" y="1705"/>
                  </a:lnTo>
                  <a:lnTo>
                    <a:pt x="2857" y="1717"/>
                  </a:lnTo>
                  <a:lnTo>
                    <a:pt x="2875" y="1729"/>
                  </a:lnTo>
                  <a:lnTo>
                    <a:pt x="2893" y="1741"/>
                  </a:lnTo>
                  <a:lnTo>
                    <a:pt x="2911" y="1753"/>
                  </a:lnTo>
                  <a:lnTo>
                    <a:pt x="2929" y="1765"/>
                  </a:lnTo>
                  <a:lnTo>
                    <a:pt x="2947" y="1777"/>
                  </a:lnTo>
                  <a:lnTo>
                    <a:pt x="2965" y="1783"/>
                  </a:lnTo>
                  <a:lnTo>
                    <a:pt x="2983" y="1795"/>
                  </a:lnTo>
                  <a:lnTo>
                    <a:pt x="3001" y="1807"/>
                  </a:lnTo>
                  <a:lnTo>
                    <a:pt x="3025" y="1819"/>
                  </a:lnTo>
                  <a:lnTo>
                    <a:pt x="3043" y="1831"/>
                  </a:lnTo>
                  <a:lnTo>
                    <a:pt x="3061" y="1843"/>
                  </a:lnTo>
                  <a:lnTo>
                    <a:pt x="3079" y="1855"/>
                  </a:lnTo>
                  <a:lnTo>
                    <a:pt x="3097" y="1861"/>
                  </a:lnTo>
                  <a:lnTo>
                    <a:pt x="3115" y="1873"/>
                  </a:lnTo>
                  <a:lnTo>
                    <a:pt x="3133" y="1885"/>
                  </a:lnTo>
                  <a:lnTo>
                    <a:pt x="3151" y="1897"/>
                  </a:lnTo>
                  <a:lnTo>
                    <a:pt x="3169" y="1909"/>
                  </a:lnTo>
                  <a:lnTo>
                    <a:pt x="3187" y="1922"/>
                  </a:lnTo>
                  <a:lnTo>
                    <a:pt x="3205" y="1934"/>
                  </a:lnTo>
                  <a:lnTo>
                    <a:pt x="3223" y="1940"/>
                  </a:lnTo>
                  <a:lnTo>
                    <a:pt x="3247" y="1952"/>
                  </a:lnTo>
                  <a:lnTo>
                    <a:pt x="3265" y="1964"/>
                  </a:lnTo>
                  <a:lnTo>
                    <a:pt x="3283" y="1976"/>
                  </a:lnTo>
                  <a:lnTo>
                    <a:pt x="3301" y="1988"/>
                  </a:lnTo>
                  <a:lnTo>
                    <a:pt x="3319" y="2000"/>
                  </a:lnTo>
                  <a:lnTo>
                    <a:pt x="3337" y="2012"/>
                  </a:lnTo>
                  <a:lnTo>
                    <a:pt x="3355" y="2018"/>
                  </a:lnTo>
                  <a:lnTo>
                    <a:pt x="3373" y="2030"/>
                  </a:lnTo>
                  <a:lnTo>
                    <a:pt x="3391" y="2042"/>
                  </a:lnTo>
                  <a:lnTo>
                    <a:pt x="3409" y="2054"/>
                  </a:lnTo>
                  <a:lnTo>
                    <a:pt x="3427" y="2066"/>
                  </a:lnTo>
                  <a:lnTo>
                    <a:pt x="3451" y="2078"/>
                  </a:lnTo>
                  <a:lnTo>
                    <a:pt x="3469" y="2090"/>
                  </a:lnTo>
                  <a:lnTo>
                    <a:pt x="3487" y="2096"/>
                  </a:lnTo>
                  <a:lnTo>
                    <a:pt x="3505" y="2108"/>
                  </a:lnTo>
                  <a:lnTo>
                    <a:pt x="3523" y="2120"/>
                  </a:lnTo>
                  <a:lnTo>
                    <a:pt x="3541" y="2132"/>
                  </a:lnTo>
                  <a:lnTo>
                    <a:pt x="3559" y="2144"/>
                  </a:lnTo>
                  <a:lnTo>
                    <a:pt x="3577" y="2156"/>
                  </a:lnTo>
                  <a:lnTo>
                    <a:pt x="3595" y="2168"/>
                  </a:lnTo>
                  <a:lnTo>
                    <a:pt x="3613" y="2174"/>
                  </a:lnTo>
                  <a:lnTo>
                    <a:pt x="3631" y="2186"/>
                  </a:lnTo>
                  <a:lnTo>
                    <a:pt x="3649" y="2198"/>
                  </a:lnTo>
                  <a:lnTo>
                    <a:pt x="3673" y="2210"/>
                  </a:lnTo>
                  <a:lnTo>
                    <a:pt x="3691" y="2222"/>
                  </a:lnTo>
                  <a:lnTo>
                    <a:pt x="3709" y="2234"/>
                  </a:lnTo>
                </a:path>
              </a:pathLst>
            </a:custGeom>
            <a:noFill/>
            <a:ln w="1260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82" name=""/>
            <p:cNvSpPr/>
            <p:nvPr/>
          </p:nvSpPr>
          <p:spPr>
            <a:xfrm>
              <a:off x="1851120" y="2655720"/>
              <a:ext cx="5937120" cy="3468960"/>
            </a:xfrm>
            <a:custGeom>
              <a:avLst/>
              <a:gdLst/>
              <a:ahLst/>
              <a:rect l="l" t="t" r="r" b="b"/>
              <a:pathLst>
                <a:path w="3709" h="2234">
                  <a:moveTo>
                    <a:pt x="0" y="0"/>
                  </a:moveTo>
                  <a:lnTo>
                    <a:pt x="18" y="12"/>
                  </a:lnTo>
                  <a:lnTo>
                    <a:pt x="36" y="24"/>
                  </a:lnTo>
                  <a:lnTo>
                    <a:pt x="60" y="36"/>
                  </a:lnTo>
                  <a:lnTo>
                    <a:pt x="78" y="48"/>
                  </a:lnTo>
                  <a:lnTo>
                    <a:pt x="96" y="60"/>
                  </a:lnTo>
                  <a:lnTo>
                    <a:pt x="114" y="66"/>
                  </a:lnTo>
                  <a:lnTo>
                    <a:pt x="132" y="78"/>
                  </a:lnTo>
                  <a:lnTo>
                    <a:pt x="150" y="90"/>
                  </a:lnTo>
                  <a:lnTo>
                    <a:pt x="168" y="102"/>
                  </a:lnTo>
                  <a:lnTo>
                    <a:pt x="186" y="114"/>
                  </a:lnTo>
                  <a:lnTo>
                    <a:pt x="204" y="126"/>
                  </a:lnTo>
                  <a:lnTo>
                    <a:pt x="222" y="138"/>
                  </a:lnTo>
                  <a:lnTo>
                    <a:pt x="240" y="144"/>
                  </a:lnTo>
                  <a:lnTo>
                    <a:pt x="258" y="156"/>
                  </a:lnTo>
                  <a:lnTo>
                    <a:pt x="282" y="168"/>
                  </a:lnTo>
                  <a:lnTo>
                    <a:pt x="300" y="180"/>
                  </a:lnTo>
                  <a:lnTo>
                    <a:pt x="318" y="192"/>
                  </a:lnTo>
                  <a:lnTo>
                    <a:pt x="336" y="204"/>
                  </a:lnTo>
                  <a:lnTo>
                    <a:pt x="354" y="216"/>
                  </a:lnTo>
                  <a:lnTo>
                    <a:pt x="372" y="222"/>
                  </a:lnTo>
                  <a:lnTo>
                    <a:pt x="390" y="234"/>
                  </a:lnTo>
                  <a:lnTo>
                    <a:pt x="408" y="246"/>
                  </a:lnTo>
                  <a:lnTo>
                    <a:pt x="426" y="258"/>
                  </a:lnTo>
                  <a:lnTo>
                    <a:pt x="444" y="270"/>
                  </a:lnTo>
                  <a:lnTo>
                    <a:pt x="462" y="282"/>
                  </a:lnTo>
                  <a:lnTo>
                    <a:pt x="486" y="294"/>
                  </a:lnTo>
                  <a:lnTo>
                    <a:pt x="504" y="300"/>
                  </a:lnTo>
                  <a:lnTo>
                    <a:pt x="522" y="312"/>
                  </a:lnTo>
                  <a:lnTo>
                    <a:pt x="540" y="324"/>
                  </a:lnTo>
                  <a:lnTo>
                    <a:pt x="558" y="336"/>
                  </a:lnTo>
                  <a:lnTo>
                    <a:pt x="576" y="348"/>
                  </a:lnTo>
                  <a:lnTo>
                    <a:pt x="594" y="360"/>
                  </a:lnTo>
                  <a:lnTo>
                    <a:pt x="612" y="372"/>
                  </a:lnTo>
                  <a:lnTo>
                    <a:pt x="630" y="379"/>
                  </a:lnTo>
                  <a:lnTo>
                    <a:pt x="648" y="391"/>
                  </a:lnTo>
                  <a:lnTo>
                    <a:pt x="666" y="403"/>
                  </a:lnTo>
                  <a:lnTo>
                    <a:pt x="684" y="415"/>
                  </a:lnTo>
                  <a:lnTo>
                    <a:pt x="708" y="427"/>
                  </a:lnTo>
                  <a:lnTo>
                    <a:pt x="726" y="439"/>
                  </a:lnTo>
                  <a:lnTo>
                    <a:pt x="744" y="451"/>
                  </a:lnTo>
                  <a:lnTo>
                    <a:pt x="762" y="457"/>
                  </a:lnTo>
                  <a:lnTo>
                    <a:pt x="780" y="469"/>
                  </a:lnTo>
                  <a:lnTo>
                    <a:pt x="798" y="481"/>
                  </a:lnTo>
                  <a:lnTo>
                    <a:pt x="816" y="493"/>
                  </a:lnTo>
                  <a:lnTo>
                    <a:pt x="834" y="505"/>
                  </a:lnTo>
                  <a:lnTo>
                    <a:pt x="852" y="517"/>
                  </a:lnTo>
                  <a:lnTo>
                    <a:pt x="870" y="529"/>
                  </a:lnTo>
                  <a:lnTo>
                    <a:pt x="888" y="535"/>
                  </a:lnTo>
                  <a:lnTo>
                    <a:pt x="912" y="547"/>
                  </a:lnTo>
                  <a:lnTo>
                    <a:pt x="930" y="559"/>
                  </a:lnTo>
                  <a:lnTo>
                    <a:pt x="948" y="571"/>
                  </a:lnTo>
                  <a:lnTo>
                    <a:pt x="966" y="583"/>
                  </a:lnTo>
                  <a:lnTo>
                    <a:pt x="984" y="595"/>
                  </a:lnTo>
                  <a:lnTo>
                    <a:pt x="1002" y="607"/>
                  </a:lnTo>
                  <a:lnTo>
                    <a:pt x="1020" y="613"/>
                  </a:lnTo>
                  <a:lnTo>
                    <a:pt x="1038" y="625"/>
                  </a:lnTo>
                  <a:lnTo>
                    <a:pt x="1056" y="637"/>
                  </a:lnTo>
                  <a:lnTo>
                    <a:pt x="1074" y="649"/>
                  </a:lnTo>
                  <a:lnTo>
                    <a:pt x="1092" y="661"/>
                  </a:lnTo>
                  <a:lnTo>
                    <a:pt x="1116" y="673"/>
                  </a:lnTo>
                  <a:lnTo>
                    <a:pt x="1134" y="685"/>
                  </a:lnTo>
                  <a:lnTo>
                    <a:pt x="1152" y="691"/>
                  </a:lnTo>
                  <a:lnTo>
                    <a:pt x="1170" y="703"/>
                  </a:lnTo>
                  <a:lnTo>
                    <a:pt x="1188" y="715"/>
                  </a:lnTo>
                  <a:lnTo>
                    <a:pt x="1206" y="727"/>
                  </a:lnTo>
                  <a:lnTo>
                    <a:pt x="1224" y="739"/>
                  </a:lnTo>
                  <a:lnTo>
                    <a:pt x="1242" y="751"/>
                  </a:lnTo>
                  <a:lnTo>
                    <a:pt x="1260" y="763"/>
                  </a:lnTo>
                  <a:lnTo>
                    <a:pt x="1278" y="769"/>
                  </a:lnTo>
                  <a:lnTo>
                    <a:pt x="1296" y="781"/>
                  </a:lnTo>
                  <a:lnTo>
                    <a:pt x="1314" y="793"/>
                  </a:lnTo>
                  <a:lnTo>
                    <a:pt x="1338" y="805"/>
                  </a:lnTo>
                  <a:lnTo>
                    <a:pt x="1356" y="817"/>
                  </a:lnTo>
                  <a:lnTo>
                    <a:pt x="1374" y="829"/>
                  </a:lnTo>
                  <a:lnTo>
                    <a:pt x="1392" y="841"/>
                  </a:lnTo>
                  <a:lnTo>
                    <a:pt x="1410" y="847"/>
                  </a:lnTo>
                  <a:lnTo>
                    <a:pt x="1428" y="859"/>
                  </a:lnTo>
                  <a:lnTo>
                    <a:pt x="1446" y="871"/>
                  </a:lnTo>
                  <a:lnTo>
                    <a:pt x="1464" y="883"/>
                  </a:lnTo>
                  <a:lnTo>
                    <a:pt x="1482" y="895"/>
                  </a:lnTo>
                  <a:lnTo>
                    <a:pt x="1500" y="907"/>
                  </a:lnTo>
                  <a:lnTo>
                    <a:pt x="1518" y="919"/>
                  </a:lnTo>
                  <a:lnTo>
                    <a:pt x="1542" y="925"/>
                  </a:lnTo>
                  <a:lnTo>
                    <a:pt x="1560" y="937"/>
                  </a:lnTo>
                  <a:lnTo>
                    <a:pt x="1578" y="949"/>
                  </a:lnTo>
                  <a:lnTo>
                    <a:pt x="1596" y="961"/>
                  </a:lnTo>
                  <a:lnTo>
                    <a:pt x="1614" y="973"/>
                  </a:lnTo>
                  <a:lnTo>
                    <a:pt x="1632" y="985"/>
                  </a:lnTo>
                  <a:lnTo>
                    <a:pt x="1650" y="997"/>
                  </a:lnTo>
                  <a:lnTo>
                    <a:pt x="1668" y="1003"/>
                  </a:lnTo>
                  <a:lnTo>
                    <a:pt x="1686" y="1015"/>
                  </a:lnTo>
                  <a:lnTo>
                    <a:pt x="1704" y="1027"/>
                  </a:lnTo>
                  <a:lnTo>
                    <a:pt x="1722" y="1039"/>
                  </a:lnTo>
                  <a:lnTo>
                    <a:pt x="1740" y="1051"/>
                  </a:lnTo>
                  <a:lnTo>
                    <a:pt x="1765" y="1063"/>
                  </a:lnTo>
                  <a:lnTo>
                    <a:pt x="1783" y="1075"/>
                  </a:lnTo>
                  <a:lnTo>
                    <a:pt x="1801" y="1081"/>
                  </a:lnTo>
                  <a:lnTo>
                    <a:pt x="1819" y="1093"/>
                  </a:lnTo>
                  <a:lnTo>
                    <a:pt x="1837" y="1105"/>
                  </a:lnTo>
                  <a:lnTo>
                    <a:pt x="1855" y="1117"/>
                  </a:lnTo>
                  <a:lnTo>
                    <a:pt x="1873" y="1129"/>
                  </a:lnTo>
                  <a:lnTo>
                    <a:pt x="1891" y="1141"/>
                  </a:lnTo>
                  <a:lnTo>
                    <a:pt x="1909" y="1153"/>
                  </a:lnTo>
                  <a:lnTo>
                    <a:pt x="1927" y="1159"/>
                  </a:lnTo>
                  <a:lnTo>
                    <a:pt x="1945" y="1171"/>
                  </a:lnTo>
                  <a:lnTo>
                    <a:pt x="1969" y="1183"/>
                  </a:lnTo>
                  <a:lnTo>
                    <a:pt x="1987" y="1195"/>
                  </a:lnTo>
                  <a:lnTo>
                    <a:pt x="2005" y="1207"/>
                  </a:lnTo>
                  <a:lnTo>
                    <a:pt x="2023" y="1219"/>
                  </a:lnTo>
                  <a:lnTo>
                    <a:pt x="2041" y="1231"/>
                  </a:lnTo>
                  <a:lnTo>
                    <a:pt x="2059" y="1237"/>
                  </a:lnTo>
                  <a:lnTo>
                    <a:pt x="2077" y="1249"/>
                  </a:lnTo>
                  <a:lnTo>
                    <a:pt x="2095" y="1261"/>
                  </a:lnTo>
                  <a:lnTo>
                    <a:pt x="2113" y="1273"/>
                  </a:lnTo>
                  <a:lnTo>
                    <a:pt x="2131" y="1285"/>
                  </a:lnTo>
                  <a:lnTo>
                    <a:pt x="2149" y="1297"/>
                  </a:lnTo>
                  <a:lnTo>
                    <a:pt x="2167" y="1309"/>
                  </a:lnTo>
                  <a:lnTo>
                    <a:pt x="2191" y="1315"/>
                  </a:lnTo>
                  <a:lnTo>
                    <a:pt x="2209" y="1327"/>
                  </a:lnTo>
                  <a:lnTo>
                    <a:pt x="2227" y="1339"/>
                  </a:lnTo>
                  <a:lnTo>
                    <a:pt x="2245" y="1351"/>
                  </a:lnTo>
                  <a:lnTo>
                    <a:pt x="2263" y="1363"/>
                  </a:lnTo>
                  <a:lnTo>
                    <a:pt x="2281" y="1375"/>
                  </a:lnTo>
                  <a:lnTo>
                    <a:pt x="2299" y="1387"/>
                  </a:lnTo>
                  <a:lnTo>
                    <a:pt x="2317" y="1393"/>
                  </a:lnTo>
                  <a:lnTo>
                    <a:pt x="2335" y="1405"/>
                  </a:lnTo>
                  <a:lnTo>
                    <a:pt x="2353" y="1417"/>
                  </a:lnTo>
                  <a:lnTo>
                    <a:pt x="2371" y="1429"/>
                  </a:lnTo>
                  <a:lnTo>
                    <a:pt x="2395" y="1441"/>
                  </a:lnTo>
                  <a:lnTo>
                    <a:pt x="2413" y="1453"/>
                  </a:lnTo>
                  <a:lnTo>
                    <a:pt x="2431" y="1465"/>
                  </a:lnTo>
                  <a:lnTo>
                    <a:pt x="2449" y="1471"/>
                  </a:lnTo>
                  <a:lnTo>
                    <a:pt x="2467" y="1483"/>
                  </a:lnTo>
                  <a:lnTo>
                    <a:pt x="2485" y="1495"/>
                  </a:lnTo>
                  <a:lnTo>
                    <a:pt x="2503" y="1507"/>
                  </a:lnTo>
                  <a:lnTo>
                    <a:pt x="2521" y="1519"/>
                  </a:lnTo>
                  <a:lnTo>
                    <a:pt x="2539" y="1531"/>
                  </a:lnTo>
                  <a:lnTo>
                    <a:pt x="2557" y="1543"/>
                  </a:lnTo>
                  <a:lnTo>
                    <a:pt x="2575" y="1549"/>
                  </a:lnTo>
                  <a:lnTo>
                    <a:pt x="2599" y="1561"/>
                  </a:lnTo>
                  <a:lnTo>
                    <a:pt x="2617" y="1573"/>
                  </a:lnTo>
                  <a:lnTo>
                    <a:pt x="2635" y="1585"/>
                  </a:lnTo>
                  <a:lnTo>
                    <a:pt x="2653" y="1597"/>
                  </a:lnTo>
                  <a:lnTo>
                    <a:pt x="2671" y="1609"/>
                  </a:lnTo>
                  <a:lnTo>
                    <a:pt x="2689" y="1621"/>
                  </a:lnTo>
                  <a:lnTo>
                    <a:pt x="2707" y="1627"/>
                  </a:lnTo>
                  <a:lnTo>
                    <a:pt x="2725" y="1639"/>
                  </a:lnTo>
                  <a:lnTo>
                    <a:pt x="2743" y="1651"/>
                  </a:lnTo>
                  <a:lnTo>
                    <a:pt x="2761" y="1663"/>
                  </a:lnTo>
                  <a:lnTo>
                    <a:pt x="2779" y="1675"/>
                  </a:lnTo>
                  <a:lnTo>
                    <a:pt x="2797" y="1688"/>
                  </a:lnTo>
                  <a:lnTo>
                    <a:pt x="2821" y="1700"/>
                  </a:lnTo>
                  <a:lnTo>
                    <a:pt x="2839" y="1706"/>
                  </a:lnTo>
                  <a:lnTo>
                    <a:pt x="2857" y="1718"/>
                  </a:lnTo>
                  <a:lnTo>
                    <a:pt x="2875" y="1730"/>
                  </a:lnTo>
                  <a:lnTo>
                    <a:pt x="2893" y="1742"/>
                  </a:lnTo>
                  <a:lnTo>
                    <a:pt x="2911" y="1754"/>
                  </a:lnTo>
                  <a:lnTo>
                    <a:pt x="2929" y="1766"/>
                  </a:lnTo>
                  <a:lnTo>
                    <a:pt x="2947" y="1778"/>
                  </a:lnTo>
                  <a:lnTo>
                    <a:pt x="2965" y="1784"/>
                  </a:lnTo>
                  <a:lnTo>
                    <a:pt x="2983" y="1796"/>
                  </a:lnTo>
                  <a:lnTo>
                    <a:pt x="3001" y="1808"/>
                  </a:lnTo>
                  <a:lnTo>
                    <a:pt x="3025" y="1820"/>
                  </a:lnTo>
                  <a:lnTo>
                    <a:pt x="3043" y="1832"/>
                  </a:lnTo>
                  <a:lnTo>
                    <a:pt x="3061" y="1844"/>
                  </a:lnTo>
                  <a:lnTo>
                    <a:pt x="3079" y="1856"/>
                  </a:lnTo>
                  <a:lnTo>
                    <a:pt x="3097" y="1862"/>
                  </a:lnTo>
                  <a:lnTo>
                    <a:pt x="3115" y="1874"/>
                  </a:lnTo>
                  <a:lnTo>
                    <a:pt x="3133" y="1886"/>
                  </a:lnTo>
                  <a:lnTo>
                    <a:pt x="3151" y="1898"/>
                  </a:lnTo>
                  <a:lnTo>
                    <a:pt x="3169" y="1910"/>
                  </a:lnTo>
                  <a:lnTo>
                    <a:pt x="3187" y="1922"/>
                  </a:lnTo>
                  <a:lnTo>
                    <a:pt x="3205" y="1934"/>
                  </a:lnTo>
                  <a:lnTo>
                    <a:pt x="3223" y="1940"/>
                  </a:lnTo>
                  <a:lnTo>
                    <a:pt x="3247" y="1952"/>
                  </a:lnTo>
                  <a:lnTo>
                    <a:pt x="3265" y="1964"/>
                  </a:lnTo>
                  <a:lnTo>
                    <a:pt x="3283" y="1976"/>
                  </a:lnTo>
                  <a:lnTo>
                    <a:pt x="3301" y="1988"/>
                  </a:lnTo>
                  <a:lnTo>
                    <a:pt x="3319" y="2000"/>
                  </a:lnTo>
                  <a:lnTo>
                    <a:pt x="3337" y="2012"/>
                  </a:lnTo>
                  <a:lnTo>
                    <a:pt x="3355" y="2018"/>
                  </a:lnTo>
                  <a:lnTo>
                    <a:pt x="3373" y="2030"/>
                  </a:lnTo>
                  <a:lnTo>
                    <a:pt x="3391" y="2042"/>
                  </a:lnTo>
                  <a:lnTo>
                    <a:pt x="3409" y="2054"/>
                  </a:lnTo>
                  <a:lnTo>
                    <a:pt x="3427" y="2066"/>
                  </a:lnTo>
                  <a:lnTo>
                    <a:pt x="3451" y="2078"/>
                  </a:lnTo>
                  <a:lnTo>
                    <a:pt x="3469" y="2090"/>
                  </a:lnTo>
                  <a:lnTo>
                    <a:pt x="3487" y="2096"/>
                  </a:lnTo>
                  <a:lnTo>
                    <a:pt x="3505" y="2108"/>
                  </a:lnTo>
                  <a:lnTo>
                    <a:pt x="3523" y="2120"/>
                  </a:lnTo>
                  <a:lnTo>
                    <a:pt x="3541" y="2132"/>
                  </a:lnTo>
                  <a:lnTo>
                    <a:pt x="3559" y="2144"/>
                  </a:lnTo>
                  <a:lnTo>
                    <a:pt x="3577" y="2156"/>
                  </a:lnTo>
                  <a:lnTo>
                    <a:pt x="3595" y="2168"/>
                  </a:lnTo>
                  <a:lnTo>
                    <a:pt x="3613" y="2174"/>
                  </a:lnTo>
                  <a:lnTo>
                    <a:pt x="3631" y="2186"/>
                  </a:lnTo>
                  <a:lnTo>
                    <a:pt x="3649" y="2198"/>
                  </a:lnTo>
                  <a:lnTo>
                    <a:pt x="3673" y="2210"/>
                  </a:lnTo>
                  <a:lnTo>
                    <a:pt x="3691" y="2222"/>
                  </a:lnTo>
                  <a:lnTo>
                    <a:pt x="3709" y="2234"/>
                  </a:lnTo>
                </a:path>
              </a:pathLst>
            </a:custGeom>
            <a:noFill/>
            <a:ln w="1260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83" name=""/>
            <p:cNvSpPr/>
            <p:nvPr/>
          </p:nvSpPr>
          <p:spPr>
            <a:xfrm>
              <a:off x="1857240" y="2084400"/>
              <a:ext cx="5921640" cy="4176720"/>
            </a:xfrm>
            <a:prstGeom prst="rect">
              <a:avLst/>
            </a:prstGeom>
            <a:noFill/>
            <a:ln w="284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84" name=""/>
            <p:cNvSpPr/>
            <p:nvPr/>
          </p:nvSpPr>
          <p:spPr>
            <a:xfrm>
              <a:off x="4838760" y="2084400"/>
              <a:ext cx="144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85" name=""/>
            <p:cNvSpPr/>
            <p:nvPr/>
          </p:nvSpPr>
          <p:spPr>
            <a:xfrm>
              <a:off x="5580000" y="2084400"/>
              <a:ext cx="324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86" name=""/>
            <p:cNvSpPr/>
            <p:nvPr/>
          </p:nvSpPr>
          <p:spPr>
            <a:xfrm>
              <a:off x="6324480" y="2084400"/>
              <a:ext cx="180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87" name=""/>
            <p:cNvSpPr/>
            <p:nvPr/>
          </p:nvSpPr>
          <p:spPr>
            <a:xfrm>
              <a:off x="7054920" y="2084400"/>
              <a:ext cx="1440" cy="58680"/>
            </a:xfrm>
            <a:prstGeom prst="line">
              <a:avLst/>
            </a:prstGeom>
            <a:ln w="936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grpSp>
      <p:sp>
        <p:nvSpPr>
          <p:cNvPr id="388" name=""/>
          <p:cNvSpPr/>
          <p:nvPr/>
        </p:nvSpPr>
        <p:spPr>
          <a:xfrm>
            <a:off x="4210200" y="28494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a:t>
            </a:r>
            <a:endParaRPr b="0" lang="en-US" sz="2400" spc="-1" strike="noStrike">
              <a:solidFill>
                <a:srgbClr val="333333"/>
              </a:solidFill>
              <a:latin typeface="Times New Roman"/>
            </a:endParaRPr>
          </a:p>
        </p:txBody>
      </p:sp>
      <p:sp>
        <p:nvSpPr>
          <p:cNvPr id="389" name=""/>
          <p:cNvSpPr/>
          <p:nvPr/>
        </p:nvSpPr>
        <p:spPr>
          <a:xfrm>
            <a:off x="4683600" y="396396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a:t>
            </a:r>
            <a:endParaRPr b="0" lang="en-US" sz="2400" spc="-1" strike="noStrike">
              <a:solidFill>
                <a:srgbClr val="333333"/>
              </a:solidFill>
              <a:latin typeface="Times New Roman"/>
            </a:endParaRPr>
          </a:p>
        </p:txBody>
      </p:sp>
      <p:sp>
        <p:nvSpPr>
          <p:cNvPr id="390" name=""/>
          <p:cNvSpPr/>
          <p:nvPr/>
        </p:nvSpPr>
        <p:spPr>
          <a:xfrm>
            <a:off x="5097600" y="500544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rst Step of MPC starting from a point in state space in which MPC </a:t>
            </a:r>
            <a:r>
              <a:rPr b="0" lang="en-US" sz="2800" spc="-1" strike="noStrike">
                <a:solidFill>
                  <a:srgbClr val="6600cc"/>
                </a:solidFill>
                <a:latin typeface="Symbol"/>
                <a:ea typeface="Symbol"/>
              </a:rPr>
              <a:t></a:t>
            </a:r>
            <a:r>
              <a:rPr b="0" lang="en-US" sz="2800" spc="-1" strike="noStrike">
                <a:solidFill>
                  <a:srgbClr val="6600cc"/>
                </a:solidFill>
                <a:latin typeface="Times New Roman"/>
              </a:rPr>
              <a:t> anti-windup but where input saturation occurs</a:t>
            </a:r>
            <a:endParaRPr b="0" lang="en-US" sz="2800" spc="-1" strike="noStrike">
              <a:solidFill>
                <a:srgbClr val="6600cc"/>
              </a:solidFill>
              <a:latin typeface="Times New Roman"/>
            </a:endParaRPr>
          </a:p>
        </p:txBody>
      </p:sp>
      <p:grpSp>
        <p:nvGrpSpPr>
          <p:cNvPr id="392" name=""/>
          <p:cNvGrpSpPr/>
          <p:nvPr/>
        </p:nvGrpSpPr>
        <p:grpSpPr>
          <a:xfrm>
            <a:off x="217440" y="2697120"/>
            <a:ext cx="4165560" cy="3373560"/>
            <a:chOff x="217440" y="2697120"/>
            <a:chExt cx="4165560" cy="3373560"/>
          </a:xfrm>
        </p:grpSpPr>
        <p:sp>
          <p:nvSpPr>
            <p:cNvPr id="393" name=""/>
            <p:cNvSpPr/>
            <p:nvPr/>
          </p:nvSpPr>
          <p:spPr>
            <a:xfrm>
              <a:off x="888840" y="2773440"/>
              <a:ext cx="3400560" cy="2766960"/>
            </a:xfrm>
            <a:prstGeom prst="rect">
              <a:avLst/>
            </a:prstGeom>
            <a:noFill/>
            <a:ln w="9360">
              <a:solidFill>
                <a:srgbClr val="d2aad2"/>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94" name=""/>
            <p:cNvSpPr/>
            <p:nvPr/>
          </p:nvSpPr>
          <p:spPr>
            <a:xfrm>
              <a:off x="888840" y="2773440"/>
              <a:ext cx="3400560" cy="2766960"/>
            </a:xfrm>
            <a:prstGeom prst="rect">
              <a:avLst/>
            </a:prstGeom>
            <a:noFill/>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95" name=""/>
            <p:cNvSpPr/>
            <p:nvPr/>
          </p:nvSpPr>
          <p:spPr>
            <a:xfrm>
              <a:off x="888840" y="2773440"/>
              <a:ext cx="34005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96" name=""/>
            <p:cNvSpPr/>
            <p:nvPr/>
          </p:nvSpPr>
          <p:spPr>
            <a:xfrm>
              <a:off x="888840" y="5540400"/>
              <a:ext cx="34005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97" name=""/>
            <p:cNvSpPr/>
            <p:nvPr/>
          </p:nvSpPr>
          <p:spPr>
            <a:xfrm>
              <a:off x="888840" y="5540400"/>
              <a:ext cx="34005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98" name=""/>
            <p:cNvSpPr/>
            <p:nvPr/>
          </p:nvSpPr>
          <p:spPr>
            <a:xfrm flipV="1">
              <a:off x="843120" y="5502240"/>
              <a:ext cx="0" cy="38160"/>
            </a:xfrm>
            <a:prstGeom prst="line">
              <a:avLst/>
            </a:prstGeom>
            <a:ln w="1584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399" name=""/>
            <p:cNvSpPr/>
            <p:nvPr/>
          </p:nvSpPr>
          <p:spPr>
            <a:xfrm>
              <a:off x="843120" y="2773440"/>
              <a:ext cx="0" cy="38160"/>
            </a:xfrm>
            <a:prstGeom prst="line">
              <a:avLst/>
            </a:prstGeom>
            <a:ln w="1584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400" name=""/>
            <p:cNvSpPr/>
            <p:nvPr/>
          </p:nvSpPr>
          <p:spPr>
            <a:xfrm>
              <a:off x="801720" y="5624640"/>
              <a:ext cx="20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2</a:t>
              </a:r>
              <a:endParaRPr b="0" lang="en-US" sz="1800" spc="-1" strike="noStrike">
                <a:solidFill>
                  <a:srgbClr val="333333"/>
                </a:solidFill>
                <a:latin typeface="Times New Roman"/>
              </a:endParaRPr>
            </a:p>
          </p:txBody>
        </p:sp>
        <p:sp>
          <p:nvSpPr>
            <p:cNvPr id="401" name=""/>
            <p:cNvSpPr/>
            <p:nvPr/>
          </p:nvSpPr>
          <p:spPr>
            <a:xfrm flipV="1">
              <a:off x="1744560" y="5502240"/>
              <a:ext cx="0" cy="38160"/>
            </a:xfrm>
            <a:prstGeom prst="line">
              <a:avLst/>
            </a:prstGeom>
            <a:ln w="1584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402" name=""/>
            <p:cNvSpPr/>
            <p:nvPr/>
          </p:nvSpPr>
          <p:spPr>
            <a:xfrm>
              <a:off x="1744560" y="2773440"/>
              <a:ext cx="0" cy="38160"/>
            </a:xfrm>
            <a:prstGeom prst="line">
              <a:avLst/>
            </a:prstGeom>
            <a:ln w="1584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403" name=""/>
            <p:cNvSpPr/>
            <p:nvPr/>
          </p:nvSpPr>
          <p:spPr>
            <a:xfrm>
              <a:off x="1657440" y="5624640"/>
              <a:ext cx="20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a:t>
              </a:r>
              <a:endParaRPr b="0" lang="en-US" sz="1800" spc="-1" strike="noStrike">
                <a:solidFill>
                  <a:srgbClr val="333333"/>
                </a:solidFill>
                <a:latin typeface="Times New Roman"/>
              </a:endParaRPr>
            </a:p>
          </p:txBody>
        </p:sp>
        <p:sp>
          <p:nvSpPr>
            <p:cNvPr id="404" name=""/>
            <p:cNvSpPr/>
            <p:nvPr/>
          </p:nvSpPr>
          <p:spPr>
            <a:xfrm flipV="1">
              <a:off x="2589120" y="5502240"/>
              <a:ext cx="1800" cy="38160"/>
            </a:xfrm>
            <a:prstGeom prst="line">
              <a:avLst/>
            </a:prstGeom>
            <a:ln w="1584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405" name=""/>
            <p:cNvSpPr/>
            <p:nvPr/>
          </p:nvSpPr>
          <p:spPr>
            <a:xfrm>
              <a:off x="2589120" y="2773440"/>
              <a:ext cx="1800" cy="38160"/>
            </a:xfrm>
            <a:prstGeom prst="line">
              <a:avLst/>
            </a:prstGeom>
            <a:ln w="1584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406" name=""/>
            <p:cNvSpPr/>
            <p:nvPr/>
          </p:nvSpPr>
          <p:spPr>
            <a:xfrm>
              <a:off x="2554200" y="56246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0</a:t>
              </a:r>
              <a:endParaRPr b="0" lang="en-US" sz="1800" spc="-1" strike="noStrike">
                <a:solidFill>
                  <a:srgbClr val="333333"/>
                </a:solidFill>
                <a:latin typeface="Times New Roman"/>
              </a:endParaRPr>
            </a:p>
          </p:txBody>
        </p:sp>
        <p:sp>
          <p:nvSpPr>
            <p:cNvPr id="407" name=""/>
            <p:cNvSpPr/>
            <p:nvPr/>
          </p:nvSpPr>
          <p:spPr>
            <a:xfrm flipV="1">
              <a:off x="3444840" y="5502240"/>
              <a:ext cx="1800" cy="38160"/>
            </a:xfrm>
            <a:prstGeom prst="line">
              <a:avLst/>
            </a:prstGeom>
            <a:ln w="1584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408" name=""/>
            <p:cNvSpPr/>
            <p:nvPr/>
          </p:nvSpPr>
          <p:spPr>
            <a:xfrm>
              <a:off x="3444840" y="2773440"/>
              <a:ext cx="1800" cy="38160"/>
            </a:xfrm>
            <a:prstGeom prst="line">
              <a:avLst/>
            </a:prstGeom>
            <a:ln w="1584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409" name=""/>
            <p:cNvSpPr/>
            <p:nvPr/>
          </p:nvSpPr>
          <p:spPr>
            <a:xfrm>
              <a:off x="3409920" y="56246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a:t>
              </a:r>
              <a:endParaRPr b="0" lang="en-US" sz="1800" spc="-1" strike="noStrike">
                <a:solidFill>
                  <a:srgbClr val="333333"/>
                </a:solidFill>
                <a:latin typeface="Times New Roman"/>
              </a:endParaRPr>
            </a:p>
          </p:txBody>
        </p:sp>
        <p:sp>
          <p:nvSpPr>
            <p:cNvPr id="410" name=""/>
            <p:cNvSpPr/>
            <p:nvPr/>
          </p:nvSpPr>
          <p:spPr>
            <a:xfrm flipV="1">
              <a:off x="4289400" y="5502240"/>
              <a:ext cx="1440" cy="38160"/>
            </a:xfrm>
            <a:prstGeom prst="line">
              <a:avLst/>
            </a:prstGeom>
            <a:ln w="1584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411" name=""/>
            <p:cNvSpPr/>
            <p:nvPr/>
          </p:nvSpPr>
          <p:spPr>
            <a:xfrm>
              <a:off x="4289400" y="2773440"/>
              <a:ext cx="1440" cy="38160"/>
            </a:xfrm>
            <a:prstGeom prst="line">
              <a:avLst/>
            </a:prstGeom>
            <a:ln w="1584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412" name=""/>
            <p:cNvSpPr/>
            <p:nvPr/>
          </p:nvSpPr>
          <p:spPr>
            <a:xfrm>
              <a:off x="4255920" y="56246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2</a:t>
              </a:r>
              <a:endParaRPr b="0" lang="en-US" sz="1800" spc="-1" strike="noStrike">
                <a:solidFill>
                  <a:srgbClr val="333333"/>
                </a:solidFill>
                <a:latin typeface="Times New Roman"/>
              </a:endParaRPr>
            </a:p>
          </p:txBody>
        </p:sp>
        <p:sp>
          <p:nvSpPr>
            <p:cNvPr id="413" name=""/>
            <p:cNvSpPr/>
            <p:nvPr/>
          </p:nvSpPr>
          <p:spPr>
            <a:xfrm>
              <a:off x="888840" y="554040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14" name=""/>
            <p:cNvSpPr/>
            <p:nvPr/>
          </p:nvSpPr>
          <p:spPr>
            <a:xfrm flipH="1">
              <a:off x="4252680" y="5540400"/>
              <a:ext cx="363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15" name=""/>
            <p:cNvSpPr/>
            <p:nvPr/>
          </p:nvSpPr>
          <p:spPr>
            <a:xfrm>
              <a:off x="398520" y="546408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5</a:t>
              </a:r>
              <a:endParaRPr b="0" lang="en-US" sz="1800" spc="-1" strike="noStrike">
                <a:solidFill>
                  <a:srgbClr val="333333"/>
                </a:solidFill>
                <a:latin typeface="Times New Roman"/>
              </a:endParaRPr>
            </a:p>
          </p:txBody>
        </p:sp>
        <p:sp>
          <p:nvSpPr>
            <p:cNvPr id="416" name=""/>
            <p:cNvSpPr/>
            <p:nvPr/>
          </p:nvSpPr>
          <p:spPr>
            <a:xfrm>
              <a:off x="888840" y="508464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17" name=""/>
            <p:cNvSpPr/>
            <p:nvPr/>
          </p:nvSpPr>
          <p:spPr>
            <a:xfrm flipH="1">
              <a:off x="4252680" y="5084640"/>
              <a:ext cx="363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18" name=""/>
            <p:cNvSpPr/>
            <p:nvPr/>
          </p:nvSpPr>
          <p:spPr>
            <a:xfrm>
              <a:off x="555480" y="5006880"/>
              <a:ext cx="20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a:t>
              </a:r>
              <a:endParaRPr b="0" lang="en-US" sz="1800" spc="-1" strike="noStrike">
                <a:solidFill>
                  <a:srgbClr val="333333"/>
                </a:solidFill>
                <a:latin typeface="Times New Roman"/>
              </a:endParaRPr>
            </a:p>
          </p:txBody>
        </p:sp>
        <p:sp>
          <p:nvSpPr>
            <p:cNvPr id="419" name=""/>
            <p:cNvSpPr/>
            <p:nvPr/>
          </p:nvSpPr>
          <p:spPr>
            <a:xfrm>
              <a:off x="888840" y="461808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420" name=""/>
            <p:cNvSpPr/>
            <p:nvPr/>
          </p:nvSpPr>
          <p:spPr>
            <a:xfrm flipH="1">
              <a:off x="4252680" y="4618080"/>
              <a:ext cx="363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421" name=""/>
            <p:cNvSpPr/>
            <p:nvPr/>
          </p:nvSpPr>
          <p:spPr>
            <a:xfrm>
              <a:off x="398520" y="454176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0.5</a:t>
              </a:r>
              <a:endParaRPr b="0" lang="en-US" sz="1800" spc="-1" strike="noStrike">
                <a:solidFill>
                  <a:srgbClr val="333333"/>
                </a:solidFill>
                <a:latin typeface="Times New Roman"/>
              </a:endParaRPr>
            </a:p>
          </p:txBody>
        </p:sp>
        <p:sp>
          <p:nvSpPr>
            <p:cNvPr id="422" name=""/>
            <p:cNvSpPr/>
            <p:nvPr/>
          </p:nvSpPr>
          <p:spPr>
            <a:xfrm>
              <a:off x="888840" y="416232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23" name=""/>
            <p:cNvSpPr/>
            <p:nvPr/>
          </p:nvSpPr>
          <p:spPr>
            <a:xfrm flipH="1">
              <a:off x="4252680" y="4162320"/>
              <a:ext cx="363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24" name=""/>
            <p:cNvSpPr/>
            <p:nvPr/>
          </p:nvSpPr>
          <p:spPr>
            <a:xfrm>
              <a:off x="617400" y="40863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0</a:t>
              </a:r>
              <a:endParaRPr b="0" lang="en-US" sz="1800" spc="-1" strike="noStrike">
                <a:solidFill>
                  <a:srgbClr val="333333"/>
                </a:solidFill>
                <a:latin typeface="Times New Roman"/>
              </a:endParaRPr>
            </a:p>
          </p:txBody>
        </p:sp>
        <p:sp>
          <p:nvSpPr>
            <p:cNvPr id="425" name=""/>
            <p:cNvSpPr/>
            <p:nvPr/>
          </p:nvSpPr>
          <p:spPr>
            <a:xfrm>
              <a:off x="888840" y="369576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426" name=""/>
            <p:cNvSpPr/>
            <p:nvPr/>
          </p:nvSpPr>
          <p:spPr>
            <a:xfrm flipH="1">
              <a:off x="4252680" y="3695760"/>
              <a:ext cx="363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427" name=""/>
            <p:cNvSpPr/>
            <p:nvPr/>
          </p:nvSpPr>
          <p:spPr>
            <a:xfrm>
              <a:off x="465120" y="3619440"/>
              <a:ext cx="31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0.5</a:t>
              </a:r>
              <a:endParaRPr b="0" lang="en-US" sz="1800" spc="-1" strike="noStrike">
                <a:solidFill>
                  <a:srgbClr val="333333"/>
                </a:solidFill>
                <a:latin typeface="Times New Roman"/>
              </a:endParaRPr>
            </a:p>
          </p:txBody>
        </p:sp>
        <p:sp>
          <p:nvSpPr>
            <p:cNvPr id="428" name=""/>
            <p:cNvSpPr/>
            <p:nvPr/>
          </p:nvSpPr>
          <p:spPr>
            <a:xfrm>
              <a:off x="888840" y="323856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429" name=""/>
            <p:cNvSpPr/>
            <p:nvPr/>
          </p:nvSpPr>
          <p:spPr>
            <a:xfrm flipH="1">
              <a:off x="4252680" y="3238560"/>
              <a:ext cx="363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430" name=""/>
            <p:cNvSpPr/>
            <p:nvPr/>
          </p:nvSpPr>
          <p:spPr>
            <a:xfrm>
              <a:off x="617400" y="31640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a:t>
              </a:r>
              <a:endParaRPr b="0" lang="en-US" sz="1800" spc="-1" strike="noStrike">
                <a:solidFill>
                  <a:srgbClr val="333333"/>
                </a:solidFill>
                <a:latin typeface="Times New Roman"/>
              </a:endParaRPr>
            </a:p>
          </p:txBody>
        </p:sp>
        <p:sp>
          <p:nvSpPr>
            <p:cNvPr id="431" name=""/>
            <p:cNvSpPr/>
            <p:nvPr/>
          </p:nvSpPr>
          <p:spPr>
            <a:xfrm>
              <a:off x="888840" y="277344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32" name=""/>
            <p:cNvSpPr/>
            <p:nvPr/>
          </p:nvSpPr>
          <p:spPr>
            <a:xfrm flipH="1">
              <a:off x="4252680" y="2773440"/>
              <a:ext cx="363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33" name=""/>
            <p:cNvSpPr/>
            <p:nvPr/>
          </p:nvSpPr>
          <p:spPr>
            <a:xfrm>
              <a:off x="465120" y="2697120"/>
              <a:ext cx="31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5</a:t>
              </a:r>
              <a:endParaRPr b="0" lang="en-US" sz="1800" spc="-1" strike="noStrike">
                <a:solidFill>
                  <a:srgbClr val="333333"/>
                </a:solidFill>
                <a:latin typeface="Times New Roman"/>
              </a:endParaRPr>
            </a:p>
          </p:txBody>
        </p:sp>
        <p:sp>
          <p:nvSpPr>
            <p:cNvPr id="434" name=""/>
            <p:cNvSpPr/>
            <p:nvPr/>
          </p:nvSpPr>
          <p:spPr>
            <a:xfrm>
              <a:off x="888840" y="2773440"/>
              <a:ext cx="34005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35" name=""/>
            <p:cNvSpPr/>
            <p:nvPr/>
          </p:nvSpPr>
          <p:spPr>
            <a:xfrm>
              <a:off x="888840" y="5540400"/>
              <a:ext cx="34005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36" name=""/>
            <p:cNvSpPr/>
            <p:nvPr/>
          </p:nvSpPr>
          <p:spPr>
            <a:xfrm>
              <a:off x="3449520" y="2778120"/>
              <a:ext cx="581040" cy="2776680"/>
            </a:xfrm>
            <a:custGeom>
              <a:avLst/>
              <a:gdLst/>
              <a:ahLst/>
              <a:rect l="l" t="t" r="r" b="b"/>
              <a:pathLst>
                <a:path w="1401" h="6687">
                  <a:moveTo>
                    <a:pt x="0" y="0"/>
                  </a:moveTo>
                  <a:lnTo>
                    <a:pt x="30" y="162"/>
                  </a:lnTo>
                  <a:lnTo>
                    <a:pt x="81" y="376"/>
                  </a:lnTo>
                  <a:lnTo>
                    <a:pt x="121" y="599"/>
                  </a:lnTo>
                  <a:lnTo>
                    <a:pt x="172" y="813"/>
                  </a:lnTo>
                  <a:lnTo>
                    <a:pt x="213" y="1016"/>
                  </a:lnTo>
                  <a:lnTo>
                    <a:pt x="264" y="1229"/>
                  </a:lnTo>
                  <a:lnTo>
                    <a:pt x="304" y="1453"/>
                  </a:lnTo>
                  <a:lnTo>
                    <a:pt x="345" y="1666"/>
                  </a:lnTo>
                  <a:lnTo>
                    <a:pt x="396" y="1880"/>
                  </a:lnTo>
                  <a:lnTo>
                    <a:pt x="436" y="2103"/>
                  </a:lnTo>
                  <a:lnTo>
                    <a:pt x="487" y="2317"/>
                  </a:lnTo>
                  <a:lnTo>
                    <a:pt x="528" y="2530"/>
                  </a:lnTo>
                  <a:lnTo>
                    <a:pt x="578" y="2744"/>
                  </a:lnTo>
                  <a:lnTo>
                    <a:pt x="619" y="2967"/>
                  </a:lnTo>
                  <a:lnTo>
                    <a:pt x="670" y="3181"/>
                  </a:lnTo>
                  <a:lnTo>
                    <a:pt x="710" y="3394"/>
                  </a:lnTo>
                  <a:lnTo>
                    <a:pt x="761" y="3607"/>
                  </a:lnTo>
                  <a:lnTo>
                    <a:pt x="802" y="3831"/>
                  </a:lnTo>
                  <a:lnTo>
                    <a:pt x="853" y="4044"/>
                  </a:lnTo>
                  <a:lnTo>
                    <a:pt x="893" y="4258"/>
                  </a:lnTo>
                  <a:lnTo>
                    <a:pt x="944" y="4471"/>
                  </a:lnTo>
                  <a:lnTo>
                    <a:pt x="985" y="4695"/>
                  </a:lnTo>
                  <a:lnTo>
                    <a:pt x="1035" y="4908"/>
                  </a:lnTo>
                  <a:lnTo>
                    <a:pt x="1076" y="5122"/>
                  </a:lnTo>
                  <a:lnTo>
                    <a:pt x="1127" y="5335"/>
                  </a:lnTo>
                  <a:lnTo>
                    <a:pt x="1167" y="5559"/>
                  </a:lnTo>
                  <a:lnTo>
                    <a:pt x="1208" y="5772"/>
                  </a:lnTo>
                  <a:lnTo>
                    <a:pt x="1259" y="5985"/>
                  </a:lnTo>
                  <a:lnTo>
                    <a:pt x="1299" y="6199"/>
                  </a:lnTo>
                  <a:lnTo>
                    <a:pt x="1350" y="6422"/>
                  </a:lnTo>
                  <a:lnTo>
                    <a:pt x="1391" y="6636"/>
                  </a:lnTo>
                  <a:lnTo>
                    <a:pt x="1401" y="6687"/>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37" name=""/>
            <p:cNvSpPr/>
            <p:nvPr/>
          </p:nvSpPr>
          <p:spPr>
            <a:xfrm>
              <a:off x="2492280" y="5796000"/>
              <a:ext cx="241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x1</a:t>
              </a:r>
              <a:endParaRPr b="0" lang="en-US" sz="1800" spc="-1" strike="noStrike">
                <a:solidFill>
                  <a:srgbClr val="333333"/>
                </a:solidFill>
                <a:latin typeface="Times New Roman"/>
              </a:endParaRPr>
            </a:p>
          </p:txBody>
        </p:sp>
        <p:sp>
          <p:nvSpPr>
            <p:cNvPr id="438" name=""/>
            <p:cNvSpPr/>
            <p:nvPr/>
          </p:nvSpPr>
          <p:spPr>
            <a:xfrm rot="16200000">
              <a:off x="234000" y="3996360"/>
              <a:ext cx="241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x2</a:t>
              </a:r>
              <a:endParaRPr b="0" lang="en-US" sz="1800" spc="-1" strike="noStrike">
                <a:solidFill>
                  <a:srgbClr val="333333"/>
                </a:solidFill>
                <a:latin typeface="Times New Roman"/>
              </a:endParaRPr>
            </a:p>
          </p:txBody>
        </p:sp>
        <p:sp>
          <p:nvSpPr>
            <p:cNvPr id="439" name=""/>
            <p:cNvSpPr/>
            <p:nvPr/>
          </p:nvSpPr>
          <p:spPr>
            <a:xfrm>
              <a:off x="1149480" y="2768760"/>
              <a:ext cx="582480" cy="2782800"/>
            </a:xfrm>
            <a:custGeom>
              <a:avLst/>
              <a:gdLst/>
              <a:ahLst/>
              <a:rect l="l" t="t" r="r" b="b"/>
              <a:pathLst>
                <a:path w="1402" h="6687">
                  <a:moveTo>
                    <a:pt x="0" y="0"/>
                  </a:moveTo>
                  <a:lnTo>
                    <a:pt x="31" y="193"/>
                  </a:lnTo>
                  <a:lnTo>
                    <a:pt x="82" y="406"/>
                  </a:lnTo>
                  <a:lnTo>
                    <a:pt x="122" y="620"/>
                  </a:lnTo>
                  <a:lnTo>
                    <a:pt x="173" y="833"/>
                  </a:lnTo>
                  <a:lnTo>
                    <a:pt x="214" y="1046"/>
                  </a:lnTo>
                  <a:lnTo>
                    <a:pt x="264" y="1260"/>
                  </a:lnTo>
                  <a:lnTo>
                    <a:pt x="305" y="1473"/>
                  </a:lnTo>
                  <a:lnTo>
                    <a:pt x="356" y="1687"/>
                  </a:lnTo>
                  <a:lnTo>
                    <a:pt x="396" y="1910"/>
                  </a:lnTo>
                  <a:lnTo>
                    <a:pt x="447" y="2124"/>
                  </a:lnTo>
                  <a:lnTo>
                    <a:pt x="488" y="2337"/>
                  </a:lnTo>
                  <a:lnTo>
                    <a:pt x="539" y="2551"/>
                  </a:lnTo>
                  <a:lnTo>
                    <a:pt x="579" y="2774"/>
                  </a:lnTo>
                  <a:lnTo>
                    <a:pt x="630" y="2988"/>
                  </a:lnTo>
                  <a:lnTo>
                    <a:pt x="671" y="3201"/>
                  </a:lnTo>
                  <a:lnTo>
                    <a:pt x="721" y="3414"/>
                  </a:lnTo>
                  <a:lnTo>
                    <a:pt x="762" y="3638"/>
                  </a:lnTo>
                  <a:lnTo>
                    <a:pt x="813" y="3851"/>
                  </a:lnTo>
                  <a:lnTo>
                    <a:pt x="853" y="4065"/>
                  </a:lnTo>
                  <a:lnTo>
                    <a:pt x="904" y="4288"/>
                  </a:lnTo>
                  <a:lnTo>
                    <a:pt x="945" y="4502"/>
                  </a:lnTo>
                  <a:lnTo>
                    <a:pt x="985" y="4715"/>
                  </a:lnTo>
                  <a:lnTo>
                    <a:pt x="1036" y="4929"/>
                  </a:lnTo>
                  <a:lnTo>
                    <a:pt x="1077" y="5152"/>
                  </a:lnTo>
                  <a:lnTo>
                    <a:pt x="1127" y="5366"/>
                  </a:lnTo>
                  <a:lnTo>
                    <a:pt x="1168" y="5579"/>
                  </a:lnTo>
                  <a:lnTo>
                    <a:pt x="1219" y="5792"/>
                  </a:lnTo>
                  <a:lnTo>
                    <a:pt x="1259" y="6016"/>
                  </a:lnTo>
                  <a:lnTo>
                    <a:pt x="1310" y="6229"/>
                  </a:lnTo>
                  <a:lnTo>
                    <a:pt x="1351" y="6443"/>
                  </a:lnTo>
                  <a:lnTo>
                    <a:pt x="1402" y="6656"/>
                  </a:lnTo>
                  <a:lnTo>
                    <a:pt x="1402" y="6687"/>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40" name=""/>
            <p:cNvSpPr/>
            <p:nvPr/>
          </p:nvSpPr>
          <p:spPr>
            <a:xfrm>
              <a:off x="2260440" y="2773440"/>
              <a:ext cx="1552680" cy="2787480"/>
            </a:xfrm>
            <a:custGeom>
              <a:avLst/>
              <a:gdLst/>
              <a:ahLst/>
              <a:rect l="l" t="t" r="r" b="b"/>
              <a:pathLst>
                <a:path w="3726" h="6687">
                  <a:moveTo>
                    <a:pt x="0" y="0"/>
                  </a:moveTo>
                  <a:lnTo>
                    <a:pt x="20" y="40"/>
                  </a:lnTo>
                  <a:lnTo>
                    <a:pt x="71" y="122"/>
                  </a:lnTo>
                  <a:lnTo>
                    <a:pt x="111" y="203"/>
                  </a:lnTo>
                  <a:lnTo>
                    <a:pt x="162" y="284"/>
                  </a:lnTo>
                  <a:lnTo>
                    <a:pt x="203" y="366"/>
                  </a:lnTo>
                  <a:lnTo>
                    <a:pt x="243" y="447"/>
                  </a:lnTo>
                  <a:lnTo>
                    <a:pt x="294" y="528"/>
                  </a:lnTo>
                  <a:lnTo>
                    <a:pt x="335" y="610"/>
                  </a:lnTo>
                  <a:lnTo>
                    <a:pt x="385" y="691"/>
                  </a:lnTo>
                  <a:lnTo>
                    <a:pt x="426" y="772"/>
                  </a:lnTo>
                  <a:lnTo>
                    <a:pt x="477" y="853"/>
                  </a:lnTo>
                  <a:lnTo>
                    <a:pt x="517" y="935"/>
                  </a:lnTo>
                  <a:lnTo>
                    <a:pt x="568" y="1016"/>
                  </a:lnTo>
                  <a:lnTo>
                    <a:pt x="609" y="1087"/>
                  </a:lnTo>
                  <a:lnTo>
                    <a:pt x="660" y="1168"/>
                  </a:lnTo>
                  <a:lnTo>
                    <a:pt x="700" y="1250"/>
                  </a:lnTo>
                  <a:lnTo>
                    <a:pt x="751" y="1331"/>
                  </a:lnTo>
                  <a:lnTo>
                    <a:pt x="792" y="1412"/>
                  </a:lnTo>
                  <a:lnTo>
                    <a:pt x="842" y="1494"/>
                  </a:lnTo>
                  <a:lnTo>
                    <a:pt x="883" y="1575"/>
                  </a:lnTo>
                  <a:lnTo>
                    <a:pt x="934" y="1656"/>
                  </a:lnTo>
                  <a:lnTo>
                    <a:pt x="974" y="1738"/>
                  </a:lnTo>
                  <a:lnTo>
                    <a:pt x="1025" y="1819"/>
                  </a:lnTo>
                  <a:lnTo>
                    <a:pt x="1066" y="1900"/>
                  </a:lnTo>
                  <a:lnTo>
                    <a:pt x="1106" y="1981"/>
                  </a:lnTo>
                  <a:lnTo>
                    <a:pt x="1157" y="2063"/>
                  </a:lnTo>
                  <a:lnTo>
                    <a:pt x="1198" y="2144"/>
                  </a:lnTo>
                  <a:lnTo>
                    <a:pt x="1249" y="2225"/>
                  </a:lnTo>
                  <a:lnTo>
                    <a:pt x="1289" y="2307"/>
                  </a:lnTo>
                  <a:lnTo>
                    <a:pt x="1340" y="2388"/>
                  </a:lnTo>
                  <a:lnTo>
                    <a:pt x="1381" y="2469"/>
                  </a:lnTo>
                  <a:lnTo>
                    <a:pt x="1431" y="2551"/>
                  </a:lnTo>
                  <a:lnTo>
                    <a:pt x="1472" y="2632"/>
                  </a:lnTo>
                  <a:lnTo>
                    <a:pt x="1523" y="2713"/>
                  </a:lnTo>
                  <a:lnTo>
                    <a:pt x="1563" y="2794"/>
                  </a:lnTo>
                  <a:lnTo>
                    <a:pt x="1614" y="2876"/>
                  </a:lnTo>
                  <a:lnTo>
                    <a:pt x="1655" y="2967"/>
                  </a:lnTo>
                  <a:lnTo>
                    <a:pt x="1705" y="3048"/>
                  </a:lnTo>
                  <a:lnTo>
                    <a:pt x="1746" y="3130"/>
                  </a:lnTo>
                  <a:lnTo>
                    <a:pt x="1797" y="3211"/>
                  </a:lnTo>
                  <a:lnTo>
                    <a:pt x="1837" y="3292"/>
                  </a:lnTo>
                  <a:lnTo>
                    <a:pt x="1888" y="3374"/>
                  </a:lnTo>
                  <a:lnTo>
                    <a:pt x="1929" y="3455"/>
                  </a:lnTo>
                  <a:lnTo>
                    <a:pt x="1980" y="3536"/>
                  </a:lnTo>
                  <a:lnTo>
                    <a:pt x="2020" y="3618"/>
                  </a:lnTo>
                  <a:lnTo>
                    <a:pt x="2061" y="3699"/>
                  </a:lnTo>
                  <a:lnTo>
                    <a:pt x="2112" y="3780"/>
                  </a:lnTo>
                  <a:lnTo>
                    <a:pt x="2152" y="3861"/>
                  </a:lnTo>
                  <a:lnTo>
                    <a:pt x="2203" y="3943"/>
                  </a:lnTo>
                  <a:lnTo>
                    <a:pt x="2244" y="4024"/>
                  </a:lnTo>
                  <a:lnTo>
                    <a:pt x="2294" y="4105"/>
                  </a:lnTo>
                  <a:lnTo>
                    <a:pt x="2335" y="4187"/>
                  </a:lnTo>
                  <a:lnTo>
                    <a:pt x="2386" y="4268"/>
                  </a:lnTo>
                  <a:lnTo>
                    <a:pt x="2426" y="4349"/>
                  </a:lnTo>
                  <a:lnTo>
                    <a:pt x="2477" y="4431"/>
                  </a:lnTo>
                  <a:lnTo>
                    <a:pt x="2518" y="4512"/>
                  </a:lnTo>
                  <a:lnTo>
                    <a:pt x="2569" y="4593"/>
                  </a:lnTo>
                  <a:lnTo>
                    <a:pt x="2609" y="4674"/>
                  </a:lnTo>
                  <a:lnTo>
                    <a:pt x="2660" y="4756"/>
                  </a:lnTo>
                  <a:lnTo>
                    <a:pt x="2701" y="4837"/>
                  </a:lnTo>
                  <a:lnTo>
                    <a:pt x="2751" y="4918"/>
                  </a:lnTo>
                  <a:lnTo>
                    <a:pt x="2792" y="5000"/>
                  </a:lnTo>
                  <a:lnTo>
                    <a:pt x="2843" y="5081"/>
                  </a:lnTo>
                  <a:lnTo>
                    <a:pt x="2883" y="5162"/>
                  </a:lnTo>
                  <a:lnTo>
                    <a:pt x="2924" y="5244"/>
                  </a:lnTo>
                  <a:lnTo>
                    <a:pt x="2975" y="5325"/>
                  </a:lnTo>
                  <a:lnTo>
                    <a:pt x="3015" y="5406"/>
                  </a:lnTo>
                  <a:lnTo>
                    <a:pt x="3066" y="5487"/>
                  </a:lnTo>
                  <a:lnTo>
                    <a:pt x="3107" y="5569"/>
                  </a:lnTo>
                  <a:lnTo>
                    <a:pt x="3157" y="5650"/>
                  </a:lnTo>
                  <a:lnTo>
                    <a:pt x="3198" y="5731"/>
                  </a:lnTo>
                  <a:lnTo>
                    <a:pt x="3249" y="5813"/>
                  </a:lnTo>
                  <a:lnTo>
                    <a:pt x="3289" y="5894"/>
                  </a:lnTo>
                  <a:lnTo>
                    <a:pt x="3340" y="5975"/>
                  </a:lnTo>
                  <a:lnTo>
                    <a:pt x="3381" y="6067"/>
                  </a:lnTo>
                  <a:lnTo>
                    <a:pt x="3432" y="6148"/>
                  </a:lnTo>
                  <a:lnTo>
                    <a:pt x="3472" y="6229"/>
                  </a:lnTo>
                  <a:lnTo>
                    <a:pt x="3523" y="6311"/>
                  </a:lnTo>
                  <a:lnTo>
                    <a:pt x="3564" y="6392"/>
                  </a:lnTo>
                  <a:lnTo>
                    <a:pt x="3614" y="6473"/>
                  </a:lnTo>
                  <a:lnTo>
                    <a:pt x="3655" y="6555"/>
                  </a:lnTo>
                  <a:lnTo>
                    <a:pt x="3706" y="6636"/>
                  </a:lnTo>
                  <a:lnTo>
                    <a:pt x="3726" y="6687"/>
                  </a:lnTo>
                </a:path>
              </a:pathLst>
            </a:custGeom>
            <a:noFill/>
            <a:ln w="158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41" name=""/>
            <p:cNvSpPr/>
            <p:nvPr/>
          </p:nvSpPr>
          <p:spPr>
            <a:xfrm>
              <a:off x="1370160" y="2778120"/>
              <a:ext cx="1544400" cy="2773440"/>
            </a:xfrm>
            <a:custGeom>
              <a:avLst/>
              <a:gdLst/>
              <a:ahLst/>
              <a:rect l="l" t="t" r="r" b="b"/>
              <a:pathLst>
                <a:path w="3727" h="6687">
                  <a:moveTo>
                    <a:pt x="0" y="0"/>
                  </a:moveTo>
                  <a:lnTo>
                    <a:pt x="20" y="40"/>
                  </a:lnTo>
                  <a:lnTo>
                    <a:pt x="71" y="122"/>
                  </a:lnTo>
                  <a:lnTo>
                    <a:pt x="112" y="203"/>
                  </a:lnTo>
                  <a:lnTo>
                    <a:pt x="163" y="284"/>
                  </a:lnTo>
                  <a:lnTo>
                    <a:pt x="203" y="366"/>
                  </a:lnTo>
                  <a:lnTo>
                    <a:pt x="244" y="447"/>
                  </a:lnTo>
                  <a:lnTo>
                    <a:pt x="295" y="528"/>
                  </a:lnTo>
                  <a:lnTo>
                    <a:pt x="335" y="610"/>
                  </a:lnTo>
                  <a:lnTo>
                    <a:pt x="386" y="691"/>
                  </a:lnTo>
                  <a:lnTo>
                    <a:pt x="427" y="772"/>
                  </a:lnTo>
                  <a:lnTo>
                    <a:pt x="477" y="853"/>
                  </a:lnTo>
                  <a:lnTo>
                    <a:pt x="518" y="935"/>
                  </a:lnTo>
                  <a:lnTo>
                    <a:pt x="569" y="1016"/>
                  </a:lnTo>
                  <a:lnTo>
                    <a:pt x="609" y="1087"/>
                  </a:lnTo>
                  <a:lnTo>
                    <a:pt x="660" y="1168"/>
                  </a:lnTo>
                  <a:lnTo>
                    <a:pt x="701" y="1250"/>
                  </a:lnTo>
                  <a:lnTo>
                    <a:pt x="752" y="1331"/>
                  </a:lnTo>
                  <a:lnTo>
                    <a:pt x="792" y="1412"/>
                  </a:lnTo>
                  <a:lnTo>
                    <a:pt x="843" y="1494"/>
                  </a:lnTo>
                  <a:lnTo>
                    <a:pt x="884" y="1575"/>
                  </a:lnTo>
                  <a:lnTo>
                    <a:pt x="934" y="1656"/>
                  </a:lnTo>
                  <a:lnTo>
                    <a:pt x="975" y="1738"/>
                  </a:lnTo>
                  <a:lnTo>
                    <a:pt x="1026" y="1819"/>
                  </a:lnTo>
                  <a:lnTo>
                    <a:pt x="1066" y="1900"/>
                  </a:lnTo>
                  <a:lnTo>
                    <a:pt x="1117" y="1981"/>
                  </a:lnTo>
                  <a:lnTo>
                    <a:pt x="1158" y="2063"/>
                  </a:lnTo>
                  <a:lnTo>
                    <a:pt x="1198" y="2144"/>
                  </a:lnTo>
                  <a:lnTo>
                    <a:pt x="1249" y="2225"/>
                  </a:lnTo>
                  <a:lnTo>
                    <a:pt x="1290" y="2307"/>
                  </a:lnTo>
                  <a:lnTo>
                    <a:pt x="1340" y="2388"/>
                  </a:lnTo>
                  <a:lnTo>
                    <a:pt x="1381" y="2469"/>
                  </a:lnTo>
                  <a:lnTo>
                    <a:pt x="1432" y="2551"/>
                  </a:lnTo>
                  <a:lnTo>
                    <a:pt x="1472" y="2642"/>
                  </a:lnTo>
                  <a:lnTo>
                    <a:pt x="1523" y="2723"/>
                  </a:lnTo>
                  <a:lnTo>
                    <a:pt x="1564" y="2805"/>
                  </a:lnTo>
                  <a:lnTo>
                    <a:pt x="1615" y="2886"/>
                  </a:lnTo>
                  <a:lnTo>
                    <a:pt x="1655" y="2967"/>
                  </a:lnTo>
                  <a:lnTo>
                    <a:pt x="1706" y="3048"/>
                  </a:lnTo>
                  <a:lnTo>
                    <a:pt x="1747" y="3130"/>
                  </a:lnTo>
                  <a:lnTo>
                    <a:pt x="1797" y="3211"/>
                  </a:lnTo>
                  <a:lnTo>
                    <a:pt x="1838" y="3292"/>
                  </a:lnTo>
                  <a:lnTo>
                    <a:pt x="1889" y="3374"/>
                  </a:lnTo>
                  <a:lnTo>
                    <a:pt x="1929" y="3455"/>
                  </a:lnTo>
                  <a:lnTo>
                    <a:pt x="1980" y="3536"/>
                  </a:lnTo>
                  <a:lnTo>
                    <a:pt x="2021" y="3618"/>
                  </a:lnTo>
                  <a:lnTo>
                    <a:pt x="2061" y="3699"/>
                  </a:lnTo>
                  <a:lnTo>
                    <a:pt x="2112" y="3780"/>
                  </a:lnTo>
                  <a:lnTo>
                    <a:pt x="2153" y="3861"/>
                  </a:lnTo>
                  <a:lnTo>
                    <a:pt x="2204" y="3943"/>
                  </a:lnTo>
                  <a:lnTo>
                    <a:pt x="2244" y="4024"/>
                  </a:lnTo>
                  <a:lnTo>
                    <a:pt x="2295" y="4105"/>
                  </a:lnTo>
                  <a:lnTo>
                    <a:pt x="2336" y="4187"/>
                  </a:lnTo>
                  <a:lnTo>
                    <a:pt x="2386" y="4268"/>
                  </a:lnTo>
                  <a:lnTo>
                    <a:pt x="2427" y="4349"/>
                  </a:lnTo>
                  <a:lnTo>
                    <a:pt x="2478" y="4431"/>
                  </a:lnTo>
                  <a:lnTo>
                    <a:pt x="2518" y="4512"/>
                  </a:lnTo>
                  <a:lnTo>
                    <a:pt x="2569" y="4593"/>
                  </a:lnTo>
                  <a:lnTo>
                    <a:pt x="2610" y="4674"/>
                  </a:lnTo>
                  <a:lnTo>
                    <a:pt x="2660" y="4756"/>
                  </a:lnTo>
                  <a:lnTo>
                    <a:pt x="2701" y="4837"/>
                  </a:lnTo>
                  <a:lnTo>
                    <a:pt x="2752" y="4918"/>
                  </a:lnTo>
                  <a:lnTo>
                    <a:pt x="2792" y="5000"/>
                  </a:lnTo>
                  <a:lnTo>
                    <a:pt x="2843" y="5081"/>
                  </a:lnTo>
                  <a:lnTo>
                    <a:pt x="2884" y="5162"/>
                  </a:lnTo>
                  <a:lnTo>
                    <a:pt x="2935" y="5244"/>
                  </a:lnTo>
                  <a:lnTo>
                    <a:pt x="2975" y="5325"/>
                  </a:lnTo>
                  <a:lnTo>
                    <a:pt x="3016" y="5406"/>
                  </a:lnTo>
                  <a:lnTo>
                    <a:pt x="3067" y="5487"/>
                  </a:lnTo>
                  <a:lnTo>
                    <a:pt x="3107" y="5569"/>
                  </a:lnTo>
                  <a:lnTo>
                    <a:pt x="3158" y="5660"/>
                  </a:lnTo>
                  <a:lnTo>
                    <a:pt x="3199" y="5742"/>
                  </a:lnTo>
                  <a:lnTo>
                    <a:pt x="3249" y="5823"/>
                  </a:lnTo>
                  <a:lnTo>
                    <a:pt x="3290" y="5904"/>
                  </a:lnTo>
                  <a:lnTo>
                    <a:pt x="3341" y="5985"/>
                  </a:lnTo>
                  <a:lnTo>
                    <a:pt x="3381" y="6067"/>
                  </a:lnTo>
                  <a:lnTo>
                    <a:pt x="3432" y="6148"/>
                  </a:lnTo>
                  <a:lnTo>
                    <a:pt x="3473" y="6229"/>
                  </a:lnTo>
                  <a:lnTo>
                    <a:pt x="3524" y="6311"/>
                  </a:lnTo>
                  <a:lnTo>
                    <a:pt x="3564" y="6392"/>
                  </a:lnTo>
                  <a:lnTo>
                    <a:pt x="3615" y="6473"/>
                  </a:lnTo>
                  <a:lnTo>
                    <a:pt x="3656" y="6555"/>
                  </a:lnTo>
                  <a:lnTo>
                    <a:pt x="3706" y="6636"/>
                  </a:lnTo>
                  <a:lnTo>
                    <a:pt x="3727" y="6687"/>
                  </a:lnTo>
                </a:path>
              </a:pathLst>
            </a:custGeom>
            <a:noFill/>
            <a:ln w="158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42" name=""/>
            <p:cNvSpPr/>
            <p:nvPr/>
          </p:nvSpPr>
          <p:spPr>
            <a:xfrm>
              <a:off x="1440000" y="3191040"/>
              <a:ext cx="2298600" cy="1930320"/>
            </a:xfrm>
            <a:custGeom>
              <a:avLst/>
              <a:gdLst/>
              <a:ahLst/>
              <a:rect l="l" t="t" r="r" b="b"/>
              <a:pathLst>
                <a:path w="2457" h="2063">
                  <a:moveTo>
                    <a:pt x="0" y="529"/>
                  </a:moveTo>
                  <a:lnTo>
                    <a:pt x="0" y="539"/>
                  </a:lnTo>
                  <a:lnTo>
                    <a:pt x="0" y="590"/>
                  </a:lnTo>
                  <a:lnTo>
                    <a:pt x="0" y="641"/>
                  </a:lnTo>
                  <a:lnTo>
                    <a:pt x="0" y="671"/>
                  </a:lnTo>
                  <a:lnTo>
                    <a:pt x="0" y="691"/>
                  </a:lnTo>
                  <a:lnTo>
                    <a:pt x="10" y="732"/>
                  </a:lnTo>
                  <a:lnTo>
                    <a:pt x="20" y="783"/>
                  </a:lnTo>
                  <a:lnTo>
                    <a:pt x="31" y="834"/>
                  </a:lnTo>
                  <a:lnTo>
                    <a:pt x="51" y="874"/>
                  </a:lnTo>
                  <a:lnTo>
                    <a:pt x="51" y="884"/>
                  </a:lnTo>
                  <a:lnTo>
                    <a:pt x="71" y="935"/>
                  </a:lnTo>
                  <a:lnTo>
                    <a:pt x="92" y="986"/>
                  </a:lnTo>
                  <a:lnTo>
                    <a:pt x="112" y="1037"/>
                  </a:lnTo>
                  <a:lnTo>
                    <a:pt x="142" y="1078"/>
                  </a:lnTo>
                  <a:lnTo>
                    <a:pt x="173" y="1128"/>
                  </a:lnTo>
                  <a:lnTo>
                    <a:pt x="183" y="1159"/>
                  </a:lnTo>
                  <a:lnTo>
                    <a:pt x="203" y="1179"/>
                  </a:lnTo>
                  <a:lnTo>
                    <a:pt x="234" y="1220"/>
                  </a:lnTo>
                  <a:lnTo>
                    <a:pt x="234" y="1230"/>
                  </a:lnTo>
                  <a:lnTo>
                    <a:pt x="274" y="1281"/>
                  </a:lnTo>
                  <a:lnTo>
                    <a:pt x="305" y="1332"/>
                  </a:lnTo>
                  <a:lnTo>
                    <a:pt x="325" y="1342"/>
                  </a:lnTo>
                  <a:lnTo>
                    <a:pt x="356" y="1372"/>
                  </a:lnTo>
                  <a:lnTo>
                    <a:pt x="366" y="1393"/>
                  </a:lnTo>
                  <a:lnTo>
                    <a:pt x="396" y="1423"/>
                  </a:lnTo>
                  <a:lnTo>
                    <a:pt x="406" y="1443"/>
                  </a:lnTo>
                  <a:lnTo>
                    <a:pt x="447" y="1474"/>
                  </a:lnTo>
                  <a:lnTo>
                    <a:pt x="457" y="1484"/>
                  </a:lnTo>
                  <a:lnTo>
                    <a:pt x="498" y="1525"/>
                  </a:lnTo>
                  <a:lnTo>
                    <a:pt x="548" y="1565"/>
                  </a:lnTo>
                  <a:lnTo>
                    <a:pt x="559" y="1576"/>
                  </a:lnTo>
                  <a:lnTo>
                    <a:pt x="589" y="1606"/>
                  </a:lnTo>
                  <a:lnTo>
                    <a:pt x="609" y="1626"/>
                  </a:lnTo>
                  <a:lnTo>
                    <a:pt x="640" y="1637"/>
                  </a:lnTo>
                  <a:lnTo>
                    <a:pt x="680" y="1677"/>
                  </a:lnTo>
                  <a:lnTo>
                    <a:pt x="731" y="1708"/>
                  </a:lnTo>
                  <a:lnTo>
                    <a:pt x="752" y="1718"/>
                  </a:lnTo>
                  <a:lnTo>
                    <a:pt x="772" y="1738"/>
                  </a:lnTo>
                  <a:lnTo>
                    <a:pt x="823" y="1769"/>
                  </a:lnTo>
                  <a:lnTo>
                    <a:pt x="863" y="1799"/>
                  </a:lnTo>
                  <a:lnTo>
                    <a:pt x="914" y="1819"/>
                  </a:lnTo>
                  <a:lnTo>
                    <a:pt x="955" y="1850"/>
                  </a:lnTo>
                  <a:lnTo>
                    <a:pt x="1005" y="1870"/>
                  </a:lnTo>
                  <a:lnTo>
                    <a:pt x="1046" y="1891"/>
                  </a:lnTo>
                  <a:lnTo>
                    <a:pt x="1097" y="1911"/>
                  </a:lnTo>
                  <a:lnTo>
                    <a:pt x="1107" y="1921"/>
                  </a:lnTo>
                  <a:lnTo>
                    <a:pt x="1137" y="1931"/>
                  </a:lnTo>
                  <a:lnTo>
                    <a:pt x="1188" y="1952"/>
                  </a:lnTo>
                  <a:lnTo>
                    <a:pt x="1229" y="1962"/>
                  </a:lnTo>
                  <a:lnTo>
                    <a:pt x="1239" y="1972"/>
                  </a:lnTo>
                  <a:lnTo>
                    <a:pt x="1269" y="1982"/>
                  </a:lnTo>
                  <a:lnTo>
                    <a:pt x="1320" y="1992"/>
                  </a:lnTo>
                  <a:lnTo>
                    <a:pt x="1361" y="2002"/>
                  </a:lnTo>
                  <a:lnTo>
                    <a:pt x="1401" y="2023"/>
                  </a:lnTo>
                  <a:lnTo>
                    <a:pt x="1412" y="2023"/>
                  </a:lnTo>
                  <a:lnTo>
                    <a:pt x="1452" y="2033"/>
                  </a:lnTo>
                  <a:lnTo>
                    <a:pt x="1503" y="2033"/>
                  </a:lnTo>
                  <a:lnTo>
                    <a:pt x="1544" y="2043"/>
                  </a:lnTo>
                  <a:lnTo>
                    <a:pt x="1594" y="2053"/>
                  </a:lnTo>
                  <a:lnTo>
                    <a:pt x="1635" y="2053"/>
                  </a:lnTo>
                  <a:lnTo>
                    <a:pt x="1686" y="2063"/>
                  </a:lnTo>
                  <a:lnTo>
                    <a:pt x="1726" y="2063"/>
                  </a:lnTo>
                  <a:lnTo>
                    <a:pt x="1777" y="2063"/>
                  </a:lnTo>
                  <a:lnTo>
                    <a:pt x="1818" y="2063"/>
                  </a:lnTo>
                  <a:lnTo>
                    <a:pt x="1868" y="2053"/>
                  </a:lnTo>
                  <a:lnTo>
                    <a:pt x="1909" y="2053"/>
                  </a:lnTo>
                  <a:lnTo>
                    <a:pt x="1960" y="2043"/>
                  </a:lnTo>
                  <a:lnTo>
                    <a:pt x="2000" y="2033"/>
                  </a:lnTo>
                  <a:lnTo>
                    <a:pt x="2051" y="2023"/>
                  </a:lnTo>
                  <a:lnTo>
                    <a:pt x="2092" y="2002"/>
                  </a:lnTo>
                  <a:lnTo>
                    <a:pt x="2143" y="1982"/>
                  </a:lnTo>
                  <a:lnTo>
                    <a:pt x="2163" y="1972"/>
                  </a:lnTo>
                  <a:lnTo>
                    <a:pt x="2183" y="1962"/>
                  </a:lnTo>
                  <a:lnTo>
                    <a:pt x="2224" y="1931"/>
                  </a:lnTo>
                  <a:lnTo>
                    <a:pt x="2244" y="1921"/>
                  </a:lnTo>
                  <a:lnTo>
                    <a:pt x="2275" y="1891"/>
                  </a:lnTo>
                  <a:lnTo>
                    <a:pt x="2295" y="1870"/>
                  </a:lnTo>
                  <a:lnTo>
                    <a:pt x="2315" y="1850"/>
                  </a:lnTo>
                  <a:lnTo>
                    <a:pt x="2346" y="1819"/>
                  </a:lnTo>
                  <a:lnTo>
                    <a:pt x="2366" y="1789"/>
                  </a:lnTo>
                  <a:lnTo>
                    <a:pt x="2376" y="1769"/>
                  </a:lnTo>
                  <a:lnTo>
                    <a:pt x="2407" y="1718"/>
                  </a:lnTo>
                  <a:lnTo>
                    <a:pt x="2407" y="1708"/>
                  </a:lnTo>
                  <a:lnTo>
                    <a:pt x="2427" y="1677"/>
                  </a:lnTo>
                  <a:lnTo>
                    <a:pt x="2437" y="1626"/>
                  </a:lnTo>
                  <a:lnTo>
                    <a:pt x="2447" y="1576"/>
                  </a:lnTo>
                  <a:lnTo>
                    <a:pt x="2457" y="1535"/>
                  </a:lnTo>
                  <a:lnTo>
                    <a:pt x="2457" y="1525"/>
                  </a:lnTo>
                  <a:lnTo>
                    <a:pt x="2457" y="1474"/>
                  </a:lnTo>
                  <a:lnTo>
                    <a:pt x="2457" y="1423"/>
                  </a:lnTo>
                  <a:lnTo>
                    <a:pt x="2457" y="1393"/>
                  </a:lnTo>
                  <a:lnTo>
                    <a:pt x="2457" y="1372"/>
                  </a:lnTo>
                  <a:lnTo>
                    <a:pt x="2447" y="1332"/>
                  </a:lnTo>
                  <a:lnTo>
                    <a:pt x="2437" y="1281"/>
                  </a:lnTo>
                  <a:lnTo>
                    <a:pt x="2427" y="1230"/>
                  </a:lnTo>
                  <a:lnTo>
                    <a:pt x="2407" y="1189"/>
                  </a:lnTo>
                  <a:lnTo>
                    <a:pt x="2407" y="1179"/>
                  </a:lnTo>
                  <a:lnTo>
                    <a:pt x="2386" y="1128"/>
                  </a:lnTo>
                  <a:lnTo>
                    <a:pt x="2366" y="1078"/>
                  </a:lnTo>
                  <a:lnTo>
                    <a:pt x="2346" y="1037"/>
                  </a:lnTo>
                  <a:lnTo>
                    <a:pt x="2315" y="986"/>
                  </a:lnTo>
                  <a:lnTo>
                    <a:pt x="2285" y="935"/>
                  </a:lnTo>
                  <a:lnTo>
                    <a:pt x="2275" y="905"/>
                  </a:lnTo>
                  <a:lnTo>
                    <a:pt x="2254" y="884"/>
                  </a:lnTo>
                  <a:lnTo>
                    <a:pt x="2224" y="844"/>
                  </a:lnTo>
                  <a:lnTo>
                    <a:pt x="2224" y="834"/>
                  </a:lnTo>
                  <a:lnTo>
                    <a:pt x="2183" y="783"/>
                  </a:lnTo>
                  <a:lnTo>
                    <a:pt x="2153" y="732"/>
                  </a:lnTo>
                  <a:lnTo>
                    <a:pt x="2143" y="722"/>
                  </a:lnTo>
                  <a:lnTo>
                    <a:pt x="2102" y="691"/>
                  </a:lnTo>
                  <a:lnTo>
                    <a:pt x="2092" y="671"/>
                  </a:lnTo>
                  <a:lnTo>
                    <a:pt x="2061" y="641"/>
                  </a:lnTo>
                  <a:lnTo>
                    <a:pt x="2051" y="620"/>
                  </a:lnTo>
                  <a:lnTo>
                    <a:pt x="2011" y="590"/>
                  </a:lnTo>
                  <a:lnTo>
                    <a:pt x="2000" y="580"/>
                  </a:lnTo>
                  <a:lnTo>
                    <a:pt x="1960" y="539"/>
                  </a:lnTo>
                  <a:lnTo>
                    <a:pt x="1909" y="498"/>
                  </a:lnTo>
                  <a:lnTo>
                    <a:pt x="1899" y="488"/>
                  </a:lnTo>
                  <a:lnTo>
                    <a:pt x="1868" y="458"/>
                  </a:lnTo>
                  <a:lnTo>
                    <a:pt x="1848" y="437"/>
                  </a:lnTo>
                  <a:lnTo>
                    <a:pt x="1818" y="427"/>
                  </a:lnTo>
                  <a:lnTo>
                    <a:pt x="1777" y="387"/>
                  </a:lnTo>
                  <a:lnTo>
                    <a:pt x="1726" y="356"/>
                  </a:lnTo>
                  <a:lnTo>
                    <a:pt x="1706" y="346"/>
                  </a:lnTo>
                  <a:lnTo>
                    <a:pt x="1686" y="326"/>
                  </a:lnTo>
                  <a:lnTo>
                    <a:pt x="1635" y="295"/>
                  </a:lnTo>
                  <a:lnTo>
                    <a:pt x="1594" y="265"/>
                  </a:lnTo>
                  <a:lnTo>
                    <a:pt x="1544" y="244"/>
                  </a:lnTo>
                  <a:lnTo>
                    <a:pt x="1503" y="214"/>
                  </a:lnTo>
                  <a:lnTo>
                    <a:pt x="1452" y="193"/>
                  </a:lnTo>
                  <a:lnTo>
                    <a:pt x="1412" y="173"/>
                  </a:lnTo>
                  <a:lnTo>
                    <a:pt x="1361" y="153"/>
                  </a:lnTo>
                  <a:lnTo>
                    <a:pt x="1351" y="143"/>
                  </a:lnTo>
                  <a:lnTo>
                    <a:pt x="1320" y="132"/>
                  </a:lnTo>
                  <a:lnTo>
                    <a:pt x="1269" y="112"/>
                  </a:lnTo>
                  <a:lnTo>
                    <a:pt x="1229" y="102"/>
                  </a:lnTo>
                  <a:lnTo>
                    <a:pt x="1219" y="92"/>
                  </a:lnTo>
                  <a:lnTo>
                    <a:pt x="1188" y="82"/>
                  </a:lnTo>
                  <a:lnTo>
                    <a:pt x="1137" y="72"/>
                  </a:lnTo>
                  <a:lnTo>
                    <a:pt x="1097" y="61"/>
                  </a:lnTo>
                  <a:lnTo>
                    <a:pt x="1056" y="51"/>
                  </a:lnTo>
                  <a:lnTo>
                    <a:pt x="1046" y="41"/>
                  </a:lnTo>
                  <a:lnTo>
                    <a:pt x="1005" y="31"/>
                  </a:lnTo>
                  <a:lnTo>
                    <a:pt x="955" y="31"/>
                  </a:lnTo>
                  <a:lnTo>
                    <a:pt x="914" y="21"/>
                  </a:lnTo>
                  <a:lnTo>
                    <a:pt x="863" y="11"/>
                  </a:lnTo>
                  <a:lnTo>
                    <a:pt x="823" y="11"/>
                  </a:lnTo>
                  <a:lnTo>
                    <a:pt x="772" y="0"/>
                  </a:lnTo>
                  <a:lnTo>
                    <a:pt x="731" y="0"/>
                  </a:lnTo>
                  <a:lnTo>
                    <a:pt x="680" y="0"/>
                  </a:lnTo>
                  <a:lnTo>
                    <a:pt x="640" y="0"/>
                  </a:lnTo>
                  <a:lnTo>
                    <a:pt x="589" y="11"/>
                  </a:lnTo>
                  <a:lnTo>
                    <a:pt x="548" y="11"/>
                  </a:lnTo>
                  <a:lnTo>
                    <a:pt x="498" y="21"/>
                  </a:lnTo>
                  <a:lnTo>
                    <a:pt x="457" y="31"/>
                  </a:lnTo>
                  <a:lnTo>
                    <a:pt x="406" y="41"/>
                  </a:lnTo>
                  <a:lnTo>
                    <a:pt x="406" y="51"/>
                  </a:lnTo>
                  <a:lnTo>
                    <a:pt x="366" y="61"/>
                  </a:lnTo>
                  <a:lnTo>
                    <a:pt x="325" y="82"/>
                  </a:lnTo>
                  <a:lnTo>
                    <a:pt x="295" y="92"/>
                  </a:lnTo>
                  <a:lnTo>
                    <a:pt x="274" y="102"/>
                  </a:lnTo>
                  <a:lnTo>
                    <a:pt x="234" y="132"/>
                  </a:lnTo>
                  <a:lnTo>
                    <a:pt x="213" y="143"/>
                  </a:lnTo>
                  <a:lnTo>
                    <a:pt x="183" y="173"/>
                  </a:lnTo>
                  <a:lnTo>
                    <a:pt x="163" y="193"/>
                  </a:lnTo>
                  <a:lnTo>
                    <a:pt x="142" y="214"/>
                  </a:lnTo>
                  <a:lnTo>
                    <a:pt x="112" y="244"/>
                  </a:lnTo>
                  <a:lnTo>
                    <a:pt x="92" y="275"/>
                  </a:lnTo>
                  <a:lnTo>
                    <a:pt x="81" y="295"/>
                  </a:lnTo>
                  <a:lnTo>
                    <a:pt x="51" y="346"/>
                  </a:lnTo>
                  <a:lnTo>
                    <a:pt x="51" y="356"/>
                  </a:lnTo>
                  <a:lnTo>
                    <a:pt x="31" y="387"/>
                  </a:lnTo>
                  <a:lnTo>
                    <a:pt x="20" y="437"/>
                  </a:lnTo>
                  <a:lnTo>
                    <a:pt x="10" y="488"/>
                  </a:lnTo>
                  <a:lnTo>
                    <a:pt x="0" y="529"/>
                  </a:lnTo>
                </a:path>
              </a:pathLst>
            </a:custGeom>
            <a:noFill/>
            <a:ln w="1260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43" name=""/>
            <p:cNvSpPr/>
            <p:nvPr/>
          </p:nvSpPr>
          <p:spPr>
            <a:xfrm>
              <a:off x="3643200" y="4218120"/>
              <a:ext cx="66960" cy="66600"/>
            </a:xfrm>
            <a:prstGeom prst="ellipse">
              <a:avLst/>
            </a:prstGeom>
            <a:noFill/>
            <a:ln w="2844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grpSp>
      <p:grpSp>
        <p:nvGrpSpPr>
          <p:cNvPr id="444" name=""/>
          <p:cNvGrpSpPr/>
          <p:nvPr/>
        </p:nvGrpSpPr>
        <p:grpSpPr>
          <a:xfrm>
            <a:off x="4843440" y="2690640"/>
            <a:ext cx="3940200" cy="3436200"/>
            <a:chOff x="4843440" y="2690640"/>
            <a:chExt cx="3940200" cy="3436200"/>
          </a:xfrm>
        </p:grpSpPr>
        <p:sp>
          <p:nvSpPr>
            <p:cNvPr id="445" name=""/>
            <p:cNvSpPr/>
            <p:nvPr/>
          </p:nvSpPr>
          <p:spPr>
            <a:xfrm>
              <a:off x="5505480" y="2779560"/>
              <a:ext cx="3267000" cy="2797200"/>
            </a:xfrm>
            <a:prstGeom prst="rect">
              <a:avLst/>
            </a:prstGeom>
            <a:noFill/>
            <a:ln w="936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46" name=""/>
            <p:cNvSpPr/>
            <p:nvPr/>
          </p:nvSpPr>
          <p:spPr>
            <a:xfrm>
              <a:off x="5505480" y="2779560"/>
              <a:ext cx="3267000" cy="1800"/>
            </a:xfrm>
            <a:prstGeom prst="line">
              <a:avLst/>
            </a:prstGeom>
            <a:ln w="1908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447" name=""/>
            <p:cNvSpPr/>
            <p:nvPr/>
          </p:nvSpPr>
          <p:spPr>
            <a:xfrm>
              <a:off x="5505480" y="5576760"/>
              <a:ext cx="326700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48" name=""/>
            <p:cNvSpPr/>
            <p:nvPr/>
          </p:nvSpPr>
          <p:spPr>
            <a:xfrm flipV="1">
              <a:off x="5505480" y="2779560"/>
              <a:ext cx="0" cy="279720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49" name=""/>
            <p:cNvSpPr/>
            <p:nvPr/>
          </p:nvSpPr>
          <p:spPr>
            <a:xfrm>
              <a:off x="5505480" y="5576760"/>
              <a:ext cx="326700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50" name=""/>
            <p:cNvSpPr/>
            <p:nvPr/>
          </p:nvSpPr>
          <p:spPr>
            <a:xfrm flipV="1">
              <a:off x="5505480" y="2779560"/>
              <a:ext cx="0" cy="279720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51" name=""/>
            <p:cNvSpPr/>
            <p:nvPr/>
          </p:nvSpPr>
          <p:spPr>
            <a:xfrm flipV="1">
              <a:off x="5505480" y="5541480"/>
              <a:ext cx="0" cy="34920"/>
            </a:xfrm>
            <a:prstGeom prst="line">
              <a:avLst/>
            </a:prstGeom>
            <a:ln w="1908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452" name=""/>
            <p:cNvSpPr/>
            <p:nvPr/>
          </p:nvSpPr>
          <p:spPr>
            <a:xfrm>
              <a:off x="5505480" y="2779560"/>
              <a:ext cx="0" cy="33480"/>
            </a:xfrm>
            <a:prstGeom prst="line">
              <a:avLst/>
            </a:prstGeom>
            <a:ln w="1908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453" name=""/>
            <p:cNvSpPr/>
            <p:nvPr/>
          </p:nvSpPr>
          <p:spPr>
            <a:xfrm>
              <a:off x="5483160" y="56674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454" name=""/>
            <p:cNvSpPr/>
            <p:nvPr/>
          </p:nvSpPr>
          <p:spPr>
            <a:xfrm flipV="1">
              <a:off x="6113520" y="5541480"/>
              <a:ext cx="1440" cy="34920"/>
            </a:xfrm>
            <a:prstGeom prst="line">
              <a:avLst/>
            </a:prstGeom>
            <a:ln w="1908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455" name=""/>
            <p:cNvSpPr/>
            <p:nvPr/>
          </p:nvSpPr>
          <p:spPr>
            <a:xfrm>
              <a:off x="6113520" y="2779560"/>
              <a:ext cx="1440" cy="33480"/>
            </a:xfrm>
            <a:prstGeom prst="line">
              <a:avLst/>
            </a:prstGeom>
            <a:ln w="1908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456" name=""/>
            <p:cNvSpPr/>
            <p:nvPr/>
          </p:nvSpPr>
          <p:spPr>
            <a:xfrm>
              <a:off x="6093000" y="56674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5</a:t>
              </a:r>
              <a:endParaRPr b="0" lang="en-US" sz="1700" spc="-1" strike="noStrike">
                <a:solidFill>
                  <a:srgbClr val="333333"/>
                </a:solidFill>
                <a:latin typeface="Times New Roman"/>
              </a:endParaRPr>
            </a:p>
          </p:txBody>
        </p:sp>
        <p:sp>
          <p:nvSpPr>
            <p:cNvPr id="457" name=""/>
            <p:cNvSpPr/>
            <p:nvPr/>
          </p:nvSpPr>
          <p:spPr>
            <a:xfrm flipV="1">
              <a:off x="6711840" y="5541480"/>
              <a:ext cx="1800" cy="34920"/>
            </a:xfrm>
            <a:prstGeom prst="line">
              <a:avLst/>
            </a:prstGeom>
            <a:ln w="1908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458" name=""/>
            <p:cNvSpPr/>
            <p:nvPr/>
          </p:nvSpPr>
          <p:spPr>
            <a:xfrm>
              <a:off x="6711840" y="2779560"/>
              <a:ext cx="1800" cy="33480"/>
            </a:xfrm>
            <a:prstGeom prst="line">
              <a:avLst/>
            </a:prstGeom>
            <a:ln w="1908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459" name=""/>
            <p:cNvSpPr/>
            <p:nvPr/>
          </p:nvSpPr>
          <p:spPr>
            <a:xfrm>
              <a:off x="6624720" y="566748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0</a:t>
              </a:r>
              <a:endParaRPr b="0" lang="en-US" sz="1700" spc="-1" strike="noStrike">
                <a:solidFill>
                  <a:srgbClr val="333333"/>
                </a:solidFill>
                <a:latin typeface="Times New Roman"/>
              </a:endParaRPr>
            </a:p>
          </p:txBody>
        </p:sp>
        <p:sp>
          <p:nvSpPr>
            <p:cNvPr id="460" name=""/>
            <p:cNvSpPr/>
            <p:nvPr/>
          </p:nvSpPr>
          <p:spPr>
            <a:xfrm flipV="1">
              <a:off x="7321680" y="5541480"/>
              <a:ext cx="0" cy="34920"/>
            </a:xfrm>
            <a:prstGeom prst="line">
              <a:avLst/>
            </a:prstGeom>
            <a:ln w="1908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461" name=""/>
            <p:cNvSpPr/>
            <p:nvPr/>
          </p:nvSpPr>
          <p:spPr>
            <a:xfrm>
              <a:off x="7321680" y="2779560"/>
              <a:ext cx="0" cy="33480"/>
            </a:xfrm>
            <a:prstGeom prst="line">
              <a:avLst/>
            </a:prstGeom>
            <a:ln w="1908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462" name=""/>
            <p:cNvSpPr/>
            <p:nvPr/>
          </p:nvSpPr>
          <p:spPr>
            <a:xfrm>
              <a:off x="7234200" y="566748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463" name=""/>
            <p:cNvSpPr/>
            <p:nvPr/>
          </p:nvSpPr>
          <p:spPr>
            <a:xfrm flipV="1">
              <a:off x="7931160" y="5541480"/>
              <a:ext cx="0" cy="34920"/>
            </a:xfrm>
            <a:prstGeom prst="line">
              <a:avLst/>
            </a:prstGeom>
            <a:ln w="1908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464" name=""/>
            <p:cNvSpPr/>
            <p:nvPr/>
          </p:nvSpPr>
          <p:spPr>
            <a:xfrm>
              <a:off x="7931160" y="2779560"/>
              <a:ext cx="0" cy="33480"/>
            </a:xfrm>
            <a:prstGeom prst="line">
              <a:avLst/>
            </a:prstGeom>
            <a:ln w="1908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465" name=""/>
            <p:cNvSpPr/>
            <p:nvPr/>
          </p:nvSpPr>
          <p:spPr>
            <a:xfrm>
              <a:off x="7843680" y="566748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0</a:t>
              </a:r>
              <a:endParaRPr b="0" lang="en-US" sz="1700" spc="-1" strike="noStrike">
                <a:solidFill>
                  <a:srgbClr val="333333"/>
                </a:solidFill>
                <a:latin typeface="Times New Roman"/>
              </a:endParaRPr>
            </a:p>
          </p:txBody>
        </p:sp>
        <p:sp>
          <p:nvSpPr>
            <p:cNvPr id="466" name=""/>
            <p:cNvSpPr/>
            <p:nvPr/>
          </p:nvSpPr>
          <p:spPr>
            <a:xfrm>
              <a:off x="8442360" y="566748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5</a:t>
              </a:r>
              <a:endParaRPr b="0" lang="en-US" sz="1700" spc="-1" strike="noStrike">
                <a:solidFill>
                  <a:srgbClr val="333333"/>
                </a:solidFill>
                <a:latin typeface="Times New Roman"/>
              </a:endParaRPr>
            </a:p>
          </p:txBody>
        </p:sp>
        <p:sp>
          <p:nvSpPr>
            <p:cNvPr id="467" name=""/>
            <p:cNvSpPr/>
            <p:nvPr/>
          </p:nvSpPr>
          <p:spPr>
            <a:xfrm>
              <a:off x="5505480" y="5576760"/>
              <a:ext cx="3348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68" name=""/>
            <p:cNvSpPr/>
            <p:nvPr/>
          </p:nvSpPr>
          <p:spPr>
            <a:xfrm>
              <a:off x="5002200" y="548640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469" name=""/>
            <p:cNvSpPr/>
            <p:nvPr/>
          </p:nvSpPr>
          <p:spPr>
            <a:xfrm>
              <a:off x="5505480" y="5106960"/>
              <a:ext cx="33480" cy="1440"/>
            </a:xfrm>
            <a:prstGeom prst="line">
              <a:avLst/>
            </a:prstGeom>
            <a:ln w="19080">
              <a:solidFill>
                <a:srgbClr val="333333"/>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470" name=""/>
            <p:cNvSpPr/>
            <p:nvPr/>
          </p:nvSpPr>
          <p:spPr>
            <a:xfrm>
              <a:off x="5165640" y="501984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471" name=""/>
            <p:cNvSpPr/>
            <p:nvPr/>
          </p:nvSpPr>
          <p:spPr>
            <a:xfrm>
              <a:off x="5505480" y="4640400"/>
              <a:ext cx="3348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72" name=""/>
            <p:cNvSpPr/>
            <p:nvPr/>
          </p:nvSpPr>
          <p:spPr>
            <a:xfrm>
              <a:off x="5002200" y="455148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473" name=""/>
            <p:cNvSpPr/>
            <p:nvPr/>
          </p:nvSpPr>
          <p:spPr>
            <a:xfrm>
              <a:off x="5505480" y="4183200"/>
              <a:ext cx="33480" cy="1440"/>
            </a:xfrm>
            <a:prstGeom prst="line">
              <a:avLst/>
            </a:prstGeom>
            <a:ln w="1908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474" name=""/>
            <p:cNvSpPr/>
            <p:nvPr/>
          </p:nvSpPr>
          <p:spPr>
            <a:xfrm>
              <a:off x="5234040" y="40942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475" name=""/>
            <p:cNvSpPr/>
            <p:nvPr/>
          </p:nvSpPr>
          <p:spPr>
            <a:xfrm>
              <a:off x="5505480" y="3716280"/>
              <a:ext cx="33480" cy="1800"/>
            </a:xfrm>
            <a:prstGeom prst="line">
              <a:avLst/>
            </a:prstGeom>
            <a:ln w="1908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476" name=""/>
            <p:cNvSpPr/>
            <p:nvPr/>
          </p:nvSpPr>
          <p:spPr>
            <a:xfrm>
              <a:off x="5070960" y="362592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477" name=""/>
            <p:cNvSpPr/>
            <p:nvPr/>
          </p:nvSpPr>
          <p:spPr>
            <a:xfrm>
              <a:off x="5505480" y="3247920"/>
              <a:ext cx="3348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78" name=""/>
            <p:cNvSpPr/>
            <p:nvPr/>
          </p:nvSpPr>
          <p:spPr>
            <a:xfrm>
              <a:off x="5234040" y="31575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479" name=""/>
            <p:cNvSpPr/>
            <p:nvPr/>
          </p:nvSpPr>
          <p:spPr>
            <a:xfrm>
              <a:off x="5505480" y="2779560"/>
              <a:ext cx="33480" cy="1800"/>
            </a:xfrm>
            <a:prstGeom prst="line">
              <a:avLst/>
            </a:prstGeom>
            <a:ln w="1908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480" name=""/>
            <p:cNvSpPr/>
            <p:nvPr/>
          </p:nvSpPr>
          <p:spPr>
            <a:xfrm>
              <a:off x="5070960" y="269064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481" name=""/>
            <p:cNvSpPr/>
            <p:nvPr/>
          </p:nvSpPr>
          <p:spPr>
            <a:xfrm>
              <a:off x="5505480" y="2779560"/>
              <a:ext cx="3267000" cy="1800"/>
            </a:xfrm>
            <a:prstGeom prst="line">
              <a:avLst/>
            </a:prstGeom>
            <a:ln w="1908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482" name=""/>
            <p:cNvSpPr/>
            <p:nvPr/>
          </p:nvSpPr>
          <p:spPr>
            <a:xfrm>
              <a:off x="5505480" y="5576760"/>
              <a:ext cx="326700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83" name=""/>
            <p:cNvSpPr/>
            <p:nvPr/>
          </p:nvSpPr>
          <p:spPr>
            <a:xfrm flipV="1">
              <a:off x="5505480" y="2779560"/>
              <a:ext cx="0" cy="279720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84" name=""/>
            <p:cNvSpPr/>
            <p:nvPr/>
          </p:nvSpPr>
          <p:spPr>
            <a:xfrm>
              <a:off x="7111440" y="5867280"/>
              <a:ext cx="109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k</a:t>
              </a:r>
              <a:endParaRPr b="0" lang="en-US" sz="1700" spc="-1" strike="noStrike">
                <a:solidFill>
                  <a:srgbClr val="333333"/>
                </a:solidFill>
                <a:latin typeface="Times New Roman"/>
              </a:endParaRPr>
            </a:p>
          </p:txBody>
        </p:sp>
        <p:sp>
          <p:nvSpPr>
            <p:cNvPr id="485" name=""/>
            <p:cNvSpPr/>
            <p:nvPr/>
          </p:nvSpPr>
          <p:spPr>
            <a:xfrm rot="16200000">
              <a:off x="4786920" y="403704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u(k)</a:t>
              </a:r>
              <a:endParaRPr b="0" lang="en-US" sz="1700" spc="-1" strike="noStrike">
                <a:solidFill>
                  <a:srgbClr val="333333"/>
                </a:solidFill>
                <a:latin typeface="Times New Roman"/>
              </a:endParaRPr>
            </a:p>
          </p:txBody>
        </p:sp>
        <p:sp>
          <p:nvSpPr>
            <p:cNvPr id="486" name=""/>
            <p:cNvSpPr/>
            <p:nvPr/>
          </p:nvSpPr>
          <p:spPr>
            <a:xfrm>
              <a:off x="5472000" y="5073480"/>
              <a:ext cx="77760" cy="78120"/>
            </a:xfrm>
            <a:prstGeom prst="ellipse">
              <a:avLst/>
            </a:prstGeom>
            <a:noFill/>
            <a:ln w="28440">
              <a:solidFill>
                <a:srgbClr val="333333"/>
              </a:solidFill>
              <a:miter/>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487" name=""/>
            <p:cNvSpPr/>
            <p:nvPr/>
          </p:nvSpPr>
          <p:spPr>
            <a:xfrm flipV="1">
              <a:off x="5504040" y="5117760"/>
              <a:ext cx="3270240" cy="19080"/>
            </a:xfrm>
            <a:prstGeom prst="line">
              <a:avLst/>
            </a:prstGeom>
            <a:ln w="9360">
              <a:solidFill>
                <a:srgbClr val="6600cc"/>
              </a:solidFill>
              <a:prstDash val="lgDashDotDot"/>
              <a:miter/>
            </a:ln>
          </p:spPr>
          <p:style>
            <a:lnRef idx="0"/>
            <a:fillRef idx="0"/>
            <a:effectRef idx="0"/>
            <a:fontRef idx="minor"/>
          </p:style>
          <p:txBody>
            <a:bodyPr lIns="90000" rIns="90000" tIns="-27720" bIns="-27720" anchor="ctr">
              <a:noAutofit/>
            </a:bodyPr>
            <a:p>
              <a:endParaRPr b="0" lang="en-US" sz="2400" spc="-1" strike="noStrike">
                <a:solidFill>
                  <a:srgbClr val="333333"/>
                </a:solidFill>
                <a:latin typeface="Times New Roman"/>
              </a:endParaRPr>
            </a:p>
          </p:txBody>
        </p:sp>
        <p:sp>
          <p:nvSpPr>
            <p:cNvPr id="488" name=""/>
            <p:cNvSpPr/>
            <p:nvPr/>
          </p:nvSpPr>
          <p:spPr>
            <a:xfrm>
              <a:off x="5513400" y="3247920"/>
              <a:ext cx="3270240" cy="0"/>
            </a:xfrm>
            <a:prstGeom prst="line">
              <a:avLst/>
            </a:prstGeom>
            <a:ln w="9360">
              <a:solidFill>
                <a:srgbClr val="6600cc"/>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Second Step - </a:t>
            </a:r>
            <a:r>
              <a:rPr b="0" i="1" lang="en-US" sz="3600" spc="-1" strike="noStrike">
                <a:solidFill>
                  <a:srgbClr val="333333"/>
                </a:solidFill>
                <a:latin typeface="Times New Roman"/>
              </a:rPr>
              <a:t>Note input still saturated</a:t>
            </a:r>
            <a:endParaRPr b="0" lang="en-US" sz="3600" spc="-1" strike="noStrike">
              <a:solidFill>
                <a:srgbClr val="6600cc"/>
              </a:solidFill>
              <a:latin typeface="Times New Roman"/>
            </a:endParaRPr>
          </a:p>
        </p:txBody>
      </p:sp>
      <p:grpSp>
        <p:nvGrpSpPr>
          <p:cNvPr id="490" name=""/>
          <p:cNvGrpSpPr/>
          <p:nvPr/>
        </p:nvGrpSpPr>
        <p:grpSpPr>
          <a:xfrm>
            <a:off x="328680" y="2604960"/>
            <a:ext cx="4214880" cy="3331440"/>
            <a:chOff x="328680" y="2604960"/>
            <a:chExt cx="4214880" cy="3331440"/>
          </a:xfrm>
        </p:grpSpPr>
        <p:sp>
          <p:nvSpPr>
            <p:cNvPr id="491" name=""/>
            <p:cNvSpPr/>
            <p:nvPr/>
          </p:nvSpPr>
          <p:spPr>
            <a:xfrm>
              <a:off x="1073160" y="2679840"/>
              <a:ext cx="3373560" cy="274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92" name=""/>
            <p:cNvSpPr/>
            <p:nvPr/>
          </p:nvSpPr>
          <p:spPr>
            <a:xfrm>
              <a:off x="1073160" y="2679840"/>
              <a:ext cx="3373560" cy="2741400"/>
            </a:xfrm>
            <a:prstGeom prst="rect">
              <a:avLst/>
            </a:prstGeom>
            <a:noFill/>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93" name=""/>
            <p:cNvSpPr/>
            <p:nvPr/>
          </p:nvSpPr>
          <p:spPr>
            <a:xfrm>
              <a:off x="1073160" y="2679840"/>
              <a:ext cx="33735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94" name=""/>
            <p:cNvSpPr/>
            <p:nvPr/>
          </p:nvSpPr>
          <p:spPr>
            <a:xfrm>
              <a:off x="1073160" y="5421240"/>
              <a:ext cx="33735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95" name=""/>
            <p:cNvSpPr/>
            <p:nvPr/>
          </p:nvSpPr>
          <p:spPr>
            <a:xfrm flipV="1">
              <a:off x="1073160" y="2679480"/>
              <a:ext cx="1440" cy="274140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96" name=""/>
            <p:cNvSpPr/>
            <p:nvPr/>
          </p:nvSpPr>
          <p:spPr>
            <a:xfrm>
              <a:off x="1073160" y="5421240"/>
              <a:ext cx="33735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97" name=""/>
            <p:cNvSpPr/>
            <p:nvPr/>
          </p:nvSpPr>
          <p:spPr>
            <a:xfrm flipV="1">
              <a:off x="1073160" y="2679480"/>
              <a:ext cx="1440" cy="274140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98" name=""/>
            <p:cNvSpPr/>
            <p:nvPr/>
          </p:nvSpPr>
          <p:spPr>
            <a:xfrm flipV="1">
              <a:off x="1073160" y="5384520"/>
              <a:ext cx="1440" cy="36360"/>
            </a:xfrm>
            <a:prstGeom prst="line">
              <a:avLst/>
            </a:prstGeom>
            <a:ln w="1584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499" name=""/>
            <p:cNvSpPr/>
            <p:nvPr/>
          </p:nvSpPr>
          <p:spPr>
            <a:xfrm>
              <a:off x="1073160" y="2679840"/>
              <a:ext cx="1440" cy="37800"/>
            </a:xfrm>
            <a:prstGeom prst="line">
              <a:avLst/>
            </a:prstGeom>
            <a:ln w="15840">
              <a:solidFill>
                <a:srgbClr val="004c2b"/>
              </a:solidFill>
              <a:miter/>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500" name=""/>
            <p:cNvSpPr/>
            <p:nvPr/>
          </p:nvSpPr>
          <p:spPr>
            <a:xfrm>
              <a:off x="996840" y="550692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501" name=""/>
            <p:cNvSpPr/>
            <p:nvPr/>
          </p:nvSpPr>
          <p:spPr>
            <a:xfrm flipV="1">
              <a:off x="1920960" y="5384520"/>
              <a:ext cx="1440" cy="36360"/>
            </a:xfrm>
            <a:prstGeom prst="line">
              <a:avLst/>
            </a:prstGeom>
            <a:ln w="1584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502" name=""/>
            <p:cNvSpPr/>
            <p:nvPr/>
          </p:nvSpPr>
          <p:spPr>
            <a:xfrm>
              <a:off x="1920960" y="2679840"/>
              <a:ext cx="1440" cy="37800"/>
            </a:xfrm>
            <a:prstGeom prst="line">
              <a:avLst/>
            </a:prstGeom>
            <a:ln w="15840">
              <a:solidFill>
                <a:srgbClr val="004c2b"/>
              </a:solidFill>
              <a:miter/>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503" name=""/>
            <p:cNvSpPr/>
            <p:nvPr/>
          </p:nvSpPr>
          <p:spPr>
            <a:xfrm>
              <a:off x="1844640" y="550692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504" name=""/>
            <p:cNvSpPr/>
            <p:nvPr/>
          </p:nvSpPr>
          <p:spPr>
            <a:xfrm flipV="1">
              <a:off x="2760840" y="5384520"/>
              <a:ext cx="0" cy="36360"/>
            </a:xfrm>
            <a:prstGeom prst="line">
              <a:avLst/>
            </a:prstGeom>
            <a:ln w="1584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505" name=""/>
            <p:cNvSpPr/>
            <p:nvPr/>
          </p:nvSpPr>
          <p:spPr>
            <a:xfrm>
              <a:off x="2760840" y="2679840"/>
              <a:ext cx="0" cy="37800"/>
            </a:xfrm>
            <a:prstGeom prst="line">
              <a:avLst/>
            </a:prstGeom>
            <a:ln w="15840">
              <a:solidFill>
                <a:srgbClr val="004c2b"/>
              </a:solidFill>
              <a:miter/>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506" name=""/>
            <p:cNvSpPr/>
            <p:nvPr/>
          </p:nvSpPr>
          <p:spPr>
            <a:xfrm>
              <a:off x="2736720" y="55069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507" name=""/>
            <p:cNvSpPr/>
            <p:nvPr/>
          </p:nvSpPr>
          <p:spPr>
            <a:xfrm flipV="1">
              <a:off x="3606840" y="5384520"/>
              <a:ext cx="1440" cy="36360"/>
            </a:xfrm>
            <a:prstGeom prst="line">
              <a:avLst/>
            </a:prstGeom>
            <a:ln w="1584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508" name=""/>
            <p:cNvSpPr/>
            <p:nvPr/>
          </p:nvSpPr>
          <p:spPr>
            <a:xfrm>
              <a:off x="3606840" y="2679840"/>
              <a:ext cx="1440" cy="37800"/>
            </a:xfrm>
            <a:prstGeom prst="line">
              <a:avLst/>
            </a:prstGeom>
            <a:ln w="15840">
              <a:solidFill>
                <a:srgbClr val="004c2b"/>
              </a:solidFill>
              <a:miter/>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509" name=""/>
            <p:cNvSpPr/>
            <p:nvPr/>
          </p:nvSpPr>
          <p:spPr>
            <a:xfrm>
              <a:off x="3583080" y="55069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510" name=""/>
            <p:cNvSpPr/>
            <p:nvPr/>
          </p:nvSpPr>
          <p:spPr>
            <a:xfrm flipV="1">
              <a:off x="4446720" y="5384520"/>
              <a:ext cx="1440" cy="36360"/>
            </a:xfrm>
            <a:prstGeom prst="line">
              <a:avLst/>
            </a:prstGeom>
            <a:ln w="1584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511" name=""/>
            <p:cNvSpPr/>
            <p:nvPr/>
          </p:nvSpPr>
          <p:spPr>
            <a:xfrm>
              <a:off x="4446720" y="2679840"/>
              <a:ext cx="1440" cy="37800"/>
            </a:xfrm>
            <a:prstGeom prst="line">
              <a:avLst/>
            </a:prstGeom>
            <a:ln w="15840">
              <a:solidFill>
                <a:srgbClr val="004c2b"/>
              </a:solidFill>
              <a:miter/>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512" name=""/>
            <p:cNvSpPr/>
            <p:nvPr/>
          </p:nvSpPr>
          <p:spPr>
            <a:xfrm>
              <a:off x="4422600" y="55069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513" name=""/>
            <p:cNvSpPr/>
            <p:nvPr/>
          </p:nvSpPr>
          <p:spPr>
            <a:xfrm>
              <a:off x="1073160" y="542124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14" name=""/>
            <p:cNvSpPr/>
            <p:nvPr/>
          </p:nvSpPr>
          <p:spPr>
            <a:xfrm flipH="1">
              <a:off x="4408560" y="542124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15" name=""/>
            <p:cNvSpPr/>
            <p:nvPr/>
          </p:nvSpPr>
          <p:spPr>
            <a:xfrm>
              <a:off x="588960" y="534816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516" name=""/>
            <p:cNvSpPr/>
            <p:nvPr/>
          </p:nvSpPr>
          <p:spPr>
            <a:xfrm>
              <a:off x="1073160" y="497052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17" name=""/>
            <p:cNvSpPr/>
            <p:nvPr/>
          </p:nvSpPr>
          <p:spPr>
            <a:xfrm flipH="1">
              <a:off x="4408560" y="497052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18" name=""/>
            <p:cNvSpPr/>
            <p:nvPr/>
          </p:nvSpPr>
          <p:spPr>
            <a:xfrm>
              <a:off x="739800" y="489420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519" name=""/>
            <p:cNvSpPr/>
            <p:nvPr/>
          </p:nvSpPr>
          <p:spPr>
            <a:xfrm>
              <a:off x="1073160" y="4506840"/>
              <a:ext cx="381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520" name=""/>
            <p:cNvSpPr/>
            <p:nvPr/>
          </p:nvSpPr>
          <p:spPr>
            <a:xfrm flipH="1">
              <a:off x="4408560" y="4506840"/>
              <a:ext cx="381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521" name=""/>
            <p:cNvSpPr/>
            <p:nvPr/>
          </p:nvSpPr>
          <p:spPr>
            <a:xfrm>
              <a:off x="588960" y="443376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522" name=""/>
            <p:cNvSpPr/>
            <p:nvPr/>
          </p:nvSpPr>
          <p:spPr>
            <a:xfrm>
              <a:off x="1073160" y="405612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23" name=""/>
            <p:cNvSpPr/>
            <p:nvPr/>
          </p:nvSpPr>
          <p:spPr>
            <a:xfrm flipH="1">
              <a:off x="4408560" y="405612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24" name=""/>
            <p:cNvSpPr/>
            <p:nvPr/>
          </p:nvSpPr>
          <p:spPr>
            <a:xfrm>
              <a:off x="806400" y="39816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525" name=""/>
            <p:cNvSpPr/>
            <p:nvPr/>
          </p:nvSpPr>
          <p:spPr>
            <a:xfrm>
              <a:off x="1073160" y="359424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26" name=""/>
            <p:cNvSpPr/>
            <p:nvPr/>
          </p:nvSpPr>
          <p:spPr>
            <a:xfrm flipH="1">
              <a:off x="4408560" y="359424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27" name=""/>
            <p:cNvSpPr/>
            <p:nvPr/>
          </p:nvSpPr>
          <p:spPr>
            <a:xfrm>
              <a:off x="652680" y="351792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528" name=""/>
            <p:cNvSpPr/>
            <p:nvPr/>
          </p:nvSpPr>
          <p:spPr>
            <a:xfrm>
              <a:off x="1073160" y="314316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29" name=""/>
            <p:cNvSpPr/>
            <p:nvPr/>
          </p:nvSpPr>
          <p:spPr>
            <a:xfrm flipH="1">
              <a:off x="4408560" y="314316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30" name=""/>
            <p:cNvSpPr/>
            <p:nvPr/>
          </p:nvSpPr>
          <p:spPr>
            <a:xfrm>
              <a:off x="806400" y="30654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531" name=""/>
            <p:cNvSpPr/>
            <p:nvPr/>
          </p:nvSpPr>
          <p:spPr>
            <a:xfrm>
              <a:off x="1073160" y="267984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32" name=""/>
            <p:cNvSpPr/>
            <p:nvPr/>
          </p:nvSpPr>
          <p:spPr>
            <a:xfrm flipH="1">
              <a:off x="4408560" y="267984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33" name=""/>
            <p:cNvSpPr/>
            <p:nvPr/>
          </p:nvSpPr>
          <p:spPr>
            <a:xfrm>
              <a:off x="652680" y="260496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534" name=""/>
            <p:cNvSpPr/>
            <p:nvPr/>
          </p:nvSpPr>
          <p:spPr>
            <a:xfrm>
              <a:off x="1073160" y="2679840"/>
              <a:ext cx="33735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35" name=""/>
            <p:cNvSpPr/>
            <p:nvPr/>
          </p:nvSpPr>
          <p:spPr>
            <a:xfrm>
              <a:off x="1073160" y="5421240"/>
              <a:ext cx="33735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36" name=""/>
            <p:cNvSpPr/>
            <p:nvPr/>
          </p:nvSpPr>
          <p:spPr>
            <a:xfrm flipV="1">
              <a:off x="1073160" y="2679480"/>
              <a:ext cx="1440" cy="274140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37" name=""/>
            <p:cNvSpPr/>
            <p:nvPr/>
          </p:nvSpPr>
          <p:spPr>
            <a:xfrm>
              <a:off x="3614760" y="2701800"/>
              <a:ext cx="571320" cy="2713320"/>
            </a:xfrm>
            <a:custGeom>
              <a:avLst/>
              <a:gdLst/>
              <a:ahLst/>
              <a:rect l="l" t="t" r="r" b="b"/>
              <a:pathLst>
                <a:path w="1370" h="6535">
                  <a:moveTo>
                    <a:pt x="0" y="0"/>
                  </a:moveTo>
                  <a:lnTo>
                    <a:pt x="30" y="159"/>
                  </a:lnTo>
                  <a:lnTo>
                    <a:pt x="79" y="367"/>
                  </a:lnTo>
                  <a:lnTo>
                    <a:pt x="119" y="586"/>
                  </a:lnTo>
                  <a:lnTo>
                    <a:pt x="169" y="794"/>
                  </a:lnTo>
                  <a:lnTo>
                    <a:pt x="209" y="993"/>
                  </a:lnTo>
                  <a:lnTo>
                    <a:pt x="258" y="1202"/>
                  </a:lnTo>
                  <a:lnTo>
                    <a:pt x="298" y="1420"/>
                  </a:lnTo>
                  <a:lnTo>
                    <a:pt x="338" y="1629"/>
                  </a:lnTo>
                  <a:lnTo>
                    <a:pt x="387" y="1837"/>
                  </a:lnTo>
                  <a:lnTo>
                    <a:pt x="427" y="2056"/>
                  </a:lnTo>
                  <a:lnTo>
                    <a:pt x="477" y="2264"/>
                  </a:lnTo>
                  <a:lnTo>
                    <a:pt x="516" y="2473"/>
                  </a:lnTo>
                  <a:lnTo>
                    <a:pt x="566" y="2681"/>
                  </a:lnTo>
                  <a:lnTo>
                    <a:pt x="606" y="2900"/>
                  </a:lnTo>
                  <a:lnTo>
                    <a:pt x="655" y="3108"/>
                  </a:lnTo>
                  <a:lnTo>
                    <a:pt x="695" y="3317"/>
                  </a:lnTo>
                  <a:lnTo>
                    <a:pt x="745" y="3526"/>
                  </a:lnTo>
                  <a:lnTo>
                    <a:pt x="784" y="3744"/>
                  </a:lnTo>
                  <a:lnTo>
                    <a:pt x="834" y="3953"/>
                  </a:lnTo>
                  <a:lnTo>
                    <a:pt x="874" y="4161"/>
                  </a:lnTo>
                  <a:lnTo>
                    <a:pt x="923" y="4370"/>
                  </a:lnTo>
                  <a:lnTo>
                    <a:pt x="963" y="4588"/>
                  </a:lnTo>
                  <a:lnTo>
                    <a:pt x="1013" y="4797"/>
                  </a:lnTo>
                  <a:lnTo>
                    <a:pt x="1052" y="5005"/>
                  </a:lnTo>
                  <a:lnTo>
                    <a:pt x="1102" y="5214"/>
                  </a:lnTo>
                  <a:lnTo>
                    <a:pt x="1142" y="5432"/>
                  </a:lnTo>
                  <a:lnTo>
                    <a:pt x="1181" y="5641"/>
                  </a:lnTo>
                  <a:lnTo>
                    <a:pt x="1231" y="5850"/>
                  </a:lnTo>
                  <a:lnTo>
                    <a:pt x="1271" y="6058"/>
                  </a:lnTo>
                  <a:lnTo>
                    <a:pt x="1320" y="6277"/>
                  </a:lnTo>
                  <a:lnTo>
                    <a:pt x="1360" y="6485"/>
                  </a:lnTo>
                  <a:lnTo>
                    <a:pt x="1370" y="6535"/>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38" name=""/>
            <p:cNvSpPr/>
            <p:nvPr/>
          </p:nvSpPr>
          <p:spPr>
            <a:xfrm>
              <a:off x="2671560" y="567684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x1</a:t>
              </a:r>
              <a:endParaRPr b="0" lang="en-US" sz="1700" spc="-1" strike="noStrike">
                <a:solidFill>
                  <a:srgbClr val="333333"/>
                </a:solidFill>
                <a:latin typeface="Times New Roman"/>
              </a:endParaRPr>
            </a:p>
          </p:txBody>
        </p:sp>
        <p:sp>
          <p:nvSpPr>
            <p:cNvPr id="539" name=""/>
            <p:cNvSpPr/>
            <p:nvPr/>
          </p:nvSpPr>
          <p:spPr>
            <a:xfrm rot="16200000">
              <a:off x="343800" y="389088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x2</a:t>
              </a:r>
              <a:endParaRPr b="0" lang="en-US" sz="1700" spc="-1" strike="noStrike">
                <a:solidFill>
                  <a:srgbClr val="333333"/>
                </a:solidFill>
                <a:latin typeface="Times New Roman"/>
              </a:endParaRPr>
            </a:p>
          </p:txBody>
        </p:sp>
        <p:sp>
          <p:nvSpPr>
            <p:cNvPr id="540" name=""/>
            <p:cNvSpPr/>
            <p:nvPr/>
          </p:nvSpPr>
          <p:spPr>
            <a:xfrm>
              <a:off x="1336680" y="2700360"/>
              <a:ext cx="571320" cy="2719440"/>
            </a:xfrm>
            <a:custGeom>
              <a:avLst/>
              <a:gdLst/>
              <a:ahLst/>
              <a:rect l="l" t="t" r="r" b="b"/>
              <a:pathLst>
                <a:path w="1370" h="6535">
                  <a:moveTo>
                    <a:pt x="0" y="0"/>
                  </a:moveTo>
                  <a:lnTo>
                    <a:pt x="29" y="189"/>
                  </a:lnTo>
                  <a:lnTo>
                    <a:pt x="79" y="397"/>
                  </a:lnTo>
                  <a:lnTo>
                    <a:pt x="119" y="606"/>
                  </a:lnTo>
                  <a:lnTo>
                    <a:pt x="168" y="814"/>
                  </a:lnTo>
                  <a:lnTo>
                    <a:pt x="208" y="1023"/>
                  </a:lnTo>
                  <a:lnTo>
                    <a:pt x="258" y="1231"/>
                  </a:lnTo>
                  <a:lnTo>
                    <a:pt x="297" y="1440"/>
                  </a:lnTo>
                  <a:lnTo>
                    <a:pt x="347" y="1648"/>
                  </a:lnTo>
                  <a:lnTo>
                    <a:pt x="387" y="1867"/>
                  </a:lnTo>
                  <a:lnTo>
                    <a:pt x="436" y="2076"/>
                  </a:lnTo>
                  <a:lnTo>
                    <a:pt x="476" y="2284"/>
                  </a:lnTo>
                  <a:lnTo>
                    <a:pt x="526" y="2493"/>
                  </a:lnTo>
                  <a:lnTo>
                    <a:pt x="565" y="2711"/>
                  </a:lnTo>
                  <a:lnTo>
                    <a:pt x="615" y="2920"/>
                  </a:lnTo>
                  <a:lnTo>
                    <a:pt x="655" y="3128"/>
                  </a:lnTo>
                  <a:lnTo>
                    <a:pt x="704" y="3337"/>
                  </a:lnTo>
                  <a:lnTo>
                    <a:pt x="744" y="3555"/>
                  </a:lnTo>
                  <a:lnTo>
                    <a:pt x="794" y="3764"/>
                  </a:lnTo>
                  <a:lnTo>
                    <a:pt x="833" y="3972"/>
                  </a:lnTo>
                  <a:lnTo>
                    <a:pt x="883" y="4191"/>
                  </a:lnTo>
                  <a:lnTo>
                    <a:pt x="923" y="4400"/>
                  </a:lnTo>
                  <a:lnTo>
                    <a:pt x="963" y="4608"/>
                  </a:lnTo>
                  <a:lnTo>
                    <a:pt x="1012" y="4817"/>
                  </a:lnTo>
                  <a:lnTo>
                    <a:pt x="1052" y="5035"/>
                  </a:lnTo>
                  <a:lnTo>
                    <a:pt x="1102" y="5244"/>
                  </a:lnTo>
                  <a:lnTo>
                    <a:pt x="1141" y="5452"/>
                  </a:lnTo>
                  <a:lnTo>
                    <a:pt x="1191" y="5661"/>
                  </a:lnTo>
                  <a:lnTo>
                    <a:pt x="1231" y="5879"/>
                  </a:lnTo>
                  <a:lnTo>
                    <a:pt x="1280" y="6088"/>
                  </a:lnTo>
                  <a:lnTo>
                    <a:pt x="1320" y="6296"/>
                  </a:lnTo>
                  <a:lnTo>
                    <a:pt x="1370" y="6505"/>
                  </a:lnTo>
                  <a:lnTo>
                    <a:pt x="1370" y="6535"/>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41" name=""/>
            <p:cNvSpPr/>
            <p:nvPr/>
          </p:nvSpPr>
          <p:spPr>
            <a:xfrm>
              <a:off x="2430360" y="2674800"/>
              <a:ext cx="1527120" cy="2740320"/>
            </a:xfrm>
            <a:custGeom>
              <a:avLst/>
              <a:gdLst/>
              <a:ahLst/>
              <a:rect l="l" t="t" r="r" b="b"/>
              <a:pathLst>
                <a:path w="3644" h="6535">
                  <a:moveTo>
                    <a:pt x="0" y="0"/>
                  </a:moveTo>
                  <a:lnTo>
                    <a:pt x="20" y="40"/>
                  </a:lnTo>
                  <a:lnTo>
                    <a:pt x="70" y="119"/>
                  </a:lnTo>
                  <a:lnTo>
                    <a:pt x="109" y="198"/>
                  </a:lnTo>
                  <a:lnTo>
                    <a:pt x="159" y="278"/>
                  </a:lnTo>
                  <a:lnTo>
                    <a:pt x="199" y="357"/>
                  </a:lnTo>
                  <a:lnTo>
                    <a:pt x="239" y="437"/>
                  </a:lnTo>
                  <a:lnTo>
                    <a:pt x="288" y="516"/>
                  </a:lnTo>
                  <a:lnTo>
                    <a:pt x="328" y="596"/>
                  </a:lnTo>
                  <a:lnTo>
                    <a:pt x="378" y="675"/>
                  </a:lnTo>
                  <a:lnTo>
                    <a:pt x="417" y="755"/>
                  </a:lnTo>
                  <a:lnTo>
                    <a:pt x="467" y="834"/>
                  </a:lnTo>
                  <a:lnTo>
                    <a:pt x="507" y="914"/>
                  </a:lnTo>
                  <a:lnTo>
                    <a:pt x="556" y="993"/>
                  </a:lnTo>
                  <a:lnTo>
                    <a:pt x="596" y="1063"/>
                  </a:lnTo>
                  <a:lnTo>
                    <a:pt x="646" y="1142"/>
                  </a:lnTo>
                  <a:lnTo>
                    <a:pt x="685" y="1221"/>
                  </a:lnTo>
                  <a:lnTo>
                    <a:pt x="735" y="1301"/>
                  </a:lnTo>
                  <a:lnTo>
                    <a:pt x="775" y="1380"/>
                  </a:lnTo>
                  <a:lnTo>
                    <a:pt x="824" y="1460"/>
                  </a:lnTo>
                  <a:lnTo>
                    <a:pt x="864" y="1539"/>
                  </a:lnTo>
                  <a:lnTo>
                    <a:pt x="914" y="1619"/>
                  </a:lnTo>
                  <a:lnTo>
                    <a:pt x="953" y="1698"/>
                  </a:lnTo>
                  <a:lnTo>
                    <a:pt x="1003" y="1778"/>
                  </a:lnTo>
                  <a:lnTo>
                    <a:pt x="1043" y="1857"/>
                  </a:lnTo>
                  <a:lnTo>
                    <a:pt x="1082" y="1937"/>
                  </a:lnTo>
                  <a:lnTo>
                    <a:pt x="1132" y="2016"/>
                  </a:lnTo>
                  <a:lnTo>
                    <a:pt x="1172" y="2095"/>
                  </a:lnTo>
                  <a:lnTo>
                    <a:pt x="1221" y="2175"/>
                  </a:lnTo>
                  <a:lnTo>
                    <a:pt x="1261" y="2254"/>
                  </a:lnTo>
                  <a:lnTo>
                    <a:pt x="1311" y="2334"/>
                  </a:lnTo>
                  <a:lnTo>
                    <a:pt x="1350" y="2413"/>
                  </a:lnTo>
                  <a:lnTo>
                    <a:pt x="1400" y="2493"/>
                  </a:lnTo>
                  <a:lnTo>
                    <a:pt x="1440" y="2572"/>
                  </a:lnTo>
                  <a:lnTo>
                    <a:pt x="1489" y="2652"/>
                  </a:lnTo>
                  <a:lnTo>
                    <a:pt x="1529" y="2731"/>
                  </a:lnTo>
                  <a:lnTo>
                    <a:pt x="1579" y="2810"/>
                  </a:lnTo>
                  <a:lnTo>
                    <a:pt x="1618" y="2900"/>
                  </a:lnTo>
                  <a:lnTo>
                    <a:pt x="1668" y="2979"/>
                  </a:lnTo>
                  <a:lnTo>
                    <a:pt x="1708" y="3059"/>
                  </a:lnTo>
                  <a:lnTo>
                    <a:pt x="1757" y="3138"/>
                  </a:lnTo>
                  <a:lnTo>
                    <a:pt x="1797" y="3218"/>
                  </a:lnTo>
                  <a:lnTo>
                    <a:pt x="1847" y="3297"/>
                  </a:lnTo>
                  <a:lnTo>
                    <a:pt x="1887" y="3377"/>
                  </a:lnTo>
                  <a:lnTo>
                    <a:pt x="1936" y="3456"/>
                  </a:lnTo>
                  <a:lnTo>
                    <a:pt x="1976" y="3535"/>
                  </a:lnTo>
                  <a:lnTo>
                    <a:pt x="2016" y="3615"/>
                  </a:lnTo>
                  <a:lnTo>
                    <a:pt x="2065" y="3694"/>
                  </a:lnTo>
                  <a:lnTo>
                    <a:pt x="2105" y="3774"/>
                  </a:lnTo>
                  <a:lnTo>
                    <a:pt x="2155" y="3853"/>
                  </a:lnTo>
                  <a:lnTo>
                    <a:pt x="2194" y="3933"/>
                  </a:lnTo>
                  <a:lnTo>
                    <a:pt x="2244" y="4012"/>
                  </a:lnTo>
                  <a:lnTo>
                    <a:pt x="2284" y="4092"/>
                  </a:lnTo>
                  <a:lnTo>
                    <a:pt x="2333" y="4171"/>
                  </a:lnTo>
                  <a:lnTo>
                    <a:pt x="2373" y="4251"/>
                  </a:lnTo>
                  <a:lnTo>
                    <a:pt x="2423" y="4330"/>
                  </a:lnTo>
                  <a:lnTo>
                    <a:pt x="2462" y="4409"/>
                  </a:lnTo>
                  <a:lnTo>
                    <a:pt x="2512" y="4489"/>
                  </a:lnTo>
                  <a:lnTo>
                    <a:pt x="2552" y="4568"/>
                  </a:lnTo>
                  <a:lnTo>
                    <a:pt x="2601" y="4648"/>
                  </a:lnTo>
                  <a:lnTo>
                    <a:pt x="2641" y="4727"/>
                  </a:lnTo>
                  <a:lnTo>
                    <a:pt x="2691" y="4807"/>
                  </a:lnTo>
                  <a:lnTo>
                    <a:pt x="2730" y="4886"/>
                  </a:lnTo>
                  <a:lnTo>
                    <a:pt x="2780" y="4966"/>
                  </a:lnTo>
                  <a:lnTo>
                    <a:pt x="2820" y="5045"/>
                  </a:lnTo>
                  <a:lnTo>
                    <a:pt x="2859" y="5125"/>
                  </a:lnTo>
                  <a:lnTo>
                    <a:pt x="2909" y="5204"/>
                  </a:lnTo>
                  <a:lnTo>
                    <a:pt x="2949" y="5283"/>
                  </a:lnTo>
                  <a:lnTo>
                    <a:pt x="2998" y="5363"/>
                  </a:lnTo>
                  <a:lnTo>
                    <a:pt x="3038" y="5442"/>
                  </a:lnTo>
                  <a:lnTo>
                    <a:pt x="3088" y="5522"/>
                  </a:lnTo>
                  <a:lnTo>
                    <a:pt x="3127" y="5601"/>
                  </a:lnTo>
                  <a:lnTo>
                    <a:pt x="3177" y="5681"/>
                  </a:lnTo>
                  <a:lnTo>
                    <a:pt x="3217" y="5760"/>
                  </a:lnTo>
                  <a:lnTo>
                    <a:pt x="3266" y="5840"/>
                  </a:lnTo>
                  <a:lnTo>
                    <a:pt x="3306" y="5929"/>
                  </a:lnTo>
                  <a:lnTo>
                    <a:pt x="3356" y="6008"/>
                  </a:lnTo>
                  <a:lnTo>
                    <a:pt x="3395" y="6088"/>
                  </a:lnTo>
                  <a:lnTo>
                    <a:pt x="3445" y="6167"/>
                  </a:lnTo>
                  <a:lnTo>
                    <a:pt x="3485" y="6247"/>
                  </a:lnTo>
                  <a:lnTo>
                    <a:pt x="3534" y="6326"/>
                  </a:lnTo>
                  <a:lnTo>
                    <a:pt x="3574" y="6406"/>
                  </a:lnTo>
                  <a:lnTo>
                    <a:pt x="3624" y="6485"/>
                  </a:lnTo>
                  <a:lnTo>
                    <a:pt x="3644" y="6535"/>
                  </a:lnTo>
                </a:path>
              </a:pathLst>
            </a:custGeom>
            <a:noFill/>
            <a:ln w="158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42" name=""/>
            <p:cNvSpPr/>
            <p:nvPr/>
          </p:nvSpPr>
          <p:spPr>
            <a:xfrm>
              <a:off x="1549440" y="2685960"/>
              <a:ext cx="1528560" cy="2739960"/>
            </a:xfrm>
            <a:custGeom>
              <a:avLst/>
              <a:gdLst/>
              <a:ahLst/>
              <a:rect l="l" t="t" r="r" b="b"/>
              <a:pathLst>
                <a:path w="3643" h="6535">
                  <a:moveTo>
                    <a:pt x="0" y="0"/>
                  </a:moveTo>
                  <a:lnTo>
                    <a:pt x="20" y="40"/>
                  </a:lnTo>
                  <a:lnTo>
                    <a:pt x="70" y="119"/>
                  </a:lnTo>
                  <a:lnTo>
                    <a:pt x="109" y="198"/>
                  </a:lnTo>
                  <a:lnTo>
                    <a:pt x="159" y="278"/>
                  </a:lnTo>
                  <a:lnTo>
                    <a:pt x="199" y="357"/>
                  </a:lnTo>
                  <a:lnTo>
                    <a:pt x="238" y="437"/>
                  </a:lnTo>
                  <a:lnTo>
                    <a:pt x="288" y="516"/>
                  </a:lnTo>
                  <a:lnTo>
                    <a:pt x="328" y="596"/>
                  </a:lnTo>
                  <a:lnTo>
                    <a:pt x="377" y="675"/>
                  </a:lnTo>
                  <a:lnTo>
                    <a:pt x="417" y="755"/>
                  </a:lnTo>
                  <a:lnTo>
                    <a:pt x="467" y="834"/>
                  </a:lnTo>
                  <a:lnTo>
                    <a:pt x="506" y="914"/>
                  </a:lnTo>
                  <a:lnTo>
                    <a:pt x="556" y="993"/>
                  </a:lnTo>
                  <a:lnTo>
                    <a:pt x="596" y="1063"/>
                  </a:lnTo>
                  <a:lnTo>
                    <a:pt x="645" y="1142"/>
                  </a:lnTo>
                  <a:lnTo>
                    <a:pt x="685" y="1221"/>
                  </a:lnTo>
                  <a:lnTo>
                    <a:pt x="735" y="1301"/>
                  </a:lnTo>
                  <a:lnTo>
                    <a:pt x="774" y="1380"/>
                  </a:lnTo>
                  <a:lnTo>
                    <a:pt x="824" y="1460"/>
                  </a:lnTo>
                  <a:lnTo>
                    <a:pt x="864" y="1539"/>
                  </a:lnTo>
                  <a:lnTo>
                    <a:pt x="913" y="1619"/>
                  </a:lnTo>
                  <a:lnTo>
                    <a:pt x="953" y="1698"/>
                  </a:lnTo>
                  <a:lnTo>
                    <a:pt x="1003" y="1778"/>
                  </a:lnTo>
                  <a:lnTo>
                    <a:pt x="1042" y="1857"/>
                  </a:lnTo>
                  <a:lnTo>
                    <a:pt x="1092" y="1937"/>
                  </a:lnTo>
                  <a:lnTo>
                    <a:pt x="1132" y="2016"/>
                  </a:lnTo>
                  <a:lnTo>
                    <a:pt x="1172" y="2095"/>
                  </a:lnTo>
                  <a:lnTo>
                    <a:pt x="1221" y="2175"/>
                  </a:lnTo>
                  <a:lnTo>
                    <a:pt x="1261" y="2254"/>
                  </a:lnTo>
                  <a:lnTo>
                    <a:pt x="1311" y="2334"/>
                  </a:lnTo>
                  <a:lnTo>
                    <a:pt x="1350" y="2413"/>
                  </a:lnTo>
                  <a:lnTo>
                    <a:pt x="1400" y="2493"/>
                  </a:lnTo>
                  <a:lnTo>
                    <a:pt x="1440" y="2582"/>
                  </a:lnTo>
                  <a:lnTo>
                    <a:pt x="1489" y="2662"/>
                  </a:lnTo>
                  <a:lnTo>
                    <a:pt x="1529" y="2741"/>
                  </a:lnTo>
                  <a:lnTo>
                    <a:pt x="1579" y="2820"/>
                  </a:lnTo>
                  <a:lnTo>
                    <a:pt x="1618" y="2900"/>
                  </a:lnTo>
                  <a:lnTo>
                    <a:pt x="1668" y="2979"/>
                  </a:lnTo>
                  <a:lnTo>
                    <a:pt x="1708" y="3059"/>
                  </a:lnTo>
                  <a:lnTo>
                    <a:pt x="1757" y="3138"/>
                  </a:lnTo>
                  <a:lnTo>
                    <a:pt x="1797" y="3218"/>
                  </a:lnTo>
                  <a:lnTo>
                    <a:pt x="1847" y="3297"/>
                  </a:lnTo>
                  <a:lnTo>
                    <a:pt x="1886" y="3377"/>
                  </a:lnTo>
                  <a:lnTo>
                    <a:pt x="1936" y="3456"/>
                  </a:lnTo>
                  <a:lnTo>
                    <a:pt x="1976" y="3535"/>
                  </a:lnTo>
                  <a:lnTo>
                    <a:pt x="2015" y="3615"/>
                  </a:lnTo>
                  <a:lnTo>
                    <a:pt x="2065" y="3694"/>
                  </a:lnTo>
                  <a:lnTo>
                    <a:pt x="2105" y="3774"/>
                  </a:lnTo>
                  <a:lnTo>
                    <a:pt x="2154" y="3853"/>
                  </a:lnTo>
                  <a:lnTo>
                    <a:pt x="2194" y="3933"/>
                  </a:lnTo>
                  <a:lnTo>
                    <a:pt x="2244" y="4012"/>
                  </a:lnTo>
                  <a:lnTo>
                    <a:pt x="2283" y="4092"/>
                  </a:lnTo>
                  <a:lnTo>
                    <a:pt x="2333" y="4171"/>
                  </a:lnTo>
                  <a:lnTo>
                    <a:pt x="2373" y="4251"/>
                  </a:lnTo>
                  <a:lnTo>
                    <a:pt x="2422" y="4330"/>
                  </a:lnTo>
                  <a:lnTo>
                    <a:pt x="2462" y="4409"/>
                  </a:lnTo>
                  <a:lnTo>
                    <a:pt x="2512" y="4489"/>
                  </a:lnTo>
                  <a:lnTo>
                    <a:pt x="2551" y="4568"/>
                  </a:lnTo>
                  <a:lnTo>
                    <a:pt x="2601" y="4648"/>
                  </a:lnTo>
                  <a:lnTo>
                    <a:pt x="2641" y="4727"/>
                  </a:lnTo>
                  <a:lnTo>
                    <a:pt x="2690" y="4807"/>
                  </a:lnTo>
                  <a:lnTo>
                    <a:pt x="2730" y="4886"/>
                  </a:lnTo>
                  <a:lnTo>
                    <a:pt x="2780" y="4966"/>
                  </a:lnTo>
                  <a:lnTo>
                    <a:pt x="2820" y="5045"/>
                  </a:lnTo>
                  <a:lnTo>
                    <a:pt x="2869" y="5125"/>
                  </a:lnTo>
                  <a:lnTo>
                    <a:pt x="2909" y="5204"/>
                  </a:lnTo>
                  <a:lnTo>
                    <a:pt x="2949" y="5283"/>
                  </a:lnTo>
                  <a:lnTo>
                    <a:pt x="2998" y="5363"/>
                  </a:lnTo>
                  <a:lnTo>
                    <a:pt x="3038" y="5442"/>
                  </a:lnTo>
                  <a:lnTo>
                    <a:pt x="3088" y="5532"/>
                  </a:lnTo>
                  <a:lnTo>
                    <a:pt x="3127" y="5611"/>
                  </a:lnTo>
                  <a:lnTo>
                    <a:pt x="3177" y="5691"/>
                  </a:lnTo>
                  <a:lnTo>
                    <a:pt x="3217" y="5770"/>
                  </a:lnTo>
                  <a:lnTo>
                    <a:pt x="3266" y="5850"/>
                  </a:lnTo>
                  <a:lnTo>
                    <a:pt x="3306" y="5929"/>
                  </a:lnTo>
                  <a:lnTo>
                    <a:pt x="3356" y="6008"/>
                  </a:lnTo>
                  <a:lnTo>
                    <a:pt x="3395" y="6088"/>
                  </a:lnTo>
                  <a:lnTo>
                    <a:pt x="3445" y="6167"/>
                  </a:lnTo>
                  <a:lnTo>
                    <a:pt x="3485" y="6247"/>
                  </a:lnTo>
                  <a:lnTo>
                    <a:pt x="3534" y="6326"/>
                  </a:lnTo>
                  <a:lnTo>
                    <a:pt x="3574" y="6406"/>
                  </a:lnTo>
                  <a:lnTo>
                    <a:pt x="3624" y="6485"/>
                  </a:lnTo>
                  <a:lnTo>
                    <a:pt x="3643" y="6535"/>
                  </a:lnTo>
                </a:path>
              </a:pathLst>
            </a:custGeom>
            <a:noFill/>
            <a:ln w="158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43" name=""/>
            <p:cNvSpPr/>
            <p:nvPr/>
          </p:nvSpPr>
          <p:spPr>
            <a:xfrm>
              <a:off x="1619280" y="3094200"/>
              <a:ext cx="2279520" cy="1912680"/>
            </a:xfrm>
            <a:custGeom>
              <a:avLst/>
              <a:gdLst/>
              <a:ahLst/>
              <a:rect l="l" t="t" r="r" b="b"/>
              <a:pathLst>
                <a:path w="2403" h="2016">
                  <a:moveTo>
                    <a:pt x="0" y="517"/>
                  </a:moveTo>
                  <a:lnTo>
                    <a:pt x="0" y="527"/>
                  </a:lnTo>
                  <a:lnTo>
                    <a:pt x="0" y="576"/>
                  </a:lnTo>
                  <a:lnTo>
                    <a:pt x="0" y="626"/>
                  </a:lnTo>
                  <a:lnTo>
                    <a:pt x="0" y="656"/>
                  </a:lnTo>
                  <a:lnTo>
                    <a:pt x="0" y="676"/>
                  </a:lnTo>
                  <a:lnTo>
                    <a:pt x="10" y="715"/>
                  </a:lnTo>
                  <a:lnTo>
                    <a:pt x="20" y="765"/>
                  </a:lnTo>
                  <a:lnTo>
                    <a:pt x="30" y="815"/>
                  </a:lnTo>
                  <a:lnTo>
                    <a:pt x="50" y="854"/>
                  </a:lnTo>
                  <a:lnTo>
                    <a:pt x="50" y="864"/>
                  </a:lnTo>
                  <a:lnTo>
                    <a:pt x="70" y="914"/>
                  </a:lnTo>
                  <a:lnTo>
                    <a:pt x="90" y="964"/>
                  </a:lnTo>
                  <a:lnTo>
                    <a:pt x="110" y="1013"/>
                  </a:lnTo>
                  <a:lnTo>
                    <a:pt x="139" y="1053"/>
                  </a:lnTo>
                  <a:lnTo>
                    <a:pt x="169" y="1103"/>
                  </a:lnTo>
                  <a:lnTo>
                    <a:pt x="179" y="1132"/>
                  </a:lnTo>
                  <a:lnTo>
                    <a:pt x="199" y="1152"/>
                  </a:lnTo>
                  <a:lnTo>
                    <a:pt x="229" y="1192"/>
                  </a:lnTo>
                  <a:lnTo>
                    <a:pt x="229" y="1202"/>
                  </a:lnTo>
                  <a:lnTo>
                    <a:pt x="268" y="1252"/>
                  </a:lnTo>
                  <a:lnTo>
                    <a:pt x="298" y="1301"/>
                  </a:lnTo>
                  <a:lnTo>
                    <a:pt x="318" y="1311"/>
                  </a:lnTo>
                  <a:lnTo>
                    <a:pt x="348" y="1341"/>
                  </a:lnTo>
                  <a:lnTo>
                    <a:pt x="358" y="1361"/>
                  </a:lnTo>
                  <a:lnTo>
                    <a:pt x="388" y="1391"/>
                  </a:lnTo>
                  <a:lnTo>
                    <a:pt x="398" y="1411"/>
                  </a:lnTo>
                  <a:lnTo>
                    <a:pt x="437" y="1440"/>
                  </a:lnTo>
                  <a:lnTo>
                    <a:pt x="447" y="1450"/>
                  </a:lnTo>
                  <a:lnTo>
                    <a:pt x="487" y="1490"/>
                  </a:lnTo>
                  <a:lnTo>
                    <a:pt x="537" y="1530"/>
                  </a:lnTo>
                  <a:lnTo>
                    <a:pt x="546" y="1540"/>
                  </a:lnTo>
                  <a:lnTo>
                    <a:pt x="576" y="1569"/>
                  </a:lnTo>
                  <a:lnTo>
                    <a:pt x="596" y="1589"/>
                  </a:lnTo>
                  <a:lnTo>
                    <a:pt x="626" y="1599"/>
                  </a:lnTo>
                  <a:lnTo>
                    <a:pt x="666" y="1639"/>
                  </a:lnTo>
                  <a:lnTo>
                    <a:pt x="715" y="1669"/>
                  </a:lnTo>
                  <a:lnTo>
                    <a:pt x="735" y="1679"/>
                  </a:lnTo>
                  <a:lnTo>
                    <a:pt x="755" y="1699"/>
                  </a:lnTo>
                  <a:lnTo>
                    <a:pt x="805" y="1728"/>
                  </a:lnTo>
                  <a:lnTo>
                    <a:pt x="844" y="1758"/>
                  </a:lnTo>
                  <a:lnTo>
                    <a:pt x="894" y="1778"/>
                  </a:lnTo>
                  <a:lnTo>
                    <a:pt x="934" y="1808"/>
                  </a:lnTo>
                  <a:lnTo>
                    <a:pt x="983" y="1828"/>
                  </a:lnTo>
                  <a:lnTo>
                    <a:pt x="1023" y="1847"/>
                  </a:lnTo>
                  <a:lnTo>
                    <a:pt x="1073" y="1867"/>
                  </a:lnTo>
                  <a:lnTo>
                    <a:pt x="1083" y="1877"/>
                  </a:lnTo>
                  <a:lnTo>
                    <a:pt x="1112" y="1887"/>
                  </a:lnTo>
                  <a:lnTo>
                    <a:pt x="1162" y="1907"/>
                  </a:lnTo>
                  <a:lnTo>
                    <a:pt x="1202" y="1917"/>
                  </a:lnTo>
                  <a:lnTo>
                    <a:pt x="1212" y="1927"/>
                  </a:lnTo>
                  <a:lnTo>
                    <a:pt x="1241" y="1937"/>
                  </a:lnTo>
                  <a:lnTo>
                    <a:pt x="1291" y="1947"/>
                  </a:lnTo>
                  <a:lnTo>
                    <a:pt x="1331" y="1957"/>
                  </a:lnTo>
                  <a:lnTo>
                    <a:pt x="1370" y="1977"/>
                  </a:lnTo>
                  <a:lnTo>
                    <a:pt x="1380" y="1977"/>
                  </a:lnTo>
                  <a:lnTo>
                    <a:pt x="1420" y="1987"/>
                  </a:lnTo>
                  <a:lnTo>
                    <a:pt x="1470" y="1987"/>
                  </a:lnTo>
                  <a:lnTo>
                    <a:pt x="1509" y="1996"/>
                  </a:lnTo>
                  <a:lnTo>
                    <a:pt x="1559" y="2006"/>
                  </a:lnTo>
                  <a:lnTo>
                    <a:pt x="1599" y="2006"/>
                  </a:lnTo>
                  <a:lnTo>
                    <a:pt x="1648" y="2016"/>
                  </a:lnTo>
                  <a:lnTo>
                    <a:pt x="1688" y="2016"/>
                  </a:lnTo>
                  <a:lnTo>
                    <a:pt x="1738" y="2016"/>
                  </a:lnTo>
                  <a:lnTo>
                    <a:pt x="1777" y="2016"/>
                  </a:lnTo>
                  <a:lnTo>
                    <a:pt x="1827" y="2006"/>
                  </a:lnTo>
                  <a:lnTo>
                    <a:pt x="1867" y="2006"/>
                  </a:lnTo>
                  <a:lnTo>
                    <a:pt x="1916" y="1996"/>
                  </a:lnTo>
                  <a:lnTo>
                    <a:pt x="1956" y="1987"/>
                  </a:lnTo>
                  <a:lnTo>
                    <a:pt x="2006" y="1977"/>
                  </a:lnTo>
                  <a:lnTo>
                    <a:pt x="2046" y="1957"/>
                  </a:lnTo>
                  <a:lnTo>
                    <a:pt x="2095" y="1937"/>
                  </a:lnTo>
                  <a:lnTo>
                    <a:pt x="2115" y="1927"/>
                  </a:lnTo>
                  <a:lnTo>
                    <a:pt x="2135" y="1917"/>
                  </a:lnTo>
                  <a:lnTo>
                    <a:pt x="2175" y="1887"/>
                  </a:lnTo>
                  <a:lnTo>
                    <a:pt x="2194" y="1877"/>
                  </a:lnTo>
                  <a:lnTo>
                    <a:pt x="2224" y="1847"/>
                  </a:lnTo>
                  <a:lnTo>
                    <a:pt x="2244" y="1828"/>
                  </a:lnTo>
                  <a:lnTo>
                    <a:pt x="2264" y="1808"/>
                  </a:lnTo>
                  <a:lnTo>
                    <a:pt x="2294" y="1778"/>
                  </a:lnTo>
                  <a:lnTo>
                    <a:pt x="2314" y="1748"/>
                  </a:lnTo>
                  <a:lnTo>
                    <a:pt x="2323" y="1728"/>
                  </a:lnTo>
                  <a:lnTo>
                    <a:pt x="2353" y="1679"/>
                  </a:lnTo>
                  <a:lnTo>
                    <a:pt x="2353" y="1669"/>
                  </a:lnTo>
                  <a:lnTo>
                    <a:pt x="2373" y="1639"/>
                  </a:lnTo>
                  <a:lnTo>
                    <a:pt x="2383" y="1589"/>
                  </a:lnTo>
                  <a:lnTo>
                    <a:pt x="2393" y="1540"/>
                  </a:lnTo>
                  <a:lnTo>
                    <a:pt x="2403" y="1500"/>
                  </a:lnTo>
                  <a:lnTo>
                    <a:pt x="2403" y="1490"/>
                  </a:lnTo>
                  <a:lnTo>
                    <a:pt x="2403" y="1440"/>
                  </a:lnTo>
                  <a:lnTo>
                    <a:pt x="2403" y="1391"/>
                  </a:lnTo>
                  <a:lnTo>
                    <a:pt x="2403" y="1361"/>
                  </a:lnTo>
                  <a:lnTo>
                    <a:pt x="2403" y="1341"/>
                  </a:lnTo>
                  <a:lnTo>
                    <a:pt x="2393" y="1301"/>
                  </a:lnTo>
                  <a:lnTo>
                    <a:pt x="2383" y="1252"/>
                  </a:lnTo>
                  <a:lnTo>
                    <a:pt x="2373" y="1202"/>
                  </a:lnTo>
                  <a:lnTo>
                    <a:pt x="2353" y="1162"/>
                  </a:lnTo>
                  <a:lnTo>
                    <a:pt x="2353" y="1152"/>
                  </a:lnTo>
                  <a:lnTo>
                    <a:pt x="2333" y="1103"/>
                  </a:lnTo>
                  <a:lnTo>
                    <a:pt x="2314" y="1053"/>
                  </a:lnTo>
                  <a:lnTo>
                    <a:pt x="2294" y="1013"/>
                  </a:lnTo>
                  <a:lnTo>
                    <a:pt x="2264" y="964"/>
                  </a:lnTo>
                  <a:lnTo>
                    <a:pt x="2234" y="914"/>
                  </a:lnTo>
                  <a:lnTo>
                    <a:pt x="2224" y="884"/>
                  </a:lnTo>
                  <a:lnTo>
                    <a:pt x="2204" y="864"/>
                  </a:lnTo>
                  <a:lnTo>
                    <a:pt x="2175" y="825"/>
                  </a:lnTo>
                  <a:lnTo>
                    <a:pt x="2175" y="815"/>
                  </a:lnTo>
                  <a:lnTo>
                    <a:pt x="2135" y="765"/>
                  </a:lnTo>
                  <a:lnTo>
                    <a:pt x="2105" y="715"/>
                  </a:lnTo>
                  <a:lnTo>
                    <a:pt x="2095" y="705"/>
                  </a:lnTo>
                  <a:lnTo>
                    <a:pt x="2055" y="676"/>
                  </a:lnTo>
                  <a:lnTo>
                    <a:pt x="2046" y="656"/>
                  </a:lnTo>
                  <a:lnTo>
                    <a:pt x="2016" y="626"/>
                  </a:lnTo>
                  <a:lnTo>
                    <a:pt x="2006" y="606"/>
                  </a:lnTo>
                  <a:lnTo>
                    <a:pt x="1966" y="576"/>
                  </a:lnTo>
                  <a:lnTo>
                    <a:pt x="1956" y="566"/>
                  </a:lnTo>
                  <a:lnTo>
                    <a:pt x="1916" y="527"/>
                  </a:lnTo>
                  <a:lnTo>
                    <a:pt x="1867" y="487"/>
                  </a:lnTo>
                  <a:lnTo>
                    <a:pt x="1857" y="477"/>
                  </a:lnTo>
                  <a:lnTo>
                    <a:pt x="1827" y="447"/>
                  </a:lnTo>
                  <a:lnTo>
                    <a:pt x="1807" y="427"/>
                  </a:lnTo>
                  <a:lnTo>
                    <a:pt x="1777" y="417"/>
                  </a:lnTo>
                  <a:lnTo>
                    <a:pt x="1738" y="378"/>
                  </a:lnTo>
                  <a:lnTo>
                    <a:pt x="1688" y="348"/>
                  </a:lnTo>
                  <a:lnTo>
                    <a:pt x="1668" y="338"/>
                  </a:lnTo>
                  <a:lnTo>
                    <a:pt x="1648" y="318"/>
                  </a:lnTo>
                  <a:lnTo>
                    <a:pt x="1599" y="288"/>
                  </a:lnTo>
                  <a:lnTo>
                    <a:pt x="1559" y="258"/>
                  </a:lnTo>
                  <a:lnTo>
                    <a:pt x="1509" y="239"/>
                  </a:lnTo>
                  <a:lnTo>
                    <a:pt x="1470" y="209"/>
                  </a:lnTo>
                  <a:lnTo>
                    <a:pt x="1420" y="189"/>
                  </a:lnTo>
                  <a:lnTo>
                    <a:pt x="1380" y="169"/>
                  </a:lnTo>
                  <a:lnTo>
                    <a:pt x="1331" y="149"/>
                  </a:lnTo>
                  <a:lnTo>
                    <a:pt x="1321" y="139"/>
                  </a:lnTo>
                  <a:lnTo>
                    <a:pt x="1291" y="129"/>
                  </a:lnTo>
                  <a:lnTo>
                    <a:pt x="1241" y="109"/>
                  </a:lnTo>
                  <a:lnTo>
                    <a:pt x="1202" y="100"/>
                  </a:lnTo>
                  <a:lnTo>
                    <a:pt x="1192" y="90"/>
                  </a:lnTo>
                  <a:lnTo>
                    <a:pt x="1162" y="80"/>
                  </a:lnTo>
                  <a:lnTo>
                    <a:pt x="1112" y="70"/>
                  </a:lnTo>
                  <a:lnTo>
                    <a:pt x="1073" y="60"/>
                  </a:lnTo>
                  <a:lnTo>
                    <a:pt x="1033" y="50"/>
                  </a:lnTo>
                  <a:lnTo>
                    <a:pt x="1023" y="40"/>
                  </a:lnTo>
                  <a:lnTo>
                    <a:pt x="983" y="30"/>
                  </a:lnTo>
                  <a:lnTo>
                    <a:pt x="934" y="30"/>
                  </a:lnTo>
                  <a:lnTo>
                    <a:pt x="894" y="20"/>
                  </a:lnTo>
                  <a:lnTo>
                    <a:pt x="844" y="10"/>
                  </a:lnTo>
                  <a:lnTo>
                    <a:pt x="805" y="10"/>
                  </a:lnTo>
                  <a:lnTo>
                    <a:pt x="755" y="0"/>
                  </a:lnTo>
                  <a:lnTo>
                    <a:pt x="715" y="0"/>
                  </a:lnTo>
                  <a:lnTo>
                    <a:pt x="666" y="0"/>
                  </a:lnTo>
                  <a:lnTo>
                    <a:pt x="626" y="0"/>
                  </a:lnTo>
                  <a:lnTo>
                    <a:pt x="576" y="10"/>
                  </a:lnTo>
                  <a:lnTo>
                    <a:pt x="537" y="10"/>
                  </a:lnTo>
                  <a:lnTo>
                    <a:pt x="487" y="20"/>
                  </a:lnTo>
                  <a:lnTo>
                    <a:pt x="447" y="30"/>
                  </a:lnTo>
                  <a:lnTo>
                    <a:pt x="398" y="40"/>
                  </a:lnTo>
                  <a:lnTo>
                    <a:pt x="398" y="50"/>
                  </a:lnTo>
                  <a:lnTo>
                    <a:pt x="358" y="60"/>
                  </a:lnTo>
                  <a:lnTo>
                    <a:pt x="318" y="80"/>
                  </a:lnTo>
                  <a:lnTo>
                    <a:pt x="288" y="90"/>
                  </a:lnTo>
                  <a:lnTo>
                    <a:pt x="268" y="100"/>
                  </a:lnTo>
                  <a:lnTo>
                    <a:pt x="229" y="129"/>
                  </a:lnTo>
                  <a:lnTo>
                    <a:pt x="209" y="139"/>
                  </a:lnTo>
                  <a:lnTo>
                    <a:pt x="179" y="169"/>
                  </a:lnTo>
                  <a:lnTo>
                    <a:pt x="159" y="189"/>
                  </a:lnTo>
                  <a:lnTo>
                    <a:pt x="139" y="209"/>
                  </a:lnTo>
                  <a:lnTo>
                    <a:pt x="110" y="239"/>
                  </a:lnTo>
                  <a:lnTo>
                    <a:pt x="90" y="268"/>
                  </a:lnTo>
                  <a:lnTo>
                    <a:pt x="80" y="288"/>
                  </a:lnTo>
                  <a:lnTo>
                    <a:pt x="50" y="338"/>
                  </a:lnTo>
                  <a:lnTo>
                    <a:pt x="50" y="348"/>
                  </a:lnTo>
                  <a:lnTo>
                    <a:pt x="30" y="378"/>
                  </a:lnTo>
                  <a:lnTo>
                    <a:pt x="20" y="427"/>
                  </a:lnTo>
                  <a:lnTo>
                    <a:pt x="10" y="477"/>
                  </a:lnTo>
                  <a:lnTo>
                    <a:pt x="0" y="517"/>
                  </a:lnTo>
                </a:path>
              </a:pathLst>
            </a:custGeom>
            <a:noFill/>
            <a:ln w="1260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44" name=""/>
            <p:cNvSpPr/>
            <p:nvPr/>
          </p:nvSpPr>
          <p:spPr>
            <a:xfrm>
              <a:off x="3805200" y="4111560"/>
              <a:ext cx="65160" cy="65160"/>
            </a:xfrm>
            <a:prstGeom prst="ellipse">
              <a:avLst/>
            </a:prstGeom>
            <a:no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545" name=""/>
            <p:cNvSpPr/>
            <p:nvPr/>
          </p:nvSpPr>
          <p:spPr>
            <a:xfrm flipH="1" flipV="1">
              <a:off x="3495240" y="3754440"/>
              <a:ext cx="336600" cy="38736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46" name=""/>
            <p:cNvSpPr/>
            <p:nvPr/>
          </p:nvSpPr>
          <p:spPr>
            <a:xfrm>
              <a:off x="3805200" y="4111560"/>
              <a:ext cx="65160" cy="65160"/>
            </a:xfrm>
            <a:prstGeom prst="ellipse">
              <a:avLst/>
            </a:prstGeom>
            <a:noFill/>
            <a:ln w="2844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547" name=""/>
            <p:cNvSpPr/>
            <p:nvPr/>
          </p:nvSpPr>
          <p:spPr>
            <a:xfrm>
              <a:off x="3465360" y="3727440"/>
              <a:ext cx="66960" cy="65160"/>
            </a:xfrm>
            <a:prstGeom prst="ellipse">
              <a:avLst/>
            </a:prstGeom>
            <a:noFill/>
            <a:ln w="2844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grpSp>
      <p:grpSp>
        <p:nvGrpSpPr>
          <p:cNvPr id="548" name=""/>
          <p:cNvGrpSpPr/>
          <p:nvPr/>
        </p:nvGrpSpPr>
        <p:grpSpPr>
          <a:xfrm>
            <a:off x="4676760" y="2612880"/>
            <a:ext cx="3943440" cy="3328200"/>
            <a:chOff x="4676760" y="2612880"/>
            <a:chExt cx="3943440" cy="3328200"/>
          </a:xfrm>
        </p:grpSpPr>
        <p:sp>
          <p:nvSpPr>
            <p:cNvPr id="549" name=""/>
            <p:cNvSpPr/>
            <p:nvPr/>
          </p:nvSpPr>
          <p:spPr>
            <a:xfrm>
              <a:off x="5435640" y="2700360"/>
              <a:ext cx="3178080" cy="270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50" name=""/>
            <p:cNvSpPr/>
            <p:nvPr/>
          </p:nvSpPr>
          <p:spPr>
            <a:xfrm>
              <a:off x="5435640" y="2700360"/>
              <a:ext cx="3178080" cy="2706840"/>
            </a:xfrm>
            <a:prstGeom prst="rect">
              <a:avLst/>
            </a:prstGeom>
            <a:noFill/>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51" name=""/>
            <p:cNvSpPr/>
            <p:nvPr/>
          </p:nvSpPr>
          <p:spPr>
            <a:xfrm>
              <a:off x="5435640" y="5407200"/>
              <a:ext cx="317808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52" name=""/>
            <p:cNvSpPr/>
            <p:nvPr/>
          </p:nvSpPr>
          <p:spPr>
            <a:xfrm flipV="1">
              <a:off x="8613720" y="2700000"/>
              <a:ext cx="0" cy="270684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53" name=""/>
            <p:cNvSpPr/>
            <p:nvPr/>
          </p:nvSpPr>
          <p:spPr>
            <a:xfrm>
              <a:off x="5435640" y="5407200"/>
              <a:ext cx="317808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54" name=""/>
            <p:cNvSpPr/>
            <p:nvPr/>
          </p:nvSpPr>
          <p:spPr>
            <a:xfrm flipV="1">
              <a:off x="5435640" y="537336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555" name=""/>
            <p:cNvSpPr/>
            <p:nvPr/>
          </p:nvSpPr>
          <p:spPr>
            <a:xfrm>
              <a:off x="5435640" y="2700360"/>
              <a:ext cx="1440" cy="31680"/>
            </a:xfrm>
            <a:prstGeom prst="line">
              <a:avLst/>
            </a:prstGeom>
            <a:ln w="17640">
              <a:solidFill>
                <a:srgbClr val="004c2b"/>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556" name=""/>
            <p:cNvSpPr/>
            <p:nvPr/>
          </p:nvSpPr>
          <p:spPr>
            <a:xfrm>
              <a:off x="5419800" y="54878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557" name=""/>
            <p:cNvSpPr/>
            <p:nvPr/>
          </p:nvSpPr>
          <p:spPr>
            <a:xfrm flipV="1">
              <a:off x="6029280" y="5373360"/>
              <a:ext cx="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558" name=""/>
            <p:cNvSpPr/>
            <p:nvPr/>
          </p:nvSpPr>
          <p:spPr>
            <a:xfrm>
              <a:off x="6029280" y="2700360"/>
              <a:ext cx="0" cy="31680"/>
            </a:xfrm>
            <a:prstGeom prst="line">
              <a:avLst/>
            </a:prstGeom>
            <a:ln w="17640">
              <a:solidFill>
                <a:srgbClr val="d2aad2"/>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559" name=""/>
            <p:cNvSpPr/>
            <p:nvPr/>
          </p:nvSpPr>
          <p:spPr>
            <a:xfrm>
              <a:off x="6012000" y="54878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5</a:t>
              </a:r>
              <a:endParaRPr b="0" lang="en-US" sz="1700" spc="-1" strike="noStrike">
                <a:solidFill>
                  <a:srgbClr val="333333"/>
                </a:solidFill>
                <a:latin typeface="Times New Roman"/>
              </a:endParaRPr>
            </a:p>
          </p:txBody>
        </p:sp>
        <p:sp>
          <p:nvSpPr>
            <p:cNvPr id="560" name=""/>
            <p:cNvSpPr/>
            <p:nvPr/>
          </p:nvSpPr>
          <p:spPr>
            <a:xfrm flipV="1">
              <a:off x="6610320" y="537336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561" name=""/>
            <p:cNvSpPr/>
            <p:nvPr/>
          </p:nvSpPr>
          <p:spPr>
            <a:xfrm>
              <a:off x="6610320" y="2700360"/>
              <a:ext cx="1440" cy="31680"/>
            </a:xfrm>
            <a:prstGeom prst="line">
              <a:avLst/>
            </a:prstGeom>
            <a:ln w="17640">
              <a:solidFill>
                <a:srgbClr val="d2aad2"/>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562" name=""/>
            <p:cNvSpPr/>
            <p:nvPr/>
          </p:nvSpPr>
          <p:spPr>
            <a:xfrm>
              <a:off x="6532560" y="548784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0</a:t>
              </a:r>
              <a:endParaRPr b="0" lang="en-US" sz="1700" spc="-1" strike="noStrike">
                <a:solidFill>
                  <a:srgbClr val="333333"/>
                </a:solidFill>
                <a:latin typeface="Times New Roman"/>
              </a:endParaRPr>
            </a:p>
          </p:txBody>
        </p:sp>
        <p:sp>
          <p:nvSpPr>
            <p:cNvPr id="563" name=""/>
            <p:cNvSpPr/>
            <p:nvPr/>
          </p:nvSpPr>
          <p:spPr>
            <a:xfrm flipV="1">
              <a:off x="7203960" y="5373360"/>
              <a:ext cx="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564" name=""/>
            <p:cNvSpPr/>
            <p:nvPr/>
          </p:nvSpPr>
          <p:spPr>
            <a:xfrm>
              <a:off x="7203960" y="2700360"/>
              <a:ext cx="0" cy="31680"/>
            </a:xfrm>
            <a:prstGeom prst="line">
              <a:avLst/>
            </a:prstGeom>
            <a:ln w="17640">
              <a:solidFill>
                <a:srgbClr val="d2aad2"/>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565" name=""/>
            <p:cNvSpPr/>
            <p:nvPr/>
          </p:nvSpPr>
          <p:spPr>
            <a:xfrm>
              <a:off x="7124760" y="548784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566" name=""/>
            <p:cNvSpPr/>
            <p:nvPr/>
          </p:nvSpPr>
          <p:spPr>
            <a:xfrm flipV="1">
              <a:off x="7792920" y="5373360"/>
              <a:ext cx="180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567" name=""/>
            <p:cNvSpPr/>
            <p:nvPr/>
          </p:nvSpPr>
          <p:spPr>
            <a:xfrm>
              <a:off x="7792920" y="2700360"/>
              <a:ext cx="1800" cy="31680"/>
            </a:xfrm>
            <a:prstGeom prst="line">
              <a:avLst/>
            </a:prstGeom>
            <a:ln w="17640">
              <a:solidFill>
                <a:srgbClr val="d2aad2"/>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568" name=""/>
            <p:cNvSpPr/>
            <p:nvPr/>
          </p:nvSpPr>
          <p:spPr>
            <a:xfrm>
              <a:off x="7716960" y="548784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0</a:t>
              </a:r>
              <a:endParaRPr b="0" lang="en-US" sz="1700" spc="-1" strike="noStrike">
                <a:solidFill>
                  <a:srgbClr val="333333"/>
                </a:solidFill>
                <a:latin typeface="Times New Roman"/>
              </a:endParaRPr>
            </a:p>
          </p:txBody>
        </p:sp>
        <p:sp>
          <p:nvSpPr>
            <p:cNvPr id="569" name=""/>
            <p:cNvSpPr/>
            <p:nvPr/>
          </p:nvSpPr>
          <p:spPr>
            <a:xfrm flipV="1">
              <a:off x="8375760" y="537336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570" name=""/>
            <p:cNvSpPr/>
            <p:nvPr/>
          </p:nvSpPr>
          <p:spPr>
            <a:xfrm>
              <a:off x="8375760" y="2700360"/>
              <a:ext cx="1440" cy="31680"/>
            </a:xfrm>
            <a:prstGeom prst="line">
              <a:avLst/>
            </a:prstGeom>
            <a:ln w="17640">
              <a:solidFill>
                <a:srgbClr val="004c2b"/>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571" name=""/>
            <p:cNvSpPr/>
            <p:nvPr/>
          </p:nvSpPr>
          <p:spPr>
            <a:xfrm>
              <a:off x="8298000" y="548784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5</a:t>
              </a:r>
              <a:endParaRPr b="0" lang="en-US" sz="1700" spc="-1" strike="noStrike">
                <a:solidFill>
                  <a:srgbClr val="333333"/>
                </a:solidFill>
                <a:latin typeface="Times New Roman"/>
              </a:endParaRPr>
            </a:p>
          </p:txBody>
        </p:sp>
        <p:sp>
          <p:nvSpPr>
            <p:cNvPr id="572" name=""/>
            <p:cNvSpPr/>
            <p:nvPr/>
          </p:nvSpPr>
          <p:spPr>
            <a:xfrm>
              <a:off x="5435640" y="5407200"/>
              <a:ext cx="3168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73" name=""/>
            <p:cNvSpPr/>
            <p:nvPr/>
          </p:nvSpPr>
          <p:spPr>
            <a:xfrm flipH="1">
              <a:off x="8580600" y="5407200"/>
              <a:ext cx="3312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74" name=""/>
            <p:cNvSpPr/>
            <p:nvPr/>
          </p:nvSpPr>
          <p:spPr>
            <a:xfrm>
              <a:off x="4938840" y="532116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5</a:t>
              </a:r>
              <a:endParaRPr b="0" lang="en-US" sz="1800" spc="-1" strike="noStrike">
                <a:solidFill>
                  <a:srgbClr val="333333"/>
                </a:solidFill>
                <a:latin typeface="Times New Roman"/>
              </a:endParaRPr>
            </a:p>
          </p:txBody>
        </p:sp>
        <p:sp>
          <p:nvSpPr>
            <p:cNvPr id="575" name=""/>
            <p:cNvSpPr/>
            <p:nvPr/>
          </p:nvSpPr>
          <p:spPr>
            <a:xfrm>
              <a:off x="5435640" y="4954680"/>
              <a:ext cx="31680" cy="0"/>
            </a:xfrm>
            <a:prstGeom prst="line">
              <a:avLst/>
            </a:prstGeom>
            <a:ln w="28440">
              <a:solidFill>
                <a:srgbClr val="d2aad2"/>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76" name=""/>
            <p:cNvSpPr/>
            <p:nvPr/>
          </p:nvSpPr>
          <p:spPr>
            <a:xfrm flipH="1">
              <a:off x="8580600" y="4954680"/>
              <a:ext cx="3312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77" name=""/>
            <p:cNvSpPr/>
            <p:nvPr/>
          </p:nvSpPr>
          <p:spPr>
            <a:xfrm>
              <a:off x="5097600" y="4869000"/>
              <a:ext cx="20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a:t>
              </a:r>
              <a:endParaRPr b="0" lang="en-US" sz="1800" spc="-1" strike="noStrike">
                <a:solidFill>
                  <a:srgbClr val="333333"/>
                </a:solidFill>
                <a:latin typeface="Times New Roman"/>
              </a:endParaRPr>
            </a:p>
          </p:txBody>
        </p:sp>
        <p:sp>
          <p:nvSpPr>
            <p:cNvPr id="578" name=""/>
            <p:cNvSpPr/>
            <p:nvPr/>
          </p:nvSpPr>
          <p:spPr>
            <a:xfrm>
              <a:off x="5435640" y="4500720"/>
              <a:ext cx="3168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579" name=""/>
            <p:cNvSpPr/>
            <p:nvPr/>
          </p:nvSpPr>
          <p:spPr>
            <a:xfrm flipH="1">
              <a:off x="8580600" y="4500720"/>
              <a:ext cx="331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580" name=""/>
            <p:cNvSpPr/>
            <p:nvPr/>
          </p:nvSpPr>
          <p:spPr>
            <a:xfrm>
              <a:off x="4938840" y="441324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0.5</a:t>
              </a:r>
              <a:endParaRPr b="0" lang="en-US" sz="1800" spc="-1" strike="noStrike">
                <a:solidFill>
                  <a:srgbClr val="333333"/>
                </a:solidFill>
                <a:latin typeface="Times New Roman"/>
              </a:endParaRPr>
            </a:p>
          </p:txBody>
        </p:sp>
        <p:sp>
          <p:nvSpPr>
            <p:cNvPr id="581" name=""/>
            <p:cNvSpPr/>
            <p:nvPr/>
          </p:nvSpPr>
          <p:spPr>
            <a:xfrm>
              <a:off x="5435640" y="4057560"/>
              <a:ext cx="3168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582" name=""/>
            <p:cNvSpPr/>
            <p:nvPr/>
          </p:nvSpPr>
          <p:spPr>
            <a:xfrm flipH="1">
              <a:off x="8580600" y="4057560"/>
              <a:ext cx="3312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583" name=""/>
            <p:cNvSpPr/>
            <p:nvPr/>
          </p:nvSpPr>
          <p:spPr>
            <a:xfrm>
              <a:off x="5162400" y="397368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0</a:t>
              </a:r>
              <a:endParaRPr b="0" lang="en-US" sz="1800" spc="-1" strike="noStrike">
                <a:solidFill>
                  <a:srgbClr val="333333"/>
                </a:solidFill>
                <a:latin typeface="Times New Roman"/>
              </a:endParaRPr>
            </a:p>
          </p:txBody>
        </p:sp>
        <p:sp>
          <p:nvSpPr>
            <p:cNvPr id="584" name=""/>
            <p:cNvSpPr/>
            <p:nvPr/>
          </p:nvSpPr>
          <p:spPr>
            <a:xfrm>
              <a:off x="5435640" y="3605040"/>
              <a:ext cx="3168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585" name=""/>
            <p:cNvSpPr/>
            <p:nvPr/>
          </p:nvSpPr>
          <p:spPr>
            <a:xfrm flipH="1">
              <a:off x="8580600" y="3605040"/>
              <a:ext cx="3312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586" name=""/>
            <p:cNvSpPr/>
            <p:nvPr/>
          </p:nvSpPr>
          <p:spPr>
            <a:xfrm>
              <a:off x="5003640" y="3517920"/>
              <a:ext cx="31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0.5</a:t>
              </a:r>
              <a:endParaRPr b="0" lang="en-US" sz="1800" spc="-1" strike="noStrike">
                <a:solidFill>
                  <a:srgbClr val="333333"/>
                </a:solidFill>
                <a:latin typeface="Times New Roman"/>
              </a:endParaRPr>
            </a:p>
          </p:txBody>
        </p:sp>
        <p:sp>
          <p:nvSpPr>
            <p:cNvPr id="587" name=""/>
            <p:cNvSpPr/>
            <p:nvPr/>
          </p:nvSpPr>
          <p:spPr>
            <a:xfrm>
              <a:off x="5435640" y="3152880"/>
              <a:ext cx="3168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588" name=""/>
            <p:cNvSpPr/>
            <p:nvPr/>
          </p:nvSpPr>
          <p:spPr>
            <a:xfrm flipH="1">
              <a:off x="8580600" y="3152880"/>
              <a:ext cx="331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589" name=""/>
            <p:cNvSpPr/>
            <p:nvPr/>
          </p:nvSpPr>
          <p:spPr>
            <a:xfrm>
              <a:off x="5162400" y="306720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a:t>
              </a:r>
              <a:endParaRPr b="0" lang="en-US" sz="1800" spc="-1" strike="noStrike">
                <a:solidFill>
                  <a:srgbClr val="333333"/>
                </a:solidFill>
                <a:latin typeface="Times New Roman"/>
              </a:endParaRPr>
            </a:p>
          </p:txBody>
        </p:sp>
        <p:sp>
          <p:nvSpPr>
            <p:cNvPr id="590" name=""/>
            <p:cNvSpPr/>
            <p:nvPr/>
          </p:nvSpPr>
          <p:spPr>
            <a:xfrm>
              <a:off x="5435640" y="2700360"/>
              <a:ext cx="3168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91" name=""/>
            <p:cNvSpPr/>
            <p:nvPr/>
          </p:nvSpPr>
          <p:spPr>
            <a:xfrm flipH="1">
              <a:off x="8580600" y="2700360"/>
              <a:ext cx="3312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92" name=""/>
            <p:cNvSpPr/>
            <p:nvPr/>
          </p:nvSpPr>
          <p:spPr>
            <a:xfrm>
              <a:off x="5003640" y="2612880"/>
              <a:ext cx="31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5</a:t>
              </a:r>
              <a:endParaRPr b="0" lang="en-US" sz="1800" spc="-1" strike="noStrike">
                <a:solidFill>
                  <a:srgbClr val="333333"/>
                </a:solidFill>
                <a:latin typeface="Times New Roman"/>
              </a:endParaRPr>
            </a:p>
          </p:txBody>
        </p:sp>
        <p:sp>
          <p:nvSpPr>
            <p:cNvPr id="593" name=""/>
            <p:cNvSpPr/>
            <p:nvPr/>
          </p:nvSpPr>
          <p:spPr>
            <a:xfrm flipV="1">
              <a:off x="8613720" y="2700000"/>
              <a:ext cx="0" cy="270684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94" name=""/>
            <p:cNvSpPr/>
            <p:nvPr/>
          </p:nvSpPr>
          <p:spPr>
            <a:xfrm>
              <a:off x="7003800" y="5681520"/>
              <a:ext cx="109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k</a:t>
              </a:r>
              <a:endParaRPr b="0" lang="en-US" sz="1700" spc="-1" strike="noStrike">
                <a:solidFill>
                  <a:srgbClr val="333333"/>
                </a:solidFill>
                <a:latin typeface="Times New Roman"/>
              </a:endParaRPr>
            </a:p>
          </p:txBody>
        </p:sp>
        <p:sp>
          <p:nvSpPr>
            <p:cNvPr id="595" name=""/>
            <p:cNvSpPr/>
            <p:nvPr/>
          </p:nvSpPr>
          <p:spPr>
            <a:xfrm rot="16200000">
              <a:off x="4617000" y="388368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u(k)</a:t>
              </a:r>
              <a:endParaRPr b="0" lang="en-US" sz="1800" spc="-1" strike="noStrike">
                <a:solidFill>
                  <a:srgbClr val="333333"/>
                </a:solidFill>
                <a:latin typeface="Times New Roman"/>
              </a:endParaRPr>
            </a:p>
          </p:txBody>
        </p:sp>
        <p:sp>
          <p:nvSpPr>
            <p:cNvPr id="596" name=""/>
            <p:cNvSpPr/>
            <p:nvPr/>
          </p:nvSpPr>
          <p:spPr>
            <a:xfrm>
              <a:off x="5403960" y="4921200"/>
              <a:ext cx="75960" cy="76320"/>
            </a:xfrm>
            <a:prstGeom prst="ellipse">
              <a:avLst/>
            </a:prstGeom>
            <a:noFill/>
            <a:ln w="28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597" name=""/>
            <p:cNvSpPr/>
            <p:nvPr/>
          </p:nvSpPr>
          <p:spPr>
            <a:xfrm>
              <a:off x="5435640" y="4954680"/>
              <a:ext cx="119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98" name=""/>
            <p:cNvSpPr/>
            <p:nvPr/>
          </p:nvSpPr>
          <p:spPr>
            <a:xfrm>
              <a:off x="5403960" y="4921200"/>
              <a:ext cx="75960" cy="76320"/>
            </a:xfrm>
            <a:prstGeom prst="ellipse">
              <a:avLst/>
            </a:prstGeom>
            <a:noFill/>
            <a:ln w="2844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599" name=""/>
            <p:cNvSpPr/>
            <p:nvPr/>
          </p:nvSpPr>
          <p:spPr>
            <a:xfrm>
              <a:off x="5522760" y="4921200"/>
              <a:ext cx="76320" cy="76320"/>
            </a:xfrm>
            <a:prstGeom prst="ellipse">
              <a:avLst/>
            </a:prstGeom>
            <a:noFill/>
            <a:ln w="2844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600" name=""/>
            <p:cNvSpPr/>
            <p:nvPr/>
          </p:nvSpPr>
          <p:spPr>
            <a:xfrm>
              <a:off x="5437080" y="3156120"/>
              <a:ext cx="3173400" cy="0"/>
            </a:xfrm>
            <a:prstGeom prst="line">
              <a:avLst/>
            </a:prstGeom>
            <a:ln w="9360">
              <a:solidFill>
                <a:srgbClr val="6600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1" name=""/>
            <p:cNvSpPr/>
            <p:nvPr/>
          </p:nvSpPr>
          <p:spPr>
            <a:xfrm>
              <a:off x="5448240" y="4954680"/>
              <a:ext cx="3171960" cy="0"/>
            </a:xfrm>
            <a:prstGeom prst="line">
              <a:avLst/>
            </a:prstGeom>
            <a:ln w="9360">
              <a:solidFill>
                <a:srgbClr val="6600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6"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think of the anti-windup strategies of Chapter 11 as giving a particular simple (ad-hoc) parameterization of </a:t>
            </a:r>
            <a:r>
              <a:rPr b="0" i="1" lang="en-US" sz="2800" spc="-1" strike="noStrike">
                <a:solidFill>
                  <a:srgbClr val="333333"/>
                </a:solidFill>
                <a:latin typeface="Times New Roman"/>
              </a:rPr>
              <a:t>h</a:t>
            </a:r>
            <a:r>
              <a:rPr b="0" lang="en-US" sz="2800" spc="-1" strike="noStrike">
                <a:solidFill>
                  <a:srgbClr val="333333"/>
                </a:solidFill>
                <a:latin typeface="Times New Roman"/>
              </a:rPr>
              <a:t>(</a:t>
            </a:r>
            <a:r>
              <a:rPr b="0" lang="en-US" sz="2000" spc="-1" strike="noStrike" baseline="30000">
                <a:solidFill>
                  <a:srgbClr val="333333"/>
                </a:solidFill>
                <a:latin typeface="CommonBullets"/>
                <a:ea typeface="CommonBullets"/>
              </a:rPr>
              <a:t></a:t>
            </a:r>
            <a:r>
              <a:rPr b="0" lang="en-US" sz="2800" spc="-1" strike="noStrike">
                <a:solidFill>
                  <a:srgbClr val="333333"/>
                </a:solidFill>
                <a:latin typeface="Times New Roman"/>
              </a:rPr>
              <a:t>).  Specifically, if the control problem is formulated, in the absence of constraints, as a linear quadratic regulator, then we know that the unconstrained infinite horizon policy is of the form:</a:t>
            </a:r>
            <a:endParaRPr b="0" lang="en-US" sz="2800" spc="-1" strike="noStrike">
              <a:solidFill>
                <a:srgbClr val="333333"/>
              </a:solidFill>
              <a:latin typeface="Times New Roman"/>
            </a:endParaRPr>
          </a:p>
        </p:txBody>
      </p:sp>
      <p:pic>
        <p:nvPicPr>
          <p:cNvPr id="107" name="Eqn23_02_02" descr=""/>
          <p:cNvPicPr/>
          <p:nvPr/>
        </p:nvPicPr>
        <p:blipFill>
          <a:blip r:embed="rId2"/>
          <a:stretch/>
        </p:blipFill>
        <p:spPr>
          <a:xfrm>
            <a:off x="3276720" y="4952880"/>
            <a:ext cx="2309760" cy="2620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Third Step - </a:t>
            </a:r>
            <a:r>
              <a:rPr b="0" i="1" lang="en-US" sz="3600" spc="-1" strike="noStrike">
                <a:solidFill>
                  <a:srgbClr val="333333"/>
                </a:solidFill>
                <a:latin typeface="Times New Roman"/>
              </a:rPr>
              <a:t>Note input still saturated</a:t>
            </a:r>
            <a:endParaRPr b="0" lang="en-US" sz="3600" spc="-1" strike="noStrike">
              <a:solidFill>
                <a:srgbClr val="6600cc"/>
              </a:solidFill>
              <a:latin typeface="Times New Roman"/>
            </a:endParaRPr>
          </a:p>
        </p:txBody>
      </p:sp>
      <p:grpSp>
        <p:nvGrpSpPr>
          <p:cNvPr id="603" name=""/>
          <p:cNvGrpSpPr/>
          <p:nvPr/>
        </p:nvGrpSpPr>
        <p:grpSpPr>
          <a:xfrm>
            <a:off x="210960" y="2657520"/>
            <a:ext cx="4240440" cy="3421080"/>
            <a:chOff x="210960" y="2657520"/>
            <a:chExt cx="4240440" cy="3421080"/>
          </a:xfrm>
        </p:grpSpPr>
        <p:sp>
          <p:nvSpPr>
            <p:cNvPr id="604" name=""/>
            <p:cNvSpPr/>
            <p:nvPr/>
          </p:nvSpPr>
          <p:spPr>
            <a:xfrm>
              <a:off x="852480" y="2735280"/>
              <a:ext cx="3506760" cy="28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05" name=""/>
            <p:cNvSpPr/>
            <p:nvPr/>
          </p:nvSpPr>
          <p:spPr>
            <a:xfrm>
              <a:off x="852480" y="2735280"/>
              <a:ext cx="3506760" cy="2852640"/>
            </a:xfrm>
            <a:prstGeom prst="rect">
              <a:avLst/>
            </a:prstGeom>
            <a:noFill/>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06" name=""/>
            <p:cNvSpPr/>
            <p:nvPr/>
          </p:nvSpPr>
          <p:spPr>
            <a:xfrm>
              <a:off x="852480" y="2735280"/>
              <a:ext cx="35067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607" name=""/>
            <p:cNvSpPr/>
            <p:nvPr/>
          </p:nvSpPr>
          <p:spPr>
            <a:xfrm>
              <a:off x="852480" y="5587920"/>
              <a:ext cx="35067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608" name=""/>
            <p:cNvSpPr/>
            <p:nvPr/>
          </p:nvSpPr>
          <p:spPr>
            <a:xfrm>
              <a:off x="852480" y="5587920"/>
              <a:ext cx="35067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609" name=""/>
            <p:cNvSpPr/>
            <p:nvPr/>
          </p:nvSpPr>
          <p:spPr>
            <a:xfrm flipV="1">
              <a:off x="852480" y="5548320"/>
              <a:ext cx="1440" cy="39600"/>
            </a:xfrm>
            <a:prstGeom prst="line">
              <a:avLst/>
            </a:prstGeom>
            <a:ln w="15840">
              <a:solidFill>
                <a:srgbClr val="004c2b"/>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610" name=""/>
            <p:cNvSpPr/>
            <p:nvPr/>
          </p:nvSpPr>
          <p:spPr>
            <a:xfrm>
              <a:off x="852480" y="2735280"/>
              <a:ext cx="1440" cy="39600"/>
            </a:xfrm>
            <a:prstGeom prst="line">
              <a:avLst/>
            </a:prstGeom>
            <a:ln w="15840">
              <a:solidFill>
                <a:srgbClr val="004c2b"/>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611" name=""/>
            <p:cNvSpPr/>
            <p:nvPr/>
          </p:nvSpPr>
          <p:spPr>
            <a:xfrm>
              <a:off x="765000" y="5629320"/>
              <a:ext cx="20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2</a:t>
              </a:r>
              <a:endParaRPr b="0" lang="en-US" sz="1800" spc="-1" strike="noStrike">
                <a:solidFill>
                  <a:srgbClr val="333333"/>
                </a:solidFill>
                <a:latin typeface="Times New Roman"/>
              </a:endParaRPr>
            </a:p>
          </p:txBody>
        </p:sp>
        <p:sp>
          <p:nvSpPr>
            <p:cNvPr id="612" name=""/>
            <p:cNvSpPr/>
            <p:nvPr/>
          </p:nvSpPr>
          <p:spPr>
            <a:xfrm flipV="1">
              <a:off x="1733400" y="5548320"/>
              <a:ext cx="1800" cy="39600"/>
            </a:xfrm>
            <a:prstGeom prst="line">
              <a:avLst/>
            </a:prstGeom>
            <a:ln w="15840">
              <a:solidFill>
                <a:srgbClr val="004c2b"/>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613" name=""/>
            <p:cNvSpPr/>
            <p:nvPr/>
          </p:nvSpPr>
          <p:spPr>
            <a:xfrm>
              <a:off x="1733400" y="2735280"/>
              <a:ext cx="1800" cy="39600"/>
            </a:xfrm>
            <a:prstGeom prst="line">
              <a:avLst/>
            </a:prstGeom>
            <a:ln w="15840">
              <a:solidFill>
                <a:srgbClr val="004c2b"/>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614" name=""/>
            <p:cNvSpPr/>
            <p:nvPr/>
          </p:nvSpPr>
          <p:spPr>
            <a:xfrm>
              <a:off x="1646280" y="5629320"/>
              <a:ext cx="20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a:t>
              </a:r>
              <a:endParaRPr b="0" lang="en-US" sz="1800" spc="-1" strike="noStrike">
                <a:solidFill>
                  <a:srgbClr val="333333"/>
                </a:solidFill>
                <a:latin typeface="Times New Roman"/>
              </a:endParaRPr>
            </a:p>
          </p:txBody>
        </p:sp>
        <p:sp>
          <p:nvSpPr>
            <p:cNvPr id="615" name=""/>
            <p:cNvSpPr/>
            <p:nvPr/>
          </p:nvSpPr>
          <p:spPr>
            <a:xfrm flipV="1">
              <a:off x="2606760" y="5548320"/>
              <a:ext cx="0" cy="39600"/>
            </a:xfrm>
            <a:prstGeom prst="line">
              <a:avLst/>
            </a:prstGeom>
            <a:ln w="15840">
              <a:solidFill>
                <a:srgbClr val="004c2b"/>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616" name=""/>
            <p:cNvSpPr/>
            <p:nvPr/>
          </p:nvSpPr>
          <p:spPr>
            <a:xfrm>
              <a:off x="2606760" y="2735280"/>
              <a:ext cx="0" cy="39600"/>
            </a:xfrm>
            <a:prstGeom prst="line">
              <a:avLst/>
            </a:prstGeom>
            <a:ln w="15840">
              <a:solidFill>
                <a:srgbClr val="004c2b"/>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617" name=""/>
            <p:cNvSpPr/>
            <p:nvPr/>
          </p:nvSpPr>
          <p:spPr>
            <a:xfrm>
              <a:off x="2571840" y="562932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0</a:t>
              </a:r>
              <a:endParaRPr b="0" lang="en-US" sz="1800" spc="-1" strike="noStrike">
                <a:solidFill>
                  <a:srgbClr val="333333"/>
                </a:solidFill>
                <a:latin typeface="Times New Roman"/>
              </a:endParaRPr>
            </a:p>
          </p:txBody>
        </p:sp>
        <p:sp>
          <p:nvSpPr>
            <p:cNvPr id="618" name=""/>
            <p:cNvSpPr/>
            <p:nvPr/>
          </p:nvSpPr>
          <p:spPr>
            <a:xfrm flipV="1">
              <a:off x="3487680" y="5548320"/>
              <a:ext cx="1800" cy="39600"/>
            </a:xfrm>
            <a:prstGeom prst="line">
              <a:avLst/>
            </a:prstGeom>
            <a:ln w="15840">
              <a:solidFill>
                <a:srgbClr val="004c2b"/>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619" name=""/>
            <p:cNvSpPr/>
            <p:nvPr/>
          </p:nvSpPr>
          <p:spPr>
            <a:xfrm>
              <a:off x="3487680" y="2735280"/>
              <a:ext cx="1800" cy="39600"/>
            </a:xfrm>
            <a:prstGeom prst="line">
              <a:avLst/>
            </a:prstGeom>
            <a:ln w="15840">
              <a:solidFill>
                <a:srgbClr val="004c2b"/>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620" name=""/>
            <p:cNvSpPr/>
            <p:nvPr/>
          </p:nvSpPr>
          <p:spPr>
            <a:xfrm>
              <a:off x="3452760" y="562932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a:t>
              </a:r>
              <a:endParaRPr b="0" lang="en-US" sz="1800" spc="-1" strike="noStrike">
                <a:solidFill>
                  <a:srgbClr val="333333"/>
                </a:solidFill>
                <a:latin typeface="Times New Roman"/>
              </a:endParaRPr>
            </a:p>
          </p:txBody>
        </p:sp>
        <p:sp>
          <p:nvSpPr>
            <p:cNvPr id="621" name=""/>
            <p:cNvSpPr/>
            <p:nvPr/>
          </p:nvSpPr>
          <p:spPr>
            <a:xfrm flipV="1">
              <a:off x="4359240" y="5548320"/>
              <a:ext cx="1800" cy="39600"/>
            </a:xfrm>
            <a:prstGeom prst="line">
              <a:avLst/>
            </a:prstGeom>
            <a:ln w="15840">
              <a:solidFill>
                <a:srgbClr val="004c2b"/>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622" name=""/>
            <p:cNvSpPr/>
            <p:nvPr/>
          </p:nvSpPr>
          <p:spPr>
            <a:xfrm>
              <a:off x="4359240" y="2735280"/>
              <a:ext cx="1800" cy="39600"/>
            </a:xfrm>
            <a:prstGeom prst="line">
              <a:avLst/>
            </a:prstGeom>
            <a:ln w="15840">
              <a:solidFill>
                <a:srgbClr val="004c2b"/>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623" name=""/>
            <p:cNvSpPr/>
            <p:nvPr/>
          </p:nvSpPr>
          <p:spPr>
            <a:xfrm>
              <a:off x="4324320" y="562932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2</a:t>
              </a:r>
              <a:endParaRPr b="0" lang="en-US" sz="1800" spc="-1" strike="noStrike">
                <a:solidFill>
                  <a:srgbClr val="333333"/>
                </a:solidFill>
                <a:latin typeface="Times New Roman"/>
              </a:endParaRPr>
            </a:p>
          </p:txBody>
        </p:sp>
        <p:sp>
          <p:nvSpPr>
            <p:cNvPr id="624" name=""/>
            <p:cNvSpPr/>
            <p:nvPr/>
          </p:nvSpPr>
          <p:spPr>
            <a:xfrm>
              <a:off x="852480" y="5587920"/>
              <a:ext cx="381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625" name=""/>
            <p:cNvSpPr/>
            <p:nvPr/>
          </p:nvSpPr>
          <p:spPr>
            <a:xfrm flipH="1">
              <a:off x="4321080" y="5587920"/>
              <a:ext cx="381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626" name=""/>
            <p:cNvSpPr/>
            <p:nvPr/>
          </p:nvSpPr>
          <p:spPr>
            <a:xfrm>
              <a:off x="404640" y="551016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5</a:t>
              </a:r>
              <a:endParaRPr b="0" lang="en-US" sz="1800" spc="-1" strike="noStrike">
                <a:solidFill>
                  <a:srgbClr val="333333"/>
                </a:solidFill>
                <a:latin typeface="Times New Roman"/>
              </a:endParaRPr>
            </a:p>
          </p:txBody>
        </p:sp>
        <p:sp>
          <p:nvSpPr>
            <p:cNvPr id="627" name=""/>
            <p:cNvSpPr/>
            <p:nvPr/>
          </p:nvSpPr>
          <p:spPr>
            <a:xfrm>
              <a:off x="852480" y="511812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628" name=""/>
            <p:cNvSpPr/>
            <p:nvPr/>
          </p:nvSpPr>
          <p:spPr>
            <a:xfrm flipH="1">
              <a:off x="4321080" y="511812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629" name=""/>
            <p:cNvSpPr/>
            <p:nvPr/>
          </p:nvSpPr>
          <p:spPr>
            <a:xfrm>
              <a:off x="563400" y="5040360"/>
              <a:ext cx="20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a:t>
              </a:r>
              <a:endParaRPr b="0" lang="en-US" sz="1800" spc="-1" strike="noStrike">
                <a:solidFill>
                  <a:srgbClr val="333333"/>
                </a:solidFill>
                <a:latin typeface="Times New Roman"/>
              </a:endParaRPr>
            </a:p>
          </p:txBody>
        </p:sp>
        <p:sp>
          <p:nvSpPr>
            <p:cNvPr id="630" name=""/>
            <p:cNvSpPr/>
            <p:nvPr/>
          </p:nvSpPr>
          <p:spPr>
            <a:xfrm>
              <a:off x="852480" y="463716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631" name=""/>
            <p:cNvSpPr/>
            <p:nvPr/>
          </p:nvSpPr>
          <p:spPr>
            <a:xfrm flipH="1">
              <a:off x="4321080" y="463716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632" name=""/>
            <p:cNvSpPr/>
            <p:nvPr/>
          </p:nvSpPr>
          <p:spPr>
            <a:xfrm>
              <a:off x="404640" y="455760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0.5</a:t>
              </a:r>
              <a:endParaRPr b="0" lang="en-US" sz="1800" spc="-1" strike="noStrike">
                <a:solidFill>
                  <a:srgbClr val="333333"/>
                </a:solidFill>
                <a:latin typeface="Times New Roman"/>
              </a:endParaRPr>
            </a:p>
          </p:txBody>
        </p:sp>
        <p:sp>
          <p:nvSpPr>
            <p:cNvPr id="633" name=""/>
            <p:cNvSpPr/>
            <p:nvPr/>
          </p:nvSpPr>
          <p:spPr>
            <a:xfrm>
              <a:off x="852480" y="416736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34" name=""/>
            <p:cNvSpPr/>
            <p:nvPr/>
          </p:nvSpPr>
          <p:spPr>
            <a:xfrm flipH="1">
              <a:off x="4321080" y="416736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35" name=""/>
            <p:cNvSpPr/>
            <p:nvPr/>
          </p:nvSpPr>
          <p:spPr>
            <a:xfrm>
              <a:off x="625320" y="40892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0</a:t>
              </a:r>
              <a:endParaRPr b="0" lang="en-US" sz="1800" spc="-1" strike="noStrike">
                <a:solidFill>
                  <a:srgbClr val="333333"/>
                </a:solidFill>
                <a:latin typeface="Times New Roman"/>
              </a:endParaRPr>
            </a:p>
          </p:txBody>
        </p:sp>
        <p:sp>
          <p:nvSpPr>
            <p:cNvPr id="636" name=""/>
            <p:cNvSpPr/>
            <p:nvPr/>
          </p:nvSpPr>
          <p:spPr>
            <a:xfrm>
              <a:off x="852480" y="3686040"/>
              <a:ext cx="381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637" name=""/>
            <p:cNvSpPr/>
            <p:nvPr/>
          </p:nvSpPr>
          <p:spPr>
            <a:xfrm flipH="1">
              <a:off x="4321080" y="3686040"/>
              <a:ext cx="381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638" name=""/>
            <p:cNvSpPr/>
            <p:nvPr/>
          </p:nvSpPr>
          <p:spPr>
            <a:xfrm>
              <a:off x="471600" y="3608280"/>
              <a:ext cx="31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0.5</a:t>
              </a:r>
              <a:endParaRPr b="0" lang="en-US" sz="1800" spc="-1" strike="noStrike">
                <a:solidFill>
                  <a:srgbClr val="333333"/>
                </a:solidFill>
                <a:latin typeface="Times New Roman"/>
              </a:endParaRPr>
            </a:p>
          </p:txBody>
        </p:sp>
        <p:sp>
          <p:nvSpPr>
            <p:cNvPr id="639" name=""/>
            <p:cNvSpPr/>
            <p:nvPr/>
          </p:nvSpPr>
          <p:spPr>
            <a:xfrm>
              <a:off x="852480" y="321624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40" name=""/>
            <p:cNvSpPr/>
            <p:nvPr/>
          </p:nvSpPr>
          <p:spPr>
            <a:xfrm flipH="1">
              <a:off x="4321080" y="3216240"/>
              <a:ext cx="38160" cy="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41" name=""/>
            <p:cNvSpPr/>
            <p:nvPr/>
          </p:nvSpPr>
          <p:spPr>
            <a:xfrm>
              <a:off x="625320" y="31370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a:t>
              </a:r>
              <a:endParaRPr b="0" lang="en-US" sz="1800" spc="-1" strike="noStrike">
                <a:solidFill>
                  <a:srgbClr val="333333"/>
                </a:solidFill>
                <a:latin typeface="Times New Roman"/>
              </a:endParaRPr>
            </a:p>
          </p:txBody>
        </p:sp>
        <p:sp>
          <p:nvSpPr>
            <p:cNvPr id="642" name=""/>
            <p:cNvSpPr/>
            <p:nvPr/>
          </p:nvSpPr>
          <p:spPr>
            <a:xfrm>
              <a:off x="852480" y="273528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643" name=""/>
            <p:cNvSpPr/>
            <p:nvPr/>
          </p:nvSpPr>
          <p:spPr>
            <a:xfrm flipH="1">
              <a:off x="4321080" y="273528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644" name=""/>
            <p:cNvSpPr/>
            <p:nvPr/>
          </p:nvSpPr>
          <p:spPr>
            <a:xfrm>
              <a:off x="471600" y="2657520"/>
              <a:ext cx="31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1.5</a:t>
              </a:r>
              <a:endParaRPr b="0" lang="en-US" sz="1800" spc="-1" strike="noStrike">
                <a:solidFill>
                  <a:srgbClr val="333333"/>
                </a:solidFill>
                <a:latin typeface="Times New Roman"/>
              </a:endParaRPr>
            </a:p>
          </p:txBody>
        </p:sp>
        <p:sp>
          <p:nvSpPr>
            <p:cNvPr id="645" name=""/>
            <p:cNvSpPr/>
            <p:nvPr/>
          </p:nvSpPr>
          <p:spPr>
            <a:xfrm>
              <a:off x="852480" y="2735280"/>
              <a:ext cx="35067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646" name=""/>
            <p:cNvSpPr/>
            <p:nvPr/>
          </p:nvSpPr>
          <p:spPr>
            <a:xfrm>
              <a:off x="852480" y="5587920"/>
              <a:ext cx="35067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647" name=""/>
            <p:cNvSpPr/>
            <p:nvPr/>
          </p:nvSpPr>
          <p:spPr>
            <a:xfrm>
              <a:off x="3489480" y="2719440"/>
              <a:ext cx="599760" cy="2870280"/>
            </a:xfrm>
            <a:custGeom>
              <a:avLst/>
              <a:gdLst/>
              <a:ahLst/>
              <a:rect l="l" t="t" r="r" b="b"/>
              <a:pathLst>
                <a:path w="1406" h="6711">
                  <a:moveTo>
                    <a:pt x="0" y="0"/>
                  </a:moveTo>
                  <a:lnTo>
                    <a:pt x="30" y="163"/>
                  </a:lnTo>
                  <a:lnTo>
                    <a:pt x="81" y="377"/>
                  </a:lnTo>
                  <a:lnTo>
                    <a:pt x="122" y="602"/>
                  </a:lnTo>
                  <a:lnTo>
                    <a:pt x="173" y="816"/>
                  </a:lnTo>
                  <a:lnTo>
                    <a:pt x="214" y="1020"/>
                  </a:lnTo>
                  <a:lnTo>
                    <a:pt x="265" y="1234"/>
                  </a:lnTo>
                  <a:lnTo>
                    <a:pt x="305" y="1459"/>
                  </a:lnTo>
                  <a:lnTo>
                    <a:pt x="346" y="1673"/>
                  </a:lnTo>
                  <a:lnTo>
                    <a:pt x="397" y="1887"/>
                  </a:lnTo>
                  <a:lnTo>
                    <a:pt x="438" y="2111"/>
                  </a:lnTo>
                  <a:lnTo>
                    <a:pt x="489" y="2326"/>
                  </a:lnTo>
                  <a:lnTo>
                    <a:pt x="530" y="2540"/>
                  </a:lnTo>
                  <a:lnTo>
                    <a:pt x="581" y="2754"/>
                  </a:lnTo>
                  <a:lnTo>
                    <a:pt x="621" y="2978"/>
                  </a:lnTo>
                  <a:lnTo>
                    <a:pt x="672" y="3192"/>
                  </a:lnTo>
                  <a:lnTo>
                    <a:pt x="713" y="3407"/>
                  </a:lnTo>
                  <a:lnTo>
                    <a:pt x="764" y="3621"/>
                  </a:lnTo>
                  <a:lnTo>
                    <a:pt x="805" y="3845"/>
                  </a:lnTo>
                  <a:lnTo>
                    <a:pt x="856" y="4059"/>
                  </a:lnTo>
                  <a:lnTo>
                    <a:pt x="897" y="4274"/>
                  </a:lnTo>
                  <a:lnTo>
                    <a:pt x="948" y="4488"/>
                  </a:lnTo>
                  <a:lnTo>
                    <a:pt x="988" y="4712"/>
                  </a:lnTo>
                  <a:lnTo>
                    <a:pt x="1039" y="4926"/>
                  </a:lnTo>
                  <a:lnTo>
                    <a:pt x="1080" y="5141"/>
                  </a:lnTo>
                  <a:lnTo>
                    <a:pt x="1131" y="5355"/>
                  </a:lnTo>
                  <a:lnTo>
                    <a:pt x="1172" y="5579"/>
                  </a:lnTo>
                  <a:lnTo>
                    <a:pt x="1213" y="5793"/>
                  </a:lnTo>
                  <a:lnTo>
                    <a:pt x="1264" y="6008"/>
                  </a:lnTo>
                  <a:lnTo>
                    <a:pt x="1304" y="6222"/>
                  </a:lnTo>
                  <a:lnTo>
                    <a:pt x="1355" y="6446"/>
                  </a:lnTo>
                  <a:lnTo>
                    <a:pt x="1396" y="6660"/>
                  </a:lnTo>
                  <a:lnTo>
                    <a:pt x="1406" y="6711"/>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48" name=""/>
            <p:cNvSpPr/>
            <p:nvPr/>
          </p:nvSpPr>
          <p:spPr>
            <a:xfrm>
              <a:off x="2509920" y="5803920"/>
              <a:ext cx="241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x1</a:t>
              </a:r>
              <a:endParaRPr b="0" lang="en-US" sz="1800" spc="-1" strike="noStrike">
                <a:solidFill>
                  <a:srgbClr val="333333"/>
                </a:solidFill>
                <a:latin typeface="Times New Roman"/>
              </a:endParaRPr>
            </a:p>
          </p:txBody>
        </p:sp>
        <p:sp>
          <p:nvSpPr>
            <p:cNvPr id="649" name=""/>
            <p:cNvSpPr/>
            <p:nvPr/>
          </p:nvSpPr>
          <p:spPr>
            <a:xfrm rot="16200000">
              <a:off x="227520" y="3999600"/>
              <a:ext cx="241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x2</a:t>
              </a:r>
              <a:endParaRPr b="0" lang="en-US" sz="1800" spc="-1" strike="noStrike">
                <a:solidFill>
                  <a:srgbClr val="333333"/>
                </a:solidFill>
                <a:latin typeface="Times New Roman"/>
              </a:endParaRPr>
            </a:p>
          </p:txBody>
        </p:sp>
        <p:sp>
          <p:nvSpPr>
            <p:cNvPr id="650" name=""/>
            <p:cNvSpPr/>
            <p:nvPr/>
          </p:nvSpPr>
          <p:spPr>
            <a:xfrm>
              <a:off x="1122480" y="2744640"/>
              <a:ext cx="598320" cy="2853000"/>
            </a:xfrm>
            <a:custGeom>
              <a:avLst/>
              <a:gdLst/>
              <a:ahLst/>
              <a:rect l="l" t="t" r="r" b="b"/>
              <a:pathLst>
                <a:path w="1406" h="6711">
                  <a:moveTo>
                    <a:pt x="0" y="0"/>
                  </a:moveTo>
                  <a:lnTo>
                    <a:pt x="30" y="194"/>
                  </a:lnTo>
                  <a:lnTo>
                    <a:pt x="81" y="408"/>
                  </a:lnTo>
                  <a:lnTo>
                    <a:pt x="122" y="622"/>
                  </a:lnTo>
                  <a:lnTo>
                    <a:pt x="173" y="836"/>
                  </a:lnTo>
                  <a:lnTo>
                    <a:pt x="214" y="1051"/>
                  </a:lnTo>
                  <a:lnTo>
                    <a:pt x="265" y="1265"/>
                  </a:lnTo>
                  <a:lnTo>
                    <a:pt x="306" y="1479"/>
                  </a:lnTo>
                  <a:lnTo>
                    <a:pt x="357" y="1693"/>
                  </a:lnTo>
                  <a:lnTo>
                    <a:pt x="397" y="1918"/>
                  </a:lnTo>
                  <a:lnTo>
                    <a:pt x="448" y="2132"/>
                  </a:lnTo>
                  <a:lnTo>
                    <a:pt x="489" y="2346"/>
                  </a:lnTo>
                  <a:lnTo>
                    <a:pt x="540" y="2560"/>
                  </a:lnTo>
                  <a:lnTo>
                    <a:pt x="581" y="2785"/>
                  </a:lnTo>
                  <a:lnTo>
                    <a:pt x="632" y="2999"/>
                  </a:lnTo>
                  <a:lnTo>
                    <a:pt x="673" y="3213"/>
                  </a:lnTo>
                  <a:lnTo>
                    <a:pt x="724" y="3427"/>
                  </a:lnTo>
                  <a:lnTo>
                    <a:pt x="764" y="3651"/>
                  </a:lnTo>
                  <a:lnTo>
                    <a:pt x="815" y="3866"/>
                  </a:lnTo>
                  <a:lnTo>
                    <a:pt x="856" y="4080"/>
                  </a:lnTo>
                  <a:lnTo>
                    <a:pt x="907" y="4304"/>
                  </a:lnTo>
                  <a:lnTo>
                    <a:pt x="948" y="4518"/>
                  </a:lnTo>
                  <a:lnTo>
                    <a:pt x="989" y="4733"/>
                  </a:lnTo>
                  <a:lnTo>
                    <a:pt x="1040" y="4947"/>
                  </a:lnTo>
                  <a:lnTo>
                    <a:pt x="1080" y="5171"/>
                  </a:lnTo>
                  <a:lnTo>
                    <a:pt x="1131" y="5385"/>
                  </a:lnTo>
                  <a:lnTo>
                    <a:pt x="1172" y="5600"/>
                  </a:lnTo>
                  <a:lnTo>
                    <a:pt x="1223" y="5814"/>
                  </a:lnTo>
                  <a:lnTo>
                    <a:pt x="1264" y="6038"/>
                  </a:lnTo>
                  <a:lnTo>
                    <a:pt x="1315" y="6252"/>
                  </a:lnTo>
                  <a:lnTo>
                    <a:pt x="1356" y="6466"/>
                  </a:lnTo>
                  <a:lnTo>
                    <a:pt x="1406" y="6681"/>
                  </a:lnTo>
                  <a:lnTo>
                    <a:pt x="1406" y="6711"/>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51" name=""/>
            <p:cNvSpPr/>
            <p:nvPr/>
          </p:nvSpPr>
          <p:spPr>
            <a:xfrm>
              <a:off x="2273400" y="2749680"/>
              <a:ext cx="1582560" cy="2840040"/>
            </a:xfrm>
            <a:custGeom>
              <a:avLst/>
              <a:gdLst/>
              <a:ahLst/>
              <a:rect l="l" t="t" r="r" b="b"/>
              <a:pathLst>
                <a:path w="3741" h="6711">
                  <a:moveTo>
                    <a:pt x="0" y="0"/>
                  </a:moveTo>
                  <a:lnTo>
                    <a:pt x="20" y="41"/>
                  </a:lnTo>
                  <a:lnTo>
                    <a:pt x="71" y="122"/>
                  </a:lnTo>
                  <a:lnTo>
                    <a:pt x="112" y="204"/>
                  </a:lnTo>
                  <a:lnTo>
                    <a:pt x="163" y="286"/>
                  </a:lnTo>
                  <a:lnTo>
                    <a:pt x="204" y="367"/>
                  </a:lnTo>
                  <a:lnTo>
                    <a:pt x="245" y="449"/>
                  </a:lnTo>
                  <a:lnTo>
                    <a:pt x="296" y="530"/>
                  </a:lnTo>
                  <a:lnTo>
                    <a:pt x="336" y="612"/>
                  </a:lnTo>
                  <a:lnTo>
                    <a:pt x="387" y="694"/>
                  </a:lnTo>
                  <a:lnTo>
                    <a:pt x="428" y="775"/>
                  </a:lnTo>
                  <a:lnTo>
                    <a:pt x="479" y="857"/>
                  </a:lnTo>
                  <a:lnTo>
                    <a:pt x="520" y="938"/>
                  </a:lnTo>
                  <a:lnTo>
                    <a:pt x="571" y="1020"/>
                  </a:lnTo>
                  <a:lnTo>
                    <a:pt x="612" y="1091"/>
                  </a:lnTo>
                  <a:lnTo>
                    <a:pt x="662" y="1173"/>
                  </a:lnTo>
                  <a:lnTo>
                    <a:pt x="703" y="1255"/>
                  </a:lnTo>
                  <a:lnTo>
                    <a:pt x="754" y="1336"/>
                  </a:lnTo>
                  <a:lnTo>
                    <a:pt x="795" y="1418"/>
                  </a:lnTo>
                  <a:lnTo>
                    <a:pt x="846" y="1499"/>
                  </a:lnTo>
                  <a:lnTo>
                    <a:pt x="887" y="1581"/>
                  </a:lnTo>
                  <a:lnTo>
                    <a:pt x="938" y="1663"/>
                  </a:lnTo>
                  <a:lnTo>
                    <a:pt x="978" y="1744"/>
                  </a:lnTo>
                  <a:lnTo>
                    <a:pt x="1029" y="1826"/>
                  </a:lnTo>
                  <a:lnTo>
                    <a:pt x="1070" y="1907"/>
                  </a:lnTo>
                  <a:lnTo>
                    <a:pt x="1111" y="1989"/>
                  </a:lnTo>
                  <a:lnTo>
                    <a:pt x="1162" y="2071"/>
                  </a:lnTo>
                  <a:lnTo>
                    <a:pt x="1203" y="2152"/>
                  </a:lnTo>
                  <a:lnTo>
                    <a:pt x="1254" y="2234"/>
                  </a:lnTo>
                  <a:lnTo>
                    <a:pt x="1294" y="2315"/>
                  </a:lnTo>
                  <a:lnTo>
                    <a:pt x="1345" y="2397"/>
                  </a:lnTo>
                  <a:lnTo>
                    <a:pt x="1386" y="2479"/>
                  </a:lnTo>
                  <a:lnTo>
                    <a:pt x="1437" y="2560"/>
                  </a:lnTo>
                  <a:lnTo>
                    <a:pt x="1478" y="2642"/>
                  </a:lnTo>
                  <a:lnTo>
                    <a:pt x="1529" y="2723"/>
                  </a:lnTo>
                  <a:lnTo>
                    <a:pt x="1570" y="2805"/>
                  </a:lnTo>
                  <a:lnTo>
                    <a:pt x="1621" y="2886"/>
                  </a:lnTo>
                  <a:lnTo>
                    <a:pt x="1661" y="2978"/>
                  </a:lnTo>
                  <a:lnTo>
                    <a:pt x="1712" y="3060"/>
                  </a:lnTo>
                  <a:lnTo>
                    <a:pt x="1753" y="3141"/>
                  </a:lnTo>
                  <a:lnTo>
                    <a:pt x="1804" y="3223"/>
                  </a:lnTo>
                  <a:lnTo>
                    <a:pt x="1845" y="3305"/>
                  </a:lnTo>
                  <a:lnTo>
                    <a:pt x="1896" y="3386"/>
                  </a:lnTo>
                  <a:lnTo>
                    <a:pt x="1937" y="3468"/>
                  </a:lnTo>
                  <a:lnTo>
                    <a:pt x="1988" y="3549"/>
                  </a:lnTo>
                  <a:lnTo>
                    <a:pt x="2028" y="3631"/>
                  </a:lnTo>
                  <a:lnTo>
                    <a:pt x="2069" y="3713"/>
                  </a:lnTo>
                  <a:lnTo>
                    <a:pt x="2120" y="3794"/>
                  </a:lnTo>
                  <a:lnTo>
                    <a:pt x="2161" y="3876"/>
                  </a:lnTo>
                  <a:lnTo>
                    <a:pt x="2212" y="3957"/>
                  </a:lnTo>
                  <a:lnTo>
                    <a:pt x="2253" y="4039"/>
                  </a:lnTo>
                  <a:lnTo>
                    <a:pt x="2304" y="4121"/>
                  </a:lnTo>
                  <a:lnTo>
                    <a:pt x="2344" y="4202"/>
                  </a:lnTo>
                  <a:lnTo>
                    <a:pt x="2395" y="4284"/>
                  </a:lnTo>
                  <a:lnTo>
                    <a:pt x="2436" y="4365"/>
                  </a:lnTo>
                  <a:lnTo>
                    <a:pt x="2487" y="4447"/>
                  </a:lnTo>
                  <a:lnTo>
                    <a:pt x="2528" y="4529"/>
                  </a:lnTo>
                  <a:lnTo>
                    <a:pt x="2579" y="4610"/>
                  </a:lnTo>
                  <a:lnTo>
                    <a:pt x="2620" y="4692"/>
                  </a:lnTo>
                  <a:lnTo>
                    <a:pt x="2671" y="4773"/>
                  </a:lnTo>
                  <a:lnTo>
                    <a:pt x="2711" y="4855"/>
                  </a:lnTo>
                  <a:lnTo>
                    <a:pt x="2762" y="4937"/>
                  </a:lnTo>
                  <a:lnTo>
                    <a:pt x="2803" y="5018"/>
                  </a:lnTo>
                  <a:lnTo>
                    <a:pt x="2854" y="5100"/>
                  </a:lnTo>
                  <a:lnTo>
                    <a:pt x="2895" y="5181"/>
                  </a:lnTo>
                  <a:lnTo>
                    <a:pt x="2936" y="5263"/>
                  </a:lnTo>
                  <a:lnTo>
                    <a:pt x="2987" y="5345"/>
                  </a:lnTo>
                  <a:lnTo>
                    <a:pt x="3027" y="5426"/>
                  </a:lnTo>
                  <a:lnTo>
                    <a:pt x="3078" y="5508"/>
                  </a:lnTo>
                  <a:lnTo>
                    <a:pt x="3119" y="5589"/>
                  </a:lnTo>
                  <a:lnTo>
                    <a:pt x="3170" y="5671"/>
                  </a:lnTo>
                  <a:lnTo>
                    <a:pt x="3211" y="5753"/>
                  </a:lnTo>
                  <a:lnTo>
                    <a:pt x="3262" y="5834"/>
                  </a:lnTo>
                  <a:lnTo>
                    <a:pt x="3303" y="5916"/>
                  </a:lnTo>
                  <a:lnTo>
                    <a:pt x="3354" y="5997"/>
                  </a:lnTo>
                  <a:lnTo>
                    <a:pt x="3394" y="6089"/>
                  </a:lnTo>
                  <a:lnTo>
                    <a:pt x="3445" y="6171"/>
                  </a:lnTo>
                  <a:lnTo>
                    <a:pt x="3486" y="6252"/>
                  </a:lnTo>
                  <a:lnTo>
                    <a:pt x="3537" y="6334"/>
                  </a:lnTo>
                  <a:lnTo>
                    <a:pt x="3578" y="6415"/>
                  </a:lnTo>
                  <a:lnTo>
                    <a:pt x="3629" y="6497"/>
                  </a:lnTo>
                  <a:lnTo>
                    <a:pt x="3670" y="6579"/>
                  </a:lnTo>
                  <a:lnTo>
                    <a:pt x="3721" y="6660"/>
                  </a:lnTo>
                  <a:lnTo>
                    <a:pt x="3741" y="6711"/>
                  </a:lnTo>
                </a:path>
              </a:pathLst>
            </a:custGeom>
            <a:noFill/>
            <a:ln w="158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52" name=""/>
            <p:cNvSpPr/>
            <p:nvPr/>
          </p:nvSpPr>
          <p:spPr>
            <a:xfrm>
              <a:off x="1351080" y="2744640"/>
              <a:ext cx="1584360" cy="2845080"/>
            </a:xfrm>
            <a:custGeom>
              <a:avLst/>
              <a:gdLst/>
              <a:ahLst/>
              <a:rect l="l" t="t" r="r" b="b"/>
              <a:pathLst>
                <a:path w="3741" h="6711">
                  <a:moveTo>
                    <a:pt x="0" y="0"/>
                  </a:moveTo>
                  <a:lnTo>
                    <a:pt x="20" y="41"/>
                  </a:lnTo>
                  <a:lnTo>
                    <a:pt x="71" y="122"/>
                  </a:lnTo>
                  <a:lnTo>
                    <a:pt x="112" y="204"/>
                  </a:lnTo>
                  <a:lnTo>
                    <a:pt x="163" y="286"/>
                  </a:lnTo>
                  <a:lnTo>
                    <a:pt x="204" y="367"/>
                  </a:lnTo>
                  <a:lnTo>
                    <a:pt x="244" y="449"/>
                  </a:lnTo>
                  <a:lnTo>
                    <a:pt x="295" y="530"/>
                  </a:lnTo>
                  <a:lnTo>
                    <a:pt x="336" y="612"/>
                  </a:lnTo>
                  <a:lnTo>
                    <a:pt x="387" y="694"/>
                  </a:lnTo>
                  <a:lnTo>
                    <a:pt x="428" y="775"/>
                  </a:lnTo>
                  <a:lnTo>
                    <a:pt x="479" y="857"/>
                  </a:lnTo>
                  <a:lnTo>
                    <a:pt x="520" y="938"/>
                  </a:lnTo>
                  <a:lnTo>
                    <a:pt x="571" y="1020"/>
                  </a:lnTo>
                  <a:lnTo>
                    <a:pt x="611" y="1091"/>
                  </a:lnTo>
                  <a:lnTo>
                    <a:pt x="662" y="1173"/>
                  </a:lnTo>
                  <a:lnTo>
                    <a:pt x="703" y="1255"/>
                  </a:lnTo>
                  <a:lnTo>
                    <a:pt x="754" y="1336"/>
                  </a:lnTo>
                  <a:lnTo>
                    <a:pt x="795" y="1418"/>
                  </a:lnTo>
                  <a:lnTo>
                    <a:pt x="846" y="1499"/>
                  </a:lnTo>
                  <a:lnTo>
                    <a:pt x="887" y="1581"/>
                  </a:lnTo>
                  <a:lnTo>
                    <a:pt x="938" y="1663"/>
                  </a:lnTo>
                  <a:lnTo>
                    <a:pt x="978" y="1744"/>
                  </a:lnTo>
                  <a:lnTo>
                    <a:pt x="1029" y="1826"/>
                  </a:lnTo>
                  <a:lnTo>
                    <a:pt x="1070" y="1907"/>
                  </a:lnTo>
                  <a:lnTo>
                    <a:pt x="1121" y="1989"/>
                  </a:lnTo>
                  <a:lnTo>
                    <a:pt x="1162" y="2071"/>
                  </a:lnTo>
                  <a:lnTo>
                    <a:pt x="1203" y="2152"/>
                  </a:lnTo>
                  <a:lnTo>
                    <a:pt x="1254" y="2234"/>
                  </a:lnTo>
                  <a:lnTo>
                    <a:pt x="1294" y="2315"/>
                  </a:lnTo>
                  <a:lnTo>
                    <a:pt x="1345" y="2397"/>
                  </a:lnTo>
                  <a:lnTo>
                    <a:pt x="1386" y="2479"/>
                  </a:lnTo>
                  <a:lnTo>
                    <a:pt x="1437" y="2560"/>
                  </a:lnTo>
                  <a:lnTo>
                    <a:pt x="1478" y="2652"/>
                  </a:lnTo>
                  <a:lnTo>
                    <a:pt x="1529" y="2734"/>
                  </a:lnTo>
                  <a:lnTo>
                    <a:pt x="1570" y="2815"/>
                  </a:lnTo>
                  <a:lnTo>
                    <a:pt x="1620" y="2897"/>
                  </a:lnTo>
                  <a:lnTo>
                    <a:pt x="1661" y="2978"/>
                  </a:lnTo>
                  <a:lnTo>
                    <a:pt x="1712" y="3060"/>
                  </a:lnTo>
                  <a:lnTo>
                    <a:pt x="1753" y="3141"/>
                  </a:lnTo>
                  <a:lnTo>
                    <a:pt x="1804" y="3223"/>
                  </a:lnTo>
                  <a:lnTo>
                    <a:pt x="1845" y="3305"/>
                  </a:lnTo>
                  <a:lnTo>
                    <a:pt x="1896" y="3386"/>
                  </a:lnTo>
                  <a:lnTo>
                    <a:pt x="1936" y="3468"/>
                  </a:lnTo>
                  <a:lnTo>
                    <a:pt x="1987" y="3549"/>
                  </a:lnTo>
                  <a:lnTo>
                    <a:pt x="2028" y="3631"/>
                  </a:lnTo>
                  <a:lnTo>
                    <a:pt x="2069" y="3713"/>
                  </a:lnTo>
                  <a:lnTo>
                    <a:pt x="2120" y="3794"/>
                  </a:lnTo>
                  <a:lnTo>
                    <a:pt x="2161" y="3876"/>
                  </a:lnTo>
                  <a:lnTo>
                    <a:pt x="2212" y="3957"/>
                  </a:lnTo>
                  <a:lnTo>
                    <a:pt x="2252" y="4039"/>
                  </a:lnTo>
                  <a:lnTo>
                    <a:pt x="2303" y="4121"/>
                  </a:lnTo>
                  <a:lnTo>
                    <a:pt x="2344" y="4202"/>
                  </a:lnTo>
                  <a:lnTo>
                    <a:pt x="2395" y="4284"/>
                  </a:lnTo>
                  <a:lnTo>
                    <a:pt x="2436" y="4365"/>
                  </a:lnTo>
                  <a:lnTo>
                    <a:pt x="2487" y="4447"/>
                  </a:lnTo>
                  <a:lnTo>
                    <a:pt x="2528" y="4529"/>
                  </a:lnTo>
                  <a:lnTo>
                    <a:pt x="2579" y="4610"/>
                  </a:lnTo>
                  <a:lnTo>
                    <a:pt x="2619" y="4692"/>
                  </a:lnTo>
                  <a:lnTo>
                    <a:pt x="2670" y="4773"/>
                  </a:lnTo>
                  <a:lnTo>
                    <a:pt x="2711" y="4855"/>
                  </a:lnTo>
                  <a:lnTo>
                    <a:pt x="2762" y="4937"/>
                  </a:lnTo>
                  <a:lnTo>
                    <a:pt x="2803" y="5018"/>
                  </a:lnTo>
                  <a:lnTo>
                    <a:pt x="2854" y="5100"/>
                  </a:lnTo>
                  <a:lnTo>
                    <a:pt x="2895" y="5181"/>
                  </a:lnTo>
                  <a:lnTo>
                    <a:pt x="2946" y="5263"/>
                  </a:lnTo>
                  <a:lnTo>
                    <a:pt x="2986" y="5345"/>
                  </a:lnTo>
                  <a:lnTo>
                    <a:pt x="3027" y="5426"/>
                  </a:lnTo>
                  <a:lnTo>
                    <a:pt x="3078" y="5508"/>
                  </a:lnTo>
                  <a:lnTo>
                    <a:pt x="3119" y="5589"/>
                  </a:lnTo>
                  <a:lnTo>
                    <a:pt x="3170" y="5681"/>
                  </a:lnTo>
                  <a:lnTo>
                    <a:pt x="3211" y="5763"/>
                  </a:lnTo>
                  <a:lnTo>
                    <a:pt x="3262" y="5844"/>
                  </a:lnTo>
                  <a:lnTo>
                    <a:pt x="3302" y="5926"/>
                  </a:lnTo>
                  <a:lnTo>
                    <a:pt x="3353" y="6008"/>
                  </a:lnTo>
                  <a:lnTo>
                    <a:pt x="3394" y="6089"/>
                  </a:lnTo>
                  <a:lnTo>
                    <a:pt x="3445" y="6171"/>
                  </a:lnTo>
                  <a:lnTo>
                    <a:pt x="3486" y="6252"/>
                  </a:lnTo>
                  <a:lnTo>
                    <a:pt x="3537" y="6334"/>
                  </a:lnTo>
                  <a:lnTo>
                    <a:pt x="3578" y="6415"/>
                  </a:lnTo>
                  <a:lnTo>
                    <a:pt x="3629" y="6497"/>
                  </a:lnTo>
                  <a:lnTo>
                    <a:pt x="3669" y="6579"/>
                  </a:lnTo>
                  <a:lnTo>
                    <a:pt x="3720" y="6660"/>
                  </a:lnTo>
                  <a:lnTo>
                    <a:pt x="3741" y="6711"/>
                  </a:lnTo>
                </a:path>
              </a:pathLst>
            </a:custGeom>
            <a:noFill/>
            <a:ln w="158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53" name=""/>
            <p:cNvSpPr/>
            <p:nvPr/>
          </p:nvSpPr>
          <p:spPr>
            <a:xfrm>
              <a:off x="1420920" y="3166920"/>
              <a:ext cx="2371680" cy="1989360"/>
            </a:xfrm>
            <a:custGeom>
              <a:avLst/>
              <a:gdLst/>
              <a:ahLst/>
              <a:rect l="l" t="t" r="r" b="b"/>
              <a:pathLst>
                <a:path w="2467" h="2070">
                  <a:moveTo>
                    <a:pt x="0" y="530"/>
                  </a:moveTo>
                  <a:lnTo>
                    <a:pt x="0" y="541"/>
                  </a:lnTo>
                  <a:lnTo>
                    <a:pt x="0" y="592"/>
                  </a:lnTo>
                  <a:lnTo>
                    <a:pt x="0" y="643"/>
                  </a:lnTo>
                  <a:lnTo>
                    <a:pt x="0" y="673"/>
                  </a:lnTo>
                  <a:lnTo>
                    <a:pt x="0" y="694"/>
                  </a:lnTo>
                  <a:lnTo>
                    <a:pt x="10" y="734"/>
                  </a:lnTo>
                  <a:lnTo>
                    <a:pt x="20" y="785"/>
                  </a:lnTo>
                  <a:lnTo>
                    <a:pt x="30" y="836"/>
                  </a:lnTo>
                  <a:lnTo>
                    <a:pt x="51" y="877"/>
                  </a:lnTo>
                  <a:lnTo>
                    <a:pt x="51" y="887"/>
                  </a:lnTo>
                  <a:lnTo>
                    <a:pt x="71" y="938"/>
                  </a:lnTo>
                  <a:lnTo>
                    <a:pt x="92" y="989"/>
                  </a:lnTo>
                  <a:lnTo>
                    <a:pt x="112" y="1040"/>
                  </a:lnTo>
                  <a:lnTo>
                    <a:pt x="143" y="1081"/>
                  </a:lnTo>
                  <a:lnTo>
                    <a:pt x="173" y="1132"/>
                  </a:lnTo>
                  <a:lnTo>
                    <a:pt x="183" y="1163"/>
                  </a:lnTo>
                  <a:lnTo>
                    <a:pt x="204" y="1183"/>
                  </a:lnTo>
                  <a:lnTo>
                    <a:pt x="234" y="1224"/>
                  </a:lnTo>
                  <a:lnTo>
                    <a:pt x="234" y="1234"/>
                  </a:lnTo>
                  <a:lnTo>
                    <a:pt x="275" y="1285"/>
                  </a:lnTo>
                  <a:lnTo>
                    <a:pt x="306" y="1336"/>
                  </a:lnTo>
                  <a:lnTo>
                    <a:pt x="326" y="1346"/>
                  </a:lnTo>
                  <a:lnTo>
                    <a:pt x="357" y="1377"/>
                  </a:lnTo>
                  <a:lnTo>
                    <a:pt x="367" y="1397"/>
                  </a:lnTo>
                  <a:lnTo>
                    <a:pt x="397" y="1428"/>
                  </a:lnTo>
                  <a:lnTo>
                    <a:pt x="408" y="1448"/>
                  </a:lnTo>
                  <a:lnTo>
                    <a:pt x="448" y="1479"/>
                  </a:lnTo>
                  <a:lnTo>
                    <a:pt x="459" y="1489"/>
                  </a:lnTo>
                  <a:lnTo>
                    <a:pt x="499" y="1530"/>
                  </a:lnTo>
                  <a:lnTo>
                    <a:pt x="550" y="1571"/>
                  </a:lnTo>
                  <a:lnTo>
                    <a:pt x="560" y="1581"/>
                  </a:lnTo>
                  <a:lnTo>
                    <a:pt x="591" y="1611"/>
                  </a:lnTo>
                  <a:lnTo>
                    <a:pt x="611" y="1632"/>
                  </a:lnTo>
                  <a:lnTo>
                    <a:pt x="642" y="1642"/>
                  </a:lnTo>
                  <a:lnTo>
                    <a:pt x="683" y="1683"/>
                  </a:lnTo>
                  <a:lnTo>
                    <a:pt x="734" y="1713"/>
                  </a:lnTo>
                  <a:lnTo>
                    <a:pt x="754" y="1724"/>
                  </a:lnTo>
                  <a:lnTo>
                    <a:pt x="775" y="1744"/>
                  </a:lnTo>
                  <a:lnTo>
                    <a:pt x="825" y="1775"/>
                  </a:lnTo>
                  <a:lnTo>
                    <a:pt x="866" y="1805"/>
                  </a:lnTo>
                  <a:lnTo>
                    <a:pt x="917" y="1826"/>
                  </a:lnTo>
                  <a:lnTo>
                    <a:pt x="958" y="1856"/>
                  </a:lnTo>
                  <a:lnTo>
                    <a:pt x="1009" y="1877"/>
                  </a:lnTo>
                  <a:lnTo>
                    <a:pt x="1050" y="1897"/>
                  </a:lnTo>
                  <a:lnTo>
                    <a:pt x="1101" y="1917"/>
                  </a:lnTo>
                  <a:lnTo>
                    <a:pt x="1111" y="1928"/>
                  </a:lnTo>
                  <a:lnTo>
                    <a:pt x="1141" y="1938"/>
                  </a:lnTo>
                  <a:lnTo>
                    <a:pt x="1192" y="1958"/>
                  </a:lnTo>
                  <a:lnTo>
                    <a:pt x="1233" y="1968"/>
                  </a:lnTo>
                  <a:lnTo>
                    <a:pt x="1243" y="1979"/>
                  </a:lnTo>
                  <a:lnTo>
                    <a:pt x="1274" y="1989"/>
                  </a:lnTo>
                  <a:lnTo>
                    <a:pt x="1325" y="1999"/>
                  </a:lnTo>
                  <a:lnTo>
                    <a:pt x="1366" y="2009"/>
                  </a:lnTo>
                  <a:lnTo>
                    <a:pt x="1407" y="2030"/>
                  </a:lnTo>
                  <a:lnTo>
                    <a:pt x="1417" y="2030"/>
                  </a:lnTo>
                  <a:lnTo>
                    <a:pt x="1457" y="2040"/>
                  </a:lnTo>
                  <a:lnTo>
                    <a:pt x="1508" y="2040"/>
                  </a:lnTo>
                  <a:lnTo>
                    <a:pt x="1549" y="2050"/>
                  </a:lnTo>
                  <a:lnTo>
                    <a:pt x="1600" y="2060"/>
                  </a:lnTo>
                  <a:lnTo>
                    <a:pt x="1641" y="2060"/>
                  </a:lnTo>
                  <a:lnTo>
                    <a:pt x="1692" y="2070"/>
                  </a:lnTo>
                  <a:lnTo>
                    <a:pt x="1733" y="2070"/>
                  </a:lnTo>
                  <a:lnTo>
                    <a:pt x="1784" y="2070"/>
                  </a:lnTo>
                  <a:lnTo>
                    <a:pt x="1824" y="2070"/>
                  </a:lnTo>
                  <a:lnTo>
                    <a:pt x="1875" y="2060"/>
                  </a:lnTo>
                  <a:lnTo>
                    <a:pt x="1916" y="2060"/>
                  </a:lnTo>
                  <a:lnTo>
                    <a:pt x="1967" y="2050"/>
                  </a:lnTo>
                  <a:lnTo>
                    <a:pt x="2008" y="2040"/>
                  </a:lnTo>
                  <a:lnTo>
                    <a:pt x="2059" y="2030"/>
                  </a:lnTo>
                  <a:lnTo>
                    <a:pt x="2100" y="2009"/>
                  </a:lnTo>
                  <a:lnTo>
                    <a:pt x="2151" y="1989"/>
                  </a:lnTo>
                  <a:lnTo>
                    <a:pt x="2171" y="1979"/>
                  </a:lnTo>
                  <a:lnTo>
                    <a:pt x="2191" y="1968"/>
                  </a:lnTo>
                  <a:lnTo>
                    <a:pt x="2232" y="1938"/>
                  </a:lnTo>
                  <a:lnTo>
                    <a:pt x="2253" y="1928"/>
                  </a:lnTo>
                  <a:lnTo>
                    <a:pt x="2283" y="1897"/>
                  </a:lnTo>
                  <a:lnTo>
                    <a:pt x="2304" y="1877"/>
                  </a:lnTo>
                  <a:lnTo>
                    <a:pt x="2324" y="1856"/>
                  </a:lnTo>
                  <a:lnTo>
                    <a:pt x="2354" y="1826"/>
                  </a:lnTo>
                  <a:lnTo>
                    <a:pt x="2375" y="1795"/>
                  </a:lnTo>
                  <a:lnTo>
                    <a:pt x="2385" y="1775"/>
                  </a:lnTo>
                  <a:lnTo>
                    <a:pt x="2416" y="1724"/>
                  </a:lnTo>
                  <a:lnTo>
                    <a:pt x="2416" y="1713"/>
                  </a:lnTo>
                  <a:lnTo>
                    <a:pt x="2436" y="1683"/>
                  </a:lnTo>
                  <a:lnTo>
                    <a:pt x="2446" y="1632"/>
                  </a:lnTo>
                  <a:lnTo>
                    <a:pt x="2456" y="1581"/>
                  </a:lnTo>
                  <a:lnTo>
                    <a:pt x="2467" y="1540"/>
                  </a:lnTo>
                  <a:lnTo>
                    <a:pt x="2467" y="1530"/>
                  </a:lnTo>
                  <a:lnTo>
                    <a:pt x="2467" y="1479"/>
                  </a:lnTo>
                  <a:lnTo>
                    <a:pt x="2467" y="1428"/>
                  </a:lnTo>
                  <a:lnTo>
                    <a:pt x="2467" y="1397"/>
                  </a:lnTo>
                  <a:lnTo>
                    <a:pt x="2467" y="1377"/>
                  </a:lnTo>
                  <a:lnTo>
                    <a:pt x="2456" y="1336"/>
                  </a:lnTo>
                  <a:lnTo>
                    <a:pt x="2446" y="1285"/>
                  </a:lnTo>
                  <a:lnTo>
                    <a:pt x="2436" y="1234"/>
                  </a:lnTo>
                  <a:lnTo>
                    <a:pt x="2416" y="1193"/>
                  </a:lnTo>
                  <a:lnTo>
                    <a:pt x="2416" y="1183"/>
                  </a:lnTo>
                  <a:lnTo>
                    <a:pt x="2395" y="1132"/>
                  </a:lnTo>
                  <a:lnTo>
                    <a:pt x="2375" y="1081"/>
                  </a:lnTo>
                  <a:lnTo>
                    <a:pt x="2354" y="1040"/>
                  </a:lnTo>
                  <a:lnTo>
                    <a:pt x="2324" y="989"/>
                  </a:lnTo>
                  <a:lnTo>
                    <a:pt x="2293" y="938"/>
                  </a:lnTo>
                  <a:lnTo>
                    <a:pt x="2283" y="908"/>
                  </a:lnTo>
                  <a:lnTo>
                    <a:pt x="2263" y="887"/>
                  </a:lnTo>
                  <a:lnTo>
                    <a:pt x="2232" y="847"/>
                  </a:lnTo>
                  <a:lnTo>
                    <a:pt x="2232" y="836"/>
                  </a:lnTo>
                  <a:lnTo>
                    <a:pt x="2191" y="785"/>
                  </a:lnTo>
                  <a:lnTo>
                    <a:pt x="2161" y="734"/>
                  </a:lnTo>
                  <a:lnTo>
                    <a:pt x="2151" y="724"/>
                  </a:lnTo>
                  <a:lnTo>
                    <a:pt x="2110" y="694"/>
                  </a:lnTo>
                  <a:lnTo>
                    <a:pt x="2100" y="673"/>
                  </a:lnTo>
                  <a:lnTo>
                    <a:pt x="2069" y="643"/>
                  </a:lnTo>
                  <a:lnTo>
                    <a:pt x="2059" y="622"/>
                  </a:lnTo>
                  <a:lnTo>
                    <a:pt x="2018" y="592"/>
                  </a:lnTo>
                  <a:lnTo>
                    <a:pt x="2008" y="581"/>
                  </a:lnTo>
                  <a:lnTo>
                    <a:pt x="1967" y="541"/>
                  </a:lnTo>
                  <a:lnTo>
                    <a:pt x="1916" y="500"/>
                  </a:lnTo>
                  <a:lnTo>
                    <a:pt x="1906" y="490"/>
                  </a:lnTo>
                  <a:lnTo>
                    <a:pt x="1875" y="459"/>
                  </a:lnTo>
                  <a:lnTo>
                    <a:pt x="1855" y="439"/>
                  </a:lnTo>
                  <a:lnTo>
                    <a:pt x="1824" y="428"/>
                  </a:lnTo>
                  <a:lnTo>
                    <a:pt x="1784" y="388"/>
                  </a:lnTo>
                  <a:lnTo>
                    <a:pt x="1733" y="357"/>
                  </a:lnTo>
                  <a:lnTo>
                    <a:pt x="1712" y="347"/>
                  </a:lnTo>
                  <a:lnTo>
                    <a:pt x="1692" y="326"/>
                  </a:lnTo>
                  <a:lnTo>
                    <a:pt x="1641" y="296"/>
                  </a:lnTo>
                  <a:lnTo>
                    <a:pt x="1600" y="265"/>
                  </a:lnTo>
                  <a:lnTo>
                    <a:pt x="1549" y="245"/>
                  </a:lnTo>
                  <a:lnTo>
                    <a:pt x="1508" y="214"/>
                  </a:lnTo>
                  <a:lnTo>
                    <a:pt x="1457" y="194"/>
                  </a:lnTo>
                  <a:lnTo>
                    <a:pt x="1417" y="173"/>
                  </a:lnTo>
                  <a:lnTo>
                    <a:pt x="1366" y="153"/>
                  </a:lnTo>
                  <a:lnTo>
                    <a:pt x="1356" y="143"/>
                  </a:lnTo>
                  <a:lnTo>
                    <a:pt x="1325" y="133"/>
                  </a:lnTo>
                  <a:lnTo>
                    <a:pt x="1274" y="112"/>
                  </a:lnTo>
                  <a:lnTo>
                    <a:pt x="1233" y="102"/>
                  </a:lnTo>
                  <a:lnTo>
                    <a:pt x="1223" y="92"/>
                  </a:lnTo>
                  <a:lnTo>
                    <a:pt x="1192" y="82"/>
                  </a:lnTo>
                  <a:lnTo>
                    <a:pt x="1141" y="71"/>
                  </a:lnTo>
                  <a:lnTo>
                    <a:pt x="1101" y="61"/>
                  </a:lnTo>
                  <a:lnTo>
                    <a:pt x="1060" y="51"/>
                  </a:lnTo>
                  <a:lnTo>
                    <a:pt x="1050" y="41"/>
                  </a:lnTo>
                  <a:lnTo>
                    <a:pt x="1009" y="31"/>
                  </a:lnTo>
                  <a:lnTo>
                    <a:pt x="958" y="31"/>
                  </a:lnTo>
                  <a:lnTo>
                    <a:pt x="917" y="20"/>
                  </a:lnTo>
                  <a:lnTo>
                    <a:pt x="866" y="10"/>
                  </a:lnTo>
                  <a:lnTo>
                    <a:pt x="825" y="10"/>
                  </a:lnTo>
                  <a:lnTo>
                    <a:pt x="775" y="0"/>
                  </a:lnTo>
                  <a:lnTo>
                    <a:pt x="734" y="0"/>
                  </a:lnTo>
                  <a:lnTo>
                    <a:pt x="683" y="0"/>
                  </a:lnTo>
                  <a:lnTo>
                    <a:pt x="642" y="0"/>
                  </a:lnTo>
                  <a:lnTo>
                    <a:pt x="591" y="10"/>
                  </a:lnTo>
                  <a:lnTo>
                    <a:pt x="550" y="10"/>
                  </a:lnTo>
                  <a:lnTo>
                    <a:pt x="499" y="20"/>
                  </a:lnTo>
                  <a:lnTo>
                    <a:pt x="459" y="31"/>
                  </a:lnTo>
                  <a:lnTo>
                    <a:pt x="408" y="41"/>
                  </a:lnTo>
                  <a:lnTo>
                    <a:pt x="408" y="51"/>
                  </a:lnTo>
                  <a:lnTo>
                    <a:pt x="367" y="61"/>
                  </a:lnTo>
                  <a:lnTo>
                    <a:pt x="326" y="82"/>
                  </a:lnTo>
                  <a:lnTo>
                    <a:pt x="295" y="92"/>
                  </a:lnTo>
                  <a:lnTo>
                    <a:pt x="275" y="102"/>
                  </a:lnTo>
                  <a:lnTo>
                    <a:pt x="234" y="133"/>
                  </a:lnTo>
                  <a:lnTo>
                    <a:pt x="214" y="143"/>
                  </a:lnTo>
                  <a:lnTo>
                    <a:pt x="183" y="173"/>
                  </a:lnTo>
                  <a:lnTo>
                    <a:pt x="163" y="194"/>
                  </a:lnTo>
                  <a:lnTo>
                    <a:pt x="143" y="214"/>
                  </a:lnTo>
                  <a:lnTo>
                    <a:pt x="112" y="245"/>
                  </a:lnTo>
                  <a:lnTo>
                    <a:pt x="92" y="275"/>
                  </a:lnTo>
                  <a:lnTo>
                    <a:pt x="81" y="296"/>
                  </a:lnTo>
                  <a:lnTo>
                    <a:pt x="51" y="347"/>
                  </a:lnTo>
                  <a:lnTo>
                    <a:pt x="51" y="357"/>
                  </a:lnTo>
                  <a:lnTo>
                    <a:pt x="30" y="388"/>
                  </a:lnTo>
                  <a:lnTo>
                    <a:pt x="20" y="439"/>
                  </a:lnTo>
                  <a:lnTo>
                    <a:pt x="10" y="490"/>
                  </a:lnTo>
                  <a:lnTo>
                    <a:pt x="0" y="530"/>
                  </a:lnTo>
                </a:path>
              </a:pathLst>
            </a:custGeom>
            <a:noFill/>
            <a:ln w="2844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54" name=""/>
            <p:cNvSpPr/>
            <p:nvPr/>
          </p:nvSpPr>
          <p:spPr>
            <a:xfrm>
              <a:off x="3693960" y="4226040"/>
              <a:ext cx="68400" cy="68040"/>
            </a:xfrm>
            <a:prstGeom prst="ellipse">
              <a:avLst/>
            </a:prstGeom>
            <a:noFill/>
            <a:ln w="1584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655" name=""/>
            <p:cNvSpPr/>
            <p:nvPr/>
          </p:nvSpPr>
          <p:spPr>
            <a:xfrm flipH="1" flipV="1">
              <a:off x="3369960" y="3852720"/>
              <a:ext cx="352440" cy="4017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56" name=""/>
            <p:cNvSpPr/>
            <p:nvPr/>
          </p:nvSpPr>
          <p:spPr>
            <a:xfrm>
              <a:off x="3693960" y="4226040"/>
              <a:ext cx="68400" cy="68040"/>
            </a:xfrm>
            <a:prstGeom prst="ellipse">
              <a:avLst/>
            </a:prstGeom>
            <a:noFill/>
            <a:ln w="1584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657" name=""/>
            <p:cNvSpPr/>
            <p:nvPr/>
          </p:nvSpPr>
          <p:spPr>
            <a:xfrm>
              <a:off x="3341520" y="3822840"/>
              <a:ext cx="68400" cy="69840"/>
            </a:xfrm>
            <a:prstGeom prst="ellipse">
              <a:avLst/>
            </a:prstGeom>
            <a:noFill/>
            <a:ln w="1584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658" name=""/>
            <p:cNvSpPr/>
            <p:nvPr/>
          </p:nvSpPr>
          <p:spPr>
            <a:xfrm>
              <a:off x="3017880" y="3598920"/>
              <a:ext cx="704880" cy="655560"/>
            </a:xfrm>
            <a:custGeom>
              <a:avLst/>
              <a:gdLst/>
              <a:ahLst/>
              <a:rect l="l" t="t" r="r" b="b"/>
              <a:pathLst>
                <a:path w="734" h="683">
                  <a:moveTo>
                    <a:pt x="734" y="683"/>
                  </a:moveTo>
                  <a:lnTo>
                    <a:pt x="367" y="265"/>
                  </a:lnTo>
                  <a:lnTo>
                    <a:pt x="0" y="0"/>
                  </a:lnTo>
                </a:path>
              </a:pathLst>
            </a:custGeom>
            <a:noFill/>
            <a:ln w="1584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59" name=""/>
            <p:cNvSpPr/>
            <p:nvPr/>
          </p:nvSpPr>
          <p:spPr>
            <a:xfrm>
              <a:off x="3693960" y="4226040"/>
              <a:ext cx="68400" cy="68040"/>
            </a:xfrm>
            <a:prstGeom prst="ellipse">
              <a:avLst/>
            </a:prstGeom>
            <a:noFill/>
            <a:ln w="2844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660" name=""/>
            <p:cNvSpPr/>
            <p:nvPr/>
          </p:nvSpPr>
          <p:spPr>
            <a:xfrm>
              <a:off x="3341520" y="3822840"/>
              <a:ext cx="68400" cy="69840"/>
            </a:xfrm>
            <a:prstGeom prst="ellipse">
              <a:avLst/>
            </a:prstGeom>
            <a:noFill/>
            <a:ln w="2844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661" name=""/>
            <p:cNvSpPr/>
            <p:nvPr/>
          </p:nvSpPr>
          <p:spPr>
            <a:xfrm>
              <a:off x="2987640" y="3568680"/>
              <a:ext cx="68400" cy="69840"/>
            </a:xfrm>
            <a:prstGeom prst="ellipse">
              <a:avLst/>
            </a:prstGeom>
            <a:noFill/>
            <a:ln w="2844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grpSp>
      <p:grpSp>
        <p:nvGrpSpPr>
          <p:cNvPr id="662" name=""/>
          <p:cNvGrpSpPr/>
          <p:nvPr/>
        </p:nvGrpSpPr>
        <p:grpSpPr>
          <a:xfrm>
            <a:off x="4768920" y="2660760"/>
            <a:ext cx="3952800" cy="3447000"/>
            <a:chOff x="4768920" y="2660760"/>
            <a:chExt cx="3952800" cy="3447000"/>
          </a:xfrm>
        </p:grpSpPr>
        <p:sp>
          <p:nvSpPr>
            <p:cNvPr id="663" name=""/>
            <p:cNvSpPr/>
            <p:nvPr/>
          </p:nvSpPr>
          <p:spPr>
            <a:xfrm rot="16200000">
              <a:off x="4712400" y="403092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u(k)</a:t>
              </a:r>
              <a:endParaRPr b="0" lang="en-US" sz="1700" spc="-1" strike="noStrike">
                <a:solidFill>
                  <a:srgbClr val="333333"/>
                </a:solidFill>
                <a:latin typeface="Times New Roman"/>
              </a:endParaRPr>
            </a:p>
          </p:txBody>
        </p:sp>
        <p:sp>
          <p:nvSpPr>
            <p:cNvPr id="664" name=""/>
            <p:cNvSpPr/>
            <p:nvPr/>
          </p:nvSpPr>
          <p:spPr>
            <a:xfrm>
              <a:off x="5367240" y="5121360"/>
              <a:ext cx="3348000" cy="0"/>
            </a:xfrm>
            <a:prstGeom prst="line">
              <a:avLst/>
            </a:prstGeom>
            <a:ln w="9360">
              <a:solidFill>
                <a:srgbClr val="6600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65" name=""/>
            <p:cNvSpPr/>
            <p:nvPr/>
          </p:nvSpPr>
          <p:spPr>
            <a:xfrm>
              <a:off x="5376960" y="2751120"/>
              <a:ext cx="3343320" cy="284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66" name=""/>
            <p:cNvSpPr/>
            <p:nvPr/>
          </p:nvSpPr>
          <p:spPr>
            <a:xfrm>
              <a:off x="5376960" y="2751120"/>
              <a:ext cx="3343320" cy="2847960"/>
            </a:xfrm>
            <a:prstGeom prst="rect">
              <a:avLst/>
            </a:prstGeom>
            <a:noFill/>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67" name=""/>
            <p:cNvSpPr/>
            <p:nvPr/>
          </p:nvSpPr>
          <p:spPr>
            <a:xfrm flipV="1">
              <a:off x="5376960" y="2750760"/>
              <a:ext cx="1440" cy="2847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68" name=""/>
            <p:cNvSpPr/>
            <p:nvPr/>
          </p:nvSpPr>
          <p:spPr>
            <a:xfrm flipV="1">
              <a:off x="5376960" y="2750760"/>
              <a:ext cx="1440" cy="2847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69" name=""/>
            <p:cNvSpPr/>
            <p:nvPr/>
          </p:nvSpPr>
          <p:spPr>
            <a:xfrm flipV="1">
              <a:off x="5376960" y="556524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70" name=""/>
            <p:cNvSpPr/>
            <p:nvPr/>
          </p:nvSpPr>
          <p:spPr>
            <a:xfrm>
              <a:off x="5376960" y="275112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71" name=""/>
            <p:cNvSpPr/>
            <p:nvPr/>
          </p:nvSpPr>
          <p:spPr>
            <a:xfrm>
              <a:off x="5356080" y="56437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672" name=""/>
            <p:cNvSpPr/>
            <p:nvPr/>
          </p:nvSpPr>
          <p:spPr>
            <a:xfrm flipV="1">
              <a:off x="6000840" y="556524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73" name=""/>
            <p:cNvSpPr/>
            <p:nvPr/>
          </p:nvSpPr>
          <p:spPr>
            <a:xfrm>
              <a:off x="6000840" y="275112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74" name=""/>
            <p:cNvSpPr/>
            <p:nvPr/>
          </p:nvSpPr>
          <p:spPr>
            <a:xfrm>
              <a:off x="5978520" y="56437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5</a:t>
              </a:r>
              <a:endParaRPr b="0" lang="en-US" sz="1700" spc="-1" strike="noStrike">
                <a:solidFill>
                  <a:srgbClr val="333333"/>
                </a:solidFill>
                <a:latin typeface="Times New Roman"/>
              </a:endParaRPr>
            </a:p>
          </p:txBody>
        </p:sp>
        <p:sp>
          <p:nvSpPr>
            <p:cNvPr id="675" name=""/>
            <p:cNvSpPr/>
            <p:nvPr/>
          </p:nvSpPr>
          <p:spPr>
            <a:xfrm flipV="1">
              <a:off x="6613560" y="5565240"/>
              <a:ext cx="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76" name=""/>
            <p:cNvSpPr/>
            <p:nvPr/>
          </p:nvSpPr>
          <p:spPr>
            <a:xfrm>
              <a:off x="6613560" y="2751120"/>
              <a:ext cx="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77" name=""/>
            <p:cNvSpPr/>
            <p:nvPr/>
          </p:nvSpPr>
          <p:spPr>
            <a:xfrm>
              <a:off x="6524640" y="564372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0</a:t>
              </a:r>
              <a:endParaRPr b="0" lang="en-US" sz="1700" spc="-1" strike="noStrike">
                <a:solidFill>
                  <a:srgbClr val="333333"/>
                </a:solidFill>
                <a:latin typeface="Times New Roman"/>
              </a:endParaRPr>
            </a:p>
          </p:txBody>
        </p:sp>
        <p:sp>
          <p:nvSpPr>
            <p:cNvPr id="678" name=""/>
            <p:cNvSpPr/>
            <p:nvPr/>
          </p:nvSpPr>
          <p:spPr>
            <a:xfrm flipV="1">
              <a:off x="7236000" y="556524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79" name=""/>
            <p:cNvSpPr/>
            <p:nvPr/>
          </p:nvSpPr>
          <p:spPr>
            <a:xfrm>
              <a:off x="7236000" y="275112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80" name=""/>
            <p:cNvSpPr/>
            <p:nvPr/>
          </p:nvSpPr>
          <p:spPr>
            <a:xfrm>
              <a:off x="7148520" y="564372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681" name=""/>
            <p:cNvSpPr/>
            <p:nvPr/>
          </p:nvSpPr>
          <p:spPr>
            <a:xfrm flipV="1">
              <a:off x="7858080" y="5565240"/>
              <a:ext cx="180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82" name=""/>
            <p:cNvSpPr/>
            <p:nvPr/>
          </p:nvSpPr>
          <p:spPr>
            <a:xfrm>
              <a:off x="7858080" y="2751120"/>
              <a:ext cx="180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83" name=""/>
            <p:cNvSpPr/>
            <p:nvPr/>
          </p:nvSpPr>
          <p:spPr>
            <a:xfrm>
              <a:off x="7772400" y="564372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0</a:t>
              </a:r>
              <a:endParaRPr b="0" lang="en-US" sz="1700" spc="-1" strike="noStrike">
                <a:solidFill>
                  <a:srgbClr val="333333"/>
                </a:solidFill>
                <a:latin typeface="Times New Roman"/>
              </a:endParaRPr>
            </a:p>
          </p:txBody>
        </p:sp>
        <p:sp>
          <p:nvSpPr>
            <p:cNvPr id="684" name=""/>
            <p:cNvSpPr/>
            <p:nvPr/>
          </p:nvSpPr>
          <p:spPr>
            <a:xfrm flipV="1">
              <a:off x="8470800" y="5565240"/>
              <a:ext cx="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85" name=""/>
            <p:cNvSpPr/>
            <p:nvPr/>
          </p:nvSpPr>
          <p:spPr>
            <a:xfrm>
              <a:off x="8470800" y="2751120"/>
              <a:ext cx="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686" name=""/>
            <p:cNvSpPr/>
            <p:nvPr/>
          </p:nvSpPr>
          <p:spPr>
            <a:xfrm>
              <a:off x="8383680" y="564372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5</a:t>
              </a:r>
              <a:endParaRPr b="0" lang="en-US" sz="1700" spc="-1" strike="noStrike">
                <a:solidFill>
                  <a:srgbClr val="333333"/>
                </a:solidFill>
                <a:latin typeface="Times New Roman"/>
              </a:endParaRPr>
            </a:p>
          </p:txBody>
        </p:sp>
        <p:sp>
          <p:nvSpPr>
            <p:cNvPr id="687" name=""/>
            <p:cNvSpPr/>
            <p:nvPr/>
          </p:nvSpPr>
          <p:spPr>
            <a:xfrm>
              <a:off x="5376960" y="5599080"/>
              <a:ext cx="3492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688" name=""/>
            <p:cNvSpPr/>
            <p:nvPr/>
          </p:nvSpPr>
          <p:spPr>
            <a:xfrm flipH="1">
              <a:off x="8685000" y="5599080"/>
              <a:ext cx="3492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689" name=""/>
            <p:cNvSpPr/>
            <p:nvPr/>
          </p:nvSpPr>
          <p:spPr>
            <a:xfrm>
              <a:off x="4918320" y="550872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690" name=""/>
            <p:cNvSpPr/>
            <p:nvPr/>
          </p:nvSpPr>
          <p:spPr>
            <a:xfrm>
              <a:off x="5376960" y="5122800"/>
              <a:ext cx="3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91" name=""/>
            <p:cNvSpPr/>
            <p:nvPr/>
          </p:nvSpPr>
          <p:spPr>
            <a:xfrm flipH="1">
              <a:off x="8685000" y="5122800"/>
              <a:ext cx="3492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92" name=""/>
            <p:cNvSpPr/>
            <p:nvPr/>
          </p:nvSpPr>
          <p:spPr>
            <a:xfrm>
              <a:off x="5081400" y="503064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693" name=""/>
            <p:cNvSpPr/>
            <p:nvPr/>
          </p:nvSpPr>
          <p:spPr>
            <a:xfrm>
              <a:off x="5376960" y="4645080"/>
              <a:ext cx="349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694" name=""/>
            <p:cNvSpPr/>
            <p:nvPr/>
          </p:nvSpPr>
          <p:spPr>
            <a:xfrm flipH="1">
              <a:off x="8685000" y="4645080"/>
              <a:ext cx="349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695" name=""/>
            <p:cNvSpPr/>
            <p:nvPr/>
          </p:nvSpPr>
          <p:spPr>
            <a:xfrm>
              <a:off x="4918320" y="455436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696" name=""/>
            <p:cNvSpPr/>
            <p:nvPr/>
          </p:nvSpPr>
          <p:spPr>
            <a:xfrm>
              <a:off x="5376960" y="4181400"/>
              <a:ext cx="3492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97" name=""/>
            <p:cNvSpPr/>
            <p:nvPr/>
          </p:nvSpPr>
          <p:spPr>
            <a:xfrm flipH="1">
              <a:off x="8685000" y="4181400"/>
              <a:ext cx="3492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98" name=""/>
            <p:cNvSpPr/>
            <p:nvPr/>
          </p:nvSpPr>
          <p:spPr>
            <a:xfrm>
              <a:off x="5151600" y="40892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699" name=""/>
            <p:cNvSpPr/>
            <p:nvPr/>
          </p:nvSpPr>
          <p:spPr>
            <a:xfrm>
              <a:off x="5376960" y="3703680"/>
              <a:ext cx="349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00" name=""/>
            <p:cNvSpPr/>
            <p:nvPr/>
          </p:nvSpPr>
          <p:spPr>
            <a:xfrm flipH="1">
              <a:off x="8685000" y="3703680"/>
              <a:ext cx="349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01" name=""/>
            <p:cNvSpPr/>
            <p:nvPr/>
          </p:nvSpPr>
          <p:spPr>
            <a:xfrm>
              <a:off x="4988160" y="361332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702" name=""/>
            <p:cNvSpPr/>
            <p:nvPr/>
          </p:nvSpPr>
          <p:spPr>
            <a:xfrm>
              <a:off x="5376960" y="3227400"/>
              <a:ext cx="349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03" name=""/>
            <p:cNvSpPr/>
            <p:nvPr/>
          </p:nvSpPr>
          <p:spPr>
            <a:xfrm flipH="1">
              <a:off x="8685000" y="3227400"/>
              <a:ext cx="349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04" name=""/>
            <p:cNvSpPr/>
            <p:nvPr/>
          </p:nvSpPr>
          <p:spPr>
            <a:xfrm>
              <a:off x="5194440" y="31370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705" name=""/>
            <p:cNvSpPr/>
            <p:nvPr/>
          </p:nvSpPr>
          <p:spPr>
            <a:xfrm>
              <a:off x="5376960" y="2751120"/>
              <a:ext cx="349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06" name=""/>
            <p:cNvSpPr/>
            <p:nvPr/>
          </p:nvSpPr>
          <p:spPr>
            <a:xfrm flipH="1">
              <a:off x="8685000" y="2751120"/>
              <a:ext cx="349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07" name=""/>
            <p:cNvSpPr/>
            <p:nvPr/>
          </p:nvSpPr>
          <p:spPr>
            <a:xfrm>
              <a:off x="4988160" y="266076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708" name=""/>
            <p:cNvSpPr/>
            <p:nvPr/>
          </p:nvSpPr>
          <p:spPr>
            <a:xfrm flipV="1">
              <a:off x="5376960" y="2750760"/>
              <a:ext cx="1440" cy="284796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09" name=""/>
            <p:cNvSpPr/>
            <p:nvPr/>
          </p:nvSpPr>
          <p:spPr>
            <a:xfrm>
              <a:off x="7022520" y="5848200"/>
              <a:ext cx="109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k</a:t>
              </a:r>
              <a:endParaRPr b="0" lang="en-US" sz="1700" spc="-1" strike="noStrike">
                <a:solidFill>
                  <a:srgbClr val="333333"/>
                </a:solidFill>
                <a:latin typeface="Times New Roman"/>
              </a:endParaRPr>
            </a:p>
          </p:txBody>
        </p:sp>
        <p:sp>
          <p:nvSpPr>
            <p:cNvPr id="710" name=""/>
            <p:cNvSpPr/>
            <p:nvPr/>
          </p:nvSpPr>
          <p:spPr>
            <a:xfrm>
              <a:off x="5343480" y="5087880"/>
              <a:ext cx="79560" cy="79560"/>
            </a:xfrm>
            <a:prstGeom prst="ellipse">
              <a:avLst/>
            </a:prstGeom>
            <a:noFill/>
            <a:ln w="28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711" name=""/>
            <p:cNvSpPr/>
            <p:nvPr/>
          </p:nvSpPr>
          <p:spPr>
            <a:xfrm>
              <a:off x="5376960" y="5122800"/>
              <a:ext cx="12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12" name=""/>
            <p:cNvSpPr/>
            <p:nvPr/>
          </p:nvSpPr>
          <p:spPr>
            <a:xfrm>
              <a:off x="5343480" y="5087880"/>
              <a:ext cx="79560" cy="79560"/>
            </a:xfrm>
            <a:prstGeom prst="ellipse">
              <a:avLst/>
            </a:prstGeom>
            <a:noFill/>
            <a:ln w="28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713" name=""/>
            <p:cNvSpPr/>
            <p:nvPr/>
          </p:nvSpPr>
          <p:spPr>
            <a:xfrm>
              <a:off x="5468760" y="5087880"/>
              <a:ext cx="78120" cy="79560"/>
            </a:xfrm>
            <a:prstGeom prst="ellipse">
              <a:avLst/>
            </a:prstGeom>
            <a:noFill/>
            <a:ln w="28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714" name=""/>
            <p:cNvSpPr/>
            <p:nvPr/>
          </p:nvSpPr>
          <p:spPr>
            <a:xfrm>
              <a:off x="5376960" y="5122800"/>
              <a:ext cx="249120" cy="360"/>
            </a:xfrm>
            <a:custGeom>
              <a:avLst/>
              <a:gdLst/>
              <a:ahLst/>
              <a:rect l="l" t="t" r="r" b="b"/>
              <a:pathLst>
                <a:path w="249" h="0">
                  <a:moveTo>
                    <a:pt x="0" y="0"/>
                  </a:moveTo>
                  <a:lnTo>
                    <a:pt x="125" y="0"/>
                  </a:lnTo>
                  <a:lnTo>
                    <a:pt x="249" y="0"/>
                  </a:lnTo>
                </a:path>
              </a:pathLst>
            </a:custGeom>
            <a:noFill/>
            <a:ln w="28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333333"/>
                </a:solidFill>
                <a:latin typeface="Times New Roman"/>
              </a:endParaRPr>
            </a:p>
          </p:txBody>
        </p:sp>
        <p:sp>
          <p:nvSpPr>
            <p:cNvPr id="715" name=""/>
            <p:cNvSpPr/>
            <p:nvPr/>
          </p:nvSpPr>
          <p:spPr>
            <a:xfrm>
              <a:off x="5343480" y="5087880"/>
              <a:ext cx="79560" cy="79560"/>
            </a:xfrm>
            <a:prstGeom prst="ellipse">
              <a:avLst/>
            </a:prstGeom>
            <a:noFill/>
            <a:ln w="2844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716" name=""/>
            <p:cNvSpPr/>
            <p:nvPr/>
          </p:nvSpPr>
          <p:spPr>
            <a:xfrm>
              <a:off x="5468760" y="5087880"/>
              <a:ext cx="78120" cy="79560"/>
            </a:xfrm>
            <a:prstGeom prst="ellipse">
              <a:avLst/>
            </a:prstGeom>
            <a:noFill/>
            <a:ln w="2844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717" name=""/>
            <p:cNvSpPr/>
            <p:nvPr/>
          </p:nvSpPr>
          <p:spPr>
            <a:xfrm>
              <a:off x="5592600" y="5087880"/>
              <a:ext cx="79560" cy="79560"/>
            </a:xfrm>
            <a:prstGeom prst="ellipse">
              <a:avLst/>
            </a:prstGeom>
            <a:noFill/>
            <a:ln w="2844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718" name=""/>
            <p:cNvSpPr/>
            <p:nvPr/>
          </p:nvSpPr>
          <p:spPr>
            <a:xfrm>
              <a:off x="5373720" y="3230640"/>
              <a:ext cx="3348000" cy="0"/>
            </a:xfrm>
            <a:prstGeom prst="line">
              <a:avLst/>
            </a:prstGeom>
            <a:ln w="9360">
              <a:solidFill>
                <a:srgbClr val="6600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Fourth Step - </a:t>
            </a:r>
            <a:r>
              <a:rPr b="0" i="1" lang="en-US" sz="3600" spc="-1" strike="noStrike">
                <a:solidFill>
                  <a:srgbClr val="333333"/>
                </a:solidFill>
                <a:latin typeface="Times New Roman"/>
              </a:rPr>
              <a:t>Note that state has entered region in which input is no longer saturated</a:t>
            </a:r>
            <a:endParaRPr b="0" lang="en-US" sz="3600" spc="-1" strike="noStrike">
              <a:solidFill>
                <a:srgbClr val="6600cc"/>
              </a:solidFill>
              <a:latin typeface="Times New Roman"/>
            </a:endParaRPr>
          </a:p>
        </p:txBody>
      </p:sp>
      <p:sp>
        <p:nvSpPr>
          <p:cNvPr id="720" name=""/>
          <p:cNvSpPr/>
          <p:nvPr/>
        </p:nvSpPr>
        <p:spPr>
          <a:xfrm>
            <a:off x="1065240" y="2846520"/>
            <a:ext cx="3319560" cy="270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21" name=""/>
          <p:cNvSpPr/>
          <p:nvPr/>
        </p:nvSpPr>
        <p:spPr>
          <a:xfrm>
            <a:off x="1065240" y="2846520"/>
            <a:ext cx="3319560" cy="2700360"/>
          </a:xfrm>
          <a:prstGeom prst="rect">
            <a:avLst/>
          </a:prstGeom>
          <a:noFill/>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22" name=""/>
          <p:cNvSpPr/>
          <p:nvPr/>
        </p:nvSpPr>
        <p:spPr>
          <a:xfrm>
            <a:off x="1065240" y="2846520"/>
            <a:ext cx="33195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23" name=""/>
          <p:cNvSpPr/>
          <p:nvPr/>
        </p:nvSpPr>
        <p:spPr>
          <a:xfrm>
            <a:off x="1065240" y="5546880"/>
            <a:ext cx="33195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24" name=""/>
          <p:cNvSpPr/>
          <p:nvPr/>
        </p:nvSpPr>
        <p:spPr>
          <a:xfrm flipV="1">
            <a:off x="1065240" y="2846160"/>
            <a:ext cx="0" cy="270036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25" name=""/>
          <p:cNvSpPr/>
          <p:nvPr/>
        </p:nvSpPr>
        <p:spPr>
          <a:xfrm>
            <a:off x="1065240" y="5546880"/>
            <a:ext cx="33195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26" name=""/>
          <p:cNvSpPr/>
          <p:nvPr/>
        </p:nvSpPr>
        <p:spPr>
          <a:xfrm flipV="1">
            <a:off x="1065240" y="2846160"/>
            <a:ext cx="0" cy="270036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27" name=""/>
          <p:cNvSpPr/>
          <p:nvPr/>
        </p:nvSpPr>
        <p:spPr>
          <a:xfrm flipV="1">
            <a:off x="1065240" y="5511600"/>
            <a:ext cx="0" cy="34920"/>
          </a:xfrm>
          <a:prstGeom prst="line">
            <a:avLst/>
          </a:prstGeom>
          <a:ln w="1584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728" name=""/>
          <p:cNvSpPr/>
          <p:nvPr/>
        </p:nvSpPr>
        <p:spPr>
          <a:xfrm>
            <a:off x="1065240" y="2846520"/>
            <a:ext cx="0" cy="37800"/>
          </a:xfrm>
          <a:prstGeom prst="line">
            <a:avLst/>
          </a:prstGeom>
          <a:ln w="15840">
            <a:solidFill>
              <a:srgbClr val="004c2b"/>
            </a:solidFill>
            <a:miter/>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729" name=""/>
          <p:cNvSpPr/>
          <p:nvPr/>
        </p:nvSpPr>
        <p:spPr>
          <a:xfrm>
            <a:off x="990360" y="558468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730" name=""/>
          <p:cNvSpPr/>
          <p:nvPr/>
        </p:nvSpPr>
        <p:spPr>
          <a:xfrm flipV="1">
            <a:off x="1900080" y="5511600"/>
            <a:ext cx="1800" cy="34920"/>
          </a:xfrm>
          <a:prstGeom prst="line">
            <a:avLst/>
          </a:prstGeom>
          <a:ln w="1584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731" name=""/>
          <p:cNvSpPr/>
          <p:nvPr/>
        </p:nvSpPr>
        <p:spPr>
          <a:xfrm>
            <a:off x="1900080" y="2846520"/>
            <a:ext cx="1800" cy="37800"/>
          </a:xfrm>
          <a:prstGeom prst="line">
            <a:avLst/>
          </a:prstGeom>
          <a:ln w="15840">
            <a:solidFill>
              <a:srgbClr val="004c2b"/>
            </a:solidFill>
            <a:miter/>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732" name=""/>
          <p:cNvSpPr/>
          <p:nvPr/>
        </p:nvSpPr>
        <p:spPr>
          <a:xfrm>
            <a:off x="1825560" y="558468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733" name=""/>
          <p:cNvSpPr/>
          <p:nvPr/>
        </p:nvSpPr>
        <p:spPr>
          <a:xfrm flipV="1">
            <a:off x="2724120" y="5511600"/>
            <a:ext cx="0" cy="34920"/>
          </a:xfrm>
          <a:prstGeom prst="line">
            <a:avLst/>
          </a:prstGeom>
          <a:ln w="1584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734" name=""/>
          <p:cNvSpPr/>
          <p:nvPr/>
        </p:nvSpPr>
        <p:spPr>
          <a:xfrm>
            <a:off x="2724120" y="2846520"/>
            <a:ext cx="0" cy="37800"/>
          </a:xfrm>
          <a:prstGeom prst="line">
            <a:avLst/>
          </a:prstGeom>
          <a:ln w="15840">
            <a:solidFill>
              <a:srgbClr val="004c2b"/>
            </a:solidFill>
            <a:miter/>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735" name=""/>
          <p:cNvSpPr/>
          <p:nvPr/>
        </p:nvSpPr>
        <p:spPr>
          <a:xfrm>
            <a:off x="2701800" y="55846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736" name=""/>
          <p:cNvSpPr/>
          <p:nvPr/>
        </p:nvSpPr>
        <p:spPr>
          <a:xfrm flipV="1">
            <a:off x="3559320" y="5511600"/>
            <a:ext cx="1440" cy="34920"/>
          </a:xfrm>
          <a:prstGeom prst="line">
            <a:avLst/>
          </a:prstGeom>
          <a:ln w="1584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737" name=""/>
          <p:cNvSpPr/>
          <p:nvPr/>
        </p:nvSpPr>
        <p:spPr>
          <a:xfrm>
            <a:off x="3559320" y="2846520"/>
            <a:ext cx="1440" cy="37800"/>
          </a:xfrm>
          <a:prstGeom prst="line">
            <a:avLst/>
          </a:prstGeom>
          <a:ln w="15840">
            <a:solidFill>
              <a:srgbClr val="004c2b"/>
            </a:solidFill>
            <a:miter/>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738" name=""/>
          <p:cNvSpPr/>
          <p:nvPr/>
        </p:nvSpPr>
        <p:spPr>
          <a:xfrm>
            <a:off x="3535200" y="55846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739" name=""/>
          <p:cNvSpPr/>
          <p:nvPr/>
        </p:nvSpPr>
        <p:spPr>
          <a:xfrm flipV="1">
            <a:off x="4384800" y="5511600"/>
            <a:ext cx="0" cy="34920"/>
          </a:xfrm>
          <a:prstGeom prst="line">
            <a:avLst/>
          </a:prstGeom>
          <a:ln w="1584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740" name=""/>
          <p:cNvSpPr/>
          <p:nvPr/>
        </p:nvSpPr>
        <p:spPr>
          <a:xfrm>
            <a:off x="4384800" y="2846520"/>
            <a:ext cx="0" cy="37800"/>
          </a:xfrm>
          <a:prstGeom prst="line">
            <a:avLst/>
          </a:prstGeom>
          <a:ln w="15840">
            <a:solidFill>
              <a:srgbClr val="004c2b"/>
            </a:solidFill>
            <a:miter/>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741" name=""/>
          <p:cNvSpPr/>
          <p:nvPr/>
        </p:nvSpPr>
        <p:spPr>
          <a:xfrm>
            <a:off x="4361040" y="55846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742" name=""/>
          <p:cNvSpPr/>
          <p:nvPr/>
        </p:nvSpPr>
        <p:spPr>
          <a:xfrm>
            <a:off x="1065240" y="5546880"/>
            <a:ext cx="363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43" name=""/>
          <p:cNvSpPr/>
          <p:nvPr/>
        </p:nvSpPr>
        <p:spPr>
          <a:xfrm flipH="1">
            <a:off x="4346640" y="554688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44" name=""/>
          <p:cNvSpPr/>
          <p:nvPr/>
        </p:nvSpPr>
        <p:spPr>
          <a:xfrm>
            <a:off x="588960" y="547524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745" name=""/>
          <p:cNvSpPr/>
          <p:nvPr/>
        </p:nvSpPr>
        <p:spPr>
          <a:xfrm>
            <a:off x="1065240" y="5102280"/>
            <a:ext cx="363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46" name=""/>
          <p:cNvSpPr/>
          <p:nvPr/>
        </p:nvSpPr>
        <p:spPr>
          <a:xfrm flipH="1">
            <a:off x="4346640" y="510228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47" name=""/>
          <p:cNvSpPr/>
          <p:nvPr/>
        </p:nvSpPr>
        <p:spPr>
          <a:xfrm>
            <a:off x="734760" y="502920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748" name=""/>
          <p:cNvSpPr/>
          <p:nvPr/>
        </p:nvSpPr>
        <p:spPr>
          <a:xfrm>
            <a:off x="1065240" y="4648320"/>
            <a:ext cx="363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49" name=""/>
          <p:cNvSpPr/>
          <p:nvPr/>
        </p:nvSpPr>
        <p:spPr>
          <a:xfrm flipH="1">
            <a:off x="4346640" y="464832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50" name=""/>
          <p:cNvSpPr/>
          <p:nvPr/>
        </p:nvSpPr>
        <p:spPr>
          <a:xfrm>
            <a:off x="588960" y="457344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751" name=""/>
          <p:cNvSpPr/>
          <p:nvPr/>
        </p:nvSpPr>
        <p:spPr>
          <a:xfrm>
            <a:off x="1065240" y="4202280"/>
            <a:ext cx="363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52" name=""/>
          <p:cNvSpPr/>
          <p:nvPr/>
        </p:nvSpPr>
        <p:spPr>
          <a:xfrm flipH="1">
            <a:off x="4346640" y="420228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53" name=""/>
          <p:cNvSpPr/>
          <p:nvPr/>
        </p:nvSpPr>
        <p:spPr>
          <a:xfrm>
            <a:off x="793800" y="41292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754" name=""/>
          <p:cNvSpPr/>
          <p:nvPr/>
        </p:nvSpPr>
        <p:spPr>
          <a:xfrm>
            <a:off x="1065240" y="3747960"/>
            <a:ext cx="363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755" name=""/>
          <p:cNvSpPr/>
          <p:nvPr/>
        </p:nvSpPr>
        <p:spPr>
          <a:xfrm flipH="1">
            <a:off x="4346640" y="3747960"/>
            <a:ext cx="381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756" name=""/>
          <p:cNvSpPr/>
          <p:nvPr/>
        </p:nvSpPr>
        <p:spPr>
          <a:xfrm>
            <a:off x="648000" y="367344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757" name=""/>
          <p:cNvSpPr/>
          <p:nvPr/>
        </p:nvSpPr>
        <p:spPr>
          <a:xfrm>
            <a:off x="1065240" y="3301920"/>
            <a:ext cx="363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758" name=""/>
          <p:cNvSpPr/>
          <p:nvPr/>
        </p:nvSpPr>
        <p:spPr>
          <a:xfrm flipH="1">
            <a:off x="4346640" y="3301920"/>
            <a:ext cx="38160" cy="1800"/>
          </a:xfrm>
          <a:prstGeom prst="line">
            <a:avLst/>
          </a:prstGeom>
          <a:ln w="158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759" name=""/>
          <p:cNvSpPr/>
          <p:nvPr/>
        </p:nvSpPr>
        <p:spPr>
          <a:xfrm>
            <a:off x="793800" y="32274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760" name=""/>
          <p:cNvSpPr/>
          <p:nvPr/>
        </p:nvSpPr>
        <p:spPr>
          <a:xfrm>
            <a:off x="1065240" y="2846520"/>
            <a:ext cx="363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61" name=""/>
          <p:cNvSpPr/>
          <p:nvPr/>
        </p:nvSpPr>
        <p:spPr>
          <a:xfrm flipH="1">
            <a:off x="4346640" y="2846520"/>
            <a:ext cx="381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62" name=""/>
          <p:cNvSpPr/>
          <p:nvPr/>
        </p:nvSpPr>
        <p:spPr>
          <a:xfrm>
            <a:off x="648000" y="277344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763" name=""/>
          <p:cNvSpPr/>
          <p:nvPr/>
        </p:nvSpPr>
        <p:spPr>
          <a:xfrm>
            <a:off x="1065240" y="2846520"/>
            <a:ext cx="33195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64" name=""/>
          <p:cNvSpPr/>
          <p:nvPr/>
        </p:nvSpPr>
        <p:spPr>
          <a:xfrm>
            <a:off x="1065240" y="5546880"/>
            <a:ext cx="3319560" cy="1440"/>
          </a:xfrm>
          <a:prstGeom prst="line">
            <a:avLst/>
          </a:prstGeom>
          <a:ln w="158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765" name=""/>
          <p:cNvSpPr/>
          <p:nvPr/>
        </p:nvSpPr>
        <p:spPr>
          <a:xfrm flipV="1">
            <a:off x="1065240" y="2846160"/>
            <a:ext cx="0" cy="2700360"/>
          </a:xfrm>
          <a:prstGeom prst="line">
            <a:avLst/>
          </a:prstGeom>
          <a:ln w="158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66" name=""/>
          <p:cNvSpPr/>
          <p:nvPr/>
        </p:nvSpPr>
        <p:spPr>
          <a:xfrm>
            <a:off x="3560760" y="2835360"/>
            <a:ext cx="568440" cy="2719440"/>
          </a:xfrm>
          <a:custGeom>
            <a:avLst/>
            <a:gdLst/>
            <a:ahLst/>
            <a:rect l="l" t="t" r="r" b="b"/>
            <a:pathLst>
              <a:path w="1357" h="6475">
                <a:moveTo>
                  <a:pt x="0" y="0"/>
                </a:moveTo>
                <a:lnTo>
                  <a:pt x="30" y="157"/>
                </a:lnTo>
                <a:lnTo>
                  <a:pt x="79" y="364"/>
                </a:lnTo>
                <a:lnTo>
                  <a:pt x="118" y="581"/>
                </a:lnTo>
                <a:lnTo>
                  <a:pt x="168" y="787"/>
                </a:lnTo>
                <a:lnTo>
                  <a:pt x="207" y="984"/>
                </a:lnTo>
                <a:lnTo>
                  <a:pt x="256" y="1191"/>
                </a:lnTo>
                <a:lnTo>
                  <a:pt x="295" y="1407"/>
                </a:lnTo>
                <a:lnTo>
                  <a:pt x="335" y="1614"/>
                </a:lnTo>
                <a:lnTo>
                  <a:pt x="384" y="1820"/>
                </a:lnTo>
                <a:lnTo>
                  <a:pt x="423" y="2037"/>
                </a:lnTo>
                <a:lnTo>
                  <a:pt x="472" y="2244"/>
                </a:lnTo>
                <a:lnTo>
                  <a:pt x="512" y="2450"/>
                </a:lnTo>
                <a:lnTo>
                  <a:pt x="561" y="2657"/>
                </a:lnTo>
                <a:lnTo>
                  <a:pt x="600" y="2873"/>
                </a:lnTo>
                <a:lnTo>
                  <a:pt x="649" y="3080"/>
                </a:lnTo>
                <a:lnTo>
                  <a:pt x="689" y="3287"/>
                </a:lnTo>
                <a:lnTo>
                  <a:pt x="738" y="3493"/>
                </a:lnTo>
                <a:lnTo>
                  <a:pt x="777" y="3710"/>
                </a:lnTo>
                <a:lnTo>
                  <a:pt x="826" y="3916"/>
                </a:lnTo>
                <a:lnTo>
                  <a:pt x="866" y="4123"/>
                </a:lnTo>
                <a:lnTo>
                  <a:pt x="915" y="4330"/>
                </a:lnTo>
                <a:lnTo>
                  <a:pt x="954" y="4546"/>
                </a:lnTo>
                <a:lnTo>
                  <a:pt x="1003" y="4753"/>
                </a:lnTo>
                <a:lnTo>
                  <a:pt x="1043" y="4960"/>
                </a:lnTo>
                <a:lnTo>
                  <a:pt x="1092" y="5166"/>
                </a:lnTo>
                <a:lnTo>
                  <a:pt x="1131" y="5383"/>
                </a:lnTo>
                <a:lnTo>
                  <a:pt x="1171" y="5589"/>
                </a:lnTo>
                <a:lnTo>
                  <a:pt x="1220" y="5796"/>
                </a:lnTo>
                <a:lnTo>
                  <a:pt x="1259" y="6003"/>
                </a:lnTo>
                <a:lnTo>
                  <a:pt x="1308" y="6219"/>
                </a:lnTo>
                <a:lnTo>
                  <a:pt x="1348" y="6426"/>
                </a:lnTo>
                <a:lnTo>
                  <a:pt x="1357" y="6475"/>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67" name=""/>
          <p:cNvSpPr/>
          <p:nvPr/>
        </p:nvSpPr>
        <p:spPr>
          <a:xfrm>
            <a:off x="2641320" y="575136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x1</a:t>
            </a:r>
            <a:endParaRPr b="0" lang="en-US" sz="1700" spc="-1" strike="noStrike">
              <a:solidFill>
                <a:srgbClr val="333333"/>
              </a:solidFill>
              <a:latin typeface="Times New Roman"/>
            </a:endParaRPr>
          </a:p>
        </p:txBody>
      </p:sp>
      <p:sp>
        <p:nvSpPr>
          <p:cNvPr id="768" name=""/>
          <p:cNvSpPr/>
          <p:nvPr/>
        </p:nvSpPr>
        <p:spPr>
          <a:xfrm>
            <a:off x="1316160" y="2835360"/>
            <a:ext cx="569880" cy="2717640"/>
          </a:xfrm>
          <a:custGeom>
            <a:avLst/>
            <a:gdLst/>
            <a:ahLst/>
            <a:rect l="l" t="t" r="r" b="b"/>
            <a:pathLst>
              <a:path w="1357" h="6475">
                <a:moveTo>
                  <a:pt x="0" y="0"/>
                </a:moveTo>
                <a:lnTo>
                  <a:pt x="29" y="187"/>
                </a:lnTo>
                <a:lnTo>
                  <a:pt x="78" y="394"/>
                </a:lnTo>
                <a:lnTo>
                  <a:pt x="118" y="600"/>
                </a:lnTo>
                <a:lnTo>
                  <a:pt x="167" y="807"/>
                </a:lnTo>
                <a:lnTo>
                  <a:pt x="206" y="1014"/>
                </a:lnTo>
                <a:lnTo>
                  <a:pt x="255" y="1220"/>
                </a:lnTo>
                <a:lnTo>
                  <a:pt x="295" y="1427"/>
                </a:lnTo>
                <a:lnTo>
                  <a:pt x="344" y="1633"/>
                </a:lnTo>
                <a:lnTo>
                  <a:pt x="383" y="1850"/>
                </a:lnTo>
                <a:lnTo>
                  <a:pt x="432" y="2057"/>
                </a:lnTo>
                <a:lnTo>
                  <a:pt x="472" y="2263"/>
                </a:lnTo>
                <a:lnTo>
                  <a:pt x="521" y="2470"/>
                </a:lnTo>
                <a:lnTo>
                  <a:pt x="560" y="2686"/>
                </a:lnTo>
                <a:lnTo>
                  <a:pt x="609" y="2893"/>
                </a:lnTo>
                <a:lnTo>
                  <a:pt x="649" y="3100"/>
                </a:lnTo>
                <a:lnTo>
                  <a:pt x="698" y="3306"/>
                </a:lnTo>
                <a:lnTo>
                  <a:pt x="737" y="3523"/>
                </a:lnTo>
                <a:lnTo>
                  <a:pt x="786" y="3729"/>
                </a:lnTo>
                <a:lnTo>
                  <a:pt x="826" y="3936"/>
                </a:lnTo>
                <a:lnTo>
                  <a:pt x="875" y="4153"/>
                </a:lnTo>
                <a:lnTo>
                  <a:pt x="914" y="4359"/>
                </a:lnTo>
                <a:lnTo>
                  <a:pt x="954" y="4566"/>
                </a:lnTo>
                <a:lnTo>
                  <a:pt x="1003" y="4773"/>
                </a:lnTo>
                <a:lnTo>
                  <a:pt x="1042" y="4989"/>
                </a:lnTo>
                <a:lnTo>
                  <a:pt x="1091" y="5196"/>
                </a:lnTo>
                <a:lnTo>
                  <a:pt x="1131" y="5402"/>
                </a:lnTo>
                <a:lnTo>
                  <a:pt x="1180" y="5609"/>
                </a:lnTo>
                <a:lnTo>
                  <a:pt x="1219" y="5826"/>
                </a:lnTo>
                <a:lnTo>
                  <a:pt x="1268" y="6032"/>
                </a:lnTo>
                <a:lnTo>
                  <a:pt x="1308" y="6239"/>
                </a:lnTo>
                <a:lnTo>
                  <a:pt x="1357" y="6445"/>
                </a:lnTo>
                <a:lnTo>
                  <a:pt x="1357" y="6475"/>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69" name=""/>
          <p:cNvSpPr/>
          <p:nvPr/>
        </p:nvSpPr>
        <p:spPr>
          <a:xfrm>
            <a:off x="2390760" y="2825640"/>
            <a:ext cx="1523880" cy="2735280"/>
          </a:xfrm>
          <a:custGeom>
            <a:avLst/>
            <a:gdLst/>
            <a:ahLst/>
            <a:rect l="l" t="t" r="r" b="b"/>
            <a:pathLst>
              <a:path w="3608" h="6475">
                <a:moveTo>
                  <a:pt x="0" y="0"/>
                </a:moveTo>
                <a:lnTo>
                  <a:pt x="19" y="39"/>
                </a:lnTo>
                <a:lnTo>
                  <a:pt x="68" y="118"/>
                </a:lnTo>
                <a:lnTo>
                  <a:pt x="108" y="197"/>
                </a:lnTo>
                <a:lnTo>
                  <a:pt x="157" y="275"/>
                </a:lnTo>
                <a:lnTo>
                  <a:pt x="196" y="354"/>
                </a:lnTo>
                <a:lnTo>
                  <a:pt x="236" y="433"/>
                </a:lnTo>
                <a:lnTo>
                  <a:pt x="285" y="512"/>
                </a:lnTo>
                <a:lnTo>
                  <a:pt x="324" y="590"/>
                </a:lnTo>
                <a:lnTo>
                  <a:pt x="373" y="669"/>
                </a:lnTo>
                <a:lnTo>
                  <a:pt x="413" y="748"/>
                </a:lnTo>
                <a:lnTo>
                  <a:pt x="462" y="827"/>
                </a:lnTo>
                <a:lnTo>
                  <a:pt x="501" y="905"/>
                </a:lnTo>
                <a:lnTo>
                  <a:pt x="550" y="984"/>
                </a:lnTo>
                <a:lnTo>
                  <a:pt x="590" y="1053"/>
                </a:lnTo>
                <a:lnTo>
                  <a:pt x="639" y="1132"/>
                </a:lnTo>
                <a:lnTo>
                  <a:pt x="678" y="1210"/>
                </a:lnTo>
                <a:lnTo>
                  <a:pt x="727" y="1289"/>
                </a:lnTo>
                <a:lnTo>
                  <a:pt x="767" y="1368"/>
                </a:lnTo>
                <a:lnTo>
                  <a:pt x="816" y="1447"/>
                </a:lnTo>
                <a:lnTo>
                  <a:pt x="855" y="1525"/>
                </a:lnTo>
                <a:lnTo>
                  <a:pt x="904" y="1604"/>
                </a:lnTo>
                <a:lnTo>
                  <a:pt x="944" y="1683"/>
                </a:lnTo>
                <a:lnTo>
                  <a:pt x="993" y="1761"/>
                </a:lnTo>
                <a:lnTo>
                  <a:pt x="1032" y="1840"/>
                </a:lnTo>
                <a:lnTo>
                  <a:pt x="1071" y="1919"/>
                </a:lnTo>
                <a:lnTo>
                  <a:pt x="1121" y="1998"/>
                </a:lnTo>
                <a:lnTo>
                  <a:pt x="1160" y="2076"/>
                </a:lnTo>
                <a:lnTo>
                  <a:pt x="1209" y="2155"/>
                </a:lnTo>
                <a:lnTo>
                  <a:pt x="1248" y="2234"/>
                </a:lnTo>
                <a:lnTo>
                  <a:pt x="1298" y="2312"/>
                </a:lnTo>
                <a:lnTo>
                  <a:pt x="1337" y="2391"/>
                </a:lnTo>
                <a:lnTo>
                  <a:pt x="1386" y="2470"/>
                </a:lnTo>
                <a:lnTo>
                  <a:pt x="1425" y="2549"/>
                </a:lnTo>
                <a:lnTo>
                  <a:pt x="1475" y="2627"/>
                </a:lnTo>
                <a:lnTo>
                  <a:pt x="1514" y="2706"/>
                </a:lnTo>
                <a:lnTo>
                  <a:pt x="1563" y="2785"/>
                </a:lnTo>
                <a:lnTo>
                  <a:pt x="1602" y="2873"/>
                </a:lnTo>
                <a:lnTo>
                  <a:pt x="1652" y="2952"/>
                </a:lnTo>
                <a:lnTo>
                  <a:pt x="1691" y="3031"/>
                </a:lnTo>
                <a:lnTo>
                  <a:pt x="1740" y="3110"/>
                </a:lnTo>
                <a:lnTo>
                  <a:pt x="1779" y="3188"/>
                </a:lnTo>
                <a:lnTo>
                  <a:pt x="1829" y="3267"/>
                </a:lnTo>
                <a:lnTo>
                  <a:pt x="1868" y="3346"/>
                </a:lnTo>
                <a:lnTo>
                  <a:pt x="1917" y="3424"/>
                </a:lnTo>
                <a:lnTo>
                  <a:pt x="1956" y="3503"/>
                </a:lnTo>
                <a:lnTo>
                  <a:pt x="1996" y="3582"/>
                </a:lnTo>
                <a:lnTo>
                  <a:pt x="2045" y="3661"/>
                </a:lnTo>
                <a:lnTo>
                  <a:pt x="2084" y="3739"/>
                </a:lnTo>
                <a:lnTo>
                  <a:pt x="2133" y="3818"/>
                </a:lnTo>
                <a:lnTo>
                  <a:pt x="2173" y="3897"/>
                </a:lnTo>
                <a:lnTo>
                  <a:pt x="2222" y="3975"/>
                </a:lnTo>
                <a:lnTo>
                  <a:pt x="2261" y="4054"/>
                </a:lnTo>
                <a:lnTo>
                  <a:pt x="2310" y="4133"/>
                </a:lnTo>
                <a:lnTo>
                  <a:pt x="2350" y="4212"/>
                </a:lnTo>
                <a:lnTo>
                  <a:pt x="2399" y="4290"/>
                </a:lnTo>
                <a:lnTo>
                  <a:pt x="2438" y="4369"/>
                </a:lnTo>
                <a:lnTo>
                  <a:pt x="2487" y="4448"/>
                </a:lnTo>
                <a:lnTo>
                  <a:pt x="2527" y="4527"/>
                </a:lnTo>
                <a:lnTo>
                  <a:pt x="2576" y="4605"/>
                </a:lnTo>
                <a:lnTo>
                  <a:pt x="2615" y="4684"/>
                </a:lnTo>
                <a:lnTo>
                  <a:pt x="2664" y="4763"/>
                </a:lnTo>
                <a:lnTo>
                  <a:pt x="2704" y="4841"/>
                </a:lnTo>
                <a:lnTo>
                  <a:pt x="2753" y="4920"/>
                </a:lnTo>
                <a:lnTo>
                  <a:pt x="2792" y="4999"/>
                </a:lnTo>
                <a:lnTo>
                  <a:pt x="2832" y="5078"/>
                </a:lnTo>
                <a:lnTo>
                  <a:pt x="2881" y="5156"/>
                </a:lnTo>
                <a:lnTo>
                  <a:pt x="2920" y="5235"/>
                </a:lnTo>
                <a:lnTo>
                  <a:pt x="2969" y="5314"/>
                </a:lnTo>
                <a:lnTo>
                  <a:pt x="3009" y="5393"/>
                </a:lnTo>
                <a:lnTo>
                  <a:pt x="3058" y="5471"/>
                </a:lnTo>
                <a:lnTo>
                  <a:pt x="3097" y="5550"/>
                </a:lnTo>
                <a:lnTo>
                  <a:pt x="3146" y="5629"/>
                </a:lnTo>
                <a:lnTo>
                  <a:pt x="3185" y="5707"/>
                </a:lnTo>
                <a:lnTo>
                  <a:pt x="3235" y="5786"/>
                </a:lnTo>
                <a:lnTo>
                  <a:pt x="3274" y="5875"/>
                </a:lnTo>
                <a:lnTo>
                  <a:pt x="3323" y="5953"/>
                </a:lnTo>
                <a:lnTo>
                  <a:pt x="3362" y="6032"/>
                </a:lnTo>
                <a:lnTo>
                  <a:pt x="3412" y="6111"/>
                </a:lnTo>
                <a:lnTo>
                  <a:pt x="3451" y="6190"/>
                </a:lnTo>
                <a:lnTo>
                  <a:pt x="3500" y="6268"/>
                </a:lnTo>
                <a:lnTo>
                  <a:pt x="3539" y="6347"/>
                </a:lnTo>
                <a:lnTo>
                  <a:pt x="3589" y="6426"/>
                </a:lnTo>
                <a:lnTo>
                  <a:pt x="3608" y="6475"/>
                </a:lnTo>
              </a:path>
            </a:pathLst>
          </a:custGeom>
          <a:noFill/>
          <a:ln w="158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70" name=""/>
          <p:cNvSpPr/>
          <p:nvPr/>
        </p:nvSpPr>
        <p:spPr>
          <a:xfrm>
            <a:off x="1530360" y="2846520"/>
            <a:ext cx="1508040" cy="2706480"/>
          </a:xfrm>
          <a:custGeom>
            <a:avLst/>
            <a:gdLst/>
            <a:ahLst/>
            <a:rect l="l" t="t" r="r" b="b"/>
            <a:pathLst>
              <a:path w="3609" h="6475">
                <a:moveTo>
                  <a:pt x="0" y="0"/>
                </a:moveTo>
                <a:lnTo>
                  <a:pt x="20" y="39"/>
                </a:lnTo>
                <a:lnTo>
                  <a:pt x="69" y="118"/>
                </a:lnTo>
                <a:lnTo>
                  <a:pt x="108" y="197"/>
                </a:lnTo>
                <a:lnTo>
                  <a:pt x="158" y="275"/>
                </a:lnTo>
                <a:lnTo>
                  <a:pt x="197" y="354"/>
                </a:lnTo>
                <a:lnTo>
                  <a:pt x="236" y="433"/>
                </a:lnTo>
                <a:lnTo>
                  <a:pt x="285" y="512"/>
                </a:lnTo>
                <a:lnTo>
                  <a:pt x="325" y="590"/>
                </a:lnTo>
                <a:lnTo>
                  <a:pt x="374" y="669"/>
                </a:lnTo>
                <a:lnTo>
                  <a:pt x="413" y="748"/>
                </a:lnTo>
                <a:lnTo>
                  <a:pt x="462" y="827"/>
                </a:lnTo>
                <a:lnTo>
                  <a:pt x="502" y="905"/>
                </a:lnTo>
                <a:lnTo>
                  <a:pt x="551" y="984"/>
                </a:lnTo>
                <a:lnTo>
                  <a:pt x="590" y="1053"/>
                </a:lnTo>
                <a:lnTo>
                  <a:pt x="639" y="1132"/>
                </a:lnTo>
                <a:lnTo>
                  <a:pt x="679" y="1210"/>
                </a:lnTo>
                <a:lnTo>
                  <a:pt x="728" y="1289"/>
                </a:lnTo>
                <a:lnTo>
                  <a:pt x="767" y="1368"/>
                </a:lnTo>
                <a:lnTo>
                  <a:pt x="816" y="1447"/>
                </a:lnTo>
                <a:lnTo>
                  <a:pt x="856" y="1525"/>
                </a:lnTo>
                <a:lnTo>
                  <a:pt x="905" y="1604"/>
                </a:lnTo>
                <a:lnTo>
                  <a:pt x="944" y="1683"/>
                </a:lnTo>
                <a:lnTo>
                  <a:pt x="993" y="1761"/>
                </a:lnTo>
                <a:lnTo>
                  <a:pt x="1033" y="1840"/>
                </a:lnTo>
                <a:lnTo>
                  <a:pt x="1082" y="1919"/>
                </a:lnTo>
                <a:lnTo>
                  <a:pt x="1121" y="1998"/>
                </a:lnTo>
                <a:lnTo>
                  <a:pt x="1161" y="2076"/>
                </a:lnTo>
                <a:lnTo>
                  <a:pt x="1210" y="2155"/>
                </a:lnTo>
                <a:lnTo>
                  <a:pt x="1249" y="2234"/>
                </a:lnTo>
                <a:lnTo>
                  <a:pt x="1298" y="2312"/>
                </a:lnTo>
                <a:lnTo>
                  <a:pt x="1338" y="2391"/>
                </a:lnTo>
                <a:lnTo>
                  <a:pt x="1387" y="2470"/>
                </a:lnTo>
                <a:lnTo>
                  <a:pt x="1426" y="2558"/>
                </a:lnTo>
                <a:lnTo>
                  <a:pt x="1475" y="2637"/>
                </a:lnTo>
                <a:lnTo>
                  <a:pt x="1515" y="2716"/>
                </a:lnTo>
                <a:lnTo>
                  <a:pt x="1564" y="2795"/>
                </a:lnTo>
                <a:lnTo>
                  <a:pt x="1603" y="2873"/>
                </a:lnTo>
                <a:lnTo>
                  <a:pt x="1652" y="2952"/>
                </a:lnTo>
                <a:lnTo>
                  <a:pt x="1692" y="3031"/>
                </a:lnTo>
                <a:lnTo>
                  <a:pt x="1741" y="3110"/>
                </a:lnTo>
                <a:lnTo>
                  <a:pt x="1780" y="3188"/>
                </a:lnTo>
                <a:lnTo>
                  <a:pt x="1829" y="3267"/>
                </a:lnTo>
                <a:lnTo>
                  <a:pt x="1869" y="3346"/>
                </a:lnTo>
                <a:lnTo>
                  <a:pt x="1918" y="3424"/>
                </a:lnTo>
                <a:lnTo>
                  <a:pt x="1957" y="3503"/>
                </a:lnTo>
                <a:lnTo>
                  <a:pt x="1996" y="3582"/>
                </a:lnTo>
                <a:lnTo>
                  <a:pt x="2046" y="3661"/>
                </a:lnTo>
                <a:lnTo>
                  <a:pt x="2085" y="3739"/>
                </a:lnTo>
                <a:lnTo>
                  <a:pt x="2134" y="3818"/>
                </a:lnTo>
                <a:lnTo>
                  <a:pt x="2173" y="3897"/>
                </a:lnTo>
                <a:lnTo>
                  <a:pt x="2223" y="3975"/>
                </a:lnTo>
                <a:lnTo>
                  <a:pt x="2262" y="4054"/>
                </a:lnTo>
                <a:lnTo>
                  <a:pt x="2311" y="4133"/>
                </a:lnTo>
                <a:lnTo>
                  <a:pt x="2350" y="4212"/>
                </a:lnTo>
                <a:lnTo>
                  <a:pt x="2400" y="4290"/>
                </a:lnTo>
                <a:lnTo>
                  <a:pt x="2439" y="4369"/>
                </a:lnTo>
                <a:lnTo>
                  <a:pt x="2488" y="4448"/>
                </a:lnTo>
                <a:lnTo>
                  <a:pt x="2527" y="4527"/>
                </a:lnTo>
                <a:lnTo>
                  <a:pt x="2577" y="4605"/>
                </a:lnTo>
                <a:lnTo>
                  <a:pt x="2616" y="4684"/>
                </a:lnTo>
                <a:lnTo>
                  <a:pt x="2665" y="4763"/>
                </a:lnTo>
                <a:lnTo>
                  <a:pt x="2704" y="4841"/>
                </a:lnTo>
                <a:lnTo>
                  <a:pt x="2754" y="4920"/>
                </a:lnTo>
                <a:lnTo>
                  <a:pt x="2793" y="4999"/>
                </a:lnTo>
                <a:lnTo>
                  <a:pt x="2842" y="5078"/>
                </a:lnTo>
                <a:lnTo>
                  <a:pt x="2881" y="5156"/>
                </a:lnTo>
                <a:lnTo>
                  <a:pt x="2921" y="5235"/>
                </a:lnTo>
                <a:lnTo>
                  <a:pt x="2970" y="5314"/>
                </a:lnTo>
                <a:lnTo>
                  <a:pt x="3009" y="5393"/>
                </a:lnTo>
                <a:lnTo>
                  <a:pt x="3058" y="5481"/>
                </a:lnTo>
                <a:lnTo>
                  <a:pt x="3098" y="5560"/>
                </a:lnTo>
                <a:lnTo>
                  <a:pt x="3147" y="5639"/>
                </a:lnTo>
                <a:lnTo>
                  <a:pt x="3186" y="5717"/>
                </a:lnTo>
                <a:lnTo>
                  <a:pt x="3235" y="5796"/>
                </a:lnTo>
                <a:lnTo>
                  <a:pt x="3275" y="5875"/>
                </a:lnTo>
                <a:lnTo>
                  <a:pt x="3324" y="5953"/>
                </a:lnTo>
                <a:lnTo>
                  <a:pt x="3363" y="6032"/>
                </a:lnTo>
                <a:lnTo>
                  <a:pt x="3412" y="6111"/>
                </a:lnTo>
                <a:lnTo>
                  <a:pt x="3452" y="6190"/>
                </a:lnTo>
                <a:lnTo>
                  <a:pt x="3501" y="6268"/>
                </a:lnTo>
                <a:lnTo>
                  <a:pt x="3540" y="6347"/>
                </a:lnTo>
                <a:lnTo>
                  <a:pt x="3589" y="6426"/>
                </a:lnTo>
                <a:lnTo>
                  <a:pt x="3609" y="6475"/>
                </a:lnTo>
              </a:path>
            </a:pathLst>
          </a:custGeom>
          <a:noFill/>
          <a:ln w="158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71" name=""/>
          <p:cNvSpPr/>
          <p:nvPr/>
        </p:nvSpPr>
        <p:spPr>
          <a:xfrm>
            <a:off x="1603440" y="3255840"/>
            <a:ext cx="2243160" cy="1882800"/>
          </a:xfrm>
          <a:custGeom>
            <a:avLst/>
            <a:gdLst/>
            <a:ahLst/>
            <a:rect l="l" t="t" r="r" b="b"/>
            <a:pathLst>
              <a:path w="2380" h="1997">
                <a:moveTo>
                  <a:pt x="0" y="512"/>
                </a:moveTo>
                <a:lnTo>
                  <a:pt x="0" y="521"/>
                </a:lnTo>
                <a:lnTo>
                  <a:pt x="0" y="571"/>
                </a:lnTo>
                <a:lnTo>
                  <a:pt x="0" y="620"/>
                </a:lnTo>
                <a:lnTo>
                  <a:pt x="0" y="649"/>
                </a:lnTo>
                <a:lnTo>
                  <a:pt x="0" y="669"/>
                </a:lnTo>
                <a:lnTo>
                  <a:pt x="10" y="708"/>
                </a:lnTo>
                <a:lnTo>
                  <a:pt x="20" y="758"/>
                </a:lnTo>
                <a:lnTo>
                  <a:pt x="30" y="807"/>
                </a:lnTo>
                <a:lnTo>
                  <a:pt x="49" y="846"/>
                </a:lnTo>
                <a:lnTo>
                  <a:pt x="49" y="856"/>
                </a:lnTo>
                <a:lnTo>
                  <a:pt x="69" y="905"/>
                </a:lnTo>
                <a:lnTo>
                  <a:pt x="89" y="954"/>
                </a:lnTo>
                <a:lnTo>
                  <a:pt x="108" y="1004"/>
                </a:lnTo>
                <a:lnTo>
                  <a:pt x="138" y="1043"/>
                </a:lnTo>
                <a:lnTo>
                  <a:pt x="167" y="1092"/>
                </a:lnTo>
                <a:lnTo>
                  <a:pt x="177" y="1122"/>
                </a:lnTo>
                <a:lnTo>
                  <a:pt x="197" y="1141"/>
                </a:lnTo>
                <a:lnTo>
                  <a:pt x="226" y="1181"/>
                </a:lnTo>
                <a:lnTo>
                  <a:pt x="226" y="1191"/>
                </a:lnTo>
                <a:lnTo>
                  <a:pt x="266" y="1240"/>
                </a:lnTo>
                <a:lnTo>
                  <a:pt x="295" y="1289"/>
                </a:lnTo>
                <a:lnTo>
                  <a:pt x="315" y="1299"/>
                </a:lnTo>
                <a:lnTo>
                  <a:pt x="344" y="1328"/>
                </a:lnTo>
                <a:lnTo>
                  <a:pt x="354" y="1348"/>
                </a:lnTo>
                <a:lnTo>
                  <a:pt x="384" y="1377"/>
                </a:lnTo>
                <a:lnTo>
                  <a:pt x="394" y="1397"/>
                </a:lnTo>
                <a:lnTo>
                  <a:pt x="433" y="1427"/>
                </a:lnTo>
                <a:lnTo>
                  <a:pt x="443" y="1437"/>
                </a:lnTo>
                <a:lnTo>
                  <a:pt x="482" y="1476"/>
                </a:lnTo>
                <a:lnTo>
                  <a:pt x="531" y="1515"/>
                </a:lnTo>
                <a:lnTo>
                  <a:pt x="541" y="1525"/>
                </a:lnTo>
                <a:lnTo>
                  <a:pt x="571" y="1555"/>
                </a:lnTo>
                <a:lnTo>
                  <a:pt x="590" y="1574"/>
                </a:lnTo>
                <a:lnTo>
                  <a:pt x="620" y="1584"/>
                </a:lnTo>
                <a:lnTo>
                  <a:pt x="659" y="1624"/>
                </a:lnTo>
                <a:lnTo>
                  <a:pt x="708" y="1653"/>
                </a:lnTo>
                <a:lnTo>
                  <a:pt x="728" y="1663"/>
                </a:lnTo>
                <a:lnTo>
                  <a:pt x="748" y="1683"/>
                </a:lnTo>
                <a:lnTo>
                  <a:pt x="797" y="1712"/>
                </a:lnTo>
                <a:lnTo>
                  <a:pt x="836" y="1742"/>
                </a:lnTo>
                <a:lnTo>
                  <a:pt x="885" y="1761"/>
                </a:lnTo>
                <a:lnTo>
                  <a:pt x="925" y="1791"/>
                </a:lnTo>
                <a:lnTo>
                  <a:pt x="974" y="1810"/>
                </a:lnTo>
                <a:lnTo>
                  <a:pt x="1013" y="1830"/>
                </a:lnTo>
                <a:lnTo>
                  <a:pt x="1062" y="1850"/>
                </a:lnTo>
                <a:lnTo>
                  <a:pt x="1072" y="1860"/>
                </a:lnTo>
                <a:lnTo>
                  <a:pt x="1102" y="1870"/>
                </a:lnTo>
                <a:lnTo>
                  <a:pt x="1151" y="1889"/>
                </a:lnTo>
                <a:lnTo>
                  <a:pt x="1190" y="1899"/>
                </a:lnTo>
                <a:lnTo>
                  <a:pt x="1200" y="1909"/>
                </a:lnTo>
                <a:lnTo>
                  <a:pt x="1229" y="1919"/>
                </a:lnTo>
                <a:lnTo>
                  <a:pt x="1279" y="1929"/>
                </a:lnTo>
                <a:lnTo>
                  <a:pt x="1318" y="1938"/>
                </a:lnTo>
                <a:lnTo>
                  <a:pt x="1357" y="1958"/>
                </a:lnTo>
                <a:lnTo>
                  <a:pt x="1367" y="1958"/>
                </a:lnTo>
                <a:lnTo>
                  <a:pt x="1406" y="1968"/>
                </a:lnTo>
                <a:lnTo>
                  <a:pt x="1456" y="1968"/>
                </a:lnTo>
                <a:lnTo>
                  <a:pt x="1495" y="1978"/>
                </a:lnTo>
                <a:lnTo>
                  <a:pt x="1544" y="1988"/>
                </a:lnTo>
                <a:lnTo>
                  <a:pt x="1583" y="1988"/>
                </a:lnTo>
                <a:lnTo>
                  <a:pt x="1633" y="1997"/>
                </a:lnTo>
                <a:lnTo>
                  <a:pt x="1672" y="1997"/>
                </a:lnTo>
                <a:lnTo>
                  <a:pt x="1721" y="1997"/>
                </a:lnTo>
                <a:lnTo>
                  <a:pt x="1760" y="1997"/>
                </a:lnTo>
                <a:lnTo>
                  <a:pt x="1810" y="1988"/>
                </a:lnTo>
                <a:lnTo>
                  <a:pt x="1849" y="1988"/>
                </a:lnTo>
                <a:lnTo>
                  <a:pt x="1898" y="1978"/>
                </a:lnTo>
                <a:lnTo>
                  <a:pt x="1937" y="1968"/>
                </a:lnTo>
                <a:lnTo>
                  <a:pt x="1987" y="1958"/>
                </a:lnTo>
                <a:lnTo>
                  <a:pt x="2026" y="1938"/>
                </a:lnTo>
                <a:lnTo>
                  <a:pt x="2075" y="1919"/>
                </a:lnTo>
                <a:lnTo>
                  <a:pt x="2095" y="1909"/>
                </a:lnTo>
                <a:lnTo>
                  <a:pt x="2114" y="1899"/>
                </a:lnTo>
                <a:lnTo>
                  <a:pt x="2154" y="1870"/>
                </a:lnTo>
                <a:lnTo>
                  <a:pt x="2173" y="1860"/>
                </a:lnTo>
                <a:lnTo>
                  <a:pt x="2203" y="1830"/>
                </a:lnTo>
                <a:lnTo>
                  <a:pt x="2223" y="1810"/>
                </a:lnTo>
                <a:lnTo>
                  <a:pt x="2242" y="1791"/>
                </a:lnTo>
                <a:lnTo>
                  <a:pt x="2272" y="1761"/>
                </a:lnTo>
                <a:lnTo>
                  <a:pt x="2291" y="1732"/>
                </a:lnTo>
                <a:lnTo>
                  <a:pt x="2301" y="1712"/>
                </a:lnTo>
                <a:lnTo>
                  <a:pt x="2331" y="1663"/>
                </a:lnTo>
                <a:lnTo>
                  <a:pt x="2331" y="1653"/>
                </a:lnTo>
                <a:lnTo>
                  <a:pt x="2350" y="1624"/>
                </a:lnTo>
                <a:lnTo>
                  <a:pt x="2360" y="1574"/>
                </a:lnTo>
                <a:lnTo>
                  <a:pt x="2370" y="1525"/>
                </a:lnTo>
                <a:lnTo>
                  <a:pt x="2380" y="1486"/>
                </a:lnTo>
                <a:lnTo>
                  <a:pt x="2380" y="1476"/>
                </a:lnTo>
                <a:lnTo>
                  <a:pt x="2380" y="1427"/>
                </a:lnTo>
                <a:lnTo>
                  <a:pt x="2380" y="1377"/>
                </a:lnTo>
                <a:lnTo>
                  <a:pt x="2380" y="1348"/>
                </a:lnTo>
                <a:lnTo>
                  <a:pt x="2380" y="1328"/>
                </a:lnTo>
                <a:lnTo>
                  <a:pt x="2370" y="1289"/>
                </a:lnTo>
                <a:lnTo>
                  <a:pt x="2360" y="1240"/>
                </a:lnTo>
                <a:lnTo>
                  <a:pt x="2350" y="1191"/>
                </a:lnTo>
                <a:lnTo>
                  <a:pt x="2331" y="1151"/>
                </a:lnTo>
                <a:lnTo>
                  <a:pt x="2331" y="1141"/>
                </a:lnTo>
                <a:lnTo>
                  <a:pt x="2311" y="1092"/>
                </a:lnTo>
                <a:lnTo>
                  <a:pt x="2291" y="1043"/>
                </a:lnTo>
                <a:lnTo>
                  <a:pt x="2272" y="1004"/>
                </a:lnTo>
                <a:lnTo>
                  <a:pt x="2242" y="954"/>
                </a:lnTo>
                <a:lnTo>
                  <a:pt x="2213" y="905"/>
                </a:lnTo>
                <a:lnTo>
                  <a:pt x="2203" y="876"/>
                </a:lnTo>
                <a:lnTo>
                  <a:pt x="2183" y="856"/>
                </a:lnTo>
                <a:lnTo>
                  <a:pt x="2154" y="817"/>
                </a:lnTo>
                <a:lnTo>
                  <a:pt x="2154" y="807"/>
                </a:lnTo>
                <a:lnTo>
                  <a:pt x="2114" y="758"/>
                </a:lnTo>
                <a:lnTo>
                  <a:pt x="2085" y="708"/>
                </a:lnTo>
                <a:lnTo>
                  <a:pt x="2075" y="699"/>
                </a:lnTo>
                <a:lnTo>
                  <a:pt x="2036" y="669"/>
                </a:lnTo>
                <a:lnTo>
                  <a:pt x="2026" y="649"/>
                </a:lnTo>
                <a:lnTo>
                  <a:pt x="1996" y="620"/>
                </a:lnTo>
                <a:lnTo>
                  <a:pt x="1987" y="600"/>
                </a:lnTo>
                <a:lnTo>
                  <a:pt x="1947" y="571"/>
                </a:lnTo>
                <a:lnTo>
                  <a:pt x="1937" y="561"/>
                </a:lnTo>
                <a:lnTo>
                  <a:pt x="1898" y="521"/>
                </a:lnTo>
                <a:lnTo>
                  <a:pt x="1849" y="482"/>
                </a:lnTo>
                <a:lnTo>
                  <a:pt x="1839" y="472"/>
                </a:lnTo>
                <a:lnTo>
                  <a:pt x="1810" y="443"/>
                </a:lnTo>
                <a:lnTo>
                  <a:pt x="1790" y="423"/>
                </a:lnTo>
                <a:lnTo>
                  <a:pt x="1760" y="413"/>
                </a:lnTo>
                <a:lnTo>
                  <a:pt x="1721" y="374"/>
                </a:lnTo>
                <a:lnTo>
                  <a:pt x="1672" y="344"/>
                </a:lnTo>
                <a:lnTo>
                  <a:pt x="1652" y="334"/>
                </a:lnTo>
                <a:lnTo>
                  <a:pt x="1633" y="315"/>
                </a:lnTo>
                <a:lnTo>
                  <a:pt x="1583" y="285"/>
                </a:lnTo>
                <a:lnTo>
                  <a:pt x="1544" y="256"/>
                </a:lnTo>
                <a:lnTo>
                  <a:pt x="1495" y="236"/>
                </a:lnTo>
                <a:lnTo>
                  <a:pt x="1456" y="206"/>
                </a:lnTo>
                <a:lnTo>
                  <a:pt x="1406" y="187"/>
                </a:lnTo>
                <a:lnTo>
                  <a:pt x="1367" y="167"/>
                </a:lnTo>
                <a:lnTo>
                  <a:pt x="1318" y="147"/>
                </a:lnTo>
                <a:lnTo>
                  <a:pt x="1308" y="138"/>
                </a:lnTo>
                <a:lnTo>
                  <a:pt x="1279" y="128"/>
                </a:lnTo>
                <a:lnTo>
                  <a:pt x="1229" y="108"/>
                </a:lnTo>
                <a:lnTo>
                  <a:pt x="1190" y="98"/>
                </a:lnTo>
                <a:lnTo>
                  <a:pt x="1180" y="88"/>
                </a:lnTo>
                <a:lnTo>
                  <a:pt x="1151" y="79"/>
                </a:lnTo>
                <a:lnTo>
                  <a:pt x="1102" y="69"/>
                </a:lnTo>
                <a:lnTo>
                  <a:pt x="1062" y="59"/>
                </a:lnTo>
                <a:lnTo>
                  <a:pt x="1023" y="49"/>
                </a:lnTo>
                <a:lnTo>
                  <a:pt x="1013" y="39"/>
                </a:lnTo>
                <a:lnTo>
                  <a:pt x="974" y="29"/>
                </a:lnTo>
                <a:lnTo>
                  <a:pt x="925" y="29"/>
                </a:lnTo>
                <a:lnTo>
                  <a:pt x="885" y="20"/>
                </a:lnTo>
                <a:lnTo>
                  <a:pt x="836" y="10"/>
                </a:lnTo>
                <a:lnTo>
                  <a:pt x="797" y="10"/>
                </a:lnTo>
                <a:lnTo>
                  <a:pt x="748" y="0"/>
                </a:lnTo>
                <a:lnTo>
                  <a:pt x="708" y="0"/>
                </a:lnTo>
                <a:lnTo>
                  <a:pt x="659" y="0"/>
                </a:lnTo>
                <a:lnTo>
                  <a:pt x="620" y="0"/>
                </a:lnTo>
                <a:lnTo>
                  <a:pt x="571" y="10"/>
                </a:lnTo>
                <a:lnTo>
                  <a:pt x="531" y="10"/>
                </a:lnTo>
                <a:lnTo>
                  <a:pt x="482" y="20"/>
                </a:lnTo>
                <a:lnTo>
                  <a:pt x="443" y="29"/>
                </a:lnTo>
                <a:lnTo>
                  <a:pt x="394" y="39"/>
                </a:lnTo>
                <a:lnTo>
                  <a:pt x="394" y="49"/>
                </a:lnTo>
                <a:lnTo>
                  <a:pt x="354" y="59"/>
                </a:lnTo>
                <a:lnTo>
                  <a:pt x="315" y="79"/>
                </a:lnTo>
                <a:lnTo>
                  <a:pt x="285" y="88"/>
                </a:lnTo>
                <a:lnTo>
                  <a:pt x="266" y="98"/>
                </a:lnTo>
                <a:lnTo>
                  <a:pt x="226" y="128"/>
                </a:lnTo>
                <a:lnTo>
                  <a:pt x="207" y="138"/>
                </a:lnTo>
                <a:lnTo>
                  <a:pt x="177" y="167"/>
                </a:lnTo>
                <a:lnTo>
                  <a:pt x="158" y="187"/>
                </a:lnTo>
                <a:lnTo>
                  <a:pt x="138" y="206"/>
                </a:lnTo>
                <a:lnTo>
                  <a:pt x="108" y="236"/>
                </a:lnTo>
                <a:lnTo>
                  <a:pt x="89" y="266"/>
                </a:lnTo>
                <a:lnTo>
                  <a:pt x="79" y="285"/>
                </a:lnTo>
                <a:lnTo>
                  <a:pt x="49" y="334"/>
                </a:lnTo>
                <a:lnTo>
                  <a:pt x="49" y="344"/>
                </a:lnTo>
                <a:lnTo>
                  <a:pt x="30" y="374"/>
                </a:lnTo>
                <a:lnTo>
                  <a:pt x="20" y="423"/>
                </a:lnTo>
                <a:lnTo>
                  <a:pt x="10" y="472"/>
                </a:lnTo>
                <a:lnTo>
                  <a:pt x="0" y="512"/>
                </a:lnTo>
              </a:path>
            </a:pathLst>
          </a:custGeom>
          <a:noFill/>
          <a:ln w="2844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72" name=""/>
          <p:cNvSpPr/>
          <p:nvPr/>
        </p:nvSpPr>
        <p:spPr>
          <a:xfrm>
            <a:off x="3754440" y="4257720"/>
            <a:ext cx="63360" cy="65160"/>
          </a:xfrm>
          <a:prstGeom prst="ellipse">
            <a:avLst/>
          </a:prstGeom>
          <a:noFill/>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773" name=""/>
          <p:cNvSpPr/>
          <p:nvPr/>
        </p:nvSpPr>
        <p:spPr>
          <a:xfrm flipH="1" flipV="1">
            <a:off x="3448080" y="3905280"/>
            <a:ext cx="333360" cy="380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74" name=""/>
          <p:cNvSpPr/>
          <p:nvPr/>
        </p:nvSpPr>
        <p:spPr>
          <a:xfrm>
            <a:off x="3754440" y="4257720"/>
            <a:ext cx="63360" cy="65160"/>
          </a:xfrm>
          <a:prstGeom prst="ellipse">
            <a:avLst/>
          </a:prstGeom>
          <a:noFill/>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775" name=""/>
          <p:cNvSpPr/>
          <p:nvPr/>
        </p:nvSpPr>
        <p:spPr>
          <a:xfrm>
            <a:off x="3419640" y="3876840"/>
            <a:ext cx="64800" cy="64800"/>
          </a:xfrm>
          <a:prstGeom prst="ellipse">
            <a:avLst/>
          </a:prstGeom>
          <a:noFill/>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776" name=""/>
          <p:cNvSpPr/>
          <p:nvPr/>
        </p:nvSpPr>
        <p:spPr>
          <a:xfrm>
            <a:off x="3114720" y="3665520"/>
            <a:ext cx="666720" cy="620640"/>
          </a:xfrm>
          <a:custGeom>
            <a:avLst/>
            <a:gdLst/>
            <a:ahLst/>
            <a:rect l="l" t="t" r="r" b="b"/>
            <a:pathLst>
              <a:path w="708" h="659">
                <a:moveTo>
                  <a:pt x="708" y="659"/>
                </a:moveTo>
                <a:lnTo>
                  <a:pt x="354" y="256"/>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77" name=""/>
          <p:cNvSpPr/>
          <p:nvPr/>
        </p:nvSpPr>
        <p:spPr>
          <a:xfrm>
            <a:off x="3754440" y="4257720"/>
            <a:ext cx="63360" cy="65160"/>
          </a:xfrm>
          <a:prstGeom prst="ellipse">
            <a:avLst/>
          </a:prstGeom>
          <a:noFill/>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778" name=""/>
          <p:cNvSpPr/>
          <p:nvPr/>
        </p:nvSpPr>
        <p:spPr>
          <a:xfrm>
            <a:off x="3419640" y="3876840"/>
            <a:ext cx="64800" cy="64800"/>
          </a:xfrm>
          <a:prstGeom prst="ellipse">
            <a:avLst/>
          </a:prstGeom>
          <a:noFill/>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779" name=""/>
          <p:cNvSpPr/>
          <p:nvPr/>
        </p:nvSpPr>
        <p:spPr>
          <a:xfrm>
            <a:off x="3086280" y="3637080"/>
            <a:ext cx="63360" cy="64800"/>
          </a:xfrm>
          <a:prstGeom prst="ellipse">
            <a:avLst/>
          </a:prstGeom>
          <a:noFill/>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780" name=""/>
          <p:cNvSpPr/>
          <p:nvPr/>
        </p:nvSpPr>
        <p:spPr>
          <a:xfrm>
            <a:off x="2779560" y="3562200"/>
            <a:ext cx="1001880" cy="723960"/>
          </a:xfrm>
          <a:custGeom>
            <a:avLst/>
            <a:gdLst/>
            <a:ahLst/>
            <a:rect l="l" t="t" r="r" b="b"/>
            <a:pathLst>
              <a:path w="1062" h="767">
                <a:moveTo>
                  <a:pt x="1062" y="767"/>
                </a:moveTo>
                <a:lnTo>
                  <a:pt x="708" y="364"/>
                </a:lnTo>
                <a:lnTo>
                  <a:pt x="354" y="108"/>
                </a:lnTo>
                <a:lnTo>
                  <a:pt x="0" y="0"/>
                </a:lnTo>
              </a:path>
            </a:pathLst>
          </a:custGeom>
          <a:noFill/>
          <a:ln w="1584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81" name=""/>
          <p:cNvSpPr/>
          <p:nvPr/>
        </p:nvSpPr>
        <p:spPr>
          <a:xfrm>
            <a:off x="3754440" y="4257720"/>
            <a:ext cx="63360" cy="65160"/>
          </a:xfrm>
          <a:prstGeom prst="ellipse">
            <a:avLst/>
          </a:prstGeom>
          <a:noFill/>
          <a:ln w="2844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782" name=""/>
          <p:cNvSpPr/>
          <p:nvPr/>
        </p:nvSpPr>
        <p:spPr>
          <a:xfrm>
            <a:off x="3419640" y="3876840"/>
            <a:ext cx="64800" cy="64800"/>
          </a:xfrm>
          <a:prstGeom prst="ellipse">
            <a:avLst/>
          </a:prstGeom>
          <a:noFill/>
          <a:ln w="28440">
            <a:solidFill>
              <a:srgbClr val="333333"/>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783" name=""/>
          <p:cNvSpPr/>
          <p:nvPr/>
        </p:nvSpPr>
        <p:spPr>
          <a:xfrm>
            <a:off x="3086280" y="3637080"/>
            <a:ext cx="63360" cy="64800"/>
          </a:xfrm>
          <a:prstGeom prst="ellipse">
            <a:avLst/>
          </a:prstGeom>
          <a:noFill/>
          <a:ln w="28440">
            <a:solidFill>
              <a:srgbClr val="333333"/>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784" name=""/>
          <p:cNvSpPr/>
          <p:nvPr/>
        </p:nvSpPr>
        <p:spPr>
          <a:xfrm>
            <a:off x="2752560" y="3535200"/>
            <a:ext cx="63720" cy="65160"/>
          </a:xfrm>
          <a:prstGeom prst="ellipse">
            <a:avLst/>
          </a:prstGeom>
          <a:noFill/>
          <a:ln w="2844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785" name=""/>
          <p:cNvSpPr/>
          <p:nvPr/>
        </p:nvSpPr>
        <p:spPr>
          <a:xfrm rot="16200000">
            <a:off x="249480" y="4065120"/>
            <a:ext cx="52056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x2</a:t>
            </a:r>
            <a:endParaRPr b="0" lang="en-US" sz="1700" spc="-1" strike="noStrike">
              <a:solidFill>
                <a:srgbClr val="333333"/>
              </a:solidFill>
              <a:latin typeface="Times New Roman"/>
            </a:endParaRPr>
          </a:p>
        </p:txBody>
      </p:sp>
      <p:grpSp>
        <p:nvGrpSpPr>
          <p:cNvPr id="786" name=""/>
          <p:cNvGrpSpPr/>
          <p:nvPr/>
        </p:nvGrpSpPr>
        <p:grpSpPr>
          <a:xfrm>
            <a:off x="4913280" y="2736720"/>
            <a:ext cx="3906720" cy="3339360"/>
            <a:chOff x="4913280" y="2736720"/>
            <a:chExt cx="3906720" cy="3339360"/>
          </a:xfrm>
        </p:grpSpPr>
        <p:sp>
          <p:nvSpPr>
            <p:cNvPr id="787" name=""/>
            <p:cNvSpPr/>
            <p:nvPr/>
          </p:nvSpPr>
          <p:spPr>
            <a:xfrm>
              <a:off x="5586480" y="5113440"/>
              <a:ext cx="3232080" cy="0"/>
            </a:xfrm>
            <a:prstGeom prst="line">
              <a:avLst/>
            </a:prstGeom>
            <a:ln w="9360">
              <a:solidFill>
                <a:srgbClr val="6600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88" name=""/>
            <p:cNvSpPr/>
            <p:nvPr/>
          </p:nvSpPr>
          <p:spPr>
            <a:xfrm>
              <a:off x="5587920" y="2825640"/>
              <a:ext cx="3227400" cy="275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89" name=""/>
            <p:cNvSpPr/>
            <p:nvPr/>
          </p:nvSpPr>
          <p:spPr>
            <a:xfrm>
              <a:off x="5587920" y="2825640"/>
              <a:ext cx="3227400" cy="275112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90" name=""/>
            <p:cNvSpPr/>
            <p:nvPr/>
          </p:nvSpPr>
          <p:spPr>
            <a:xfrm>
              <a:off x="5587920" y="2825640"/>
              <a:ext cx="322740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91" name=""/>
            <p:cNvSpPr/>
            <p:nvPr/>
          </p:nvSpPr>
          <p:spPr>
            <a:xfrm>
              <a:off x="5587920" y="5576760"/>
              <a:ext cx="3227400" cy="1800"/>
            </a:xfrm>
            <a:prstGeom prst="line">
              <a:avLst/>
            </a:prstGeom>
            <a:ln w="1908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792" name=""/>
            <p:cNvSpPr/>
            <p:nvPr/>
          </p:nvSpPr>
          <p:spPr>
            <a:xfrm flipV="1">
              <a:off x="8815320" y="2825640"/>
              <a:ext cx="1800" cy="275112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93" name=""/>
            <p:cNvSpPr/>
            <p:nvPr/>
          </p:nvSpPr>
          <p:spPr>
            <a:xfrm flipV="1">
              <a:off x="5587920" y="2825640"/>
              <a:ext cx="0" cy="2751120"/>
            </a:xfrm>
            <a:prstGeom prst="line">
              <a:avLst/>
            </a:prstGeom>
            <a:ln w="19080">
              <a:solidFill>
                <a:srgbClr val="d2aad2"/>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94" name=""/>
            <p:cNvSpPr/>
            <p:nvPr/>
          </p:nvSpPr>
          <p:spPr>
            <a:xfrm>
              <a:off x="5587920" y="5576760"/>
              <a:ext cx="3227400" cy="1800"/>
            </a:xfrm>
            <a:prstGeom prst="line">
              <a:avLst/>
            </a:prstGeom>
            <a:ln w="1908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795" name=""/>
            <p:cNvSpPr/>
            <p:nvPr/>
          </p:nvSpPr>
          <p:spPr>
            <a:xfrm flipV="1">
              <a:off x="5587920" y="2825640"/>
              <a:ext cx="0" cy="2751120"/>
            </a:xfrm>
            <a:prstGeom prst="line">
              <a:avLst/>
            </a:prstGeom>
            <a:ln w="19080">
              <a:solidFill>
                <a:srgbClr val="d2aad2"/>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96" name=""/>
            <p:cNvSpPr/>
            <p:nvPr/>
          </p:nvSpPr>
          <p:spPr>
            <a:xfrm flipV="1">
              <a:off x="5587920" y="5545080"/>
              <a:ext cx="0" cy="31680"/>
            </a:xfrm>
            <a:prstGeom prst="line">
              <a:avLst/>
            </a:prstGeom>
            <a:ln w="19080">
              <a:solidFill>
                <a:srgbClr val="004c2b"/>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797" name=""/>
            <p:cNvSpPr/>
            <p:nvPr/>
          </p:nvSpPr>
          <p:spPr>
            <a:xfrm>
              <a:off x="5587920" y="2825640"/>
              <a:ext cx="0" cy="32040"/>
            </a:xfrm>
            <a:prstGeom prst="line">
              <a:avLst/>
            </a:prstGeom>
            <a:ln w="1908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798" name=""/>
            <p:cNvSpPr/>
            <p:nvPr/>
          </p:nvSpPr>
          <p:spPr>
            <a:xfrm>
              <a:off x="5568840" y="56228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799" name=""/>
            <p:cNvSpPr/>
            <p:nvPr/>
          </p:nvSpPr>
          <p:spPr>
            <a:xfrm flipV="1">
              <a:off x="6188040" y="5545080"/>
              <a:ext cx="0" cy="31680"/>
            </a:xfrm>
            <a:prstGeom prst="line">
              <a:avLst/>
            </a:prstGeom>
            <a:ln w="19080">
              <a:solidFill>
                <a:srgbClr val="004c2b"/>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800" name=""/>
            <p:cNvSpPr/>
            <p:nvPr/>
          </p:nvSpPr>
          <p:spPr>
            <a:xfrm>
              <a:off x="6188040" y="2825640"/>
              <a:ext cx="0" cy="32040"/>
            </a:xfrm>
            <a:prstGeom prst="line">
              <a:avLst/>
            </a:prstGeom>
            <a:ln w="1908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801" name=""/>
            <p:cNvSpPr/>
            <p:nvPr/>
          </p:nvSpPr>
          <p:spPr>
            <a:xfrm>
              <a:off x="6172200" y="56228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5</a:t>
              </a:r>
              <a:endParaRPr b="0" lang="en-US" sz="1700" spc="-1" strike="noStrike">
                <a:solidFill>
                  <a:srgbClr val="333333"/>
                </a:solidFill>
                <a:latin typeface="Times New Roman"/>
              </a:endParaRPr>
            </a:p>
          </p:txBody>
        </p:sp>
        <p:sp>
          <p:nvSpPr>
            <p:cNvPr id="802" name=""/>
            <p:cNvSpPr/>
            <p:nvPr/>
          </p:nvSpPr>
          <p:spPr>
            <a:xfrm flipV="1">
              <a:off x="6778800" y="5545080"/>
              <a:ext cx="1440" cy="31680"/>
            </a:xfrm>
            <a:prstGeom prst="line">
              <a:avLst/>
            </a:prstGeom>
            <a:ln w="19080">
              <a:solidFill>
                <a:srgbClr val="004c2b"/>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803" name=""/>
            <p:cNvSpPr/>
            <p:nvPr/>
          </p:nvSpPr>
          <p:spPr>
            <a:xfrm>
              <a:off x="6778800" y="2825640"/>
              <a:ext cx="1440" cy="32040"/>
            </a:xfrm>
            <a:prstGeom prst="line">
              <a:avLst/>
            </a:prstGeom>
            <a:ln w="1908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804" name=""/>
            <p:cNvSpPr/>
            <p:nvPr/>
          </p:nvSpPr>
          <p:spPr>
            <a:xfrm>
              <a:off x="6702480" y="562284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0</a:t>
              </a:r>
              <a:endParaRPr b="0" lang="en-US" sz="1700" spc="-1" strike="noStrike">
                <a:solidFill>
                  <a:srgbClr val="333333"/>
                </a:solidFill>
                <a:latin typeface="Times New Roman"/>
              </a:endParaRPr>
            </a:p>
          </p:txBody>
        </p:sp>
        <p:sp>
          <p:nvSpPr>
            <p:cNvPr id="805" name=""/>
            <p:cNvSpPr/>
            <p:nvPr/>
          </p:nvSpPr>
          <p:spPr>
            <a:xfrm flipV="1">
              <a:off x="7380360" y="5545080"/>
              <a:ext cx="1440" cy="31680"/>
            </a:xfrm>
            <a:prstGeom prst="line">
              <a:avLst/>
            </a:prstGeom>
            <a:ln w="19080">
              <a:solidFill>
                <a:srgbClr val="004c2b"/>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806" name=""/>
            <p:cNvSpPr/>
            <p:nvPr/>
          </p:nvSpPr>
          <p:spPr>
            <a:xfrm>
              <a:off x="7380360" y="2825640"/>
              <a:ext cx="1440" cy="32040"/>
            </a:xfrm>
            <a:prstGeom prst="line">
              <a:avLst/>
            </a:prstGeom>
            <a:ln w="1908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807" name=""/>
            <p:cNvSpPr/>
            <p:nvPr/>
          </p:nvSpPr>
          <p:spPr>
            <a:xfrm>
              <a:off x="7307280" y="562284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808" name=""/>
            <p:cNvSpPr/>
            <p:nvPr/>
          </p:nvSpPr>
          <p:spPr>
            <a:xfrm flipV="1">
              <a:off x="7983360" y="5545080"/>
              <a:ext cx="1800" cy="31680"/>
            </a:xfrm>
            <a:prstGeom prst="line">
              <a:avLst/>
            </a:prstGeom>
            <a:ln w="19080">
              <a:solidFill>
                <a:srgbClr val="004c2b"/>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809" name=""/>
            <p:cNvSpPr/>
            <p:nvPr/>
          </p:nvSpPr>
          <p:spPr>
            <a:xfrm>
              <a:off x="7983360" y="2825640"/>
              <a:ext cx="1800" cy="32040"/>
            </a:xfrm>
            <a:prstGeom prst="line">
              <a:avLst/>
            </a:prstGeom>
            <a:ln w="1908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810" name=""/>
            <p:cNvSpPr/>
            <p:nvPr/>
          </p:nvSpPr>
          <p:spPr>
            <a:xfrm>
              <a:off x="7908840" y="562284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0</a:t>
              </a:r>
              <a:endParaRPr b="0" lang="en-US" sz="1700" spc="-1" strike="noStrike">
                <a:solidFill>
                  <a:srgbClr val="333333"/>
                </a:solidFill>
                <a:latin typeface="Times New Roman"/>
              </a:endParaRPr>
            </a:p>
          </p:txBody>
        </p:sp>
        <p:sp>
          <p:nvSpPr>
            <p:cNvPr id="811" name=""/>
            <p:cNvSpPr/>
            <p:nvPr/>
          </p:nvSpPr>
          <p:spPr>
            <a:xfrm flipV="1">
              <a:off x="8574120" y="5545080"/>
              <a:ext cx="1440" cy="31680"/>
            </a:xfrm>
            <a:prstGeom prst="line">
              <a:avLst/>
            </a:prstGeom>
            <a:ln w="19080">
              <a:solidFill>
                <a:srgbClr val="004c2b"/>
              </a:solidFill>
              <a:miter/>
            </a:ln>
          </p:spPr>
          <p:style>
            <a:lnRef idx="0"/>
            <a:fillRef idx="0"/>
            <a:effectRef idx="0"/>
            <a:fontRef idx="minor"/>
          </p:style>
          <p:txBody>
            <a:bodyPr lIns="90000" rIns="90000" tIns="-15120" bIns="-15120" anchor="t">
              <a:noAutofit/>
            </a:bodyPr>
            <a:p>
              <a:endParaRPr b="0" lang="en-US" sz="2400" spc="-1" strike="noStrike">
                <a:solidFill>
                  <a:srgbClr val="333333"/>
                </a:solidFill>
                <a:latin typeface="Times New Roman"/>
              </a:endParaRPr>
            </a:p>
          </p:txBody>
        </p:sp>
        <p:sp>
          <p:nvSpPr>
            <p:cNvPr id="812" name=""/>
            <p:cNvSpPr/>
            <p:nvPr/>
          </p:nvSpPr>
          <p:spPr>
            <a:xfrm>
              <a:off x="8574120" y="2825640"/>
              <a:ext cx="1440" cy="32040"/>
            </a:xfrm>
            <a:prstGeom prst="line">
              <a:avLst/>
            </a:prstGeom>
            <a:ln w="1908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813" name=""/>
            <p:cNvSpPr/>
            <p:nvPr/>
          </p:nvSpPr>
          <p:spPr>
            <a:xfrm>
              <a:off x="8501040" y="562284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5</a:t>
              </a:r>
              <a:endParaRPr b="0" lang="en-US" sz="1700" spc="-1" strike="noStrike">
                <a:solidFill>
                  <a:srgbClr val="333333"/>
                </a:solidFill>
                <a:latin typeface="Times New Roman"/>
              </a:endParaRPr>
            </a:p>
          </p:txBody>
        </p:sp>
        <p:sp>
          <p:nvSpPr>
            <p:cNvPr id="814" name=""/>
            <p:cNvSpPr/>
            <p:nvPr/>
          </p:nvSpPr>
          <p:spPr>
            <a:xfrm>
              <a:off x="5587920" y="5576760"/>
              <a:ext cx="30240" cy="1800"/>
            </a:xfrm>
            <a:prstGeom prst="line">
              <a:avLst/>
            </a:prstGeom>
            <a:ln w="1908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815" name=""/>
            <p:cNvSpPr/>
            <p:nvPr/>
          </p:nvSpPr>
          <p:spPr>
            <a:xfrm flipH="1">
              <a:off x="8782200" y="5576760"/>
              <a:ext cx="33120" cy="1800"/>
            </a:xfrm>
            <a:prstGeom prst="line">
              <a:avLst/>
            </a:prstGeom>
            <a:ln w="1908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816" name=""/>
            <p:cNvSpPr/>
            <p:nvPr/>
          </p:nvSpPr>
          <p:spPr>
            <a:xfrm>
              <a:off x="5133960" y="548964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817" name=""/>
            <p:cNvSpPr/>
            <p:nvPr/>
          </p:nvSpPr>
          <p:spPr>
            <a:xfrm>
              <a:off x="5587920" y="5116680"/>
              <a:ext cx="30240" cy="1440"/>
            </a:xfrm>
            <a:prstGeom prst="line">
              <a:avLst/>
            </a:prstGeom>
            <a:ln w="19080">
              <a:solidFill>
                <a:srgbClr val="333333"/>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18" name=""/>
            <p:cNvSpPr/>
            <p:nvPr/>
          </p:nvSpPr>
          <p:spPr>
            <a:xfrm flipH="1">
              <a:off x="8782200" y="5116680"/>
              <a:ext cx="33120" cy="1440"/>
            </a:xfrm>
            <a:prstGeom prst="line">
              <a:avLst/>
            </a:prstGeom>
            <a:ln w="1908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19" name=""/>
            <p:cNvSpPr/>
            <p:nvPr/>
          </p:nvSpPr>
          <p:spPr>
            <a:xfrm>
              <a:off x="5290920" y="502776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820" name=""/>
            <p:cNvSpPr/>
            <p:nvPr/>
          </p:nvSpPr>
          <p:spPr>
            <a:xfrm>
              <a:off x="5587920" y="4656240"/>
              <a:ext cx="3024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21" name=""/>
            <p:cNvSpPr/>
            <p:nvPr/>
          </p:nvSpPr>
          <p:spPr>
            <a:xfrm flipH="1">
              <a:off x="8782200" y="4656240"/>
              <a:ext cx="3312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22" name=""/>
            <p:cNvSpPr/>
            <p:nvPr/>
          </p:nvSpPr>
          <p:spPr>
            <a:xfrm>
              <a:off x="5133960" y="457056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823" name=""/>
            <p:cNvSpPr/>
            <p:nvPr/>
          </p:nvSpPr>
          <p:spPr>
            <a:xfrm>
              <a:off x="5587920" y="4206960"/>
              <a:ext cx="30240" cy="1440"/>
            </a:xfrm>
            <a:prstGeom prst="line">
              <a:avLst/>
            </a:prstGeom>
            <a:ln w="1908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24" name=""/>
            <p:cNvSpPr/>
            <p:nvPr/>
          </p:nvSpPr>
          <p:spPr>
            <a:xfrm flipH="1">
              <a:off x="8782200" y="4206960"/>
              <a:ext cx="33120" cy="1440"/>
            </a:xfrm>
            <a:prstGeom prst="line">
              <a:avLst/>
            </a:prstGeom>
            <a:ln w="1908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25" name=""/>
            <p:cNvSpPr/>
            <p:nvPr/>
          </p:nvSpPr>
          <p:spPr>
            <a:xfrm>
              <a:off x="5356080" y="41194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826" name=""/>
            <p:cNvSpPr/>
            <p:nvPr/>
          </p:nvSpPr>
          <p:spPr>
            <a:xfrm>
              <a:off x="5587920" y="3746520"/>
              <a:ext cx="30240" cy="1440"/>
            </a:xfrm>
            <a:prstGeom prst="line">
              <a:avLst/>
            </a:prstGeom>
            <a:ln w="1908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27" name=""/>
            <p:cNvSpPr/>
            <p:nvPr/>
          </p:nvSpPr>
          <p:spPr>
            <a:xfrm flipH="1">
              <a:off x="8782200" y="3746520"/>
              <a:ext cx="33120" cy="1440"/>
            </a:xfrm>
            <a:prstGeom prst="line">
              <a:avLst/>
            </a:prstGeom>
            <a:ln w="1908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28" name=""/>
            <p:cNvSpPr/>
            <p:nvPr/>
          </p:nvSpPr>
          <p:spPr>
            <a:xfrm>
              <a:off x="5199480" y="365760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829" name=""/>
            <p:cNvSpPr/>
            <p:nvPr/>
          </p:nvSpPr>
          <p:spPr>
            <a:xfrm>
              <a:off x="5587920" y="3284640"/>
              <a:ext cx="30240" cy="1440"/>
            </a:xfrm>
            <a:prstGeom prst="line">
              <a:avLst/>
            </a:prstGeom>
            <a:ln w="1908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30" name=""/>
            <p:cNvSpPr/>
            <p:nvPr/>
          </p:nvSpPr>
          <p:spPr>
            <a:xfrm flipH="1">
              <a:off x="8782200" y="3284640"/>
              <a:ext cx="33120" cy="1440"/>
            </a:xfrm>
            <a:prstGeom prst="line">
              <a:avLst/>
            </a:prstGeom>
            <a:ln w="1908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31" name=""/>
            <p:cNvSpPr/>
            <p:nvPr/>
          </p:nvSpPr>
          <p:spPr>
            <a:xfrm>
              <a:off x="5356080" y="31989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832" name=""/>
            <p:cNvSpPr/>
            <p:nvPr/>
          </p:nvSpPr>
          <p:spPr>
            <a:xfrm>
              <a:off x="5587920" y="2825640"/>
              <a:ext cx="3024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33" name=""/>
            <p:cNvSpPr/>
            <p:nvPr/>
          </p:nvSpPr>
          <p:spPr>
            <a:xfrm flipH="1">
              <a:off x="8782200" y="2825640"/>
              <a:ext cx="3312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34" name=""/>
            <p:cNvSpPr/>
            <p:nvPr/>
          </p:nvSpPr>
          <p:spPr>
            <a:xfrm>
              <a:off x="5199480" y="273672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835" name=""/>
            <p:cNvSpPr/>
            <p:nvPr/>
          </p:nvSpPr>
          <p:spPr>
            <a:xfrm>
              <a:off x="5587920" y="2825640"/>
              <a:ext cx="3227400" cy="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36" name=""/>
            <p:cNvSpPr/>
            <p:nvPr/>
          </p:nvSpPr>
          <p:spPr>
            <a:xfrm>
              <a:off x="5587920" y="5576760"/>
              <a:ext cx="3227400" cy="1800"/>
            </a:xfrm>
            <a:prstGeom prst="line">
              <a:avLst/>
            </a:prstGeom>
            <a:ln w="1908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837" name=""/>
            <p:cNvSpPr/>
            <p:nvPr/>
          </p:nvSpPr>
          <p:spPr>
            <a:xfrm flipV="1">
              <a:off x="8815320" y="2825640"/>
              <a:ext cx="1800" cy="275112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38" name=""/>
            <p:cNvSpPr/>
            <p:nvPr/>
          </p:nvSpPr>
          <p:spPr>
            <a:xfrm flipV="1">
              <a:off x="5587920" y="2825640"/>
              <a:ext cx="0" cy="2751120"/>
            </a:xfrm>
            <a:prstGeom prst="line">
              <a:avLst/>
            </a:prstGeom>
            <a:ln w="1908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39" name=""/>
            <p:cNvSpPr/>
            <p:nvPr/>
          </p:nvSpPr>
          <p:spPr>
            <a:xfrm>
              <a:off x="7181280" y="5816520"/>
              <a:ext cx="109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k</a:t>
              </a:r>
              <a:endParaRPr b="0" lang="en-US" sz="1700" spc="-1" strike="noStrike">
                <a:solidFill>
                  <a:srgbClr val="333333"/>
                </a:solidFill>
                <a:latin typeface="Times New Roman"/>
              </a:endParaRPr>
            </a:p>
          </p:txBody>
        </p:sp>
        <p:sp>
          <p:nvSpPr>
            <p:cNvPr id="840" name=""/>
            <p:cNvSpPr/>
            <p:nvPr/>
          </p:nvSpPr>
          <p:spPr>
            <a:xfrm rot="16200000">
              <a:off x="4856760" y="404208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u(k)</a:t>
              </a:r>
              <a:endParaRPr b="0" lang="en-US" sz="1700" spc="-1" strike="noStrike">
                <a:solidFill>
                  <a:srgbClr val="333333"/>
                </a:solidFill>
                <a:latin typeface="Times New Roman"/>
              </a:endParaRPr>
            </a:p>
          </p:txBody>
        </p:sp>
        <p:sp>
          <p:nvSpPr>
            <p:cNvPr id="841" name=""/>
            <p:cNvSpPr/>
            <p:nvPr/>
          </p:nvSpPr>
          <p:spPr>
            <a:xfrm>
              <a:off x="5554800" y="5083200"/>
              <a:ext cx="74520" cy="77760"/>
            </a:xfrm>
            <a:prstGeom prst="ellipse">
              <a:avLst/>
            </a:prstGeom>
            <a:noFill/>
            <a:ln w="19080">
              <a:solidFill>
                <a:srgbClr val="333333"/>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842" name=""/>
            <p:cNvSpPr/>
            <p:nvPr/>
          </p:nvSpPr>
          <p:spPr>
            <a:xfrm>
              <a:off x="5587920" y="5116680"/>
              <a:ext cx="119160" cy="1440"/>
            </a:xfrm>
            <a:prstGeom prst="line">
              <a:avLst/>
            </a:prstGeom>
            <a:ln w="19080">
              <a:solidFill>
                <a:srgbClr val="333333"/>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43" name=""/>
            <p:cNvSpPr/>
            <p:nvPr/>
          </p:nvSpPr>
          <p:spPr>
            <a:xfrm>
              <a:off x="5554800" y="5083200"/>
              <a:ext cx="74520" cy="77760"/>
            </a:xfrm>
            <a:prstGeom prst="ellipse">
              <a:avLst/>
            </a:prstGeom>
            <a:noFill/>
            <a:ln w="19080">
              <a:solidFill>
                <a:srgbClr val="333333"/>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844" name=""/>
            <p:cNvSpPr/>
            <p:nvPr/>
          </p:nvSpPr>
          <p:spPr>
            <a:xfrm>
              <a:off x="5673600" y="5083200"/>
              <a:ext cx="77760" cy="77760"/>
            </a:xfrm>
            <a:prstGeom prst="ellipse">
              <a:avLst/>
            </a:prstGeom>
            <a:noFill/>
            <a:ln w="19080">
              <a:solidFill>
                <a:srgbClr val="333333"/>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845" name=""/>
            <p:cNvSpPr/>
            <p:nvPr/>
          </p:nvSpPr>
          <p:spPr>
            <a:xfrm>
              <a:off x="5587920" y="5116680"/>
              <a:ext cx="238320" cy="1440"/>
            </a:xfrm>
            <a:custGeom>
              <a:avLst/>
              <a:gdLst/>
              <a:ahLst/>
              <a:rect l="l" t="t" r="r" b="b"/>
              <a:pathLst>
                <a:path w="253" h="0">
                  <a:moveTo>
                    <a:pt x="0" y="0"/>
                  </a:moveTo>
                  <a:lnTo>
                    <a:pt x="126" y="0"/>
                  </a:lnTo>
                  <a:lnTo>
                    <a:pt x="253" y="0"/>
                  </a:lnTo>
                </a:path>
              </a:pathLst>
            </a:custGeom>
            <a:noFill/>
            <a:ln w="19080">
              <a:solidFill>
                <a:srgbClr val="333333"/>
              </a:solidFill>
              <a:round/>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46" name=""/>
            <p:cNvSpPr/>
            <p:nvPr/>
          </p:nvSpPr>
          <p:spPr>
            <a:xfrm>
              <a:off x="5554800" y="5083200"/>
              <a:ext cx="74520" cy="77760"/>
            </a:xfrm>
            <a:prstGeom prst="ellipse">
              <a:avLst/>
            </a:prstGeom>
            <a:noFill/>
            <a:ln w="19080">
              <a:solidFill>
                <a:srgbClr val="333333"/>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847" name=""/>
            <p:cNvSpPr/>
            <p:nvPr/>
          </p:nvSpPr>
          <p:spPr>
            <a:xfrm>
              <a:off x="5673600" y="5083200"/>
              <a:ext cx="77760" cy="77760"/>
            </a:xfrm>
            <a:prstGeom prst="ellipse">
              <a:avLst/>
            </a:prstGeom>
            <a:noFill/>
            <a:ln w="19080">
              <a:solidFill>
                <a:srgbClr val="333333"/>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848" name=""/>
            <p:cNvSpPr/>
            <p:nvPr/>
          </p:nvSpPr>
          <p:spPr>
            <a:xfrm>
              <a:off x="5792760" y="5083200"/>
              <a:ext cx="77760" cy="77760"/>
            </a:xfrm>
            <a:prstGeom prst="ellipse">
              <a:avLst/>
            </a:prstGeom>
            <a:noFill/>
            <a:ln w="19080">
              <a:solidFill>
                <a:srgbClr val="333333"/>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849" name=""/>
            <p:cNvSpPr/>
            <p:nvPr/>
          </p:nvSpPr>
          <p:spPr>
            <a:xfrm>
              <a:off x="5587920" y="5060880"/>
              <a:ext cx="360360" cy="55800"/>
            </a:xfrm>
            <a:custGeom>
              <a:avLst/>
              <a:gdLst/>
              <a:ahLst/>
              <a:rect l="l" t="t" r="r" b="b"/>
              <a:pathLst>
                <a:path w="380" h="58">
                  <a:moveTo>
                    <a:pt x="0" y="58"/>
                  </a:moveTo>
                  <a:lnTo>
                    <a:pt x="126" y="58"/>
                  </a:lnTo>
                  <a:lnTo>
                    <a:pt x="253" y="58"/>
                  </a:lnTo>
                  <a:lnTo>
                    <a:pt x="380" y="0"/>
                  </a:lnTo>
                </a:path>
              </a:pathLst>
            </a:custGeom>
            <a:noFill/>
            <a:ln w="19080">
              <a:solidFill>
                <a:srgbClr val="333333"/>
              </a:solidFill>
              <a:round/>
            </a:ln>
          </p:spPr>
          <p:style>
            <a:lnRef idx="0"/>
            <a:fillRef idx="0"/>
            <a:effectRef idx="0"/>
            <a:fontRef idx="minor"/>
          </p:style>
          <p:txBody>
            <a:bodyPr lIns="90000" rIns="90000" tIns="9000" bIns="9000" anchor="t">
              <a:noAutofit/>
            </a:bodyPr>
            <a:p>
              <a:endParaRPr b="0" lang="en-US" sz="2400" spc="-1" strike="noStrike">
                <a:solidFill>
                  <a:srgbClr val="333333"/>
                </a:solidFill>
                <a:latin typeface="Times New Roman"/>
              </a:endParaRPr>
            </a:p>
          </p:txBody>
        </p:sp>
        <p:sp>
          <p:nvSpPr>
            <p:cNvPr id="850" name=""/>
            <p:cNvSpPr/>
            <p:nvPr/>
          </p:nvSpPr>
          <p:spPr>
            <a:xfrm>
              <a:off x="5554800" y="5083200"/>
              <a:ext cx="74520" cy="77760"/>
            </a:xfrm>
            <a:prstGeom prst="ellipse">
              <a:avLst/>
            </a:prstGeom>
            <a:noFill/>
            <a:ln w="28440">
              <a:solidFill>
                <a:srgbClr val="333333"/>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851" name=""/>
            <p:cNvSpPr/>
            <p:nvPr/>
          </p:nvSpPr>
          <p:spPr>
            <a:xfrm>
              <a:off x="5673600" y="5083200"/>
              <a:ext cx="77760" cy="77760"/>
            </a:xfrm>
            <a:prstGeom prst="ellipse">
              <a:avLst/>
            </a:prstGeom>
            <a:noFill/>
            <a:ln w="28440">
              <a:solidFill>
                <a:srgbClr val="333333"/>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852" name=""/>
            <p:cNvSpPr/>
            <p:nvPr/>
          </p:nvSpPr>
          <p:spPr>
            <a:xfrm>
              <a:off x="5792760" y="5083200"/>
              <a:ext cx="77760" cy="77760"/>
            </a:xfrm>
            <a:prstGeom prst="ellipse">
              <a:avLst/>
            </a:prstGeom>
            <a:noFill/>
            <a:ln w="28440">
              <a:solidFill>
                <a:srgbClr val="333333"/>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853" name=""/>
            <p:cNvSpPr/>
            <p:nvPr/>
          </p:nvSpPr>
          <p:spPr>
            <a:xfrm>
              <a:off x="5915160" y="5029200"/>
              <a:ext cx="75960" cy="76320"/>
            </a:xfrm>
            <a:prstGeom prst="ellipse">
              <a:avLst/>
            </a:prstGeom>
            <a:noFill/>
            <a:ln w="2844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854" name=""/>
            <p:cNvSpPr/>
            <p:nvPr/>
          </p:nvSpPr>
          <p:spPr>
            <a:xfrm>
              <a:off x="5587920" y="3290760"/>
              <a:ext cx="3232080" cy="0"/>
            </a:xfrm>
            <a:prstGeom prst="line">
              <a:avLst/>
            </a:prstGeom>
            <a:ln w="9360">
              <a:solidFill>
                <a:srgbClr val="6600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Remainder of the response - </a:t>
            </a:r>
            <a:r>
              <a:rPr b="0" i="1" lang="en-US" sz="3600" spc="-1" strike="noStrike">
                <a:solidFill>
                  <a:srgbClr val="333333"/>
                </a:solidFill>
                <a:latin typeface="Times New Roman"/>
              </a:rPr>
              <a:t>Note input remains unsaturated</a:t>
            </a:r>
            <a:endParaRPr b="0" lang="en-US" sz="3600" spc="-1" strike="noStrike">
              <a:solidFill>
                <a:srgbClr val="6600cc"/>
              </a:solidFill>
              <a:latin typeface="Times New Roman"/>
            </a:endParaRPr>
          </a:p>
        </p:txBody>
      </p:sp>
      <p:grpSp>
        <p:nvGrpSpPr>
          <p:cNvPr id="856" name=""/>
          <p:cNvGrpSpPr/>
          <p:nvPr/>
        </p:nvGrpSpPr>
        <p:grpSpPr>
          <a:xfrm>
            <a:off x="185760" y="2881440"/>
            <a:ext cx="4604040" cy="3267720"/>
            <a:chOff x="185760" y="2881440"/>
            <a:chExt cx="4604040" cy="3267720"/>
          </a:xfrm>
        </p:grpSpPr>
        <p:sp>
          <p:nvSpPr>
            <p:cNvPr id="857" name=""/>
            <p:cNvSpPr/>
            <p:nvPr/>
          </p:nvSpPr>
          <p:spPr>
            <a:xfrm>
              <a:off x="906480" y="2951280"/>
              <a:ext cx="3790800" cy="266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58" name=""/>
            <p:cNvSpPr/>
            <p:nvPr/>
          </p:nvSpPr>
          <p:spPr>
            <a:xfrm>
              <a:off x="906480" y="2951280"/>
              <a:ext cx="3790800" cy="2665440"/>
            </a:xfrm>
            <a:prstGeom prst="rect">
              <a:avLst/>
            </a:prstGeom>
            <a:noFill/>
            <a:ln w="126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59" name=""/>
            <p:cNvSpPr/>
            <p:nvPr/>
          </p:nvSpPr>
          <p:spPr>
            <a:xfrm flipV="1">
              <a:off x="906480" y="2951280"/>
              <a:ext cx="1440" cy="2665440"/>
            </a:xfrm>
            <a:prstGeom prst="line">
              <a:avLst/>
            </a:prstGeom>
            <a:ln w="126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60" name=""/>
            <p:cNvSpPr/>
            <p:nvPr/>
          </p:nvSpPr>
          <p:spPr>
            <a:xfrm flipV="1">
              <a:off x="906480" y="2951280"/>
              <a:ext cx="1440" cy="2665440"/>
            </a:xfrm>
            <a:prstGeom prst="line">
              <a:avLst/>
            </a:prstGeom>
            <a:ln w="126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61" name=""/>
            <p:cNvSpPr/>
            <p:nvPr/>
          </p:nvSpPr>
          <p:spPr>
            <a:xfrm flipV="1">
              <a:off x="906480" y="5580000"/>
              <a:ext cx="1440" cy="36720"/>
            </a:xfrm>
            <a:prstGeom prst="line">
              <a:avLst/>
            </a:prstGeom>
            <a:ln w="126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862" name=""/>
            <p:cNvSpPr/>
            <p:nvPr/>
          </p:nvSpPr>
          <p:spPr>
            <a:xfrm>
              <a:off x="906480" y="2951280"/>
              <a:ext cx="1440" cy="36360"/>
            </a:xfrm>
            <a:prstGeom prst="line">
              <a:avLst/>
            </a:prstGeom>
            <a:ln w="1260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863" name=""/>
            <p:cNvSpPr/>
            <p:nvPr/>
          </p:nvSpPr>
          <p:spPr>
            <a:xfrm>
              <a:off x="822240" y="565164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864" name=""/>
            <p:cNvSpPr/>
            <p:nvPr/>
          </p:nvSpPr>
          <p:spPr>
            <a:xfrm flipV="1">
              <a:off x="1379520" y="5580000"/>
              <a:ext cx="0" cy="36720"/>
            </a:xfrm>
            <a:prstGeom prst="line">
              <a:avLst/>
            </a:prstGeom>
            <a:ln w="126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865" name=""/>
            <p:cNvSpPr/>
            <p:nvPr/>
          </p:nvSpPr>
          <p:spPr>
            <a:xfrm>
              <a:off x="1379520" y="2951280"/>
              <a:ext cx="0" cy="36360"/>
            </a:xfrm>
            <a:prstGeom prst="line">
              <a:avLst/>
            </a:prstGeom>
            <a:ln w="1260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866" name=""/>
            <p:cNvSpPr/>
            <p:nvPr/>
          </p:nvSpPr>
          <p:spPr>
            <a:xfrm>
              <a:off x="1201680" y="565164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867" name=""/>
            <p:cNvSpPr/>
            <p:nvPr/>
          </p:nvSpPr>
          <p:spPr>
            <a:xfrm flipV="1">
              <a:off x="1852560" y="5580000"/>
              <a:ext cx="0" cy="36720"/>
            </a:xfrm>
            <a:prstGeom prst="line">
              <a:avLst/>
            </a:prstGeom>
            <a:ln w="126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868" name=""/>
            <p:cNvSpPr/>
            <p:nvPr/>
          </p:nvSpPr>
          <p:spPr>
            <a:xfrm>
              <a:off x="1852560" y="2951280"/>
              <a:ext cx="0" cy="36360"/>
            </a:xfrm>
            <a:prstGeom prst="line">
              <a:avLst/>
            </a:prstGeom>
            <a:ln w="1260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869" name=""/>
            <p:cNvSpPr/>
            <p:nvPr/>
          </p:nvSpPr>
          <p:spPr>
            <a:xfrm>
              <a:off x="1768320" y="565164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870" name=""/>
            <p:cNvSpPr/>
            <p:nvPr/>
          </p:nvSpPr>
          <p:spPr>
            <a:xfrm flipV="1">
              <a:off x="2325600" y="5580000"/>
              <a:ext cx="1800" cy="36720"/>
            </a:xfrm>
            <a:prstGeom prst="line">
              <a:avLst/>
            </a:prstGeom>
            <a:ln w="126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871" name=""/>
            <p:cNvSpPr/>
            <p:nvPr/>
          </p:nvSpPr>
          <p:spPr>
            <a:xfrm>
              <a:off x="2325600" y="2951280"/>
              <a:ext cx="1800" cy="36360"/>
            </a:xfrm>
            <a:prstGeom prst="line">
              <a:avLst/>
            </a:prstGeom>
            <a:ln w="1260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872" name=""/>
            <p:cNvSpPr/>
            <p:nvPr/>
          </p:nvSpPr>
          <p:spPr>
            <a:xfrm>
              <a:off x="2149560" y="565164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873" name=""/>
            <p:cNvSpPr/>
            <p:nvPr/>
          </p:nvSpPr>
          <p:spPr>
            <a:xfrm flipV="1">
              <a:off x="2806560" y="5580000"/>
              <a:ext cx="1800" cy="36720"/>
            </a:xfrm>
            <a:prstGeom prst="line">
              <a:avLst/>
            </a:prstGeom>
            <a:ln w="126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874" name=""/>
            <p:cNvSpPr/>
            <p:nvPr/>
          </p:nvSpPr>
          <p:spPr>
            <a:xfrm>
              <a:off x="2806560" y="2951280"/>
              <a:ext cx="1800" cy="36360"/>
            </a:xfrm>
            <a:prstGeom prst="line">
              <a:avLst/>
            </a:prstGeom>
            <a:ln w="1260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875" name=""/>
            <p:cNvSpPr/>
            <p:nvPr/>
          </p:nvSpPr>
          <p:spPr>
            <a:xfrm>
              <a:off x="2776680" y="56516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876" name=""/>
            <p:cNvSpPr/>
            <p:nvPr/>
          </p:nvSpPr>
          <p:spPr>
            <a:xfrm flipV="1">
              <a:off x="3281400" y="5580000"/>
              <a:ext cx="0" cy="36720"/>
            </a:xfrm>
            <a:prstGeom prst="line">
              <a:avLst/>
            </a:prstGeom>
            <a:ln w="126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877" name=""/>
            <p:cNvSpPr/>
            <p:nvPr/>
          </p:nvSpPr>
          <p:spPr>
            <a:xfrm>
              <a:off x="3281400" y="2951280"/>
              <a:ext cx="0" cy="36360"/>
            </a:xfrm>
            <a:prstGeom prst="line">
              <a:avLst/>
            </a:prstGeom>
            <a:ln w="1260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878" name=""/>
            <p:cNvSpPr/>
            <p:nvPr/>
          </p:nvSpPr>
          <p:spPr>
            <a:xfrm>
              <a:off x="3156120" y="565164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879" name=""/>
            <p:cNvSpPr/>
            <p:nvPr/>
          </p:nvSpPr>
          <p:spPr>
            <a:xfrm flipV="1">
              <a:off x="3753000" y="5580000"/>
              <a:ext cx="0" cy="36720"/>
            </a:xfrm>
            <a:prstGeom prst="line">
              <a:avLst/>
            </a:prstGeom>
            <a:ln w="126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880" name=""/>
            <p:cNvSpPr/>
            <p:nvPr/>
          </p:nvSpPr>
          <p:spPr>
            <a:xfrm>
              <a:off x="3753000" y="2951280"/>
              <a:ext cx="0" cy="36360"/>
            </a:xfrm>
            <a:prstGeom prst="line">
              <a:avLst/>
            </a:prstGeom>
            <a:ln w="1260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881" name=""/>
            <p:cNvSpPr/>
            <p:nvPr/>
          </p:nvSpPr>
          <p:spPr>
            <a:xfrm>
              <a:off x="3720960" y="56516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882" name=""/>
            <p:cNvSpPr/>
            <p:nvPr/>
          </p:nvSpPr>
          <p:spPr>
            <a:xfrm flipV="1">
              <a:off x="4226040" y="5580000"/>
              <a:ext cx="1440" cy="36720"/>
            </a:xfrm>
            <a:prstGeom prst="line">
              <a:avLst/>
            </a:prstGeom>
            <a:ln w="126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883" name=""/>
            <p:cNvSpPr/>
            <p:nvPr/>
          </p:nvSpPr>
          <p:spPr>
            <a:xfrm>
              <a:off x="4226040" y="2951280"/>
              <a:ext cx="1440" cy="36360"/>
            </a:xfrm>
            <a:prstGeom prst="line">
              <a:avLst/>
            </a:prstGeom>
            <a:ln w="1260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884" name=""/>
            <p:cNvSpPr/>
            <p:nvPr/>
          </p:nvSpPr>
          <p:spPr>
            <a:xfrm>
              <a:off x="4100760" y="565164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885" name=""/>
            <p:cNvSpPr/>
            <p:nvPr/>
          </p:nvSpPr>
          <p:spPr>
            <a:xfrm flipV="1">
              <a:off x="4697280" y="5580000"/>
              <a:ext cx="1800" cy="36720"/>
            </a:xfrm>
            <a:prstGeom prst="line">
              <a:avLst/>
            </a:prstGeom>
            <a:ln w="126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886" name=""/>
            <p:cNvSpPr/>
            <p:nvPr/>
          </p:nvSpPr>
          <p:spPr>
            <a:xfrm>
              <a:off x="4697280" y="2951280"/>
              <a:ext cx="1800" cy="36360"/>
            </a:xfrm>
            <a:prstGeom prst="line">
              <a:avLst/>
            </a:prstGeom>
            <a:ln w="12600">
              <a:solidFill>
                <a:srgbClr val="004c2b"/>
              </a:solidFill>
              <a:miter/>
            </a:ln>
          </p:spPr>
          <p:style>
            <a:lnRef idx="0"/>
            <a:fillRef idx="0"/>
            <a:effectRef idx="0"/>
            <a:fontRef idx="minor"/>
          </p:style>
          <p:txBody>
            <a:bodyPr lIns="90000" rIns="90000" tIns="-10440" bIns="-10440" anchor="t">
              <a:noAutofit/>
            </a:bodyPr>
            <a:p>
              <a:endParaRPr b="0" lang="en-US" sz="2400" spc="-1" strike="noStrike">
                <a:solidFill>
                  <a:srgbClr val="333333"/>
                </a:solidFill>
                <a:latin typeface="Times New Roman"/>
              </a:endParaRPr>
            </a:p>
          </p:txBody>
        </p:sp>
        <p:sp>
          <p:nvSpPr>
            <p:cNvPr id="887" name=""/>
            <p:cNvSpPr/>
            <p:nvPr/>
          </p:nvSpPr>
          <p:spPr>
            <a:xfrm>
              <a:off x="4668840" y="56516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888" name=""/>
            <p:cNvSpPr/>
            <p:nvPr/>
          </p:nvSpPr>
          <p:spPr>
            <a:xfrm>
              <a:off x="906480" y="5616720"/>
              <a:ext cx="34920" cy="0"/>
            </a:xfrm>
            <a:prstGeom prst="line">
              <a:avLst/>
            </a:prstGeom>
            <a:ln w="126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89" name=""/>
            <p:cNvSpPr/>
            <p:nvPr/>
          </p:nvSpPr>
          <p:spPr>
            <a:xfrm flipH="1">
              <a:off x="4664160" y="5616720"/>
              <a:ext cx="33120" cy="0"/>
            </a:xfrm>
            <a:prstGeom prst="line">
              <a:avLst/>
            </a:prstGeom>
            <a:ln w="126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90" name=""/>
            <p:cNvSpPr/>
            <p:nvPr/>
          </p:nvSpPr>
          <p:spPr>
            <a:xfrm>
              <a:off x="381240" y="554688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891" name=""/>
            <p:cNvSpPr/>
            <p:nvPr/>
          </p:nvSpPr>
          <p:spPr>
            <a:xfrm>
              <a:off x="906480" y="5168880"/>
              <a:ext cx="34920" cy="0"/>
            </a:xfrm>
            <a:prstGeom prst="line">
              <a:avLst/>
            </a:prstGeom>
            <a:ln w="126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92" name=""/>
            <p:cNvSpPr/>
            <p:nvPr/>
          </p:nvSpPr>
          <p:spPr>
            <a:xfrm flipH="1">
              <a:off x="4664160" y="5168880"/>
              <a:ext cx="33120" cy="0"/>
            </a:xfrm>
            <a:prstGeom prst="line">
              <a:avLst/>
            </a:prstGeom>
            <a:ln w="126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93" name=""/>
            <p:cNvSpPr/>
            <p:nvPr/>
          </p:nvSpPr>
          <p:spPr>
            <a:xfrm>
              <a:off x="542880" y="509760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894" name=""/>
            <p:cNvSpPr/>
            <p:nvPr/>
          </p:nvSpPr>
          <p:spPr>
            <a:xfrm>
              <a:off x="906480" y="4729320"/>
              <a:ext cx="34920" cy="1440"/>
            </a:xfrm>
            <a:prstGeom prst="line">
              <a:avLst/>
            </a:prstGeom>
            <a:ln w="1260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95" name=""/>
            <p:cNvSpPr/>
            <p:nvPr/>
          </p:nvSpPr>
          <p:spPr>
            <a:xfrm flipH="1">
              <a:off x="4664160" y="4729320"/>
              <a:ext cx="33120" cy="1440"/>
            </a:xfrm>
            <a:prstGeom prst="line">
              <a:avLst/>
            </a:prstGeom>
            <a:ln w="1260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96" name=""/>
            <p:cNvSpPr/>
            <p:nvPr/>
          </p:nvSpPr>
          <p:spPr>
            <a:xfrm>
              <a:off x="392040" y="465948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897" name=""/>
            <p:cNvSpPr/>
            <p:nvPr/>
          </p:nvSpPr>
          <p:spPr>
            <a:xfrm>
              <a:off x="906480" y="4284720"/>
              <a:ext cx="34920" cy="1440"/>
            </a:xfrm>
            <a:prstGeom prst="line">
              <a:avLst/>
            </a:prstGeom>
            <a:ln w="1260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98" name=""/>
            <p:cNvSpPr/>
            <p:nvPr/>
          </p:nvSpPr>
          <p:spPr>
            <a:xfrm flipH="1">
              <a:off x="4664160" y="4284720"/>
              <a:ext cx="33120" cy="1440"/>
            </a:xfrm>
            <a:prstGeom prst="line">
              <a:avLst/>
            </a:prstGeom>
            <a:ln w="1260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899" name=""/>
            <p:cNvSpPr/>
            <p:nvPr/>
          </p:nvSpPr>
          <p:spPr>
            <a:xfrm>
              <a:off x="604800" y="42130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900" name=""/>
            <p:cNvSpPr/>
            <p:nvPr/>
          </p:nvSpPr>
          <p:spPr>
            <a:xfrm>
              <a:off x="906480" y="3836880"/>
              <a:ext cx="34920" cy="1800"/>
            </a:xfrm>
            <a:prstGeom prst="line">
              <a:avLst/>
            </a:prstGeom>
            <a:ln w="1260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901" name=""/>
            <p:cNvSpPr/>
            <p:nvPr/>
          </p:nvSpPr>
          <p:spPr>
            <a:xfrm flipH="1">
              <a:off x="4664160" y="3836880"/>
              <a:ext cx="33120" cy="1800"/>
            </a:xfrm>
            <a:prstGeom prst="line">
              <a:avLst/>
            </a:prstGeom>
            <a:ln w="1260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902" name=""/>
            <p:cNvSpPr/>
            <p:nvPr/>
          </p:nvSpPr>
          <p:spPr>
            <a:xfrm>
              <a:off x="454320" y="376884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903" name=""/>
            <p:cNvSpPr/>
            <p:nvPr/>
          </p:nvSpPr>
          <p:spPr>
            <a:xfrm>
              <a:off x="906480" y="3398760"/>
              <a:ext cx="34920" cy="1800"/>
            </a:xfrm>
            <a:prstGeom prst="line">
              <a:avLst/>
            </a:prstGeom>
            <a:ln w="1260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904" name=""/>
            <p:cNvSpPr/>
            <p:nvPr/>
          </p:nvSpPr>
          <p:spPr>
            <a:xfrm flipH="1">
              <a:off x="4664160" y="3398760"/>
              <a:ext cx="33120" cy="1800"/>
            </a:xfrm>
            <a:prstGeom prst="line">
              <a:avLst/>
            </a:prstGeom>
            <a:ln w="1260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905" name=""/>
            <p:cNvSpPr/>
            <p:nvPr/>
          </p:nvSpPr>
          <p:spPr>
            <a:xfrm>
              <a:off x="604800" y="33289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906" name=""/>
            <p:cNvSpPr/>
            <p:nvPr/>
          </p:nvSpPr>
          <p:spPr>
            <a:xfrm>
              <a:off x="906480" y="2951280"/>
              <a:ext cx="34920" cy="1440"/>
            </a:xfrm>
            <a:prstGeom prst="line">
              <a:avLst/>
            </a:prstGeom>
            <a:ln w="1260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907" name=""/>
            <p:cNvSpPr/>
            <p:nvPr/>
          </p:nvSpPr>
          <p:spPr>
            <a:xfrm flipH="1">
              <a:off x="4664160" y="2951280"/>
              <a:ext cx="33120" cy="1440"/>
            </a:xfrm>
            <a:prstGeom prst="line">
              <a:avLst/>
            </a:prstGeom>
            <a:ln w="1260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908" name=""/>
            <p:cNvSpPr/>
            <p:nvPr/>
          </p:nvSpPr>
          <p:spPr>
            <a:xfrm>
              <a:off x="454320" y="288144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909" name=""/>
            <p:cNvSpPr/>
            <p:nvPr/>
          </p:nvSpPr>
          <p:spPr>
            <a:xfrm flipV="1">
              <a:off x="906480" y="2951280"/>
              <a:ext cx="1440" cy="2665440"/>
            </a:xfrm>
            <a:prstGeom prst="line">
              <a:avLst/>
            </a:prstGeom>
            <a:ln w="126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10" name=""/>
            <p:cNvSpPr/>
            <p:nvPr/>
          </p:nvSpPr>
          <p:spPr>
            <a:xfrm>
              <a:off x="3760920" y="2941560"/>
              <a:ext cx="657000" cy="2706840"/>
            </a:xfrm>
            <a:custGeom>
              <a:avLst/>
              <a:gdLst/>
              <a:ahLst/>
              <a:rect l="l" t="t" r="r" b="b"/>
              <a:pathLst>
                <a:path w="1372" h="5650">
                  <a:moveTo>
                    <a:pt x="0" y="0"/>
                  </a:moveTo>
                  <a:lnTo>
                    <a:pt x="25" y="109"/>
                  </a:lnTo>
                  <a:lnTo>
                    <a:pt x="67" y="293"/>
                  </a:lnTo>
                  <a:lnTo>
                    <a:pt x="117" y="485"/>
                  </a:lnTo>
                  <a:lnTo>
                    <a:pt x="159" y="670"/>
                  </a:lnTo>
                  <a:lnTo>
                    <a:pt x="201" y="845"/>
                  </a:lnTo>
                  <a:lnTo>
                    <a:pt x="251" y="1030"/>
                  </a:lnTo>
                  <a:lnTo>
                    <a:pt x="293" y="1214"/>
                  </a:lnTo>
                  <a:lnTo>
                    <a:pt x="343" y="1406"/>
                  </a:lnTo>
                  <a:lnTo>
                    <a:pt x="385" y="1590"/>
                  </a:lnTo>
                  <a:lnTo>
                    <a:pt x="427" y="1774"/>
                  </a:lnTo>
                  <a:lnTo>
                    <a:pt x="477" y="1959"/>
                  </a:lnTo>
                  <a:lnTo>
                    <a:pt x="519" y="2151"/>
                  </a:lnTo>
                  <a:lnTo>
                    <a:pt x="569" y="2335"/>
                  </a:lnTo>
                  <a:lnTo>
                    <a:pt x="611" y="2519"/>
                  </a:lnTo>
                  <a:lnTo>
                    <a:pt x="653" y="2703"/>
                  </a:lnTo>
                  <a:lnTo>
                    <a:pt x="703" y="2888"/>
                  </a:lnTo>
                  <a:lnTo>
                    <a:pt x="745" y="3080"/>
                  </a:lnTo>
                  <a:lnTo>
                    <a:pt x="795" y="3264"/>
                  </a:lnTo>
                  <a:lnTo>
                    <a:pt x="837" y="3448"/>
                  </a:lnTo>
                  <a:lnTo>
                    <a:pt x="887" y="3632"/>
                  </a:lnTo>
                  <a:lnTo>
                    <a:pt x="929" y="3817"/>
                  </a:lnTo>
                  <a:lnTo>
                    <a:pt x="970" y="4009"/>
                  </a:lnTo>
                  <a:lnTo>
                    <a:pt x="1020" y="4193"/>
                  </a:lnTo>
                  <a:lnTo>
                    <a:pt x="1062" y="4377"/>
                  </a:lnTo>
                  <a:lnTo>
                    <a:pt x="1112" y="4561"/>
                  </a:lnTo>
                  <a:lnTo>
                    <a:pt x="1154" y="4746"/>
                  </a:lnTo>
                  <a:lnTo>
                    <a:pt x="1196" y="4938"/>
                  </a:lnTo>
                  <a:lnTo>
                    <a:pt x="1246" y="5122"/>
                  </a:lnTo>
                  <a:lnTo>
                    <a:pt x="1288" y="5306"/>
                  </a:lnTo>
                  <a:lnTo>
                    <a:pt x="1338" y="5490"/>
                  </a:lnTo>
                  <a:lnTo>
                    <a:pt x="1372" y="565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11" name=""/>
            <p:cNvSpPr/>
            <p:nvPr/>
          </p:nvSpPr>
          <p:spPr>
            <a:xfrm>
              <a:off x="2714400" y="588960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x1</a:t>
              </a:r>
              <a:endParaRPr b="0" lang="en-US" sz="1700" spc="-1" strike="noStrike">
                <a:solidFill>
                  <a:srgbClr val="333333"/>
                </a:solidFill>
                <a:latin typeface="Times New Roman"/>
              </a:endParaRPr>
            </a:p>
          </p:txBody>
        </p:sp>
        <p:sp>
          <p:nvSpPr>
            <p:cNvPr id="912" name=""/>
            <p:cNvSpPr/>
            <p:nvPr/>
          </p:nvSpPr>
          <p:spPr>
            <a:xfrm rot="16200000">
              <a:off x="200880" y="411948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x2</a:t>
              </a:r>
              <a:endParaRPr b="0" lang="en-US" sz="1700" spc="-1" strike="noStrike">
                <a:solidFill>
                  <a:srgbClr val="333333"/>
                </a:solidFill>
                <a:latin typeface="Times New Roman"/>
              </a:endParaRPr>
            </a:p>
          </p:txBody>
        </p:sp>
        <p:sp>
          <p:nvSpPr>
            <p:cNvPr id="913" name=""/>
            <p:cNvSpPr/>
            <p:nvPr/>
          </p:nvSpPr>
          <p:spPr>
            <a:xfrm>
              <a:off x="1193760" y="2938320"/>
              <a:ext cx="655560" cy="2702160"/>
            </a:xfrm>
            <a:custGeom>
              <a:avLst/>
              <a:gdLst/>
              <a:ahLst/>
              <a:rect l="l" t="t" r="r" b="b"/>
              <a:pathLst>
                <a:path w="1371" h="5650">
                  <a:moveTo>
                    <a:pt x="0" y="0"/>
                  </a:moveTo>
                  <a:lnTo>
                    <a:pt x="25" y="134"/>
                  </a:lnTo>
                  <a:lnTo>
                    <a:pt x="75" y="318"/>
                  </a:lnTo>
                  <a:lnTo>
                    <a:pt x="117" y="502"/>
                  </a:lnTo>
                  <a:lnTo>
                    <a:pt x="167" y="686"/>
                  </a:lnTo>
                  <a:lnTo>
                    <a:pt x="209" y="870"/>
                  </a:lnTo>
                  <a:lnTo>
                    <a:pt x="251" y="1055"/>
                  </a:lnTo>
                  <a:lnTo>
                    <a:pt x="301" y="1239"/>
                  </a:lnTo>
                  <a:lnTo>
                    <a:pt x="343" y="1423"/>
                  </a:lnTo>
                  <a:lnTo>
                    <a:pt x="393" y="1607"/>
                  </a:lnTo>
                  <a:lnTo>
                    <a:pt x="435" y="1800"/>
                  </a:lnTo>
                  <a:lnTo>
                    <a:pt x="485" y="1984"/>
                  </a:lnTo>
                  <a:lnTo>
                    <a:pt x="527" y="2168"/>
                  </a:lnTo>
                  <a:lnTo>
                    <a:pt x="569" y="2352"/>
                  </a:lnTo>
                  <a:lnTo>
                    <a:pt x="619" y="2536"/>
                  </a:lnTo>
                  <a:lnTo>
                    <a:pt x="661" y="2729"/>
                  </a:lnTo>
                  <a:lnTo>
                    <a:pt x="711" y="2913"/>
                  </a:lnTo>
                  <a:lnTo>
                    <a:pt x="753" y="3097"/>
                  </a:lnTo>
                  <a:lnTo>
                    <a:pt x="794" y="3281"/>
                  </a:lnTo>
                  <a:lnTo>
                    <a:pt x="845" y="3473"/>
                  </a:lnTo>
                  <a:lnTo>
                    <a:pt x="886" y="3658"/>
                  </a:lnTo>
                  <a:lnTo>
                    <a:pt x="937" y="3842"/>
                  </a:lnTo>
                  <a:lnTo>
                    <a:pt x="978" y="4026"/>
                  </a:lnTo>
                  <a:lnTo>
                    <a:pt x="1020" y="4210"/>
                  </a:lnTo>
                  <a:lnTo>
                    <a:pt x="1070" y="4402"/>
                  </a:lnTo>
                  <a:lnTo>
                    <a:pt x="1112" y="4587"/>
                  </a:lnTo>
                  <a:lnTo>
                    <a:pt x="1162" y="4771"/>
                  </a:lnTo>
                  <a:lnTo>
                    <a:pt x="1204" y="4955"/>
                  </a:lnTo>
                  <a:lnTo>
                    <a:pt x="1254" y="5139"/>
                  </a:lnTo>
                  <a:lnTo>
                    <a:pt x="1296" y="5331"/>
                  </a:lnTo>
                  <a:lnTo>
                    <a:pt x="1338" y="5516"/>
                  </a:lnTo>
                  <a:lnTo>
                    <a:pt x="1371" y="565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14" name=""/>
            <p:cNvSpPr/>
            <p:nvPr/>
          </p:nvSpPr>
          <p:spPr>
            <a:xfrm>
              <a:off x="2440080" y="2954160"/>
              <a:ext cx="1717560" cy="2664000"/>
            </a:xfrm>
            <a:custGeom>
              <a:avLst/>
              <a:gdLst/>
              <a:ahLst/>
              <a:rect l="l" t="t" r="r" b="b"/>
              <a:pathLst>
                <a:path w="3646" h="5650">
                  <a:moveTo>
                    <a:pt x="0" y="0"/>
                  </a:moveTo>
                  <a:lnTo>
                    <a:pt x="41" y="67"/>
                  </a:lnTo>
                  <a:lnTo>
                    <a:pt x="92" y="142"/>
                  </a:lnTo>
                  <a:lnTo>
                    <a:pt x="133" y="209"/>
                  </a:lnTo>
                  <a:lnTo>
                    <a:pt x="184" y="285"/>
                  </a:lnTo>
                  <a:lnTo>
                    <a:pt x="225" y="352"/>
                  </a:lnTo>
                  <a:lnTo>
                    <a:pt x="267" y="419"/>
                  </a:lnTo>
                  <a:lnTo>
                    <a:pt x="317" y="494"/>
                  </a:lnTo>
                  <a:lnTo>
                    <a:pt x="359" y="561"/>
                  </a:lnTo>
                  <a:lnTo>
                    <a:pt x="409" y="628"/>
                  </a:lnTo>
                  <a:lnTo>
                    <a:pt x="451" y="703"/>
                  </a:lnTo>
                  <a:lnTo>
                    <a:pt x="501" y="770"/>
                  </a:lnTo>
                  <a:lnTo>
                    <a:pt x="543" y="837"/>
                  </a:lnTo>
                  <a:lnTo>
                    <a:pt x="585" y="904"/>
                  </a:lnTo>
                  <a:lnTo>
                    <a:pt x="635" y="971"/>
                  </a:lnTo>
                  <a:lnTo>
                    <a:pt x="677" y="1046"/>
                  </a:lnTo>
                  <a:lnTo>
                    <a:pt x="727" y="1113"/>
                  </a:lnTo>
                  <a:lnTo>
                    <a:pt x="769" y="1189"/>
                  </a:lnTo>
                  <a:lnTo>
                    <a:pt x="811" y="1255"/>
                  </a:lnTo>
                  <a:lnTo>
                    <a:pt x="861" y="1322"/>
                  </a:lnTo>
                  <a:lnTo>
                    <a:pt x="903" y="1398"/>
                  </a:lnTo>
                  <a:lnTo>
                    <a:pt x="953" y="1465"/>
                  </a:lnTo>
                  <a:lnTo>
                    <a:pt x="995" y="1540"/>
                  </a:lnTo>
                  <a:lnTo>
                    <a:pt x="1045" y="1607"/>
                  </a:lnTo>
                  <a:lnTo>
                    <a:pt x="1087" y="1674"/>
                  </a:lnTo>
                  <a:lnTo>
                    <a:pt x="1129" y="1749"/>
                  </a:lnTo>
                  <a:lnTo>
                    <a:pt x="1179" y="1816"/>
                  </a:lnTo>
                  <a:lnTo>
                    <a:pt x="1221" y="1883"/>
                  </a:lnTo>
                  <a:lnTo>
                    <a:pt x="1271" y="1959"/>
                  </a:lnTo>
                  <a:lnTo>
                    <a:pt x="1313" y="2025"/>
                  </a:lnTo>
                  <a:lnTo>
                    <a:pt x="1354" y="2101"/>
                  </a:lnTo>
                  <a:lnTo>
                    <a:pt x="1405" y="2168"/>
                  </a:lnTo>
                  <a:lnTo>
                    <a:pt x="1446" y="2235"/>
                  </a:lnTo>
                  <a:lnTo>
                    <a:pt x="1497" y="2310"/>
                  </a:lnTo>
                  <a:lnTo>
                    <a:pt x="1538" y="2377"/>
                  </a:lnTo>
                  <a:lnTo>
                    <a:pt x="1580" y="2452"/>
                  </a:lnTo>
                  <a:lnTo>
                    <a:pt x="1630" y="2519"/>
                  </a:lnTo>
                  <a:lnTo>
                    <a:pt x="1672" y="2586"/>
                  </a:lnTo>
                  <a:lnTo>
                    <a:pt x="1722" y="2662"/>
                  </a:lnTo>
                  <a:lnTo>
                    <a:pt x="1764" y="2729"/>
                  </a:lnTo>
                  <a:lnTo>
                    <a:pt x="1814" y="2795"/>
                  </a:lnTo>
                  <a:lnTo>
                    <a:pt x="1856" y="2871"/>
                  </a:lnTo>
                  <a:lnTo>
                    <a:pt x="1898" y="2938"/>
                  </a:lnTo>
                  <a:lnTo>
                    <a:pt x="1948" y="3013"/>
                  </a:lnTo>
                  <a:lnTo>
                    <a:pt x="1990" y="3080"/>
                  </a:lnTo>
                  <a:lnTo>
                    <a:pt x="2040" y="3147"/>
                  </a:lnTo>
                  <a:lnTo>
                    <a:pt x="2082" y="3222"/>
                  </a:lnTo>
                  <a:lnTo>
                    <a:pt x="2124" y="3289"/>
                  </a:lnTo>
                  <a:lnTo>
                    <a:pt x="2174" y="3365"/>
                  </a:lnTo>
                  <a:lnTo>
                    <a:pt x="2216" y="3432"/>
                  </a:lnTo>
                  <a:lnTo>
                    <a:pt x="2266" y="3499"/>
                  </a:lnTo>
                  <a:lnTo>
                    <a:pt x="2308" y="3574"/>
                  </a:lnTo>
                  <a:lnTo>
                    <a:pt x="2350" y="3641"/>
                  </a:lnTo>
                  <a:lnTo>
                    <a:pt x="2400" y="3708"/>
                  </a:lnTo>
                  <a:lnTo>
                    <a:pt x="2442" y="3783"/>
                  </a:lnTo>
                  <a:lnTo>
                    <a:pt x="2492" y="3850"/>
                  </a:lnTo>
                  <a:lnTo>
                    <a:pt x="2534" y="3925"/>
                  </a:lnTo>
                  <a:lnTo>
                    <a:pt x="2584" y="3992"/>
                  </a:lnTo>
                  <a:lnTo>
                    <a:pt x="2626" y="4059"/>
                  </a:lnTo>
                  <a:lnTo>
                    <a:pt x="2667" y="4135"/>
                  </a:lnTo>
                  <a:lnTo>
                    <a:pt x="2717" y="4202"/>
                  </a:lnTo>
                  <a:lnTo>
                    <a:pt x="2759" y="4277"/>
                  </a:lnTo>
                  <a:lnTo>
                    <a:pt x="2809" y="4344"/>
                  </a:lnTo>
                  <a:lnTo>
                    <a:pt x="2851" y="4411"/>
                  </a:lnTo>
                  <a:lnTo>
                    <a:pt x="2893" y="4486"/>
                  </a:lnTo>
                  <a:lnTo>
                    <a:pt x="2943" y="4553"/>
                  </a:lnTo>
                  <a:lnTo>
                    <a:pt x="2985" y="4620"/>
                  </a:lnTo>
                  <a:lnTo>
                    <a:pt x="3035" y="4695"/>
                  </a:lnTo>
                  <a:lnTo>
                    <a:pt x="3077" y="4762"/>
                  </a:lnTo>
                  <a:lnTo>
                    <a:pt x="3119" y="4838"/>
                  </a:lnTo>
                  <a:lnTo>
                    <a:pt x="3169" y="4905"/>
                  </a:lnTo>
                  <a:lnTo>
                    <a:pt x="3211" y="4972"/>
                  </a:lnTo>
                  <a:lnTo>
                    <a:pt x="3261" y="5047"/>
                  </a:lnTo>
                  <a:lnTo>
                    <a:pt x="3303" y="5114"/>
                  </a:lnTo>
                  <a:lnTo>
                    <a:pt x="3353" y="5189"/>
                  </a:lnTo>
                  <a:lnTo>
                    <a:pt x="3395" y="5256"/>
                  </a:lnTo>
                  <a:lnTo>
                    <a:pt x="3437" y="5323"/>
                  </a:lnTo>
                  <a:lnTo>
                    <a:pt x="3487" y="5398"/>
                  </a:lnTo>
                  <a:lnTo>
                    <a:pt x="3529" y="5465"/>
                  </a:lnTo>
                  <a:lnTo>
                    <a:pt x="3579" y="5532"/>
                  </a:lnTo>
                  <a:lnTo>
                    <a:pt x="3621" y="5608"/>
                  </a:lnTo>
                  <a:lnTo>
                    <a:pt x="3646" y="5650"/>
                  </a:lnTo>
                </a:path>
              </a:pathLst>
            </a:custGeom>
            <a:noFill/>
            <a:ln w="1260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15" name=""/>
            <p:cNvSpPr/>
            <p:nvPr/>
          </p:nvSpPr>
          <p:spPr>
            <a:xfrm>
              <a:off x="1450800" y="2960640"/>
              <a:ext cx="1716120" cy="2666880"/>
            </a:xfrm>
            <a:custGeom>
              <a:avLst/>
              <a:gdLst/>
              <a:ahLst/>
              <a:rect l="l" t="t" r="r" b="b"/>
              <a:pathLst>
                <a:path w="3637" h="5650">
                  <a:moveTo>
                    <a:pt x="0" y="0"/>
                  </a:moveTo>
                  <a:lnTo>
                    <a:pt x="41" y="75"/>
                  </a:lnTo>
                  <a:lnTo>
                    <a:pt x="83" y="142"/>
                  </a:lnTo>
                  <a:lnTo>
                    <a:pt x="133" y="209"/>
                  </a:lnTo>
                  <a:lnTo>
                    <a:pt x="175" y="285"/>
                  </a:lnTo>
                  <a:lnTo>
                    <a:pt x="217" y="352"/>
                  </a:lnTo>
                  <a:lnTo>
                    <a:pt x="267" y="419"/>
                  </a:lnTo>
                  <a:lnTo>
                    <a:pt x="309" y="494"/>
                  </a:lnTo>
                  <a:lnTo>
                    <a:pt x="359" y="561"/>
                  </a:lnTo>
                  <a:lnTo>
                    <a:pt x="401" y="636"/>
                  </a:lnTo>
                  <a:lnTo>
                    <a:pt x="443" y="703"/>
                  </a:lnTo>
                  <a:lnTo>
                    <a:pt x="493" y="770"/>
                  </a:lnTo>
                  <a:lnTo>
                    <a:pt x="535" y="837"/>
                  </a:lnTo>
                  <a:lnTo>
                    <a:pt x="585" y="904"/>
                  </a:lnTo>
                  <a:lnTo>
                    <a:pt x="627" y="979"/>
                  </a:lnTo>
                  <a:lnTo>
                    <a:pt x="677" y="1046"/>
                  </a:lnTo>
                  <a:lnTo>
                    <a:pt x="719" y="1113"/>
                  </a:lnTo>
                  <a:lnTo>
                    <a:pt x="761" y="1189"/>
                  </a:lnTo>
                  <a:lnTo>
                    <a:pt x="811" y="1255"/>
                  </a:lnTo>
                  <a:lnTo>
                    <a:pt x="853" y="1322"/>
                  </a:lnTo>
                  <a:lnTo>
                    <a:pt x="903" y="1398"/>
                  </a:lnTo>
                  <a:lnTo>
                    <a:pt x="945" y="1465"/>
                  </a:lnTo>
                  <a:lnTo>
                    <a:pt x="986" y="1540"/>
                  </a:lnTo>
                  <a:lnTo>
                    <a:pt x="1037" y="1607"/>
                  </a:lnTo>
                  <a:lnTo>
                    <a:pt x="1078" y="1674"/>
                  </a:lnTo>
                  <a:lnTo>
                    <a:pt x="1129" y="1749"/>
                  </a:lnTo>
                  <a:lnTo>
                    <a:pt x="1170" y="1816"/>
                  </a:lnTo>
                  <a:lnTo>
                    <a:pt x="1212" y="1892"/>
                  </a:lnTo>
                  <a:lnTo>
                    <a:pt x="1262" y="1959"/>
                  </a:lnTo>
                  <a:lnTo>
                    <a:pt x="1304" y="2025"/>
                  </a:lnTo>
                  <a:lnTo>
                    <a:pt x="1354" y="2101"/>
                  </a:lnTo>
                  <a:lnTo>
                    <a:pt x="1396" y="2168"/>
                  </a:lnTo>
                  <a:lnTo>
                    <a:pt x="1446" y="2235"/>
                  </a:lnTo>
                  <a:lnTo>
                    <a:pt x="1488" y="2310"/>
                  </a:lnTo>
                  <a:lnTo>
                    <a:pt x="1530" y="2377"/>
                  </a:lnTo>
                  <a:lnTo>
                    <a:pt x="1580" y="2452"/>
                  </a:lnTo>
                  <a:lnTo>
                    <a:pt x="1622" y="2519"/>
                  </a:lnTo>
                  <a:lnTo>
                    <a:pt x="1672" y="2586"/>
                  </a:lnTo>
                  <a:lnTo>
                    <a:pt x="1714" y="2662"/>
                  </a:lnTo>
                  <a:lnTo>
                    <a:pt x="1756" y="2729"/>
                  </a:lnTo>
                  <a:lnTo>
                    <a:pt x="1806" y="2804"/>
                  </a:lnTo>
                  <a:lnTo>
                    <a:pt x="1848" y="2871"/>
                  </a:lnTo>
                  <a:lnTo>
                    <a:pt x="1898" y="2938"/>
                  </a:lnTo>
                  <a:lnTo>
                    <a:pt x="1940" y="3013"/>
                  </a:lnTo>
                  <a:lnTo>
                    <a:pt x="1990" y="3080"/>
                  </a:lnTo>
                  <a:lnTo>
                    <a:pt x="2032" y="3147"/>
                  </a:lnTo>
                  <a:lnTo>
                    <a:pt x="2074" y="3222"/>
                  </a:lnTo>
                  <a:lnTo>
                    <a:pt x="2124" y="3289"/>
                  </a:lnTo>
                  <a:lnTo>
                    <a:pt x="2166" y="3365"/>
                  </a:lnTo>
                  <a:lnTo>
                    <a:pt x="2216" y="3432"/>
                  </a:lnTo>
                  <a:lnTo>
                    <a:pt x="2258" y="3499"/>
                  </a:lnTo>
                  <a:lnTo>
                    <a:pt x="2299" y="3574"/>
                  </a:lnTo>
                  <a:lnTo>
                    <a:pt x="2350" y="3641"/>
                  </a:lnTo>
                  <a:lnTo>
                    <a:pt x="2391" y="3716"/>
                  </a:lnTo>
                  <a:lnTo>
                    <a:pt x="2442" y="3783"/>
                  </a:lnTo>
                  <a:lnTo>
                    <a:pt x="2483" y="3850"/>
                  </a:lnTo>
                  <a:lnTo>
                    <a:pt x="2525" y="3925"/>
                  </a:lnTo>
                  <a:lnTo>
                    <a:pt x="2575" y="3992"/>
                  </a:lnTo>
                  <a:lnTo>
                    <a:pt x="2617" y="4068"/>
                  </a:lnTo>
                  <a:lnTo>
                    <a:pt x="2667" y="4135"/>
                  </a:lnTo>
                  <a:lnTo>
                    <a:pt x="2709" y="4202"/>
                  </a:lnTo>
                  <a:lnTo>
                    <a:pt x="2759" y="4277"/>
                  </a:lnTo>
                  <a:lnTo>
                    <a:pt x="2801" y="4344"/>
                  </a:lnTo>
                  <a:lnTo>
                    <a:pt x="2843" y="4411"/>
                  </a:lnTo>
                  <a:lnTo>
                    <a:pt x="2893" y="4486"/>
                  </a:lnTo>
                  <a:lnTo>
                    <a:pt x="2935" y="4553"/>
                  </a:lnTo>
                  <a:lnTo>
                    <a:pt x="2985" y="4628"/>
                  </a:lnTo>
                  <a:lnTo>
                    <a:pt x="3027" y="4695"/>
                  </a:lnTo>
                  <a:lnTo>
                    <a:pt x="3069" y="4762"/>
                  </a:lnTo>
                  <a:lnTo>
                    <a:pt x="3119" y="4838"/>
                  </a:lnTo>
                  <a:lnTo>
                    <a:pt x="3161" y="4905"/>
                  </a:lnTo>
                  <a:lnTo>
                    <a:pt x="3211" y="4980"/>
                  </a:lnTo>
                  <a:lnTo>
                    <a:pt x="3253" y="5047"/>
                  </a:lnTo>
                  <a:lnTo>
                    <a:pt x="3295" y="5114"/>
                  </a:lnTo>
                  <a:lnTo>
                    <a:pt x="3345" y="5189"/>
                  </a:lnTo>
                  <a:lnTo>
                    <a:pt x="3387" y="5256"/>
                  </a:lnTo>
                  <a:lnTo>
                    <a:pt x="3437" y="5323"/>
                  </a:lnTo>
                  <a:lnTo>
                    <a:pt x="3479" y="5398"/>
                  </a:lnTo>
                  <a:lnTo>
                    <a:pt x="3529" y="5465"/>
                  </a:lnTo>
                  <a:lnTo>
                    <a:pt x="3571" y="5541"/>
                  </a:lnTo>
                  <a:lnTo>
                    <a:pt x="3612" y="5608"/>
                  </a:lnTo>
                  <a:lnTo>
                    <a:pt x="3637" y="5650"/>
                  </a:lnTo>
                </a:path>
              </a:pathLst>
            </a:custGeom>
            <a:noFill/>
            <a:ln w="1260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16" name=""/>
            <p:cNvSpPr/>
            <p:nvPr/>
          </p:nvSpPr>
          <p:spPr>
            <a:xfrm>
              <a:off x="1521000" y="3354480"/>
              <a:ext cx="2563560" cy="1859040"/>
            </a:xfrm>
            <a:custGeom>
              <a:avLst/>
              <a:gdLst/>
              <a:ahLst/>
              <a:rect l="l" t="t" r="r" b="b"/>
              <a:pathLst>
                <a:path w="2450" h="1775">
                  <a:moveTo>
                    <a:pt x="0" y="452"/>
                  </a:moveTo>
                  <a:lnTo>
                    <a:pt x="0" y="461"/>
                  </a:lnTo>
                  <a:lnTo>
                    <a:pt x="0" y="503"/>
                  </a:lnTo>
                  <a:lnTo>
                    <a:pt x="0" y="544"/>
                  </a:lnTo>
                  <a:lnTo>
                    <a:pt x="0" y="578"/>
                  </a:lnTo>
                  <a:lnTo>
                    <a:pt x="8" y="595"/>
                  </a:lnTo>
                  <a:lnTo>
                    <a:pt x="8" y="636"/>
                  </a:lnTo>
                  <a:lnTo>
                    <a:pt x="25" y="678"/>
                  </a:lnTo>
                  <a:lnTo>
                    <a:pt x="33" y="720"/>
                  </a:lnTo>
                  <a:lnTo>
                    <a:pt x="50" y="754"/>
                  </a:lnTo>
                  <a:lnTo>
                    <a:pt x="50" y="762"/>
                  </a:lnTo>
                  <a:lnTo>
                    <a:pt x="66" y="804"/>
                  </a:lnTo>
                  <a:lnTo>
                    <a:pt x="92" y="846"/>
                  </a:lnTo>
                  <a:lnTo>
                    <a:pt x="92" y="854"/>
                  </a:lnTo>
                  <a:lnTo>
                    <a:pt x="117" y="888"/>
                  </a:lnTo>
                  <a:lnTo>
                    <a:pt x="142" y="929"/>
                  </a:lnTo>
                  <a:lnTo>
                    <a:pt x="167" y="971"/>
                  </a:lnTo>
                  <a:lnTo>
                    <a:pt x="184" y="996"/>
                  </a:lnTo>
                  <a:lnTo>
                    <a:pt x="200" y="1013"/>
                  </a:lnTo>
                  <a:lnTo>
                    <a:pt x="225" y="1055"/>
                  </a:lnTo>
                  <a:lnTo>
                    <a:pt x="234" y="1055"/>
                  </a:lnTo>
                  <a:lnTo>
                    <a:pt x="267" y="1097"/>
                  </a:lnTo>
                  <a:lnTo>
                    <a:pt x="276" y="1105"/>
                  </a:lnTo>
                  <a:lnTo>
                    <a:pt x="309" y="1139"/>
                  </a:lnTo>
                  <a:lnTo>
                    <a:pt x="317" y="1155"/>
                  </a:lnTo>
                  <a:lnTo>
                    <a:pt x="351" y="1180"/>
                  </a:lnTo>
                  <a:lnTo>
                    <a:pt x="368" y="1197"/>
                  </a:lnTo>
                  <a:lnTo>
                    <a:pt x="393" y="1231"/>
                  </a:lnTo>
                  <a:lnTo>
                    <a:pt x="409" y="1239"/>
                  </a:lnTo>
                  <a:lnTo>
                    <a:pt x="443" y="1273"/>
                  </a:lnTo>
                  <a:lnTo>
                    <a:pt x="451" y="1281"/>
                  </a:lnTo>
                  <a:lnTo>
                    <a:pt x="493" y="1314"/>
                  </a:lnTo>
                  <a:lnTo>
                    <a:pt x="501" y="1314"/>
                  </a:lnTo>
                  <a:lnTo>
                    <a:pt x="543" y="1348"/>
                  </a:lnTo>
                  <a:lnTo>
                    <a:pt x="551" y="1356"/>
                  </a:lnTo>
                  <a:lnTo>
                    <a:pt x="593" y="1381"/>
                  </a:lnTo>
                  <a:lnTo>
                    <a:pt x="610" y="1398"/>
                  </a:lnTo>
                  <a:lnTo>
                    <a:pt x="635" y="1415"/>
                  </a:lnTo>
                  <a:lnTo>
                    <a:pt x="677" y="1440"/>
                  </a:lnTo>
                  <a:lnTo>
                    <a:pt x="685" y="1440"/>
                  </a:lnTo>
                  <a:lnTo>
                    <a:pt x="727" y="1465"/>
                  </a:lnTo>
                  <a:lnTo>
                    <a:pt x="744" y="1482"/>
                  </a:lnTo>
                  <a:lnTo>
                    <a:pt x="769" y="1499"/>
                  </a:lnTo>
                  <a:lnTo>
                    <a:pt x="819" y="1524"/>
                  </a:lnTo>
                  <a:lnTo>
                    <a:pt x="827" y="1524"/>
                  </a:lnTo>
                  <a:lnTo>
                    <a:pt x="861" y="1540"/>
                  </a:lnTo>
                  <a:lnTo>
                    <a:pt x="911" y="1565"/>
                  </a:lnTo>
                  <a:lnTo>
                    <a:pt x="953" y="1591"/>
                  </a:lnTo>
                  <a:lnTo>
                    <a:pt x="995" y="1607"/>
                  </a:lnTo>
                  <a:lnTo>
                    <a:pt x="1003" y="1607"/>
                  </a:lnTo>
                  <a:lnTo>
                    <a:pt x="1045" y="1624"/>
                  </a:lnTo>
                  <a:lnTo>
                    <a:pt x="1087" y="1641"/>
                  </a:lnTo>
                  <a:lnTo>
                    <a:pt x="1112" y="1649"/>
                  </a:lnTo>
                  <a:lnTo>
                    <a:pt x="1137" y="1658"/>
                  </a:lnTo>
                  <a:lnTo>
                    <a:pt x="1179" y="1674"/>
                  </a:lnTo>
                  <a:lnTo>
                    <a:pt x="1229" y="1691"/>
                  </a:lnTo>
                  <a:lnTo>
                    <a:pt x="1237" y="1691"/>
                  </a:lnTo>
                  <a:lnTo>
                    <a:pt x="1271" y="1699"/>
                  </a:lnTo>
                  <a:lnTo>
                    <a:pt x="1313" y="1716"/>
                  </a:lnTo>
                  <a:lnTo>
                    <a:pt x="1363" y="1724"/>
                  </a:lnTo>
                  <a:lnTo>
                    <a:pt x="1405" y="1733"/>
                  </a:lnTo>
                  <a:lnTo>
                    <a:pt x="1455" y="1741"/>
                  </a:lnTo>
                  <a:lnTo>
                    <a:pt x="1497" y="1750"/>
                  </a:lnTo>
                  <a:lnTo>
                    <a:pt x="1538" y="1758"/>
                  </a:lnTo>
                  <a:lnTo>
                    <a:pt x="1589" y="1766"/>
                  </a:lnTo>
                  <a:lnTo>
                    <a:pt x="1630" y="1766"/>
                  </a:lnTo>
                  <a:lnTo>
                    <a:pt x="1681" y="1775"/>
                  </a:lnTo>
                  <a:lnTo>
                    <a:pt x="1722" y="1775"/>
                  </a:lnTo>
                  <a:lnTo>
                    <a:pt x="1764" y="1775"/>
                  </a:lnTo>
                  <a:lnTo>
                    <a:pt x="1814" y="1775"/>
                  </a:lnTo>
                  <a:lnTo>
                    <a:pt x="1856" y="1766"/>
                  </a:lnTo>
                  <a:lnTo>
                    <a:pt x="1906" y="1766"/>
                  </a:lnTo>
                  <a:lnTo>
                    <a:pt x="1948" y="1758"/>
                  </a:lnTo>
                  <a:lnTo>
                    <a:pt x="1998" y="1750"/>
                  </a:lnTo>
                  <a:lnTo>
                    <a:pt x="2040" y="1733"/>
                  </a:lnTo>
                  <a:lnTo>
                    <a:pt x="2082" y="1724"/>
                  </a:lnTo>
                  <a:lnTo>
                    <a:pt x="2132" y="1708"/>
                  </a:lnTo>
                  <a:lnTo>
                    <a:pt x="2157" y="1691"/>
                  </a:lnTo>
                  <a:lnTo>
                    <a:pt x="2174" y="1683"/>
                  </a:lnTo>
                  <a:lnTo>
                    <a:pt x="2224" y="1658"/>
                  </a:lnTo>
                  <a:lnTo>
                    <a:pt x="2232" y="1649"/>
                  </a:lnTo>
                  <a:lnTo>
                    <a:pt x="2266" y="1632"/>
                  </a:lnTo>
                  <a:lnTo>
                    <a:pt x="2291" y="1607"/>
                  </a:lnTo>
                  <a:lnTo>
                    <a:pt x="2308" y="1591"/>
                  </a:lnTo>
                  <a:lnTo>
                    <a:pt x="2333" y="1565"/>
                  </a:lnTo>
                  <a:lnTo>
                    <a:pt x="2358" y="1540"/>
                  </a:lnTo>
                  <a:lnTo>
                    <a:pt x="2366" y="1524"/>
                  </a:lnTo>
                  <a:lnTo>
                    <a:pt x="2400" y="1482"/>
                  </a:lnTo>
                  <a:lnTo>
                    <a:pt x="2400" y="1473"/>
                  </a:lnTo>
                  <a:lnTo>
                    <a:pt x="2416" y="1440"/>
                  </a:lnTo>
                  <a:lnTo>
                    <a:pt x="2433" y="1398"/>
                  </a:lnTo>
                  <a:lnTo>
                    <a:pt x="2442" y="1356"/>
                  </a:lnTo>
                  <a:lnTo>
                    <a:pt x="2450" y="1323"/>
                  </a:lnTo>
                  <a:lnTo>
                    <a:pt x="2450" y="1314"/>
                  </a:lnTo>
                  <a:lnTo>
                    <a:pt x="2450" y="1273"/>
                  </a:lnTo>
                  <a:lnTo>
                    <a:pt x="2450" y="1231"/>
                  </a:lnTo>
                  <a:lnTo>
                    <a:pt x="2450" y="1197"/>
                  </a:lnTo>
                  <a:lnTo>
                    <a:pt x="2442" y="1180"/>
                  </a:lnTo>
                  <a:lnTo>
                    <a:pt x="2442" y="1139"/>
                  </a:lnTo>
                  <a:lnTo>
                    <a:pt x="2425" y="1097"/>
                  </a:lnTo>
                  <a:lnTo>
                    <a:pt x="2416" y="1055"/>
                  </a:lnTo>
                  <a:lnTo>
                    <a:pt x="2400" y="1021"/>
                  </a:lnTo>
                  <a:lnTo>
                    <a:pt x="2400" y="1013"/>
                  </a:lnTo>
                  <a:lnTo>
                    <a:pt x="2383" y="971"/>
                  </a:lnTo>
                  <a:lnTo>
                    <a:pt x="2358" y="929"/>
                  </a:lnTo>
                  <a:lnTo>
                    <a:pt x="2358" y="921"/>
                  </a:lnTo>
                  <a:lnTo>
                    <a:pt x="2333" y="888"/>
                  </a:lnTo>
                  <a:lnTo>
                    <a:pt x="2308" y="846"/>
                  </a:lnTo>
                  <a:lnTo>
                    <a:pt x="2283" y="804"/>
                  </a:lnTo>
                  <a:lnTo>
                    <a:pt x="2266" y="779"/>
                  </a:lnTo>
                  <a:lnTo>
                    <a:pt x="2249" y="762"/>
                  </a:lnTo>
                  <a:lnTo>
                    <a:pt x="2224" y="720"/>
                  </a:lnTo>
                  <a:lnTo>
                    <a:pt x="2216" y="720"/>
                  </a:lnTo>
                  <a:lnTo>
                    <a:pt x="2182" y="678"/>
                  </a:lnTo>
                  <a:lnTo>
                    <a:pt x="2174" y="670"/>
                  </a:lnTo>
                  <a:lnTo>
                    <a:pt x="2140" y="636"/>
                  </a:lnTo>
                  <a:lnTo>
                    <a:pt x="2132" y="620"/>
                  </a:lnTo>
                  <a:lnTo>
                    <a:pt x="2099" y="595"/>
                  </a:lnTo>
                  <a:lnTo>
                    <a:pt x="2082" y="578"/>
                  </a:lnTo>
                  <a:lnTo>
                    <a:pt x="2057" y="544"/>
                  </a:lnTo>
                  <a:lnTo>
                    <a:pt x="2040" y="536"/>
                  </a:lnTo>
                  <a:lnTo>
                    <a:pt x="2007" y="503"/>
                  </a:lnTo>
                  <a:lnTo>
                    <a:pt x="1998" y="494"/>
                  </a:lnTo>
                  <a:lnTo>
                    <a:pt x="1956" y="461"/>
                  </a:lnTo>
                  <a:lnTo>
                    <a:pt x="1948" y="461"/>
                  </a:lnTo>
                  <a:lnTo>
                    <a:pt x="1906" y="427"/>
                  </a:lnTo>
                  <a:lnTo>
                    <a:pt x="1898" y="419"/>
                  </a:lnTo>
                  <a:lnTo>
                    <a:pt x="1856" y="394"/>
                  </a:lnTo>
                  <a:lnTo>
                    <a:pt x="1839" y="377"/>
                  </a:lnTo>
                  <a:lnTo>
                    <a:pt x="1814" y="360"/>
                  </a:lnTo>
                  <a:lnTo>
                    <a:pt x="1772" y="335"/>
                  </a:lnTo>
                  <a:lnTo>
                    <a:pt x="1764" y="335"/>
                  </a:lnTo>
                  <a:lnTo>
                    <a:pt x="1722" y="310"/>
                  </a:lnTo>
                  <a:lnTo>
                    <a:pt x="1706" y="293"/>
                  </a:lnTo>
                  <a:lnTo>
                    <a:pt x="1681" y="277"/>
                  </a:lnTo>
                  <a:lnTo>
                    <a:pt x="1630" y="251"/>
                  </a:lnTo>
                  <a:lnTo>
                    <a:pt x="1622" y="251"/>
                  </a:lnTo>
                  <a:lnTo>
                    <a:pt x="1589" y="235"/>
                  </a:lnTo>
                  <a:lnTo>
                    <a:pt x="1538" y="210"/>
                  </a:lnTo>
                  <a:lnTo>
                    <a:pt x="1497" y="184"/>
                  </a:lnTo>
                  <a:lnTo>
                    <a:pt x="1455" y="168"/>
                  </a:lnTo>
                  <a:lnTo>
                    <a:pt x="1446" y="168"/>
                  </a:lnTo>
                  <a:lnTo>
                    <a:pt x="1405" y="151"/>
                  </a:lnTo>
                  <a:lnTo>
                    <a:pt x="1363" y="134"/>
                  </a:lnTo>
                  <a:lnTo>
                    <a:pt x="1338" y="126"/>
                  </a:lnTo>
                  <a:lnTo>
                    <a:pt x="1313" y="118"/>
                  </a:lnTo>
                  <a:lnTo>
                    <a:pt x="1271" y="101"/>
                  </a:lnTo>
                  <a:lnTo>
                    <a:pt x="1229" y="84"/>
                  </a:lnTo>
                  <a:lnTo>
                    <a:pt x="1212" y="84"/>
                  </a:lnTo>
                  <a:lnTo>
                    <a:pt x="1179" y="76"/>
                  </a:lnTo>
                  <a:lnTo>
                    <a:pt x="1137" y="59"/>
                  </a:lnTo>
                  <a:lnTo>
                    <a:pt x="1087" y="51"/>
                  </a:lnTo>
                  <a:lnTo>
                    <a:pt x="1045" y="42"/>
                  </a:lnTo>
                  <a:lnTo>
                    <a:pt x="995" y="34"/>
                  </a:lnTo>
                  <a:lnTo>
                    <a:pt x="953" y="25"/>
                  </a:lnTo>
                  <a:lnTo>
                    <a:pt x="911" y="17"/>
                  </a:lnTo>
                  <a:lnTo>
                    <a:pt x="861" y="9"/>
                  </a:lnTo>
                  <a:lnTo>
                    <a:pt x="819" y="9"/>
                  </a:lnTo>
                  <a:lnTo>
                    <a:pt x="769" y="0"/>
                  </a:lnTo>
                  <a:lnTo>
                    <a:pt x="727" y="0"/>
                  </a:lnTo>
                  <a:lnTo>
                    <a:pt x="685" y="0"/>
                  </a:lnTo>
                  <a:lnTo>
                    <a:pt x="635" y="0"/>
                  </a:lnTo>
                  <a:lnTo>
                    <a:pt x="593" y="9"/>
                  </a:lnTo>
                  <a:lnTo>
                    <a:pt x="543" y="9"/>
                  </a:lnTo>
                  <a:lnTo>
                    <a:pt x="501" y="17"/>
                  </a:lnTo>
                  <a:lnTo>
                    <a:pt x="451" y="25"/>
                  </a:lnTo>
                  <a:lnTo>
                    <a:pt x="409" y="42"/>
                  </a:lnTo>
                  <a:lnTo>
                    <a:pt x="368" y="51"/>
                  </a:lnTo>
                  <a:lnTo>
                    <a:pt x="317" y="67"/>
                  </a:lnTo>
                  <a:lnTo>
                    <a:pt x="292" y="84"/>
                  </a:lnTo>
                  <a:lnTo>
                    <a:pt x="276" y="92"/>
                  </a:lnTo>
                  <a:lnTo>
                    <a:pt x="225" y="118"/>
                  </a:lnTo>
                  <a:lnTo>
                    <a:pt x="217" y="126"/>
                  </a:lnTo>
                  <a:lnTo>
                    <a:pt x="184" y="143"/>
                  </a:lnTo>
                  <a:lnTo>
                    <a:pt x="158" y="168"/>
                  </a:lnTo>
                  <a:lnTo>
                    <a:pt x="142" y="184"/>
                  </a:lnTo>
                  <a:lnTo>
                    <a:pt x="117" y="210"/>
                  </a:lnTo>
                  <a:lnTo>
                    <a:pt x="92" y="235"/>
                  </a:lnTo>
                  <a:lnTo>
                    <a:pt x="83" y="251"/>
                  </a:lnTo>
                  <a:lnTo>
                    <a:pt x="50" y="293"/>
                  </a:lnTo>
                  <a:lnTo>
                    <a:pt x="50" y="302"/>
                  </a:lnTo>
                  <a:lnTo>
                    <a:pt x="33" y="335"/>
                  </a:lnTo>
                  <a:lnTo>
                    <a:pt x="16" y="377"/>
                  </a:lnTo>
                  <a:lnTo>
                    <a:pt x="8" y="419"/>
                  </a:lnTo>
                  <a:lnTo>
                    <a:pt x="0" y="452"/>
                  </a:lnTo>
                </a:path>
              </a:pathLst>
            </a:custGeom>
            <a:noFill/>
            <a:ln w="2844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17" name=""/>
            <p:cNvSpPr/>
            <p:nvPr/>
          </p:nvSpPr>
          <p:spPr>
            <a:xfrm>
              <a:off x="3981600" y="4344840"/>
              <a:ext cx="601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18" name=""/>
            <p:cNvSpPr/>
            <p:nvPr/>
          </p:nvSpPr>
          <p:spPr>
            <a:xfrm flipH="1" flipV="1">
              <a:off x="3628800" y="3993840"/>
              <a:ext cx="377640" cy="37620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19" name=""/>
            <p:cNvSpPr/>
            <p:nvPr/>
          </p:nvSpPr>
          <p:spPr>
            <a:xfrm>
              <a:off x="3981600" y="4344840"/>
              <a:ext cx="601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20" name=""/>
            <p:cNvSpPr/>
            <p:nvPr/>
          </p:nvSpPr>
          <p:spPr>
            <a:xfrm>
              <a:off x="3603600" y="396720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21" name=""/>
            <p:cNvSpPr/>
            <p:nvPr/>
          </p:nvSpPr>
          <p:spPr>
            <a:xfrm>
              <a:off x="3244680" y="3757680"/>
              <a:ext cx="762120" cy="612720"/>
            </a:xfrm>
            <a:custGeom>
              <a:avLst/>
              <a:gdLst/>
              <a:ahLst/>
              <a:rect l="l" t="t" r="r" b="b"/>
              <a:pathLst>
                <a:path w="728" h="586">
                  <a:moveTo>
                    <a:pt x="728" y="586"/>
                  </a:moveTo>
                  <a:lnTo>
                    <a:pt x="368" y="226"/>
                  </a:lnTo>
                  <a:lnTo>
                    <a:pt x="0" y="0"/>
                  </a:lnTo>
                </a:path>
              </a:pathLst>
            </a:custGeom>
            <a:no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22" name=""/>
            <p:cNvSpPr/>
            <p:nvPr/>
          </p:nvSpPr>
          <p:spPr>
            <a:xfrm>
              <a:off x="3981600" y="4344840"/>
              <a:ext cx="601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23" name=""/>
            <p:cNvSpPr/>
            <p:nvPr/>
          </p:nvSpPr>
          <p:spPr>
            <a:xfrm>
              <a:off x="3603600" y="396720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24" name=""/>
            <p:cNvSpPr/>
            <p:nvPr/>
          </p:nvSpPr>
          <p:spPr>
            <a:xfrm>
              <a:off x="3218040" y="3730680"/>
              <a:ext cx="63360" cy="63360"/>
            </a:xfrm>
            <a:prstGeom prst="ellipse">
              <a:avLst/>
            </a:prstGeom>
            <a:noFill/>
            <a:ln w="12600">
              <a:solidFill>
                <a:srgbClr val="333333"/>
              </a:solidFill>
              <a:miter/>
            </a:ln>
          </p:spPr>
          <p:style>
            <a:lnRef idx="0"/>
            <a:fillRef idx="0"/>
            <a:effectRef idx="0"/>
            <a:fontRef idx="minor"/>
          </p:style>
          <p:txBody>
            <a:bodyPr lIns="90000" rIns="90000" tIns="-1440" bIns="-1440" anchor="t">
              <a:noAutofit/>
            </a:bodyPr>
            <a:p>
              <a:endParaRPr b="0" lang="en-US" sz="2400" spc="-1" strike="noStrike">
                <a:solidFill>
                  <a:srgbClr val="333333"/>
                </a:solidFill>
                <a:latin typeface="Times New Roman"/>
              </a:endParaRPr>
            </a:p>
          </p:txBody>
        </p:sp>
        <p:sp>
          <p:nvSpPr>
            <p:cNvPr id="925" name=""/>
            <p:cNvSpPr/>
            <p:nvPr/>
          </p:nvSpPr>
          <p:spPr>
            <a:xfrm>
              <a:off x="2867040" y="3660840"/>
              <a:ext cx="1139760" cy="709560"/>
            </a:xfrm>
            <a:custGeom>
              <a:avLst/>
              <a:gdLst/>
              <a:ahLst/>
              <a:rect l="l" t="t" r="r" b="b"/>
              <a:pathLst>
                <a:path w="1088" h="678">
                  <a:moveTo>
                    <a:pt x="1088" y="678"/>
                  </a:moveTo>
                  <a:lnTo>
                    <a:pt x="728" y="318"/>
                  </a:lnTo>
                  <a:lnTo>
                    <a:pt x="360" y="92"/>
                  </a:lnTo>
                  <a:lnTo>
                    <a:pt x="0" y="0"/>
                  </a:lnTo>
                </a:path>
              </a:pathLst>
            </a:custGeom>
            <a:no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26" name=""/>
            <p:cNvSpPr/>
            <p:nvPr/>
          </p:nvSpPr>
          <p:spPr>
            <a:xfrm>
              <a:off x="3981600" y="4344840"/>
              <a:ext cx="601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27" name=""/>
            <p:cNvSpPr/>
            <p:nvPr/>
          </p:nvSpPr>
          <p:spPr>
            <a:xfrm>
              <a:off x="3603600" y="396720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28" name=""/>
            <p:cNvSpPr/>
            <p:nvPr/>
          </p:nvSpPr>
          <p:spPr>
            <a:xfrm>
              <a:off x="3218040" y="3730680"/>
              <a:ext cx="63360" cy="63360"/>
            </a:xfrm>
            <a:prstGeom prst="ellipse">
              <a:avLst/>
            </a:prstGeom>
            <a:noFill/>
            <a:ln w="12600">
              <a:solidFill>
                <a:srgbClr val="333333"/>
              </a:solidFill>
              <a:miter/>
            </a:ln>
          </p:spPr>
          <p:style>
            <a:lnRef idx="0"/>
            <a:fillRef idx="0"/>
            <a:effectRef idx="0"/>
            <a:fontRef idx="minor"/>
          </p:style>
          <p:txBody>
            <a:bodyPr lIns="90000" rIns="90000" tIns="-1440" bIns="-1440" anchor="t">
              <a:noAutofit/>
            </a:bodyPr>
            <a:p>
              <a:endParaRPr b="0" lang="en-US" sz="2400" spc="-1" strike="noStrike">
                <a:solidFill>
                  <a:srgbClr val="333333"/>
                </a:solidFill>
                <a:latin typeface="Times New Roman"/>
              </a:endParaRPr>
            </a:p>
          </p:txBody>
        </p:sp>
        <p:sp>
          <p:nvSpPr>
            <p:cNvPr id="929" name=""/>
            <p:cNvSpPr/>
            <p:nvPr/>
          </p:nvSpPr>
          <p:spPr>
            <a:xfrm>
              <a:off x="2841480" y="363528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30" name=""/>
            <p:cNvSpPr/>
            <p:nvPr/>
          </p:nvSpPr>
          <p:spPr>
            <a:xfrm>
              <a:off x="2509920" y="3660840"/>
              <a:ext cx="1496880" cy="709560"/>
            </a:xfrm>
            <a:custGeom>
              <a:avLst/>
              <a:gdLst/>
              <a:ahLst/>
              <a:rect l="l" t="t" r="r" b="b"/>
              <a:pathLst>
                <a:path w="1430" h="678">
                  <a:moveTo>
                    <a:pt x="1430" y="678"/>
                  </a:moveTo>
                  <a:lnTo>
                    <a:pt x="1070" y="318"/>
                  </a:lnTo>
                  <a:lnTo>
                    <a:pt x="702" y="92"/>
                  </a:lnTo>
                  <a:lnTo>
                    <a:pt x="342" y="0"/>
                  </a:lnTo>
                  <a:lnTo>
                    <a:pt x="0" y="34"/>
                  </a:lnTo>
                </a:path>
              </a:pathLst>
            </a:custGeom>
            <a:no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31" name=""/>
            <p:cNvSpPr/>
            <p:nvPr/>
          </p:nvSpPr>
          <p:spPr>
            <a:xfrm>
              <a:off x="3981600" y="4344840"/>
              <a:ext cx="601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32" name=""/>
            <p:cNvSpPr/>
            <p:nvPr/>
          </p:nvSpPr>
          <p:spPr>
            <a:xfrm>
              <a:off x="3603600" y="396720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33" name=""/>
            <p:cNvSpPr/>
            <p:nvPr/>
          </p:nvSpPr>
          <p:spPr>
            <a:xfrm>
              <a:off x="3218040" y="3730680"/>
              <a:ext cx="63360" cy="63360"/>
            </a:xfrm>
            <a:prstGeom prst="ellipse">
              <a:avLst/>
            </a:prstGeom>
            <a:noFill/>
            <a:ln w="12600">
              <a:solidFill>
                <a:srgbClr val="333333"/>
              </a:solidFill>
              <a:miter/>
            </a:ln>
          </p:spPr>
          <p:style>
            <a:lnRef idx="0"/>
            <a:fillRef idx="0"/>
            <a:effectRef idx="0"/>
            <a:fontRef idx="minor"/>
          </p:style>
          <p:txBody>
            <a:bodyPr lIns="90000" rIns="90000" tIns="-1440" bIns="-1440" anchor="t">
              <a:noAutofit/>
            </a:bodyPr>
            <a:p>
              <a:endParaRPr b="0" lang="en-US" sz="2400" spc="-1" strike="noStrike">
                <a:solidFill>
                  <a:srgbClr val="333333"/>
                </a:solidFill>
                <a:latin typeface="Times New Roman"/>
              </a:endParaRPr>
            </a:p>
          </p:txBody>
        </p:sp>
        <p:sp>
          <p:nvSpPr>
            <p:cNvPr id="934" name=""/>
            <p:cNvSpPr/>
            <p:nvPr/>
          </p:nvSpPr>
          <p:spPr>
            <a:xfrm>
              <a:off x="2841480" y="363528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35" name=""/>
            <p:cNvSpPr/>
            <p:nvPr/>
          </p:nvSpPr>
          <p:spPr>
            <a:xfrm>
              <a:off x="2482920" y="3672000"/>
              <a:ext cx="61920" cy="58680"/>
            </a:xfrm>
            <a:prstGeom prst="ellipse">
              <a:avLst/>
            </a:prstGeom>
            <a:noFill/>
            <a:ln w="12600">
              <a:solidFill>
                <a:srgbClr val="333333"/>
              </a:solidFill>
              <a:miter/>
            </a:ln>
          </p:spPr>
          <p:style>
            <a:lnRef idx="0"/>
            <a:fillRef idx="0"/>
            <a:effectRef idx="0"/>
            <a:fontRef idx="minor"/>
          </p:style>
          <p:txBody>
            <a:bodyPr lIns="90000" rIns="90000" tIns="-5400" bIns="-5400" anchor="t">
              <a:noAutofit/>
            </a:bodyPr>
            <a:p>
              <a:endParaRPr b="0" lang="en-US" sz="2400" spc="-1" strike="noStrike">
                <a:solidFill>
                  <a:srgbClr val="333333"/>
                </a:solidFill>
                <a:latin typeface="Times New Roman"/>
              </a:endParaRPr>
            </a:p>
          </p:txBody>
        </p:sp>
        <p:sp>
          <p:nvSpPr>
            <p:cNvPr id="936" name=""/>
            <p:cNvSpPr/>
            <p:nvPr/>
          </p:nvSpPr>
          <p:spPr>
            <a:xfrm>
              <a:off x="2448000" y="3660840"/>
              <a:ext cx="1558800" cy="709560"/>
            </a:xfrm>
            <a:custGeom>
              <a:avLst/>
              <a:gdLst/>
              <a:ahLst/>
              <a:rect l="l" t="t" r="r" b="b"/>
              <a:pathLst>
                <a:path w="1489" h="678">
                  <a:moveTo>
                    <a:pt x="1489" y="678"/>
                  </a:moveTo>
                  <a:lnTo>
                    <a:pt x="1129" y="318"/>
                  </a:lnTo>
                  <a:lnTo>
                    <a:pt x="761" y="92"/>
                  </a:lnTo>
                  <a:lnTo>
                    <a:pt x="401" y="0"/>
                  </a:lnTo>
                  <a:lnTo>
                    <a:pt x="59" y="34"/>
                  </a:lnTo>
                  <a:lnTo>
                    <a:pt x="0" y="151"/>
                  </a:lnTo>
                </a:path>
              </a:pathLst>
            </a:custGeom>
            <a:no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37" name=""/>
            <p:cNvSpPr/>
            <p:nvPr/>
          </p:nvSpPr>
          <p:spPr>
            <a:xfrm>
              <a:off x="3981600" y="4344840"/>
              <a:ext cx="601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38" name=""/>
            <p:cNvSpPr/>
            <p:nvPr/>
          </p:nvSpPr>
          <p:spPr>
            <a:xfrm>
              <a:off x="3603600" y="396720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39" name=""/>
            <p:cNvSpPr/>
            <p:nvPr/>
          </p:nvSpPr>
          <p:spPr>
            <a:xfrm>
              <a:off x="3218040" y="3730680"/>
              <a:ext cx="63360" cy="63360"/>
            </a:xfrm>
            <a:prstGeom prst="ellipse">
              <a:avLst/>
            </a:prstGeom>
            <a:noFill/>
            <a:ln w="12600">
              <a:solidFill>
                <a:srgbClr val="333333"/>
              </a:solidFill>
              <a:miter/>
            </a:ln>
          </p:spPr>
          <p:style>
            <a:lnRef idx="0"/>
            <a:fillRef idx="0"/>
            <a:effectRef idx="0"/>
            <a:fontRef idx="minor"/>
          </p:style>
          <p:txBody>
            <a:bodyPr lIns="90000" rIns="90000" tIns="-1440" bIns="-1440" anchor="t">
              <a:noAutofit/>
            </a:bodyPr>
            <a:p>
              <a:endParaRPr b="0" lang="en-US" sz="2400" spc="-1" strike="noStrike">
                <a:solidFill>
                  <a:srgbClr val="333333"/>
                </a:solidFill>
                <a:latin typeface="Times New Roman"/>
              </a:endParaRPr>
            </a:p>
          </p:txBody>
        </p:sp>
        <p:sp>
          <p:nvSpPr>
            <p:cNvPr id="940" name=""/>
            <p:cNvSpPr/>
            <p:nvPr/>
          </p:nvSpPr>
          <p:spPr>
            <a:xfrm>
              <a:off x="2841480" y="363528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41" name=""/>
            <p:cNvSpPr/>
            <p:nvPr/>
          </p:nvSpPr>
          <p:spPr>
            <a:xfrm>
              <a:off x="2482920" y="3672000"/>
              <a:ext cx="61920" cy="58680"/>
            </a:xfrm>
            <a:prstGeom prst="ellipse">
              <a:avLst/>
            </a:prstGeom>
            <a:noFill/>
            <a:ln w="12600">
              <a:solidFill>
                <a:srgbClr val="333333"/>
              </a:solidFill>
              <a:miter/>
            </a:ln>
          </p:spPr>
          <p:style>
            <a:lnRef idx="0"/>
            <a:fillRef idx="0"/>
            <a:effectRef idx="0"/>
            <a:fontRef idx="minor"/>
          </p:style>
          <p:txBody>
            <a:bodyPr lIns="90000" rIns="90000" tIns="-5400" bIns="-5400" anchor="t">
              <a:noAutofit/>
            </a:bodyPr>
            <a:p>
              <a:endParaRPr b="0" lang="en-US" sz="2400" spc="-1" strike="noStrike">
                <a:solidFill>
                  <a:srgbClr val="333333"/>
                </a:solidFill>
                <a:latin typeface="Times New Roman"/>
              </a:endParaRPr>
            </a:p>
          </p:txBody>
        </p:sp>
        <p:sp>
          <p:nvSpPr>
            <p:cNvPr id="942" name=""/>
            <p:cNvSpPr/>
            <p:nvPr/>
          </p:nvSpPr>
          <p:spPr>
            <a:xfrm>
              <a:off x="2422440" y="3794040"/>
              <a:ext cx="60480" cy="60480"/>
            </a:xfrm>
            <a:prstGeom prst="ellipse">
              <a:avLst/>
            </a:prstGeom>
            <a:noFill/>
            <a:ln w="12600">
              <a:solidFill>
                <a:srgbClr val="333333"/>
              </a:solidFill>
              <a:miter/>
            </a:ln>
          </p:spPr>
          <p:style>
            <a:lnRef idx="0"/>
            <a:fillRef idx="0"/>
            <a:effectRef idx="0"/>
            <a:fontRef idx="minor"/>
          </p:style>
          <p:txBody>
            <a:bodyPr lIns="90000" rIns="90000" tIns="-3600" bIns="-3600" anchor="t">
              <a:noAutofit/>
            </a:bodyPr>
            <a:p>
              <a:endParaRPr b="0" lang="en-US" sz="2400" spc="-1" strike="noStrike">
                <a:solidFill>
                  <a:srgbClr val="333333"/>
                </a:solidFill>
                <a:latin typeface="Times New Roman"/>
              </a:endParaRPr>
            </a:p>
          </p:txBody>
        </p:sp>
        <p:sp>
          <p:nvSpPr>
            <p:cNvPr id="943" name=""/>
            <p:cNvSpPr/>
            <p:nvPr/>
          </p:nvSpPr>
          <p:spPr>
            <a:xfrm>
              <a:off x="2448000" y="3660840"/>
              <a:ext cx="1558800" cy="709560"/>
            </a:xfrm>
            <a:custGeom>
              <a:avLst/>
              <a:gdLst/>
              <a:ahLst/>
              <a:rect l="l" t="t" r="r" b="b"/>
              <a:pathLst>
                <a:path w="1489" h="678">
                  <a:moveTo>
                    <a:pt x="1489" y="678"/>
                  </a:moveTo>
                  <a:lnTo>
                    <a:pt x="1129" y="318"/>
                  </a:lnTo>
                  <a:lnTo>
                    <a:pt x="761" y="92"/>
                  </a:lnTo>
                  <a:lnTo>
                    <a:pt x="401" y="0"/>
                  </a:lnTo>
                  <a:lnTo>
                    <a:pt x="59" y="34"/>
                  </a:lnTo>
                  <a:lnTo>
                    <a:pt x="0" y="151"/>
                  </a:lnTo>
                  <a:lnTo>
                    <a:pt x="42" y="276"/>
                  </a:lnTo>
                </a:path>
              </a:pathLst>
            </a:custGeom>
            <a:no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44" name=""/>
            <p:cNvSpPr/>
            <p:nvPr/>
          </p:nvSpPr>
          <p:spPr>
            <a:xfrm>
              <a:off x="3981600" y="4344840"/>
              <a:ext cx="601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45" name=""/>
            <p:cNvSpPr/>
            <p:nvPr/>
          </p:nvSpPr>
          <p:spPr>
            <a:xfrm>
              <a:off x="3603600" y="396720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46" name=""/>
            <p:cNvSpPr/>
            <p:nvPr/>
          </p:nvSpPr>
          <p:spPr>
            <a:xfrm>
              <a:off x="3218040" y="3730680"/>
              <a:ext cx="63360" cy="63360"/>
            </a:xfrm>
            <a:prstGeom prst="ellipse">
              <a:avLst/>
            </a:prstGeom>
            <a:noFill/>
            <a:ln w="12600">
              <a:solidFill>
                <a:srgbClr val="333333"/>
              </a:solidFill>
              <a:miter/>
            </a:ln>
          </p:spPr>
          <p:style>
            <a:lnRef idx="0"/>
            <a:fillRef idx="0"/>
            <a:effectRef idx="0"/>
            <a:fontRef idx="minor"/>
          </p:style>
          <p:txBody>
            <a:bodyPr lIns="90000" rIns="90000" tIns="-1440" bIns="-1440" anchor="t">
              <a:noAutofit/>
            </a:bodyPr>
            <a:p>
              <a:endParaRPr b="0" lang="en-US" sz="2400" spc="-1" strike="noStrike">
                <a:solidFill>
                  <a:srgbClr val="333333"/>
                </a:solidFill>
                <a:latin typeface="Times New Roman"/>
              </a:endParaRPr>
            </a:p>
          </p:txBody>
        </p:sp>
        <p:sp>
          <p:nvSpPr>
            <p:cNvPr id="947" name=""/>
            <p:cNvSpPr/>
            <p:nvPr/>
          </p:nvSpPr>
          <p:spPr>
            <a:xfrm>
              <a:off x="2841480" y="363528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48" name=""/>
            <p:cNvSpPr/>
            <p:nvPr/>
          </p:nvSpPr>
          <p:spPr>
            <a:xfrm>
              <a:off x="2482920" y="3672000"/>
              <a:ext cx="61920" cy="58680"/>
            </a:xfrm>
            <a:prstGeom prst="ellipse">
              <a:avLst/>
            </a:prstGeom>
            <a:noFill/>
            <a:ln w="12600">
              <a:solidFill>
                <a:srgbClr val="333333"/>
              </a:solidFill>
              <a:miter/>
            </a:ln>
          </p:spPr>
          <p:style>
            <a:lnRef idx="0"/>
            <a:fillRef idx="0"/>
            <a:effectRef idx="0"/>
            <a:fontRef idx="minor"/>
          </p:style>
          <p:txBody>
            <a:bodyPr lIns="90000" rIns="90000" tIns="-5400" bIns="-5400" anchor="t">
              <a:noAutofit/>
            </a:bodyPr>
            <a:p>
              <a:endParaRPr b="0" lang="en-US" sz="2400" spc="-1" strike="noStrike">
                <a:solidFill>
                  <a:srgbClr val="333333"/>
                </a:solidFill>
                <a:latin typeface="Times New Roman"/>
              </a:endParaRPr>
            </a:p>
          </p:txBody>
        </p:sp>
        <p:sp>
          <p:nvSpPr>
            <p:cNvPr id="949" name=""/>
            <p:cNvSpPr/>
            <p:nvPr/>
          </p:nvSpPr>
          <p:spPr>
            <a:xfrm>
              <a:off x="2422440" y="3794040"/>
              <a:ext cx="60480" cy="60480"/>
            </a:xfrm>
            <a:prstGeom prst="ellipse">
              <a:avLst/>
            </a:prstGeom>
            <a:noFill/>
            <a:ln w="12600">
              <a:solidFill>
                <a:srgbClr val="333333"/>
              </a:solidFill>
              <a:miter/>
            </a:ln>
          </p:spPr>
          <p:style>
            <a:lnRef idx="0"/>
            <a:fillRef idx="0"/>
            <a:effectRef idx="0"/>
            <a:fontRef idx="minor"/>
          </p:style>
          <p:txBody>
            <a:bodyPr lIns="90000" rIns="90000" tIns="-3600" bIns="-3600" anchor="t">
              <a:noAutofit/>
            </a:bodyPr>
            <a:p>
              <a:endParaRPr b="0" lang="en-US" sz="2400" spc="-1" strike="noStrike">
                <a:solidFill>
                  <a:srgbClr val="333333"/>
                </a:solidFill>
                <a:latin typeface="Times New Roman"/>
              </a:endParaRPr>
            </a:p>
          </p:txBody>
        </p:sp>
        <p:sp>
          <p:nvSpPr>
            <p:cNvPr id="950" name=""/>
            <p:cNvSpPr/>
            <p:nvPr/>
          </p:nvSpPr>
          <p:spPr>
            <a:xfrm>
              <a:off x="2465280" y="3924360"/>
              <a:ext cx="6048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51" name=""/>
            <p:cNvSpPr/>
            <p:nvPr/>
          </p:nvSpPr>
          <p:spPr>
            <a:xfrm>
              <a:off x="2448000" y="3660840"/>
              <a:ext cx="1558800" cy="709560"/>
            </a:xfrm>
            <a:custGeom>
              <a:avLst/>
              <a:gdLst/>
              <a:ahLst/>
              <a:rect l="l" t="t" r="r" b="b"/>
              <a:pathLst>
                <a:path w="1489" h="678">
                  <a:moveTo>
                    <a:pt x="1489" y="678"/>
                  </a:moveTo>
                  <a:lnTo>
                    <a:pt x="1129" y="318"/>
                  </a:lnTo>
                  <a:lnTo>
                    <a:pt x="761" y="92"/>
                  </a:lnTo>
                  <a:lnTo>
                    <a:pt x="401" y="0"/>
                  </a:lnTo>
                  <a:lnTo>
                    <a:pt x="59" y="34"/>
                  </a:lnTo>
                  <a:lnTo>
                    <a:pt x="0" y="151"/>
                  </a:lnTo>
                  <a:lnTo>
                    <a:pt x="42" y="276"/>
                  </a:lnTo>
                  <a:lnTo>
                    <a:pt x="109" y="369"/>
                  </a:lnTo>
                </a:path>
              </a:pathLst>
            </a:custGeom>
            <a:no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52" name=""/>
            <p:cNvSpPr/>
            <p:nvPr/>
          </p:nvSpPr>
          <p:spPr>
            <a:xfrm>
              <a:off x="3981600" y="4344840"/>
              <a:ext cx="601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53" name=""/>
            <p:cNvSpPr/>
            <p:nvPr/>
          </p:nvSpPr>
          <p:spPr>
            <a:xfrm>
              <a:off x="3603600" y="396720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54" name=""/>
            <p:cNvSpPr/>
            <p:nvPr/>
          </p:nvSpPr>
          <p:spPr>
            <a:xfrm>
              <a:off x="3218040" y="3730680"/>
              <a:ext cx="63360" cy="63360"/>
            </a:xfrm>
            <a:prstGeom prst="ellipse">
              <a:avLst/>
            </a:prstGeom>
            <a:noFill/>
            <a:ln w="12600">
              <a:solidFill>
                <a:srgbClr val="333333"/>
              </a:solidFill>
              <a:miter/>
            </a:ln>
          </p:spPr>
          <p:style>
            <a:lnRef idx="0"/>
            <a:fillRef idx="0"/>
            <a:effectRef idx="0"/>
            <a:fontRef idx="minor"/>
          </p:style>
          <p:txBody>
            <a:bodyPr lIns="90000" rIns="90000" tIns="-1440" bIns="-1440" anchor="t">
              <a:noAutofit/>
            </a:bodyPr>
            <a:p>
              <a:endParaRPr b="0" lang="en-US" sz="2400" spc="-1" strike="noStrike">
                <a:solidFill>
                  <a:srgbClr val="333333"/>
                </a:solidFill>
                <a:latin typeface="Times New Roman"/>
              </a:endParaRPr>
            </a:p>
          </p:txBody>
        </p:sp>
        <p:sp>
          <p:nvSpPr>
            <p:cNvPr id="955" name=""/>
            <p:cNvSpPr/>
            <p:nvPr/>
          </p:nvSpPr>
          <p:spPr>
            <a:xfrm>
              <a:off x="2841480" y="363528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56" name=""/>
            <p:cNvSpPr/>
            <p:nvPr/>
          </p:nvSpPr>
          <p:spPr>
            <a:xfrm>
              <a:off x="2482920" y="3672000"/>
              <a:ext cx="61920" cy="58680"/>
            </a:xfrm>
            <a:prstGeom prst="ellipse">
              <a:avLst/>
            </a:prstGeom>
            <a:noFill/>
            <a:ln w="12600">
              <a:solidFill>
                <a:srgbClr val="333333"/>
              </a:solidFill>
              <a:miter/>
            </a:ln>
          </p:spPr>
          <p:style>
            <a:lnRef idx="0"/>
            <a:fillRef idx="0"/>
            <a:effectRef idx="0"/>
            <a:fontRef idx="minor"/>
          </p:style>
          <p:txBody>
            <a:bodyPr lIns="90000" rIns="90000" tIns="-5400" bIns="-5400" anchor="t">
              <a:noAutofit/>
            </a:bodyPr>
            <a:p>
              <a:endParaRPr b="0" lang="en-US" sz="2400" spc="-1" strike="noStrike">
                <a:solidFill>
                  <a:srgbClr val="333333"/>
                </a:solidFill>
                <a:latin typeface="Times New Roman"/>
              </a:endParaRPr>
            </a:p>
          </p:txBody>
        </p:sp>
        <p:sp>
          <p:nvSpPr>
            <p:cNvPr id="957" name=""/>
            <p:cNvSpPr/>
            <p:nvPr/>
          </p:nvSpPr>
          <p:spPr>
            <a:xfrm>
              <a:off x="2422440" y="3794040"/>
              <a:ext cx="60480" cy="60480"/>
            </a:xfrm>
            <a:prstGeom prst="ellipse">
              <a:avLst/>
            </a:prstGeom>
            <a:noFill/>
            <a:ln w="12600">
              <a:solidFill>
                <a:srgbClr val="333333"/>
              </a:solidFill>
              <a:miter/>
            </a:ln>
          </p:spPr>
          <p:style>
            <a:lnRef idx="0"/>
            <a:fillRef idx="0"/>
            <a:effectRef idx="0"/>
            <a:fontRef idx="minor"/>
          </p:style>
          <p:txBody>
            <a:bodyPr lIns="90000" rIns="90000" tIns="-3600" bIns="-3600" anchor="t">
              <a:noAutofit/>
            </a:bodyPr>
            <a:p>
              <a:endParaRPr b="0" lang="en-US" sz="2400" spc="-1" strike="noStrike">
                <a:solidFill>
                  <a:srgbClr val="333333"/>
                </a:solidFill>
                <a:latin typeface="Times New Roman"/>
              </a:endParaRPr>
            </a:p>
          </p:txBody>
        </p:sp>
        <p:sp>
          <p:nvSpPr>
            <p:cNvPr id="958" name=""/>
            <p:cNvSpPr/>
            <p:nvPr/>
          </p:nvSpPr>
          <p:spPr>
            <a:xfrm>
              <a:off x="2465280" y="3924360"/>
              <a:ext cx="6048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59" name=""/>
            <p:cNvSpPr/>
            <p:nvPr/>
          </p:nvSpPr>
          <p:spPr>
            <a:xfrm>
              <a:off x="2535120" y="4019400"/>
              <a:ext cx="60480" cy="63720"/>
            </a:xfrm>
            <a:prstGeom prst="ellipse">
              <a:avLst/>
            </a:prstGeom>
            <a:noFill/>
            <a:ln w="1260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960" name=""/>
            <p:cNvSpPr/>
            <p:nvPr/>
          </p:nvSpPr>
          <p:spPr>
            <a:xfrm>
              <a:off x="2448000" y="3660840"/>
              <a:ext cx="1558800" cy="709560"/>
            </a:xfrm>
            <a:custGeom>
              <a:avLst/>
              <a:gdLst/>
              <a:ahLst/>
              <a:rect l="l" t="t" r="r" b="b"/>
              <a:pathLst>
                <a:path w="1489" h="678">
                  <a:moveTo>
                    <a:pt x="1489" y="678"/>
                  </a:moveTo>
                  <a:lnTo>
                    <a:pt x="1129" y="318"/>
                  </a:lnTo>
                  <a:lnTo>
                    <a:pt x="761" y="92"/>
                  </a:lnTo>
                  <a:lnTo>
                    <a:pt x="401" y="0"/>
                  </a:lnTo>
                  <a:lnTo>
                    <a:pt x="59" y="34"/>
                  </a:lnTo>
                  <a:lnTo>
                    <a:pt x="0" y="151"/>
                  </a:lnTo>
                  <a:lnTo>
                    <a:pt x="42" y="276"/>
                  </a:lnTo>
                  <a:lnTo>
                    <a:pt x="109" y="369"/>
                  </a:lnTo>
                  <a:lnTo>
                    <a:pt x="176" y="444"/>
                  </a:lnTo>
                </a:path>
              </a:pathLst>
            </a:custGeom>
            <a:no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61" name=""/>
            <p:cNvSpPr/>
            <p:nvPr/>
          </p:nvSpPr>
          <p:spPr>
            <a:xfrm>
              <a:off x="3981600" y="4344840"/>
              <a:ext cx="601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62" name=""/>
            <p:cNvSpPr/>
            <p:nvPr/>
          </p:nvSpPr>
          <p:spPr>
            <a:xfrm>
              <a:off x="3603600" y="396720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63" name=""/>
            <p:cNvSpPr/>
            <p:nvPr/>
          </p:nvSpPr>
          <p:spPr>
            <a:xfrm>
              <a:off x="3218040" y="3730680"/>
              <a:ext cx="63360" cy="63360"/>
            </a:xfrm>
            <a:prstGeom prst="ellipse">
              <a:avLst/>
            </a:prstGeom>
            <a:noFill/>
            <a:ln w="12600">
              <a:solidFill>
                <a:srgbClr val="333333"/>
              </a:solidFill>
              <a:miter/>
            </a:ln>
          </p:spPr>
          <p:style>
            <a:lnRef idx="0"/>
            <a:fillRef idx="0"/>
            <a:effectRef idx="0"/>
            <a:fontRef idx="minor"/>
          </p:style>
          <p:txBody>
            <a:bodyPr lIns="90000" rIns="90000" tIns="-1440" bIns="-1440" anchor="t">
              <a:noAutofit/>
            </a:bodyPr>
            <a:p>
              <a:endParaRPr b="0" lang="en-US" sz="2400" spc="-1" strike="noStrike">
                <a:solidFill>
                  <a:srgbClr val="333333"/>
                </a:solidFill>
                <a:latin typeface="Times New Roman"/>
              </a:endParaRPr>
            </a:p>
          </p:txBody>
        </p:sp>
        <p:sp>
          <p:nvSpPr>
            <p:cNvPr id="964" name=""/>
            <p:cNvSpPr/>
            <p:nvPr/>
          </p:nvSpPr>
          <p:spPr>
            <a:xfrm>
              <a:off x="2841480" y="363528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65" name=""/>
            <p:cNvSpPr/>
            <p:nvPr/>
          </p:nvSpPr>
          <p:spPr>
            <a:xfrm>
              <a:off x="2482920" y="3672000"/>
              <a:ext cx="61920" cy="58680"/>
            </a:xfrm>
            <a:prstGeom prst="ellipse">
              <a:avLst/>
            </a:prstGeom>
            <a:noFill/>
            <a:ln w="12600">
              <a:solidFill>
                <a:srgbClr val="333333"/>
              </a:solidFill>
              <a:miter/>
            </a:ln>
          </p:spPr>
          <p:style>
            <a:lnRef idx="0"/>
            <a:fillRef idx="0"/>
            <a:effectRef idx="0"/>
            <a:fontRef idx="minor"/>
          </p:style>
          <p:txBody>
            <a:bodyPr lIns="90000" rIns="90000" tIns="-5400" bIns="-5400" anchor="t">
              <a:noAutofit/>
            </a:bodyPr>
            <a:p>
              <a:endParaRPr b="0" lang="en-US" sz="2400" spc="-1" strike="noStrike">
                <a:solidFill>
                  <a:srgbClr val="333333"/>
                </a:solidFill>
                <a:latin typeface="Times New Roman"/>
              </a:endParaRPr>
            </a:p>
          </p:txBody>
        </p:sp>
        <p:sp>
          <p:nvSpPr>
            <p:cNvPr id="966" name=""/>
            <p:cNvSpPr/>
            <p:nvPr/>
          </p:nvSpPr>
          <p:spPr>
            <a:xfrm>
              <a:off x="2422440" y="3794040"/>
              <a:ext cx="60480" cy="60480"/>
            </a:xfrm>
            <a:prstGeom prst="ellipse">
              <a:avLst/>
            </a:prstGeom>
            <a:noFill/>
            <a:ln w="12600">
              <a:solidFill>
                <a:srgbClr val="333333"/>
              </a:solidFill>
              <a:miter/>
            </a:ln>
          </p:spPr>
          <p:style>
            <a:lnRef idx="0"/>
            <a:fillRef idx="0"/>
            <a:effectRef idx="0"/>
            <a:fontRef idx="minor"/>
          </p:style>
          <p:txBody>
            <a:bodyPr lIns="90000" rIns="90000" tIns="-3600" bIns="-3600" anchor="t">
              <a:noAutofit/>
            </a:bodyPr>
            <a:p>
              <a:endParaRPr b="0" lang="en-US" sz="2400" spc="-1" strike="noStrike">
                <a:solidFill>
                  <a:srgbClr val="333333"/>
                </a:solidFill>
                <a:latin typeface="Times New Roman"/>
              </a:endParaRPr>
            </a:p>
          </p:txBody>
        </p:sp>
        <p:sp>
          <p:nvSpPr>
            <p:cNvPr id="967" name=""/>
            <p:cNvSpPr/>
            <p:nvPr/>
          </p:nvSpPr>
          <p:spPr>
            <a:xfrm>
              <a:off x="2465280" y="3924360"/>
              <a:ext cx="6048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68" name=""/>
            <p:cNvSpPr/>
            <p:nvPr/>
          </p:nvSpPr>
          <p:spPr>
            <a:xfrm>
              <a:off x="2535120" y="4019400"/>
              <a:ext cx="60480" cy="63720"/>
            </a:xfrm>
            <a:prstGeom prst="ellipse">
              <a:avLst/>
            </a:prstGeom>
            <a:noFill/>
            <a:ln w="1260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969" name=""/>
            <p:cNvSpPr/>
            <p:nvPr/>
          </p:nvSpPr>
          <p:spPr>
            <a:xfrm>
              <a:off x="2604960" y="409896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70" name=""/>
            <p:cNvSpPr/>
            <p:nvPr/>
          </p:nvSpPr>
          <p:spPr>
            <a:xfrm>
              <a:off x="2448000" y="3660840"/>
              <a:ext cx="1558800" cy="709560"/>
            </a:xfrm>
            <a:custGeom>
              <a:avLst/>
              <a:gdLst/>
              <a:ahLst/>
              <a:rect l="l" t="t" r="r" b="b"/>
              <a:pathLst>
                <a:path w="1489" h="678">
                  <a:moveTo>
                    <a:pt x="1489" y="678"/>
                  </a:moveTo>
                  <a:lnTo>
                    <a:pt x="1129" y="318"/>
                  </a:lnTo>
                  <a:lnTo>
                    <a:pt x="761" y="92"/>
                  </a:lnTo>
                  <a:lnTo>
                    <a:pt x="401" y="0"/>
                  </a:lnTo>
                  <a:lnTo>
                    <a:pt x="59" y="34"/>
                  </a:lnTo>
                  <a:lnTo>
                    <a:pt x="0" y="151"/>
                  </a:lnTo>
                  <a:lnTo>
                    <a:pt x="42" y="276"/>
                  </a:lnTo>
                  <a:lnTo>
                    <a:pt x="109" y="369"/>
                  </a:lnTo>
                  <a:lnTo>
                    <a:pt x="176" y="444"/>
                  </a:lnTo>
                  <a:lnTo>
                    <a:pt x="226" y="494"/>
                  </a:lnTo>
                  <a:lnTo>
                    <a:pt x="268" y="536"/>
                  </a:lnTo>
                  <a:lnTo>
                    <a:pt x="293" y="553"/>
                  </a:lnTo>
                  <a:lnTo>
                    <a:pt x="309" y="569"/>
                  </a:lnTo>
                  <a:lnTo>
                    <a:pt x="318" y="578"/>
                  </a:lnTo>
                  <a:lnTo>
                    <a:pt x="326" y="586"/>
                  </a:lnTo>
                  <a:lnTo>
                    <a:pt x="335" y="595"/>
                  </a:lnTo>
                </a:path>
              </a:pathLst>
            </a:custGeom>
            <a:no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71" name=""/>
            <p:cNvSpPr/>
            <p:nvPr/>
          </p:nvSpPr>
          <p:spPr>
            <a:xfrm>
              <a:off x="3981600" y="4344840"/>
              <a:ext cx="601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72" name=""/>
            <p:cNvSpPr/>
            <p:nvPr/>
          </p:nvSpPr>
          <p:spPr>
            <a:xfrm>
              <a:off x="3603600" y="396720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73" name=""/>
            <p:cNvSpPr/>
            <p:nvPr/>
          </p:nvSpPr>
          <p:spPr>
            <a:xfrm>
              <a:off x="3218040" y="3730680"/>
              <a:ext cx="63360" cy="63360"/>
            </a:xfrm>
            <a:prstGeom prst="ellipse">
              <a:avLst/>
            </a:prstGeom>
            <a:noFill/>
            <a:ln w="12600">
              <a:solidFill>
                <a:srgbClr val="333333"/>
              </a:solidFill>
              <a:miter/>
            </a:ln>
          </p:spPr>
          <p:style>
            <a:lnRef idx="0"/>
            <a:fillRef idx="0"/>
            <a:effectRef idx="0"/>
            <a:fontRef idx="minor"/>
          </p:style>
          <p:txBody>
            <a:bodyPr lIns="90000" rIns="90000" tIns="-1440" bIns="-1440" anchor="t">
              <a:noAutofit/>
            </a:bodyPr>
            <a:p>
              <a:endParaRPr b="0" lang="en-US" sz="2400" spc="-1" strike="noStrike">
                <a:solidFill>
                  <a:srgbClr val="333333"/>
                </a:solidFill>
                <a:latin typeface="Times New Roman"/>
              </a:endParaRPr>
            </a:p>
          </p:txBody>
        </p:sp>
        <p:sp>
          <p:nvSpPr>
            <p:cNvPr id="974" name=""/>
            <p:cNvSpPr/>
            <p:nvPr/>
          </p:nvSpPr>
          <p:spPr>
            <a:xfrm>
              <a:off x="2841480" y="363528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75" name=""/>
            <p:cNvSpPr/>
            <p:nvPr/>
          </p:nvSpPr>
          <p:spPr>
            <a:xfrm>
              <a:off x="2482920" y="3672000"/>
              <a:ext cx="61920" cy="58680"/>
            </a:xfrm>
            <a:prstGeom prst="ellipse">
              <a:avLst/>
            </a:prstGeom>
            <a:noFill/>
            <a:ln w="12600">
              <a:solidFill>
                <a:srgbClr val="333333"/>
              </a:solidFill>
              <a:miter/>
            </a:ln>
          </p:spPr>
          <p:style>
            <a:lnRef idx="0"/>
            <a:fillRef idx="0"/>
            <a:effectRef idx="0"/>
            <a:fontRef idx="minor"/>
          </p:style>
          <p:txBody>
            <a:bodyPr lIns="90000" rIns="90000" tIns="-5400" bIns="-5400" anchor="t">
              <a:noAutofit/>
            </a:bodyPr>
            <a:p>
              <a:endParaRPr b="0" lang="en-US" sz="2400" spc="-1" strike="noStrike">
                <a:solidFill>
                  <a:srgbClr val="333333"/>
                </a:solidFill>
                <a:latin typeface="Times New Roman"/>
              </a:endParaRPr>
            </a:p>
          </p:txBody>
        </p:sp>
        <p:sp>
          <p:nvSpPr>
            <p:cNvPr id="976" name=""/>
            <p:cNvSpPr/>
            <p:nvPr/>
          </p:nvSpPr>
          <p:spPr>
            <a:xfrm>
              <a:off x="2422440" y="3794040"/>
              <a:ext cx="60480" cy="60480"/>
            </a:xfrm>
            <a:prstGeom prst="ellipse">
              <a:avLst/>
            </a:prstGeom>
            <a:noFill/>
            <a:ln w="12600">
              <a:solidFill>
                <a:srgbClr val="333333"/>
              </a:solidFill>
              <a:miter/>
            </a:ln>
          </p:spPr>
          <p:style>
            <a:lnRef idx="0"/>
            <a:fillRef idx="0"/>
            <a:effectRef idx="0"/>
            <a:fontRef idx="minor"/>
          </p:style>
          <p:txBody>
            <a:bodyPr lIns="90000" rIns="90000" tIns="-3600" bIns="-3600" anchor="t">
              <a:noAutofit/>
            </a:bodyPr>
            <a:p>
              <a:endParaRPr b="0" lang="en-US" sz="2400" spc="-1" strike="noStrike">
                <a:solidFill>
                  <a:srgbClr val="333333"/>
                </a:solidFill>
                <a:latin typeface="Times New Roman"/>
              </a:endParaRPr>
            </a:p>
          </p:txBody>
        </p:sp>
        <p:sp>
          <p:nvSpPr>
            <p:cNvPr id="977" name=""/>
            <p:cNvSpPr/>
            <p:nvPr/>
          </p:nvSpPr>
          <p:spPr>
            <a:xfrm>
              <a:off x="2465280" y="3924360"/>
              <a:ext cx="6048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78" name=""/>
            <p:cNvSpPr/>
            <p:nvPr/>
          </p:nvSpPr>
          <p:spPr>
            <a:xfrm>
              <a:off x="2535120" y="4019400"/>
              <a:ext cx="60480" cy="63720"/>
            </a:xfrm>
            <a:prstGeom prst="ellipse">
              <a:avLst/>
            </a:prstGeom>
            <a:noFill/>
            <a:ln w="1260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979" name=""/>
            <p:cNvSpPr/>
            <p:nvPr/>
          </p:nvSpPr>
          <p:spPr>
            <a:xfrm>
              <a:off x="2604960" y="409896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80" name=""/>
            <p:cNvSpPr/>
            <p:nvPr/>
          </p:nvSpPr>
          <p:spPr>
            <a:xfrm>
              <a:off x="2658960" y="4152960"/>
              <a:ext cx="58680" cy="60120"/>
            </a:xfrm>
            <a:prstGeom prst="ellipse">
              <a:avLst/>
            </a:prstGeom>
            <a:noFill/>
            <a:ln w="12600">
              <a:solidFill>
                <a:srgbClr val="333333"/>
              </a:solidFill>
              <a:miter/>
            </a:ln>
          </p:spPr>
          <p:style>
            <a:lnRef idx="0"/>
            <a:fillRef idx="0"/>
            <a:effectRef idx="0"/>
            <a:fontRef idx="minor"/>
          </p:style>
          <p:txBody>
            <a:bodyPr lIns="90000" rIns="90000" tIns="-3960" bIns="-3960" anchor="t">
              <a:noAutofit/>
            </a:bodyPr>
            <a:p>
              <a:endParaRPr b="0" lang="en-US" sz="2400" spc="-1" strike="noStrike">
                <a:solidFill>
                  <a:srgbClr val="333333"/>
                </a:solidFill>
                <a:latin typeface="Times New Roman"/>
              </a:endParaRPr>
            </a:p>
          </p:txBody>
        </p:sp>
        <p:sp>
          <p:nvSpPr>
            <p:cNvPr id="981" name=""/>
            <p:cNvSpPr/>
            <p:nvPr/>
          </p:nvSpPr>
          <p:spPr>
            <a:xfrm>
              <a:off x="2701800" y="419580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82" name=""/>
            <p:cNvSpPr/>
            <p:nvPr/>
          </p:nvSpPr>
          <p:spPr>
            <a:xfrm>
              <a:off x="2728800" y="4213080"/>
              <a:ext cx="6048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83" name=""/>
            <p:cNvSpPr/>
            <p:nvPr/>
          </p:nvSpPr>
          <p:spPr>
            <a:xfrm>
              <a:off x="2744640" y="4230720"/>
              <a:ext cx="61920" cy="61920"/>
            </a:xfrm>
            <a:prstGeom prst="ellipse">
              <a:avLst/>
            </a:prstGeom>
            <a:noFill/>
            <a:ln w="12600">
              <a:solidFill>
                <a:srgbClr val="333333"/>
              </a:solidFill>
              <a:miter/>
            </a:ln>
          </p:spPr>
          <p:style>
            <a:lnRef idx="0"/>
            <a:fillRef idx="0"/>
            <a:effectRef idx="0"/>
            <a:fontRef idx="minor"/>
          </p:style>
          <p:txBody>
            <a:bodyPr lIns="90000" rIns="90000" tIns="-2880" bIns="-2880" anchor="t">
              <a:noAutofit/>
            </a:bodyPr>
            <a:p>
              <a:endParaRPr b="0" lang="en-US" sz="2400" spc="-1" strike="noStrike">
                <a:solidFill>
                  <a:srgbClr val="333333"/>
                </a:solidFill>
                <a:latin typeface="Times New Roman"/>
              </a:endParaRPr>
            </a:p>
          </p:txBody>
        </p:sp>
        <p:sp>
          <p:nvSpPr>
            <p:cNvPr id="984" name=""/>
            <p:cNvSpPr/>
            <p:nvPr/>
          </p:nvSpPr>
          <p:spPr>
            <a:xfrm>
              <a:off x="2754360" y="4240080"/>
              <a:ext cx="60120" cy="60480"/>
            </a:xfrm>
            <a:prstGeom prst="ellipse">
              <a:avLst/>
            </a:prstGeom>
            <a:noFill/>
            <a:ln w="12600">
              <a:solidFill>
                <a:srgbClr val="333333"/>
              </a:solidFill>
              <a:miter/>
            </a:ln>
          </p:spPr>
          <p:style>
            <a:lnRef idx="0"/>
            <a:fillRef idx="0"/>
            <a:effectRef idx="0"/>
            <a:fontRef idx="minor"/>
          </p:style>
          <p:txBody>
            <a:bodyPr lIns="90000" rIns="90000" tIns="-3600" bIns="-3600" anchor="t">
              <a:noAutofit/>
            </a:bodyPr>
            <a:p>
              <a:endParaRPr b="0" lang="en-US" sz="2400" spc="-1" strike="noStrike">
                <a:solidFill>
                  <a:srgbClr val="333333"/>
                </a:solidFill>
                <a:latin typeface="Times New Roman"/>
              </a:endParaRPr>
            </a:p>
          </p:txBody>
        </p:sp>
        <p:sp>
          <p:nvSpPr>
            <p:cNvPr id="985" name=""/>
            <p:cNvSpPr/>
            <p:nvPr/>
          </p:nvSpPr>
          <p:spPr>
            <a:xfrm>
              <a:off x="2763720" y="4248000"/>
              <a:ext cx="60480" cy="63720"/>
            </a:xfrm>
            <a:prstGeom prst="ellipse">
              <a:avLst/>
            </a:prstGeom>
            <a:noFill/>
            <a:ln w="1260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986" name=""/>
            <p:cNvSpPr/>
            <p:nvPr/>
          </p:nvSpPr>
          <p:spPr>
            <a:xfrm>
              <a:off x="2770200" y="4257720"/>
              <a:ext cx="63360" cy="60120"/>
            </a:xfrm>
            <a:prstGeom prst="ellipse">
              <a:avLst/>
            </a:prstGeom>
            <a:noFill/>
            <a:ln w="12600">
              <a:solidFill>
                <a:srgbClr val="333333"/>
              </a:solidFill>
              <a:miter/>
            </a:ln>
          </p:spPr>
          <p:style>
            <a:lnRef idx="0"/>
            <a:fillRef idx="0"/>
            <a:effectRef idx="0"/>
            <a:fontRef idx="minor"/>
          </p:style>
          <p:txBody>
            <a:bodyPr lIns="90000" rIns="90000" tIns="-3960" bIns="-3960" anchor="t">
              <a:noAutofit/>
            </a:bodyPr>
            <a:p>
              <a:endParaRPr b="0" lang="en-US" sz="2400" spc="-1" strike="noStrike">
                <a:solidFill>
                  <a:srgbClr val="333333"/>
                </a:solidFill>
                <a:latin typeface="Times New Roman"/>
              </a:endParaRPr>
            </a:p>
          </p:txBody>
        </p:sp>
      </p:grpSp>
      <p:grpSp>
        <p:nvGrpSpPr>
          <p:cNvPr id="987" name=""/>
          <p:cNvGrpSpPr/>
          <p:nvPr/>
        </p:nvGrpSpPr>
        <p:grpSpPr>
          <a:xfrm>
            <a:off x="5060880" y="2863800"/>
            <a:ext cx="3737160" cy="3277440"/>
            <a:chOff x="5060880" y="2863800"/>
            <a:chExt cx="3737160" cy="3277440"/>
          </a:xfrm>
        </p:grpSpPr>
        <p:sp>
          <p:nvSpPr>
            <p:cNvPr id="988" name=""/>
            <p:cNvSpPr/>
            <p:nvPr/>
          </p:nvSpPr>
          <p:spPr>
            <a:xfrm>
              <a:off x="5592600" y="5202360"/>
              <a:ext cx="3171960" cy="0"/>
            </a:xfrm>
            <a:prstGeom prst="line">
              <a:avLst/>
            </a:prstGeom>
            <a:ln w="9360">
              <a:solidFill>
                <a:srgbClr val="6600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89" name=""/>
            <p:cNvSpPr/>
            <p:nvPr/>
          </p:nvSpPr>
          <p:spPr>
            <a:xfrm>
              <a:off x="5591160" y="2949480"/>
              <a:ext cx="3164040" cy="269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90" name=""/>
            <p:cNvSpPr/>
            <p:nvPr/>
          </p:nvSpPr>
          <p:spPr>
            <a:xfrm>
              <a:off x="5591160" y="2949480"/>
              <a:ext cx="3164040" cy="2695680"/>
            </a:xfrm>
            <a:prstGeom prst="rect">
              <a:avLst/>
            </a:prstGeom>
            <a:no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91" name=""/>
            <p:cNvSpPr/>
            <p:nvPr/>
          </p:nvSpPr>
          <p:spPr>
            <a:xfrm>
              <a:off x="5591160" y="2949480"/>
              <a:ext cx="316404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992" name=""/>
            <p:cNvSpPr/>
            <p:nvPr/>
          </p:nvSpPr>
          <p:spPr>
            <a:xfrm>
              <a:off x="5591160" y="5645160"/>
              <a:ext cx="316404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993" name=""/>
            <p:cNvSpPr/>
            <p:nvPr/>
          </p:nvSpPr>
          <p:spPr>
            <a:xfrm flipV="1">
              <a:off x="8755200" y="2949480"/>
              <a:ext cx="1440" cy="269568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94" name=""/>
            <p:cNvSpPr/>
            <p:nvPr/>
          </p:nvSpPr>
          <p:spPr>
            <a:xfrm flipV="1">
              <a:off x="5591160" y="2949480"/>
              <a:ext cx="1440" cy="2695680"/>
            </a:xfrm>
            <a:prstGeom prst="line">
              <a:avLst/>
            </a:prstGeom>
            <a:ln w="17640">
              <a:solidFill>
                <a:srgbClr val="d2aad2"/>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95" name=""/>
            <p:cNvSpPr/>
            <p:nvPr/>
          </p:nvSpPr>
          <p:spPr>
            <a:xfrm>
              <a:off x="5591160" y="5645160"/>
              <a:ext cx="316404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996" name=""/>
            <p:cNvSpPr/>
            <p:nvPr/>
          </p:nvSpPr>
          <p:spPr>
            <a:xfrm flipV="1">
              <a:off x="5591160" y="2949480"/>
              <a:ext cx="1440" cy="2695680"/>
            </a:xfrm>
            <a:prstGeom prst="line">
              <a:avLst/>
            </a:prstGeom>
            <a:ln w="17640">
              <a:solidFill>
                <a:srgbClr val="d2aad2"/>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97" name=""/>
            <p:cNvSpPr/>
            <p:nvPr/>
          </p:nvSpPr>
          <p:spPr>
            <a:xfrm flipV="1">
              <a:off x="5591160" y="5614920"/>
              <a:ext cx="1440" cy="30240"/>
            </a:xfrm>
            <a:prstGeom prst="line">
              <a:avLst/>
            </a:prstGeom>
            <a:ln w="17640">
              <a:solidFill>
                <a:srgbClr val="004c2b"/>
              </a:solidFill>
              <a:miter/>
            </a:ln>
          </p:spPr>
          <p:style>
            <a:lnRef idx="0"/>
            <a:fillRef idx="0"/>
            <a:effectRef idx="0"/>
            <a:fontRef idx="minor"/>
          </p:style>
          <p:txBody>
            <a:bodyPr lIns="90000" rIns="90000" tIns="-16560" bIns="-16560" anchor="t">
              <a:noAutofit/>
            </a:bodyPr>
            <a:p>
              <a:endParaRPr b="0" lang="en-US" sz="2400" spc="-1" strike="noStrike">
                <a:solidFill>
                  <a:srgbClr val="333333"/>
                </a:solidFill>
                <a:latin typeface="Times New Roman"/>
              </a:endParaRPr>
            </a:p>
          </p:txBody>
        </p:sp>
        <p:sp>
          <p:nvSpPr>
            <p:cNvPr id="998" name=""/>
            <p:cNvSpPr/>
            <p:nvPr/>
          </p:nvSpPr>
          <p:spPr>
            <a:xfrm>
              <a:off x="5591160" y="294948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999" name=""/>
            <p:cNvSpPr/>
            <p:nvPr/>
          </p:nvSpPr>
          <p:spPr>
            <a:xfrm>
              <a:off x="5575320" y="56880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1000" name=""/>
            <p:cNvSpPr/>
            <p:nvPr/>
          </p:nvSpPr>
          <p:spPr>
            <a:xfrm flipV="1">
              <a:off x="6181560" y="5614920"/>
              <a:ext cx="1800" cy="30240"/>
            </a:xfrm>
            <a:prstGeom prst="line">
              <a:avLst/>
            </a:prstGeom>
            <a:ln w="17640">
              <a:solidFill>
                <a:srgbClr val="004c2b"/>
              </a:solidFill>
              <a:miter/>
            </a:ln>
          </p:spPr>
          <p:style>
            <a:lnRef idx="0"/>
            <a:fillRef idx="0"/>
            <a:effectRef idx="0"/>
            <a:fontRef idx="minor"/>
          </p:style>
          <p:txBody>
            <a:bodyPr lIns="90000" rIns="90000" tIns="-16560" bIns="-16560" anchor="t">
              <a:noAutofit/>
            </a:bodyPr>
            <a:p>
              <a:endParaRPr b="0" lang="en-US" sz="2400" spc="-1" strike="noStrike">
                <a:solidFill>
                  <a:srgbClr val="333333"/>
                </a:solidFill>
                <a:latin typeface="Times New Roman"/>
              </a:endParaRPr>
            </a:p>
          </p:txBody>
        </p:sp>
        <p:sp>
          <p:nvSpPr>
            <p:cNvPr id="1001" name=""/>
            <p:cNvSpPr/>
            <p:nvPr/>
          </p:nvSpPr>
          <p:spPr>
            <a:xfrm>
              <a:off x="6181560" y="2949480"/>
              <a:ext cx="180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1002" name=""/>
            <p:cNvSpPr/>
            <p:nvPr/>
          </p:nvSpPr>
          <p:spPr>
            <a:xfrm>
              <a:off x="6164280" y="56880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5</a:t>
              </a:r>
              <a:endParaRPr b="0" lang="en-US" sz="1700" spc="-1" strike="noStrike">
                <a:solidFill>
                  <a:srgbClr val="333333"/>
                </a:solidFill>
                <a:latin typeface="Times New Roman"/>
              </a:endParaRPr>
            </a:p>
          </p:txBody>
        </p:sp>
        <p:sp>
          <p:nvSpPr>
            <p:cNvPr id="1003" name=""/>
            <p:cNvSpPr/>
            <p:nvPr/>
          </p:nvSpPr>
          <p:spPr>
            <a:xfrm flipV="1">
              <a:off x="6761160" y="5614920"/>
              <a:ext cx="1440" cy="30240"/>
            </a:xfrm>
            <a:prstGeom prst="line">
              <a:avLst/>
            </a:prstGeom>
            <a:ln w="17640">
              <a:solidFill>
                <a:srgbClr val="004c2b"/>
              </a:solidFill>
              <a:miter/>
            </a:ln>
          </p:spPr>
          <p:style>
            <a:lnRef idx="0"/>
            <a:fillRef idx="0"/>
            <a:effectRef idx="0"/>
            <a:fontRef idx="minor"/>
          </p:style>
          <p:txBody>
            <a:bodyPr lIns="90000" rIns="90000" tIns="-16560" bIns="-16560" anchor="t">
              <a:noAutofit/>
            </a:bodyPr>
            <a:p>
              <a:endParaRPr b="0" lang="en-US" sz="2400" spc="-1" strike="noStrike">
                <a:solidFill>
                  <a:srgbClr val="333333"/>
                </a:solidFill>
                <a:latin typeface="Times New Roman"/>
              </a:endParaRPr>
            </a:p>
          </p:txBody>
        </p:sp>
        <p:sp>
          <p:nvSpPr>
            <p:cNvPr id="1004" name=""/>
            <p:cNvSpPr/>
            <p:nvPr/>
          </p:nvSpPr>
          <p:spPr>
            <a:xfrm>
              <a:off x="6761160" y="294948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1005" name=""/>
            <p:cNvSpPr/>
            <p:nvPr/>
          </p:nvSpPr>
          <p:spPr>
            <a:xfrm>
              <a:off x="6678720" y="568800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0</a:t>
              </a:r>
              <a:endParaRPr b="0" lang="en-US" sz="1700" spc="-1" strike="noStrike">
                <a:solidFill>
                  <a:srgbClr val="333333"/>
                </a:solidFill>
                <a:latin typeface="Times New Roman"/>
              </a:endParaRPr>
            </a:p>
          </p:txBody>
        </p:sp>
        <p:sp>
          <p:nvSpPr>
            <p:cNvPr id="1006" name=""/>
            <p:cNvSpPr/>
            <p:nvPr/>
          </p:nvSpPr>
          <p:spPr>
            <a:xfrm flipV="1">
              <a:off x="7350120" y="5614920"/>
              <a:ext cx="1440" cy="30240"/>
            </a:xfrm>
            <a:prstGeom prst="line">
              <a:avLst/>
            </a:prstGeom>
            <a:ln w="17640">
              <a:solidFill>
                <a:srgbClr val="004c2b"/>
              </a:solidFill>
              <a:miter/>
            </a:ln>
          </p:spPr>
          <p:style>
            <a:lnRef idx="0"/>
            <a:fillRef idx="0"/>
            <a:effectRef idx="0"/>
            <a:fontRef idx="minor"/>
          </p:style>
          <p:txBody>
            <a:bodyPr lIns="90000" rIns="90000" tIns="-16560" bIns="-16560" anchor="t">
              <a:noAutofit/>
            </a:bodyPr>
            <a:p>
              <a:endParaRPr b="0" lang="en-US" sz="2400" spc="-1" strike="noStrike">
                <a:solidFill>
                  <a:srgbClr val="333333"/>
                </a:solidFill>
                <a:latin typeface="Times New Roman"/>
              </a:endParaRPr>
            </a:p>
          </p:txBody>
        </p:sp>
        <p:sp>
          <p:nvSpPr>
            <p:cNvPr id="1007" name=""/>
            <p:cNvSpPr/>
            <p:nvPr/>
          </p:nvSpPr>
          <p:spPr>
            <a:xfrm>
              <a:off x="7350120" y="294948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1008" name=""/>
            <p:cNvSpPr/>
            <p:nvPr/>
          </p:nvSpPr>
          <p:spPr>
            <a:xfrm>
              <a:off x="7269120" y="568800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1009" name=""/>
            <p:cNvSpPr/>
            <p:nvPr/>
          </p:nvSpPr>
          <p:spPr>
            <a:xfrm flipV="1">
              <a:off x="7940520" y="5614920"/>
              <a:ext cx="1800" cy="30240"/>
            </a:xfrm>
            <a:prstGeom prst="line">
              <a:avLst/>
            </a:prstGeom>
            <a:ln w="17640">
              <a:solidFill>
                <a:srgbClr val="004c2b"/>
              </a:solidFill>
              <a:miter/>
            </a:ln>
          </p:spPr>
          <p:style>
            <a:lnRef idx="0"/>
            <a:fillRef idx="0"/>
            <a:effectRef idx="0"/>
            <a:fontRef idx="minor"/>
          </p:style>
          <p:txBody>
            <a:bodyPr lIns="90000" rIns="90000" tIns="-16560" bIns="-16560" anchor="t">
              <a:noAutofit/>
            </a:bodyPr>
            <a:p>
              <a:endParaRPr b="0" lang="en-US" sz="2400" spc="-1" strike="noStrike">
                <a:solidFill>
                  <a:srgbClr val="333333"/>
                </a:solidFill>
                <a:latin typeface="Times New Roman"/>
              </a:endParaRPr>
            </a:p>
          </p:txBody>
        </p:sp>
        <p:sp>
          <p:nvSpPr>
            <p:cNvPr id="1010" name=""/>
            <p:cNvSpPr/>
            <p:nvPr/>
          </p:nvSpPr>
          <p:spPr>
            <a:xfrm>
              <a:off x="7940520" y="2949480"/>
              <a:ext cx="180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1011" name=""/>
            <p:cNvSpPr/>
            <p:nvPr/>
          </p:nvSpPr>
          <p:spPr>
            <a:xfrm>
              <a:off x="7858080" y="568800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0</a:t>
              </a:r>
              <a:endParaRPr b="0" lang="en-US" sz="1700" spc="-1" strike="noStrike">
                <a:solidFill>
                  <a:srgbClr val="333333"/>
                </a:solidFill>
                <a:latin typeface="Times New Roman"/>
              </a:endParaRPr>
            </a:p>
          </p:txBody>
        </p:sp>
        <p:sp>
          <p:nvSpPr>
            <p:cNvPr id="1012" name=""/>
            <p:cNvSpPr/>
            <p:nvPr/>
          </p:nvSpPr>
          <p:spPr>
            <a:xfrm flipV="1">
              <a:off x="8520120" y="5614920"/>
              <a:ext cx="1440" cy="30240"/>
            </a:xfrm>
            <a:prstGeom prst="line">
              <a:avLst/>
            </a:prstGeom>
            <a:ln w="17640">
              <a:solidFill>
                <a:srgbClr val="004c2b"/>
              </a:solidFill>
              <a:miter/>
            </a:ln>
          </p:spPr>
          <p:style>
            <a:lnRef idx="0"/>
            <a:fillRef idx="0"/>
            <a:effectRef idx="0"/>
            <a:fontRef idx="minor"/>
          </p:style>
          <p:txBody>
            <a:bodyPr lIns="90000" rIns="90000" tIns="-16560" bIns="-16560" anchor="t">
              <a:noAutofit/>
            </a:bodyPr>
            <a:p>
              <a:endParaRPr b="0" lang="en-US" sz="2400" spc="-1" strike="noStrike">
                <a:solidFill>
                  <a:srgbClr val="333333"/>
                </a:solidFill>
                <a:latin typeface="Times New Roman"/>
              </a:endParaRPr>
            </a:p>
          </p:txBody>
        </p:sp>
        <p:sp>
          <p:nvSpPr>
            <p:cNvPr id="1013" name=""/>
            <p:cNvSpPr/>
            <p:nvPr/>
          </p:nvSpPr>
          <p:spPr>
            <a:xfrm>
              <a:off x="8520120" y="2949480"/>
              <a:ext cx="1440" cy="33480"/>
            </a:xfrm>
            <a:prstGeom prst="line">
              <a:avLst/>
            </a:prstGeom>
            <a:ln w="17640">
              <a:solidFill>
                <a:srgbClr val="004c2b"/>
              </a:solidFill>
              <a:miter/>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1014" name=""/>
            <p:cNvSpPr/>
            <p:nvPr/>
          </p:nvSpPr>
          <p:spPr>
            <a:xfrm>
              <a:off x="8437680" y="568800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5</a:t>
              </a:r>
              <a:endParaRPr b="0" lang="en-US" sz="1700" spc="-1" strike="noStrike">
                <a:solidFill>
                  <a:srgbClr val="333333"/>
                </a:solidFill>
                <a:latin typeface="Times New Roman"/>
              </a:endParaRPr>
            </a:p>
          </p:txBody>
        </p:sp>
        <p:sp>
          <p:nvSpPr>
            <p:cNvPr id="1015" name=""/>
            <p:cNvSpPr/>
            <p:nvPr/>
          </p:nvSpPr>
          <p:spPr>
            <a:xfrm>
              <a:off x="5591160" y="5645160"/>
              <a:ext cx="3348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016" name=""/>
            <p:cNvSpPr/>
            <p:nvPr/>
          </p:nvSpPr>
          <p:spPr>
            <a:xfrm flipH="1">
              <a:off x="8722800" y="5645160"/>
              <a:ext cx="3204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017" name=""/>
            <p:cNvSpPr/>
            <p:nvPr/>
          </p:nvSpPr>
          <p:spPr>
            <a:xfrm>
              <a:off x="5191200" y="556092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1018" name=""/>
            <p:cNvSpPr/>
            <p:nvPr/>
          </p:nvSpPr>
          <p:spPr>
            <a:xfrm>
              <a:off x="5591160" y="5195880"/>
              <a:ext cx="3348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19" name=""/>
            <p:cNvSpPr/>
            <p:nvPr/>
          </p:nvSpPr>
          <p:spPr>
            <a:xfrm flipH="1">
              <a:off x="8722800" y="5195880"/>
              <a:ext cx="3204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20" name=""/>
            <p:cNvSpPr/>
            <p:nvPr/>
          </p:nvSpPr>
          <p:spPr>
            <a:xfrm>
              <a:off x="5351400" y="510840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1021" name=""/>
            <p:cNvSpPr/>
            <p:nvPr/>
          </p:nvSpPr>
          <p:spPr>
            <a:xfrm>
              <a:off x="5591160" y="4743360"/>
              <a:ext cx="3348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1022" name=""/>
            <p:cNvSpPr/>
            <p:nvPr/>
          </p:nvSpPr>
          <p:spPr>
            <a:xfrm flipH="1">
              <a:off x="8722800" y="4743360"/>
              <a:ext cx="3204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1023" name=""/>
            <p:cNvSpPr/>
            <p:nvPr/>
          </p:nvSpPr>
          <p:spPr>
            <a:xfrm>
              <a:off x="5191200" y="465624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1024" name=""/>
            <p:cNvSpPr/>
            <p:nvPr/>
          </p:nvSpPr>
          <p:spPr>
            <a:xfrm>
              <a:off x="5591160" y="4303800"/>
              <a:ext cx="3348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025" name=""/>
            <p:cNvSpPr/>
            <p:nvPr/>
          </p:nvSpPr>
          <p:spPr>
            <a:xfrm flipH="1">
              <a:off x="8722800" y="4303800"/>
              <a:ext cx="32040" cy="1440"/>
            </a:xfrm>
            <a:prstGeom prst="line">
              <a:avLst/>
            </a:prstGeom>
            <a:ln w="17640">
              <a:solidFill>
                <a:srgbClr val="333333"/>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026" name=""/>
            <p:cNvSpPr/>
            <p:nvPr/>
          </p:nvSpPr>
          <p:spPr>
            <a:xfrm>
              <a:off x="5419800" y="42163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1027" name=""/>
            <p:cNvSpPr/>
            <p:nvPr/>
          </p:nvSpPr>
          <p:spPr>
            <a:xfrm>
              <a:off x="5591160" y="3852720"/>
              <a:ext cx="3348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28" name=""/>
            <p:cNvSpPr/>
            <p:nvPr/>
          </p:nvSpPr>
          <p:spPr>
            <a:xfrm flipH="1">
              <a:off x="8722800" y="3852720"/>
              <a:ext cx="3204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29" name=""/>
            <p:cNvSpPr/>
            <p:nvPr/>
          </p:nvSpPr>
          <p:spPr>
            <a:xfrm>
              <a:off x="5258160" y="376704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1030" name=""/>
            <p:cNvSpPr/>
            <p:nvPr/>
          </p:nvSpPr>
          <p:spPr>
            <a:xfrm>
              <a:off x="5591160" y="3402000"/>
              <a:ext cx="3348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31" name=""/>
            <p:cNvSpPr/>
            <p:nvPr/>
          </p:nvSpPr>
          <p:spPr>
            <a:xfrm flipH="1">
              <a:off x="8722800" y="3402000"/>
              <a:ext cx="3204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32" name=""/>
            <p:cNvSpPr/>
            <p:nvPr/>
          </p:nvSpPr>
          <p:spPr>
            <a:xfrm>
              <a:off x="5419800" y="33148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1033" name=""/>
            <p:cNvSpPr/>
            <p:nvPr/>
          </p:nvSpPr>
          <p:spPr>
            <a:xfrm>
              <a:off x="5591160" y="2949480"/>
              <a:ext cx="3348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1034" name=""/>
            <p:cNvSpPr/>
            <p:nvPr/>
          </p:nvSpPr>
          <p:spPr>
            <a:xfrm flipH="1">
              <a:off x="8722800" y="2949480"/>
              <a:ext cx="3204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1035" name=""/>
            <p:cNvSpPr/>
            <p:nvPr/>
          </p:nvSpPr>
          <p:spPr>
            <a:xfrm>
              <a:off x="5258160" y="286380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1036" name=""/>
            <p:cNvSpPr/>
            <p:nvPr/>
          </p:nvSpPr>
          <p:spPr>
            <a:xfrm>
              <a:off x="5591160" y="2949480"/>
              <a:ext cx="3164040" cy="1800"/>
            </a:xfrm>
            <a:prstGeom prst="line">
              <a:avLst/>
            </a:prstGeom>
            <a:ln w="1764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1037" name=""/>
            <p:cNvSpPr/>
            <p:nvPr/>
          </p:nvSpPr>
          <p:spPr>
            <a:xfrm>
              <a:off x="5591160" y="5645160"/>
              <a:ext cx="316404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038" name=""/>
            <p:cNvSpPr/>
            <p:nvPr/>
          </p:nvSpPr>
          <p:spPr>
            <a:xfrm flipV="1">
              <a:off x="8755200" y="2949480"/>
              <a:ext cx="1440" cy="269568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39" name=""/>
            <p:cNvSpPr/>
            <p:nvPr/>
          </p:nvSpPr>
          <p:spPr>
            <a:xfrm flipV="1">
              <a:off x="5591160" y="2949480"/>
              <a:ext cx="1440" cy="269568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40" name=""/>
            <p:cNvSpPr/>
            <p:nvPr/>
          </p:nvSpPr>
          <p:spPr>
            <a:xfrm>
              <a:off x="7151400" y="5881680"/>
              <a:ext cx="109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k</a:t>
              </a:r>
              <a:endParaRPr b="0" lang="en-US" sz="1700" spc="-1" strike="noStrike">
                <a:solidFill>
                  <a:srgbClr val="333333"/>
                </a:solidFill>
                <a:latin typeface="Times New Roman"/>
              </a:endParaRPr>
            </a:p>
          </p:txBody>
        </p:sp>
        <p:sp>
          <p:nvSpPr>
            <p:cNvPr id="1041" name=""/>
            <p:cNvSpPr/>
            <p:nvPr/>
          </p:nvSpPr>
          <p:spPr>
            <a:xfrm rot="16200000">
              <a:off x="5004360" y="415152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u(k)</a:t>
              </a:r>
              <a:endParaRPr b="0" lang="en-US" sz="1700" spc="-1" strike="noStrike">
                <a:solidFill>
                  <a:srgbClr val="333333"/>
                </a:solidFill>
                <a:latin typeface="Times New Roman"/>
              </a:endParaRPr>
            </a:p>
          </p:txBody>
        </p:sp>
        <p:sp>
          <p:nvSpPr>
            <p:cNvPr id="1042" name=""/>
            <p:cNvSpPr/>
            <p:nvPr/>
          </p:nvSpPr>
          <p:spPr>
            <a:xfrm>
              <a:off x="5559480" y="5162400"/>
              <a:ext cx="74520" cy="76320"/>
            </a:xfrm>
            <a:prstGeom prst="ellipse">
              <a:avLst/>
            </a:prstGeom>
            <a:noFill/>
            <a:ln w="17640">
              <a:solidFill>
                <a:srgbClr val="d2aad2"/>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43" name=""/>
            <p:cNvSpPr/>
            <p:nvPr/>
          </p:nvSpPr>
          <p:spPr>
            <a:xfrm>
              <a:off x="5591160" y="5195880"/>
              <a:ext cx="11916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44" name=""/>
            <p:cNvSpPr/>
            <p:nvPr/>
          </p:nvSpPr>
          <p:spPr>
            <a:xfrm>
              <a:off x="5559480" y="5162400"/>
              <a:ext cx="74520" cy="76320"/>
            </a:xfrm>
            <a:prstGeom prst="ellipse">
              <a:avLst/>
            </a:prstGeom>
            <a:noFill/>
            <a:ln w="17640">
              <a:solidFill>
                <a:srgbClr val="d2aad2"/>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45" name=""/>
            <p:cNvSpPr/>
            <p:nvPr/>
          </p:nvSpPr>
          <p:spPr>
            <a:xfrm>
              <a:off x="567864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46" name=""/>
            <p:cNvSpPr/>
            <p:nvPr/>
          </p:nvSpPr>
          <p:spPr>
            <a:xfrm>
              <a:off x="5591160" y="5195880"/>
              <a:ext cx="236520" cy="360"/>
            </a:xfrm>
            <a:custGeom>
              <a:avLst/>
              <a:gdLst/>
              <a:ahLst/>
              <a:rect l="l" t="t" r="r" b="b"/>
              <a:pathLst>
                <a:path w="247" h="0">
                  <a:moveTo>
                    <a:pt x="0" y="0"/>
                  </a:moveTo>
                  <a:lnTo>
                    <a:pt x="124" y="0"/>
                  </a:lnTo>
                  <a:lnTo>
                    <a:pt x="247" y="0"/>
                  </a:lnTo>
                </a:path>
              </a:pathLst>
            </a:custGeom>
            <a:noFill/>
            <a:ln w="176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333333"/>
                </a:solidFill>
                <a:latin typeface="Times New Roman"/>
              </a:endParaRPr>
            </a:p>
          </p:txBody>
        </p:sp>
        <p:sp>
          <p:nvSpPr>
            <p:cNvPr id="1047" name=""/>
            <p:cNvSpPr/>
            <p:nvPr/>
          </p:nvSpPr>
          <p:spPr>
            <a:xfrm>
              <a:off x="5559480" y="5162400"/>
              <a:ext cx="74520" cy="76320"/>
            </a:xfrm>
            <a:prstGeom prst="ellipse">
              <a:avLst/>
            </a:prstGeom>
            <a:noFill/>
            <a:ln w="17640">
              <a:solidFill>
                <a:srgbClr val="d2aad2"/>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48" name=""/>
            <p:cNvSpPr/>
            <p:nvPr/>
          </p:nvSpPr>
          <p:spPr>
            <a:xfrm>
              <a:off x="567864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49" name=""/>
            <p:cNvSpPr/>
            <p:nvPr/>
          </p:nvSpPr>
          <p:spPr>
            <a:xfrm>
              <a:off x="579600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50" name=""/>
            <p:cNvSpPr/>
            <p:nvPr/>
          </p:nvSpPr>
          <p:spPr>
            <a:xfrm>
              <a:off x="5591160" y="5141880"/>
              <a:ext cx="353880" cy="54000"/>
            </a:xfrm>
            <a:custGeom>
              <a:avLst/>
              <a:gdLst/>
              <a:ahLst/>
              <a:rect l="l" t="t" r="r" b="b"/>
              <a:pathLst>
                <a:path w="370" h="56">
                  <a:moveTo>
                    <a:pt x="0" y="56"/>
                  </a:moveTo>
                  <a:lnTo>
                    <a:pt x="124" y="56"/>
                  </a:lnTo>
                  <a:lnTo>
                    <a:pt x="247" y="56"/>
                  </a:lnTo>
                  <a:lnTo>
                    <a:pt x="370" y="0"/>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51" name=""/>
            <p:cNvSpPr/>
            <p:nvPr/>
          </p:nvSpPr>
          <p:spPr>
            <a:xfrm>
              <a:off x="5559480" y="5162400"/>
              <a:ext cx="74520" cy="76320"/>
            </a:xfrm>
            <a:prstGeom prst="ellipse">
              <a:avLst/>
            </a:prstGeom>
            <a:noFill/>
            <a:ln w="17640">
              <a:solidFill>
                <a:srgbClr val="d2aad2"/>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52" name=""/>
            <p:cNvSpPr/>
            <p:nvPr/>
          </p:nvSpPr>
          <p:spPr>
            <a:xfrm>
              <a:off x="567864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53" name=""/>
            <p:cNvSpPr/>
            <p:nvPr/>
          </p:nvSpPr>
          <p:spPr>
            <a:xfrm>
              <a:off x="579600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54" name=""/>
            <p:cNvSpPr/>
            <p:nvPr/>
          </p:nvSpPr>
          <p:spPr>
            <a:xfrm>
              <a:off x="5913360" y="5108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55" name=""/>
            <p:cNvSpPr/>
            <p:nvPr/>
          </p:nvSpPr>
          <p:spPr>
            <a:xfrm>
              <a:off x="5591160" y="4454640"/>
              <a:ext cx="473040" cy="741240"/>
            </a:xfrm>
            <a:custGeom>
              <a:avLst/>
              <a:gdLst/>
              <a:ahLst/>
              <a:rect l="l" t="t" r="r" b="b"/>
              <a:pathLst>
                <a:path w="494" h="775">
                  <a:moveTo>
                    <a:pt x="0" y="775"/>
                  </a:moveTo>
                  <a:lnTo>
                    <a:pt x="124" y="775"/>
                  </a:lnTo>
                  <a:lnTo>
                    <a:pt x="247" y="775"/>
                  </a:lnTo>
                  <a:lnTo>
                    <a:pt x="370" y="719"/>
                  </a:lnTo>
                  <a:lnTo>
                    <a:pt x="494"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56" name=""/>
            <p:cNvSpPr/>
            <p:nvPr/>
          </p:nvSpPr>
          <p:spPr>
            <a:xfrm>
              <a:off x="5559480" y="5162400"/>
              <a:ext cx="74520" cy="76320"/>
            </a:xfrm>
            <a:prstGeom prst="ellipse">
              <a:avLst/>
            </a:prstGeom>
            <a:noFill/>
            <a:ln w="17640">
              <a:solidFill>
                <a:srgbClr val="d2aad2"/>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57" name=""/>
            <p:cNvSpPr/>
            <p:nvPr/>
          </p:nvSpPr>
          <p:spPr>
            <a:xfrm>
              <a:off x="567864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58" name=""/>
            <p:cNvSpPr/>
            <p:nvPr/>
          </p:nvSpPr>
          <p:spPr>
            <a:xfrm>
              <a:off x="579600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59" name=""/>
            <p:cNvSpPr/>
            <p:nvPr/>
          </p:nvSpPr>
          <p:spPr>
            <a:xfrm>
              <a:off x="5913360" y="5108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60" name=""/>
            <p:cNvSpPr/>
            <p:nvPr/>
          </p:nvSpPr>
          <p:spPr>
            <a:xfrm>
              <a:off x="6031080" y="4421160"/>
              <a:ext cx="7596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61" name=""/>
            <p:cNvSpPr/>
            <p:nvPr/>
          </p:nvSpPr>
          <p:spPr>
            <a:xfrm>
              <a:off x="5591160" y="4195800"/>
              <a:ext cx="590400" cy="1000080"/>
            </a:xfrm>
            <a:custGeom>
              <a:avLst/>
              <a:gdLst/>
              <a:ahLst/>
              <a:rect l="l" t="t" r="r" b="b"/>
              <a:pathLst>
                <a:path w="617" h="1044">
                  <a:moveTo>
                    <a:pt x="0" y="1044"/>
                  </a:moveTo>
                  <a:lnTo>
                    <a:pt x="124" y="1044"/>
                  </a:lnTo>
                  <a:lnTo>
                    <a:pt x="247" y="1044"/>
                  </a:lnTo>
                  <a:lnTo>
                    <a:pt x="370" y="988"/>
                  </a:lnTo>
                  <a:lnTo>
                    <a:pt x="494" y="269"/>
                  </a:lnTo>
                  <a:lnTo>
                    <a:pt x="6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62" name=""/>
            <p:cNvSpPr/>
            <p:nvPr/>
          </p:nvSpPr>
          <p:spPr>
            <a:xfrm>
              <a:off x="5559480" y="5162400"/>
              <a:ext cx="74520" cy="76320"/>
            </a:xfrm>
            <a:prstGeom prst="ellipse">
              <a:avLst/>
            </a:prstGeom>
            <a:noFill/>
            <a:ln w="17640">
              <a:solidFill>
                <a:srgbClr val="d2aad2"/>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63" name=""/>
            <p:cNvSpPr/>
            <p:nvPr/>
          </p:nvSpPr>
          <p:spPr>
            <a:xfrm>
              <a:off x="567864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64" name=""/>
            <p:cNvSpPr/>
            <p:nvPr/>
          </p:nvSpPr>
          <p:spPr>
            <a:xfrm>
              <a:off x="579600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65" name=""/>
            <p:cNvSpPr/>
            <p:nvPr/>
          </p:nvSpPr>
          <p:spPr>
            <a:xfrm>
              <a:off x="5913360" y="5108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66" name=""/>
            <p:cNvSpPr/>
            <p:nvPr/>
          </p:nvSpPr>
          <p:spPr>
            <a:xfrm>
              <a:off x="6031080" y="4421160"/>
              <a:ext cx="7596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67" name=""/>
            <p:cNvSpPr/>
            <p:nvPr/>
          </p:nvSpPr>
          <p:spPr>
            <a:xfrm>
              <a:off x="6149880" y="4164120"/>
              <a:ext cx="74880" cy="75960"/>
            </a:xfrm>
            <a:prstGeom prst="ellipse">
              <a:avLst/>
            </a:prstGeom>
            <a:noFill/>
            <a:ln w="176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068" name=""/>
            <p:cNvSpPr/>
            <p:nvPr/>
          </p:nvSpPr>
          <p:spPr>
            <a:xfrm>
              <a:off x="5591160" y="4130640"/>
              <a:ext cx="708120" cy="1065240"/>
            </a:xfrm>
            <a:custGeom>
              <a:avLst/>
              <a:gdLst/>
              <a:ahLst/>
              <a:rect l="l" t="t" r="r" b="b"/>
              <a:pathLst>
                <a:path w="740" h="1112">
                  <a:moveTo>
                    <a:pt x="0" y="1112"/>
                  </a:moveTo>
                  <a:lnTo>
                    <a:pt x="124" y="1112"/>
                  </a:lnTo>
                  <a:lnTo>
                    <a:pt x="247" y="1112"/>
                  </a:lnTo>
                  <a:lnTo>
                    <a:pt x="370" y="1056"/>
                  </a:lnTo>
                  <a:lnTo>
                    <a:pt x="494" y="337"/>
                  </a:lnTo>
                  <a:lnTo>
                    <a:pt x="617" y="68"/>
                  </a:lnTo>
                  <a:lnTo>
                    <a:pt x="74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69" name=""/>
            <p:cNvSpPr/>
            <p:nvPr/>
          </p:nvSpPr>
          <p:spPr>
            <a:xfrm>
              <a:off x="5559480" y="5162400"/>
              <a:ext cx="74520" cy="76320"/>
            </a:xfrm>
            <a:prstGeom prst="ellipse">
              <a:avLst/>
            </a:prstGeom>
            <a:noFill/>
            <a:ln w="17640">
              <a:solidFill>
                <a:srgbClr val="d2aad2"/>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70" name=""/>
            <p:cNvSpPr/>
            <p:nvPr/>
          </p:nvSpPr>
          <p:spPr>
            <a:xfrm>
              <a:off x="567864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71" name=""/>
            <p:cNvSpPr/>
            <p:nvPr/>
          </p:nvSpPr>
          <p:spPr>
            <a:xfrm>
              <a:off x="579600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72" name=""/>
            <p:cNvSpPr/>
            <p:nvPr/>
          </p:nvSpPr>
          <p:spPr>
            <a:xfrm>
              <a:off x="5913360" y="5108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73" name=""/>
            <p:cNvSpPr/>
            <p:nvPr/>
          </p:nvSpPr>
          <p:spPr>
            <a:xfrm>
              <a:off x="6031080" y="4421160"/>
              <a:ext cx="7596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74" name=""/>
            <p:cNvSpPr/>
            <p:nvPr/>
          </p:nvSpPr>
          <p:spPr>
            <a:xfrm>
              <a:off x="6149880" y="4164120"/>
              <a:ext cx="74880" cy="75960"/>
            </a:xfrm>
            <a:prstGeom prst="ellipse">
              <a:avLst/>
            </a:prstGeom>
            <a:noFill/>
            <a:ln w="176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075" name=""/>
            <p:cNvSpPr/>
            <p:nvPr/>
          </p:nvSpPr>
          <p:spPr>
            <a:xfrm>
              <a:off x="6267600" y="4100400"/>
              <a:ext cx="74520" cy="74880"/>
            </a:xfrm>
            <a:prstGeom prst="ellipse">
              <a:avLst/>
            </a:prstGeom>
            <a:noFill/>
            <a:ln w="1764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333333"/>
                </a:solidFill>
                <a:latin typeface="Times New Roman"/>
              </a:endParaRPr>
            </a:p>
          </p:txBody>
        </p:sp>
        <p:sp>
          <p:nvSpPr>
            <p:cNvPr id="1076" name=""/>
            <p:cNvSpPr/>
            <p:nvPr/>
          </p:nvSpPr>
          <p:spPr>
            <a:xfrm>
              <a:off x="5591160" y="4130640"/>
              <a:ext cx="816120" cy="1065240"/>
            </a:xfrm>
            <a:custGeom>
              <a:avLst/>
              <a:gdLst/>
              <a:ahLst/>
              <a:rect l="l" t="t" r="r" b="b"/>
              <a:pathLst>
                <a:path w="853" h="1112">
                  <a:moveTo>
                    <a:pt x="0" y="1112"/>
                  </a:moveTo>
                  <a:lnTo>
                    <a:pt x="124" y="1112"/>
                  </a:lnTo>
                  <a:lnTo>
                    <a:pt x="247" y="1112"/>
                  </a:lnTo>
                  <a:lnTo>
                    <a:pt x="370" y="1056"/>
                  </a:lnTo>
                  <a:lnTo>
                    <a:pt x="494" y="337"/>
                  </a:lnTo>
                  <a:lnTo>
                    <a:pt x="617" y="68"/>
                  </a:lnTo>
                  <a:lnTo>
                    <a:pt x="740" y="0"/>
                  </a:lnTo>
                  <a:lnTo>
                    <a:pt x="853" y="1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77" name=""/>
            <p:cNvSpPr/>
            <p:nvPr/>
          </p:nvSpPr>
          <p:spPr>
            <a:xfrm>
              <a:off x="5559480" y="5162400"/>
              <a:ext cx="74520" cy="76320"/>
            </a:xfrm>
            <a:prstGeom prst="ellipse">
              <a:avLst/>
            </a:prstGeom>
            <a:noFill/>
            <a:ln w="17640">
              <a:solidFill>
                <a:srgbClr val="d2aad2"/>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78" name=""/>
            <p:cNvSpPr/>
            <p:nvPr/>
          </p:nvSpPr>
          <p:spPr>
            <a:xfrm>
              <a:off x="567864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79" name=""/>
            <p:cNvSpPr/>
            <p:nvPr/>
          </p:nvSpPr>
          <p:spPr>
            <a:xfrm>
              <a:off x="579600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80" name=""/>
            <p:cNvSpPr/>
            <p:nvPr/>
          </p:nvSpPr>
          <p:spPr>
            <a:xfrm>
              <a:off x="5913360" y="5108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81" name=""/>
            <p:cNvSpPr/>
            <p:nvPr/>
          </p:nvSpPr>
          <p:spPr>
            <a:xfrm>
              <a:off x="6031080" y="4421160"/>
              <a:ext cx="7596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82" name=""/>
            <p:cNvSpPr/>
            <p:nvPr/>
          </p:nvSpPr>
          <p:spPr>
            <a:xfrm>
              <a:off x="6149880" y="4164120"/>
              <a:ext cx="74880" cy="75960"/>
            </a:xfrm>
            <a:prstGeom prst="ellipse">
              <a:avLst/>
            </a:prstGeom>
            <a:noFill/>
            <a:ln w="176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083" name=""/>
            <p:cNvSpPr/>
            <p:nvPr/>
          </p:nvSpPr>
          <p:spPr>
            <a:xfrm>
              <a:off x="6267600" y="4100400"/>
              <a:ext cx="74520" cy="74880"/>
            </a:xfrm>
            <a:prstGeom prst="ellipse">
              <a:avLst/>
            </a:prstGeom>
            <a:noFill/>
            <a:ln w="1764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333333"/>
                </a:solidFill>
                <a:latin typeface="Times New Roman"/>
              </a:endParaRPr>
            </a:p>
          </p:txBody>
        </p:sp>
        <p:sp>
          <p:nvSpPr>
            <p:cNvPr id="1084" name=""/>
            <p:cNvSpPr/>
            <p:nvPr/>
          </p:nvSpPr>
          <p:spPr>
            <a:xfrm>
              <a:off x="6375240" y="4110120"/>
              <a:ext cx="74880" cy="74520"/>
            </a:xfrm>
            <a:prstGeom prst="ellipse">
              <a:avLst/>
            </a:prstGeom>
            <a:noFill/>
            <a:ln w="176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085" name=""/>
            <p:cNvSpPr/>
            <p:nvPr/>
          </p:nvSpPr>
          <p:spPr>
            <a:xfrm>
              <a:off x="5591160" y="4130640"/>
              <a:ext cx="933480" cy="1065240"/>
            </a:xfrm>
            <a:custGeom>
              <a:avLst/>
              <a:gdLst/>
              <a:ahLst/>
              <a:rect l="l" t="t" r="r" b="b"/>
              <a:pathLst>
                <a:path w="976" h="1112">
                  <a:moveTo>
                    <a:pt x="0" y="1112"/>
                  </a:moveTo>
                  <a:lnTo>
                    <a:pt x="124" y="1112"/>
                  </a:lnTo>
                  <a:lnTo>
                    <a:pt x="247" y="1112"/>
                  </a:lnTo>
                  <a:lnTo>
                    <a:pt x="370" y="1056"/>
                  </a:lnTo>
                  <a:lnTo>
                    <a:pt x="494" y="337"/>
                  </a:lnTo>
                  <a:lnTo>
                    <a:pt x="617" y="68"/>
                  </a:lnTo>
                  <a:lnTo>
                    <a:pt x="740" y="0"/>
                  </a:lnTo>
                  <a:lnTo>
                    <a:pt x="853" y="12"/>
                  </a:lnTo>
                  <a:lnTo>
                    <a:pt x="976" y="45"/>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86" name=""/>
            <p:cNvSpPr/>
            <p:nvPr/>
          </p:nvSpPr>
          <p:spPr>
            <a:xfrm>
              <a:off x="5559480" y="5162400"/>
              <a:ext cx="74520" cy="76320"/>
            </a:xfrm>
            <a:prstGeom prst="ellipse">
              <a:avLst/>
            </a:prstGeom>
            <a:noFill/>
            <a:ln w="17640">
              <a:solidFill>
                <a:srgbClr val="d2aad2"/>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87" name=""/>
            <p:cNvSpPr/>
            <p:nvPr/>
          </p:nvSpPr>
          <p:spPr>
            <a:xfrm>
              <a:off x="567864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88" name=""/>
            <p:cNvSpPr/>
            <p:nvPr/>
          </p:nvSpPr>
          <p:spPr>
            <a:xfrm>
              <a:off x="5796000" y="5162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89" name=""/>
            <p:cNvSpPr/>
            <p:nvPr/>
          </p:nvSpPr>
          <p:spPr>
            <a:xfrm>
              <a:off x="5913360" y="5108400"/>
              <a:ext cx="7452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90" name=""/>
            <p:cNvSpPr/>
            <p:nvPr/>
          </p:nvSpPr>
          <p:spPr>
            <a:xfrm>
              <a:off x="6031080" y="4421160"/>
              <a:ext cx="75960" cy="76320"/>
            </a:xfrm>
            <a:prstGeom prst="ellipse">
              <a:avLst/>
            </a:prstGeom>
            <a:no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91" name=""/>
            <p:cNvSpPr/>
            <p:nvPr/>
          </p:nvSpPr>
          <p:spPr>
            <a:xfrm>
              <a:off x="6149880" y="4164120"/>
              <a:ext cx="74880" cy="75960"/>
            </a:xfrm>
            <a:prstGeom prst="ellipse">
              <a:avLst/>
            </a:prstGeom>
            <a:noFill/>
            <a:ln w="176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092" name=""/>
            <p:cNvSpPr/>
            <p:nvPr/>
          </p:nvSpPr>
          <p:spPr>
            <a:xfrm>
              <a:off x="6267600" y="4100400"/>
              <a:ext cx="74520" cy="74880"/>
            </a:xfrm>
            <a:prstGeom prst="ellipse">
              <a:avLst/>
            </a:prstGeom>
            <a:noFill/>
            <a:ln w="1764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333333"/>
                </a:solidFill>
                <a:latin typeface="Times New Roman"/>
              </a:endParaRPr>
            </a:p>
          </p:txBody>
        </p:sp>
        <p:sp>
          <p:nvSpPr>
            <p:cNvPr id="1093" name=""/>
            <p:cNvSpPr/>
            <p:nvPr/>
          </p:nvSpPr>
          <p:spPr>
            <a:xfrm>
              <a:off x="6375240" y="4110120"/>
              <a:ext cx="74880" cy="74520"/>
            </a:xfrm>
            <a:prstGeom prst="ellipse">
              <a:avLst/>
            </a:prstGeom>
            <a:noFill/>
            <a:ln w="176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094" name=""/>
            <p:cNvSpPr/>
            <p:nvPr/>
          </p:nvSpPr>
          <p:spPr>
            <a:xfrm>
              <a:off x="6492960" y="4143240"/>
              <a:ext cx="74520" cy="74880"/>
            </a:xfrm>
            <a:prstGeom prst="ellipse">
              <a:avLst/>
            </a:prstGeom>
            <a:noFill/>
            <a:ln w="1764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333333"/>
                </a:solidFill>
                <a:latin typeface="Times New Roman"/>
              </a:endParaRPr>
            </a:p>
          </p:txBody>
        </p:sp>
        <p:sp>
          <p:nvSpPr>
            <p:cNvPr id="1095" name=""/>
            <p:cNvSpPr/>
            <p:nvPr/>
          </p:nvSpPr>
          <p:spPr>
            <a:xfrm>
              <a:off x="5591160" y="4124160"/>
              <a:ext cx="3201840" cy="1063800"/>
            </a:xfrm>
            <a:custGeom>
              <a:avLst/>
              <a:gdLst/>
              <a:ahLst/>
              <a:rect l="l" t="t" r="r" b="b"/>
              <a:pathLst>
                <a:path w="3432" h="1112">
                  <a:moveTo>
                    <a:pt x="0" y="1112"/>
                  </a:moveTo>
                  <a:lnTo>
                    <a:pt x="124" y="1112"/>
                  </a:lnTo>
                  <a:lnTo>
                    <a:pt x="247" y="1112"/>
                  </a:lnTo>
                  <a:lnTo>
                    <a:pt x="370" y="1056"/>
                  </a:lnTo>
                  <a:lnTo>
                    <a:pt x="494" y="337"/>
                  </a:lnTo>
                  <a:lnTo>
                    <a:pt x="617" y="68"/>
                  </a:lnTo>
                  <a:lnTo>
                    <a:pt x="740" y="0"/>
                  </a:lnTo>
                  <a:lnTo>
                    <a:pt x="853" y="12"/>
                  </a:lnTo>
                  <a:lnTo>
                    <a:pt x="976" y="45"/>
                  </a:lnTo>
                  <a:lnTo>
                    <a:pt x="1099" y="79"/>
                  </a:lnTo>
                  <a:lnTo>
                    <a:pt x="1223" y="101"/>
                  </a:lnTo>
                  <a:lnTo>
                    <a:pt x="1346" y="124"/>
                  </a:lnTo>
                  <a:lnTo>
                    <a:pt x="1469" y="146"/>
                  </a:lnTo>
                  <a:lnTo>
                    <a:pt x="1593" y="157"/>
                  </a:lnTo>
                  <a:lnTo>
                    <a:pt x="1716" y="157"/>
                  </a:lnTo>
                  <a:lnTo>
                    <a:pt x="1839" y="169"/>
                  </a:lnTo>
                  <a:lnTo>
                    <a:pt x="1963" y="169"/>
                  </a:lnTo>
                  <a:lnTo>
                    <a:pt x="2086" y="169"/>
                  </a:lnTo>
                  <a:lnTo>
                    <a:pt x="2209" y="169"/>
                  </a:lnTo>
                  <a:lnTo>
                    <a:pt x="2333" y="169"/>
                  </a:lnTo>
                  <a:lnTo>
                    <a:pt x="2456" y="169"/>
                  </a:lnTo>
                  <a:lnTo>
                    <a:pt x="2568" y="169"/>
                  </a:lnTo>
                  <a:lnTo>
                    <a:pt x="2691" y="169"/>
                  </a:lnTo>
                  <a:lnTo>
                    <a:pt x="2815" y="169"/>
                  </a:lnTo>
                  <a:lnTo>
                    <a:pt x="2938" y="169"/>
                  </a:lnTo>
                  <a:lnTo>
                    <a:pt x="3062" y="169"/>
                  </a:lnTo>
                  <a:lnTo>
                    <a:pt x="3185" y="169"/>
                  </a:lnTo>
                  <a:lnTo>
                    <a:pt x="3308" y="169"/>
                  </a:lnTo>
                  <a:lnTo>
                    <a:pt x="3432" y="169"/>
                  </a:lnTo>
                </a:path>
              </a:pathLst>
            </a:custGeom>
            <a:noFill/>
            <a:ln w="1764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96" name=""/>
            <p:cNvSpPr/>
            <p:nvPr/>
          </p:nvSpPr>
          <p:spPr>
            <a:xfrm>
              <a:off x="5559480" y="5162400"/>
              <a:ext cx="74520" cy="76320"/>
            </a:xfrm>
            <a:prstGeom prst="ellipse">
              <a:avLst/>
            </a:prstGeom>
            <a:noFill/>
            <a:ln w="1764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97" name=""/>
            <p:cNvSpPr/>
            <p:nvPr/>
          </p:nvSpPr>
          <p:spPr>
            <a:xfrm>
              <a:off x="5678640" y="5162400"/>
              <a:ext cx="74520" cy="76320"/>
            </a:xfrm>
            <a:prstGeom prst="ellipse">
              <a:avLst/>
            </a:prstGeom>
            <a:noFill/>
            <a:ln w="1764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98" name=""/>
            <p:cNvSpPr/>
            <p:nvPr/>
          </p:nvSpPr>
          <p:spPr>
            <a:xfrm>
              <a:off x="5796000" y="5162400"/>
              <a:ext cx="74520" cy="76320"/>
            </a:xfrm>
            <a:prstGeom prst="ellipse">
              <a:avLst/>
            </a:prstGeom>
            <a:noFill/>
            <a:ln w="1764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099" name=""/>
            <p:cNvSpPr/>
            <p:nvPr/>
          </p:nvSpPr>
          <p:spPr>
            <a:xfrm>
              <a:off x="5913360" y="5108400"/>
              <a:ext cx="74520" cy="76320"/>
            </a:xfrm>
            <a:prstGeom prst="ellipse">
              <a:avLst/>
            </a:prstGeom>
            <a:noFill/>
            <a:ln w="1764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100" name=""/>
            <p:cNvSpPr/>
            <p:nvPr/>
          </p:nvSpPr>
          <p:spPr>
            <a:xfrm>
              <a:off x="6031080" y="4421160"/>
              <a:ext cx="75960" cy="76320"/>
            </a:xfrm>
            <a:prstGeom prst="ellipse">
              <a:avLst/>
            </a:prstGeom>
            <a:noFill/>
            <a:ln w="1764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101" name=""/>
            <p:cNvSpPr/>
            <p:nvPr/>
          </p:nvSpPr>
          <p:spPr>
            <a:xfrm>
              <a:off x="6149880" y="4164120"/>
              <a:ext cx="74880" cy="75960"/>
            </a:xfrm>
            <a:prstGeom prst="ellipse">
              <a:avLst/>
            </a:prstGeom>
            <a:noFill/>
            <a:ln w="1764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102" name=""/>
            <p:cNvSpPr/>
            <p:nvPr/>
          </p:nvSpPr>
          <p:spPr>
            <a:xfrm>
              <a:off x="6267600" y="4100400"/>
              <a:ext cx="74520" cy="74880"/>
            </a:xfrm>
            <a:prstGeom prst="ellipse">
              <a:avLst/>
            </a:prstGeom>
            <a:noFill/>
            <a:ln w="17640">
              <a:solidFill>
                <a:srgbClr val="333333"/>
              </a:solidFill>
              <a:miter/>
            </a:ln>
          </p:spPr>
          <p:style>
            <a:lnRef idx="0"/>
            <a:fillRef idx="0"/>
            <a:effectRef idx="0"/>
            <a:fontRef idx="minor"/>
          </p:style>
          <p:txBody>
            <a:bodyPr lIns="90000" rIns="90000" tIns="6480" bIns="6480" anchor="t">
              <a:noAutofit/>
            </a:bodyPr>
            <a:p>
              <a:endParaRPr b="0" lang="en-US" sz="2400" spc="-1" strike="noStrike">
                <a:solidFill>
                  <a:srgbClr val="333333"/>
                </a:solidFill>
                <a:latin typeface="Times New Roman"/>
              </a:endParaRPr>
            </a:p>
          </p:txBody>
        </p:sp>
        <p:sp>
          <p:nvSpPr>
            <p:cNvPr id="1103" name=""/>
            <p:cNvSpPr/>
            <p:nvPr/>
          </p:nvSpPr>
          <p:spPr>
            <a:xfrm>
              <a:off x="6375240" y="4110120"/>
              <a:ext cx="7488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04" name=""/>
            <p:cNvSpPr/>
            <p:nvPr/>
          </p:nvSpPr>
          <p:spPr>
            <a:xfrm>
              <a:off x="6492960" y="4143240"/>
              <a:ext cx="74520" cy="74880"/>
            </a:xfrm>
            <a:prstGeom prst="ellipse">
              <a:avLst/>
            </a:prstGeom>
            <a:noFill/>
            <a:ln w="17640">
              <a:solidFill>
                <a:srgbClr val="333333"/>
              </a:solidFill>
              <a:miter/>
            </a:ln>
          </p:spPr>
          <p:style>
            <a:lnRef idx="0"/>
            <a:fillRef idx="0"/>
            <a:effectRef idx="0"/>
            <a:fontRef idx="minor"/>
          </p:style>
          <p:txBody>
            <a:bodyPr lIns="90000" rIns="90000" tIns="6480" bIns="6480" anchor="t">
              <a:noAutofit/>
            </a:bodyPr>
            <a:p>
              <a:endParaRPr b="0" lang="en-US" sz="2400" spc="-1" strike="noStrike">
                <a:solidFill>
                  <a:srgbClr val="333333"/>
                </a:solidFill>
                <a:latin typeface="Times New Roman"/>
              </a:endParaRPr>
            </a:p>
          </p:txBody>
        </p:sp>
        <p:sp>
          <p:nvSpPr>
            <p:cNvPr id="1105" name=""/>
            <p:cNvSpPr/>
            <p:nvPr/>
          </p:nvSpPr>
          <p:spPr>
            <a:xfrm>
              <a:off x="6611760" y="4175280"/>
              <a:ext cx="7488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06" name=""/>
            <p:cNvSpPr/>
            <p:nvPr/>
          </p:nvSpPr>
          <p:spPr>
            <a:xfrm>
              <a:off x="6729480" y="419580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07" name=""/>
            <p:cNvSpPr/>
            <p:nvPr/>
          </p:nvSpPr>
          <p:spPr>
            <a:xfrm>
              <a:off x="6846840" y="421812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08" name=""/>
            <p:cNvSpPr/>
            <p:nvPr/>
          </p:nvSpPr>
          <p:spPr>
            <a:xfrm>
              <a:off x="6964200" y="4240080"/>
              <a:ext cx="74880" cy="74880"/>
            </a:xfrm>
            <a:prstGeom prst="ellipse">
              <a:avLst/>
            </a:prstGeom>
            <a:noFill/>
            <a:ln w="17640">
              <a:solidFill>
                <a:srgbClr val="333333"/>
              </a:solidFill>
              <a:miter/>
            </a:ln>
          </p:spPr>
          <p:style>
            <a:lnRef idx="0"/>
            <a:fillRef idx="0"/>
            <a:effectRef idx="0"/>
            <a:fontRef idx="minor"/>
          </p:style>
          <p:txBody>
            <a:bodyPr lIns="90000" rIns="90000" tIns="6480" bIns="6480" anchor="t">
              <a:noAutofit/>
            </a:bodyPr>
            <a:p>
              <a:endParaRPr b="0" lang="en-US" sz="2400" spc="-1" strike="noStrike">
                <a:solidFill>
                  <a:srgbClr val="333333"/>
                </a:solidFill>
                <a:latin typeface="Times New Roman"/>
              </a:endParaRPr>
            </a:p>
          </p:txBody>
        </p:sp>
        <p:sp>
          <p:nvSpPr>
            <p:cNvPr id="1109" name=""/>
            <p:cNvSpPr/>
            <p:nvPr/>
          </p:nvSpPr>
          <p:spPr>
            <a:xfrm>
              <a:off x="7083360" y="424980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10" name=""/>
            <p:cNvSpPr/>
            <p:nvPr/>
          </p:nvSpPr>
          <p:spPr>
            <a:xfrm>
              <a:off x="7201080" y="424980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11" name=""/>
            <p:cNvSpPr/>
            <p:nvPr/>
          </p:nvSpPr>
          <p:spPr>
            <a:xfrm>
              <a:off x="7318440" y="426096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12" name=""/>
            <p:cNvSpPr/>
            <p:nvPr/>
          </p:nvSpPr>
          <p:spPr>
            <a:xfrm>
              <a:off x="7437600" y="426096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13" name=""/>
            <p:cNvSpPr/>
            <p:nvPr/>
          </p:nvSpPr>
          <p:spPr>
            <a:xfrm>
              <a:off x="7554960" y="426096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14" name=""/>
            <p:cNvSpPr/>
            <p:nvPr/>
          </p:nvSpPr>
          <p:spPr>
            <a:xfrm>
              <a:off x="7672320" y="426096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15" name=""/>
            <p:cNvSpPr/>
            <p:nvPr/>
          </p:nvSpPr>
          <p:spPr>
            <a:xfrm>
              <a:off x="7790040" y="4260960"/>
              <a:ext cx="7596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16" name=""/>
            <p:cNvSpPr/>
            <p:nvPr/>
          </p:nvSpPr>
          <p:spPr>
            <a:xfrm>
              <a:off x="7908840" y="426096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17" name=""/>
            <p:cNvSpPr/>
            <p:nvPr/>
          </p:nvSpPr>
          <p:spPr>
            <a:xfrm>
              <a:off x="8016840" y="426096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18" name=""/>
            <p:cNvSpPr/>
            <p:nvPr/>
          </p:nvSpPr>
          <p:spPr>
            <a:xfrm>
              <a:off x="8134200" y="4260960"/>
              <a:ext cx="7488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19" name=""/>
            <p:cNvSpPr/>
            <p:nvPr/>
          </p:nvSpPr>
          <p:spPr>
            <a:xfrm>
              <a:off x="8251920" y="426096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20" name=""/>
            <p:cNvSpPr/>
            <p:nvPr/>
          </p:nvSpPr>
          <p:spPr>
            <a:xfrm>
              <a:off x="8370720" y="4260960"/>
              <a:ext cx="7308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21" name=""/>
            <p:cNvSpPr/>
            <p:nvPr/>
          </p:nvSpPr>
          <p:spPr>
            <a:xfrm>
              <a:off x="8488440" y="426096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22" name=""/>
            <p:cNvSpPr/>
            <p:nvPr/>
          </p:nvSpPr>
          <p:spPr>
            <a:xfrm>
              <a:off x="8605800" y="4260960"/>
              <a:ext cx="7452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23" name=""/>
            <p:cNvSpPr/>
            <p:nvPr/>
          </p:nvSpPr>
          <p:spPr>
            <a:xfrm>
              <a:off x="8723160" y="4260960"/>
              <a:ext cx="74880" cy="74520"/>
            </a:xfrm>
            <a:prstGeom prst="ellipse">
              <a:avLst/>
            </a:prstGeom>
            <a:noFill/>
            <a:ln w="1764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124" name=""/>
            <p:cNvSpPr/>
            <p:nvPr/>
          </p:nvSpPr>
          <p:spPr>
            <a:xfrm>
              <a:off x="5591160" y="3403440"/>
              <a:ext cx="3173400" cy="0"/>
            </a:xfrm>
            <a:prstGeom prst="line">
              <a:avLst/>
            </a:prstGeom>
            <a:ln w="9360">
              <a:solidFill>
                <a:srgbClr val="6600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Overlay the anti-windup Solution - </a:t>
            </a:r>
            <a:r>
              <a:rPr b="0" i="1" lang="en-US" sz="3200" spc="-1" strike="noStrike">
                <a:solidFill>
                  <a:srgbClr val="333333"/>
                </a:solidFill>
                <a:latin typeface="Times New Roman"/>
              </a:rPr>
              <a:t>Note that MPC and anti-windup give the same solution for this particular initial condition</a:t>
            </a:r>
            <a:endParaRPr b="0" lang="en-US" sz="3200" spc="-1" strike="noStrike">
              <a:solidFill>
                <a:srgbClr val="6600cc"/>
              </a:solidFill>
              <a:latin typeface="Times New Roman"/>
            </a:endParaRPr>
          </a:p>
        </p:txBody>
      </p:sp>
      <p:grpSp>
        <p:nvGrpSpPr>
          <p:cNvPr id="1126" name=""/>
          <p:cNvGrpSpPr/>
          <p:nvPr/>
        </p:nvGrpSpPr>
        <p:grpSpPr>
          <a:xfrm>
            <a:off x="227160" y="2664000"/>
            <a:ext cx="4660920" cy="3377160"/>
            <a:chOff x="227160" y="2664000"/>
            <a:chExt cx="4660920" cy="3377160"/>
          </a:xfrm>
        </p:grpSpPr>
        <p:sp>
          <p:nvSpPr>
            <p:cNvPr id="1127" name=""/>
            <p:cNvSpPr/>
            <p:nvPr/>
          </p:nvSpPr>
          <p:spPr>
            <a:xfrm>
              <a:off x="966960" y="2738520"/>
              <a:ext cx="3821040" cy="2759040"/>
            </a:xfrm>
            <a:prstGeom prst="rect">
              <a:avLst/>
            </a:prstGeom>
            <a:noFill/>
            <a:ln w="936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28" name=""/>
            <p:cNvSpPr/>
            <p:nvPr/>
          </p:nvSpPr>
          <p:spPr>
            <a:xfrm>
              <a:off x="966960" y="5497560"/>
              <a:ext cx="3821040" cy="0"/>
            </a:xfrm>
            <a:prstGeom prst="line">
              <a:avLst/>
            </a:prstGeom>
            <a:ln w="144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29" name=""/>
            <p:cNvSpPr/>
            <p:nvPr/>
          </p:nvSpPr>
          <p:spPr>
            <a:xfrm flipV="1">
              <a:off x="4788000" y="2738520"/>
              <a:ext cx="1440" cy="2759040"/>
            </a:xfrm>
            <a:prstGeom prst="line">
              <a:avLst/>
            </a:prstGeom>
            <a:ln w="144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30" name=""/>
            <p:cNvSpPr/>
            <p:nvPr/>
          </p:nvSpPr>
          <p:spPr>
            <a:xfrm>
              <a:off x="966960" y="5497560"/>
              <a:ext cx="3821040" cy="0"/>
            </a:xfrm>
            <a:prstGeom prst="line">
              <a:avLst/>
            </a:prstGeom>
            <a:ln w="144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31" name=""/>
            <p:cNvSpPr/>
            <p:nvPr/>
          </p:nvSpPr>
          <p:spPr>
            <a:xfrm flipV="1">
              <a:off x="966960" y="5460840"/>
              <a:ext cx="1440" cy="36720"/>
            </a:xfrm>
            <a:prstGeom prst="line">
              <a:avLst/>
            </a:prstGeom>
            <a:ln w="144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1132" name=""/>
            <p:cNvSpPr/>
            <p:nvPr/>
          </p:nvSpPr>
          <p:spPr>
            <a:xfrm>
              <a:off x="966960" y="2738520"/>
              <a:ext cx="1440" cy="38160"/>
            </a:xfrm>
            <a:prstGeom prst="line">
              <a:avLst/>
            </a:prstGeom>
            <a:ln w="1440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1133" name=""/>
            <p:cNvSpPr/>
            <p:nvPr/>
          </p:nvSpPr>
          <p:spPr>
            <a:xfrm>
              <a:off x="885600" y="553572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1134" name=""/>
            <p:cNvSpPr/>
            <p:nvPr/>
          </p:nvSpPr>
          <p:spPr>
            <a:xfrm flipV="1">
              <a:off x="1927080" y="5460840"/>
              <a:ext cx="0" cy="36720"/>
            </a:xfrm>
            <a:prstGeom prst="line">
              <a:avLst/>
            </a:prstGeom>
            <a:ln w="144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1135" name=""/>
            <p:cNvSpPr/>
            <p:nvPr/>
          </p:nvSpPr>
          <p:spPr>
            <a:xfrm>
              <a:off x="1927080" y="2738520"/>
              <a:ext cx="0" cy="38160"/>
            </a:xfrm>
            <a:prstGeom prst="line">
              <a:avLst/>
            </a:prstGeom>
            <a:ln w="1440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1136" name=""/>
            <p:cNvSpPr/>
            <p:nvPr/>
          </p:nvSpPr>
          <p:spPr>
            <a:xfrm>
              <a:off x="1847520" y="553572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1137" name=""/>
            <p:cNvSpPr/>
            <p:nvPr/>
          </p:nvSpPr>
          <p:spPr>
            <a:xfrm flipV="1">
              <a:off x="2876400" y="5460840"/>
              <a:ext cx="1800" cy="36720"/>
            </a:xfrm>
            <a:prstGeom prst="line">
              <a:avLst/>
            </a:prstGeom>
            <a:ln w="144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1138" name=""/>
            <p:cNvSpPr/>
            <p:nvPr/>
          </p:nvSpPr>
          <p:spPr>
            <a:xfrm>
              <a:off x="2876400" y="2738520"/>
              <a:ext cx="1800" cy="38160"/>
            </a:xfrm>
            <a:prstGeom prst="line">
              <a:avLst/>
            </a:prstGeom>
            <a:ln w="1440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1139" name=""/>
            <p:cNvSpPr/>
            <p:nvPr/>
          </p:nvSpPr>
          <p:spPr>
            <a:xfrm>
              <a:off x="2855880" y="55357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1140" name=""/>
            <p:cNvSpPr/>
            <p:nvPr/>
          </p:nvSpPr>
          <p:spPr>
            <a:xfrm flipV="1">
              <a:off x="3838680" y="5460840"/>
              <a:ext cx="0" cy="36720"/>
            </a:xfrm>
            <a:prstGeom prst="line">
              <a:avLst/>
            </a:prstGeom>
            <a:ln w="144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1141" name=""/>
            <p:cNvSpPr/>
            <p:nvPr/>
          </p:nvSpPr>
          <p:spPr>
            <a:xfrm>
              <a:off x="3838680" y="2738520"/>
              <a:ext cx="0" cy="38160"/>
            </a:xfrm>
            <a:prstGeom prst="line">
              <a:avLst/>
            </a:prstGeom>
            <a:ln w="1440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1142" name=""/>
            <p:cNvSpPr/>
            <p:nvPr/>
          </p:nvSpPr>
          <p:spPr>
            <a:xfrm>
              <a:off x="3816360" y="55357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1143" name=""/>
            <p:cNvSpPr/>
            <p:nvPr/>
          </p:nvSpPr>
          <p:spPr>
            <a:xfrm flipV="1">
              <a:off x="4788000" y="5460840"/>
              <a:ext cx="1440" cy="36720"/>
            </a:xfrm>
            <a:prstGeom prst="line">
              <a:avLst/>
            </a:prstGeom>
            <a:ln w="14400">
              <a:solidFill>
                <a:srgbClr val="004c2b"/>
              </a:solidFill>
              <a:miter/>
            </a:ln>
          </p:spPr>
          <p:style>
            <a:lnRef idx="0"/>
            <a:fillRef idx="0"/>
            <a:effectRef idx="0"/>
            <a:fontRef idx="minor"/>
          </p:style>
          <p:txBody>
            <a:bodyPr lIns="90000" rIns="90000" tIns="-10080" bIns="-10080" anchor="t">
              <a:noAutofit/>
            </a:bodyPr>
            <a:p>
              <a:endParaRPr b="0" lang="en-US" sz="2400" spc="-1" strike="noStrike">
                <a:solidFill>
                  <a:srgbClr val="333333"/>
                </a:solidFill>
                <a:latin typeface="Times New Roman"/>
              </a:endParaRPr>
            </a:p>
          </p:txBody>
        </p:sp>
        <p:sp>
          <p:nvSpPr>
            <p:cNvPr id="1144" name=""/>
            <p:cNvSpPr/>
            <p:nvPr/>
          </p:nvSpPr>
          <p:spPr>
            <a:xfrm>
              <a:off x="4788000" y="2738520"/>
              <a:ext cx="1440" cy="38160"/>
            </a:xfrm>
            <a:prstGeom prst="line">
              <a:avLst/>
            </a:prstGeom>
            <a:ln w="14400">
              <a:solidFill>
                <a:srgbClr val="004c2b"/>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1145" name=""/>
            <p:cNvSpPr/>
            <p:nvPr/>
          </p:nvSpPr>
          <p:spPr>
            <a:xfrm>
              <a:off x="4767120" y="55357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a:t>
              </a:r>
              <a:endParaRPr b="0" lang="en-US" sz="1700" spc="-1" strike="noStrike">
                <a:solidFill>
                  <a:srgbClr val="333333"/>
                </a:solidFill>
                <a:latin typeface="Times New Roman"/>
              </a:endParaRPr>
            </a:p>
          </p:txBody>
        </p:sp>
        <p:sp>
          <p:nvSpPr>
            <p:cNvPr id="1146" name=""/>
            <p:cNvSpPr/>
            <p:nvPr/>
          </p:nvSpPr>
          <p:spPr>
            <a:xfrm>
              <a:off x="966960" y="5497560"/>
              <a:ext cx="41040" cy="0"/>
            </a:xfrm>
            <a:prstGeom prst="line">
              <a:avLst/>
            </a:prstGeom>
            <a:ln w="144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47" name=""/>
            <p:cNvSpPr/>
            <p:nvPr/>
          </p:nvSpPr>
          <p:spPr>
            <a:xfrm flipH="1">
              <a:off x="4744800" y="5497560"/>
              <a:ext cx="42840" cy="0"/>
            </a:xfrm>
            <a:prstGeom prst="line">
              <a:avLst/>
            </a:prstGeom>
            <a:ln w="144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48" name=""/>
            <p:cNvSpPr/>
            <p:nvPr/>
          </p:nvSpPr>
          <p:spPr>
            <a:xfrm>
              <a:off x="420840" y="542124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1149" name=""/>
            <p:cNvSpPr/>
            <p:nvPr/>
          </p:nvSpPr>
          <p:spPr>
            <a:xfrm>
              <a:off x="966960" y="5043600"/>
              <a:ext cx="41040" cy="0"/>
            </a:xfrm>
            <a:prstGeom prst="line">
              <a:avLst/>
            </a:prstGeom>
            <a:ln w="144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50" name=""/>
            <p:cNvSpPr/>
            <p:nvPr/>
          </p:nvSpPr>
          <p:spPr>
            <a:xfrm flipH="1">
              <a:off x="4744800" y="5043600"/>
              <a:ext cx="42840" cy="0"/>
            </a:xfrm>
            <a:prstGeom prst="line">
              <a:avLst/>
            </a:prstGeom>
            <a:ln w="144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51" name=""/>
            <p:cNvSpPr/>
            <p:nvPr/>
          </p:nvSpPr>
          <p:spPr>
            <a:xfrm>
              <a:off x="581040" y="496728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1152" name=""/>
            <p:cNvSpPr/>
            <p:nvPr/>
          </p:nvSpPr>
          <p:spPr>
            <a:xfrm>
              <a:off x="966960" y="4578480"/>
              <a:ext cx="41040" cy="1440"/>
            </a:xfrm>
            <a:prstGeom prst="line">
              <a:avLst/>
            </a:prstGeom>
            <a:ln w="1440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153" name=""/>
            <p:cNvSpPr/>
            <p:nvPr/>
          </p:nvSpPr>
          <p:spPr>
            <a:xfrm flipH="1">
              <a:off x="4744800" y="4578480"/>
              <a:ext cx="42840" cy="1440"/>
            </a:xfrm>
            <a:prstGeom prst="line">
              <a:avLst/>
            </a:prstGeom>
            <a:ln w="1440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154" name=""/>
            <p:cNvSpPr/>
            <p:nvPr/>
          </p:nvSpPr>
          <p:spPr>
            <a:xfrm>
              <a:off x="420840" y="450216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1155" name=""/>
            <p:cNvSpPr/>
            <p:nvPr/>
          </p:nvSpPr>
          <p:spPr>
            <a:xfrm>
              <a:off x="966960" y="4122720"/>
              <a:ext cx="41040" cy="3240"/>
            </a:xfrm>
            <a:prstGeom prst="line">
              <a:avLst/>
            </a:prstGeom>
            <a:ln w="14400">
              <a:solidFill>
                <a:srgbClr val="004c2b"/>
              </a:solidFill>
              <a:miter/>
            </a:ln>
          </p:spPr>
          <p:style>
            <a:lnRef idx="0"/>
            <a:fillRef idx="0"/>
            <a:effectRef idx="0"/>
            <a:fontRef idx="minor"/>
          </p:style>
          <p:txBody>
            <a:bodyPr lIns="90000" rIns="90000" tIns="-43560" bIns="-43560" anchor="t">
              <a:noAutofit/>
            </a:bodyPr>
            <a:p>
              <a:endParaRPr b="0" lang="en-US" sz="2400" spc="-1" strike="noStrike">
                <a:solidFill>
                  <a:srgbClr val="333333"/>
                </a:solidFill>
                <a:latin typeface="Times New Roman"/>
              </a:endParaRPr>
            </a:p>
          </p:txBody>
        </p:sp>
        <p:sp>
          <p:nvSpPr>
            <p:cNvPr id="1156" name=""/>
            <p:cNvSpPr/>
            <p:nvPr/>
          </p:nvSpPr>
          <p:spPr>
            <a:xfrm flipH="1">
              <a:off x="4744800" y="4122720"/>
              <a:ext cx="42840" cy="3240"/>
            </a:xfrm>
            <a:prstGeom prst="line">
              <a:avLst/>
            </a:prstGeom>
            <a:ln w="14400">
              <a:solidFill>
                <a:srgbClr val="004c2b"/>
              </a:solidFill>
              <a:miter/>
            </a:ln>
          </p:spPr>
          <p:style>
            <a:lnRef idx="0"/>
            <a:fillRef idx="0"/>
            <a:effectRef idx="0"/>
            <a:fontRef idx="minor"/>
          </p:style>
          <p:txBody>
            <a:bodyPr lIns="90000" rIns="90000" tIns="-43560" bIns="-43560" anchor="t">
              <a:noAutofit/>
            </a:bodyPr>
            <a:p>
              <a:endParaRPr b="0" lang="en-US" sz="2400" spc="-1" strike="noStrike">
                <a:solidFill>
                  <a:srgbClr val="333333"/>
                </a:solidFill>
                <a:latin typeface="Times New Roman"/>
              </a:endParaRPr>
            </a:p>
          </p:txBody>
        </p:sp>
        <p:sp>
          <p:nvSpPr>
            <p:cNvPr id="1157" name=""/>
            <p:cNvSpPr/>
            <p:nvPr/>
          </p:nvSpPr>
          <p:spPr>
            <a:xfrm>
              <a:off x="646200" y="40464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1158" name=""/>
            <p:cNvSpPr/>
            <p:nvPr/>
          </p:nvSpPr>
          <p:spPr>
            <a:xfrm>
              <a:off x="966960" y="3659040"/>
              <a:ext cx="41040" cy="1800"/>
            </a:xfrm>
            <a:prstGeom prst="line">
              <a:avLst/>
            </a:prstGeom>
            <a:ln w="1440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1159" name=""/>
            <p:cNvSpPr/>
            <p:nvPr/>
          </p:nvSpPr>
          <p:spPr>
            <a:xfrm flipH="1">
              <a:off x="4744800" y="3659040"/>
              <a:ext cx="42840" cy="1800"/>
            </a:xfrm>
            <a:prstGeom prst="line">
              <a:avLst/>
            </a:prstGeom>
            <a:ln w="14400">
              <a:solidFill>
                <a:srgbClr val="004c2b"/>
              </a:solidFill>
              <a:miter/>
            </a:ln>
          </p:spPr>
          <p:style>
            <a:lnRef idx="0"/>
            <a:fillRef idx="0"/>
            <a:effectRef idx="0"/>
            <a:fontRef idx="minor"/>
          </p:style>
          <p:txBody>
            <a:bodyPr lIns="90000" rIns="90000" tIns="-45000" bIns="-45000" anchor="t">
              <a:noAutofit/>
            </a:bodyPr>
            <a:p>
              <a:endParaRPr b="0" lang="en-US" sz="2400" spc="-1" strike="noStrike">
                <a:solidFill>
                  <a:srgbClr val="333333"/>
                </a:solidFill>
                <a:latin typeface="Times New Roman"/>
              </a:endParaRPr>
            </a:p>
          </p:txBody>
        </p:sp>
        <p:sp>
          <p:nvSpPr>
            <p:cNvPr id="1160" name=""/>
            <p:cNvSpPr/>
            <p:nvPr/>
          </p:nvSpPr>
          <p:spPr>
            <a:xfrm>
              <a:off x="486000" y="358308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1161" name=""/>
            <p:cNvSpPr/>
            <p:nvPr/>
          </p:nvSpPr>
          <p:spPr>
            <a:xfrm>
              <a:off x="966960" y="3205080"/>
              <a:ext cx="41040" cy="0"/>
            </a:xfrm>
            <a:prstGeom prst="line">
              <a:avLst/>
            </a:prstGeom>
            <a:ln w="144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62" name=""/>
            <p:cNvSpPr/>
            <p:nvPr/>
          </p:nvSpPr>
          <p:spPr>
            <a:xfrm flipH="1">
              <a:off x="4744800" y="3205080"/>
              <a:ext cx="42840" cy="0"/>
            </a:xfrm>
            <a:prstGeom prst="line">
              <a:avLst/>
            </a:prstGeom>
            <a:ln w="144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63" name=""/>
            <p:cNvSpPr/>
            <p:nvPr/>
          </p:nvSpPr>
          <p:spPr>
            <a:xfrm>
              <a:off x="646200" y="31291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1164" name=""/>
            <p:cNvSpPr/>
            <p:nvPr/>
          </p:nvSpPr>
          <p:spPr>
            <a:xfrm>
              <a:off x="966960" y="2738520"/>
              <a:ext cx="41040" cy="1440"/>
            </a:xfrm>
            <a:prstGeom prst="line">
              <a:avLst/>
            </a:prstGeom>
            <a:ln w="1440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165" name=""/>
            <p:cNvSpPr/>
            <p:nvPr/>
          </p:nvSpPr>
          <p:spPr>
            <a:xfrm flipH="1">
              <a:off x="4744800" y="2738520"/>
              <a:ext cx="42840" cy="1440"/>
            </a:xfrm>
            <a:prstGeom prst="line">
              <a:avLst/>
            </a:prstGeom>
            <a:ln w="1440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166" name=""/>
            <p:cNvSpPr/>
            <p:nvPr/>
          </p:nvSpPr>
          <p:spPr>
            <a:xfrm>
              <a:off x="486000" y="266400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1167" name=""/>
            <p:cNvSpPr/>
            <p:nvPr/>
          </p:nvSpPr>
          <p:spPr>
            <a:xfrm>
              <a:off x="966960" y="5497560"/>
              <a:ext cx="3821040" cy="0"/>
            </a:xfrm>
            <a:prstGeom prst="line">
              <a:avLst/>
            </a:prstGeom>
            <a:ln w="144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68" name=""/>
            <p:cNvSpPr/>
            <p:nvPr/>
          </p:nvSpPr>
          <p:spPr>
            <a:xfrm flipV="1">
              <a:off x="4788000" y="2738520"/>
              <a:ext cx="1440" cy="2759040"/>
            </a:xfrm>
            <a:prstGeom prst="line">
              <a:avLst/>
            </a:prstGeom>
            <a:ln w="1440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69" name=""/>
            <p:cNvSpPr/>
            <p:nvPr/>
          </p:nvSpPr>
          <p:spPr>
            <a:xfrm>
              <a:off x="3846600" y="2751120"/>
              <a:ext cx="649080" cy="2752920"/>
            </a:xfrm>
            <a:custGeom>
              <a:avLst/>
              <a:gdLst/>
              <a:ahLst/>
              <a:rect l="l" t="t" r="r" b="b"/>
              <a:pathLst>
                <a:path w="1264" h="6033">
                  <a:moveTo>
                    <a:pt x="0" y="0"/>
                  </a:moveTo>
                  <a:lnTo>
                    <a:pt x="27" y="147"/>
                  </a:lnTo>
                  <a:lnTo>
                    <a:pt x="73" y="339"/>
                  </a:lnTo>
                  <a:lnTo>
                    <a:pt x="110" y="541"/>
                  </a:lnTo>
                  <a:lnTo>
                    <a:pt x="155" y="734"/>
                  </a:lnTo>
                  <a:lnTo>
                    <a:pt x="192" y="917"/>
                  </a:lnTo>
                  <a:lnTo>
                    <a:pt x="238" y="1110"/>
                  </a:lnTo>
                  <a:lnTo>
                    <a:pt x="274" y="1311"/>
                  </a:lnTo>
                  <a:lnTo>
                    <a:pt x="311" y="1504"/>
                  </a:lnTo>
                  <a:lnTo>
                    <a:pt x="357" y="1696"/>
                  </a:lnTo>
                  <a:lnTo>
                    <a:pt x="394" y="1898"/>
                  </a:lnTo>
                  <a:lnTo>
                    <a:pt x="439" y="2091"/>
                  </a:lnTo>
                  <a:lnTo>
                    <a:pt x="476" y="2283"/>
                  </a:lnTo>
                  <a:lnTo>
                    <a:pt x="522" y="2476"/>
                  </a:lnTo>
                  <a:lnTo>
                    <a:pt x="558" y="2677"/>
                  </a:lnTo>
                  <a:lnTo>
                    <a:pt x="604" y="2870"/>
                  </a:lnTo>
                  <a:lnTo>
                    <a:pt x="641" y="3062"/>
                  </a:lnTo>
                  <a:lnTo>
                    <a:pt x="687" y="3255"/>
                  </a:lnTo>
                  <a:lnTo>
                    <a:pt x="723" y="3457"/>
                  </a:lnTo>
                  <a:lnTo>
                    <a:pt x="769" y="3649"/>
                  </a:lnTo>
                  <a:lnTo>
                    <a:pt x="806" y="3842"/>
                  </a:lnTo>
                  <a:lnTo>
                    <a:pt x="852" y="4034"/>
                  </a:lnTo>
                  <a:lnTo>
                    <a:pt x="888" y="4236"/>
                  </a:lnTo>
                  <a:lnTo>
                    <a:pt x="934" y="4428"/>
                  </a:lnTo>
                  <a:lnTo>
                    <a:pt x="971" y="4621"/>
                  </a:lnTo>
                  <a:lnTo>
                    <a:pt x="1016" y="4813"/>
                  </a:lnTo>
                  <a:lnTo>
                    <a:pt x="1053" y="5015"/>
                  </a:lnTo>
                  <a:lnTo>
                    <a:pt x="1090" y="5208"/>
                  </a:lnTo>
                  <a:lnTo>
                    <a:pt x="1136" y="5400"/>
                  </a:lnTo>
                  <a:lnTo>
                    <a:pt x="1172" y="5593"/>
                  </a:lnTo>
                  <a:lnTo>
                    <a:pt x="1218" y="5794"/>
                  </a:lnTo>
                  <a:lnTo>
                    <a:pt x="1255" y="5987"/>
                  </a:lnTo>
                  <a:lnTo>
                    <a:pt x="1264" y="6033"/>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70" name=""/>
            <p:cNvSpPr/>
            <p:nvPr/>
          </p:nvSpPr>
          <p:spPr>
            <a:xfrm>
              <a:off x="2788920" y="578160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x1</a:t>
              </a:r>
              <a:endParaRPr b="0" lang="en-US" sz="1700" spc="-1" strike="noStrike">
                <a:solidFill>
                  <a:srgbClr val="333333"/>
                </a:solidFill>
                <a:latin typeface="Times New Roman"/>
              </a:endParaRPr>
            </a:p>
          </p:txBody>
        </p:sp>
        <p:sp>
          <p:nvSpPr>
            <p:cNvPr id="1171" name=""/>
            <p:cNvSpPr/>
            <p:nvPr/>
          </p:nvSpPr>
          <p:spPr>
            <a:xfrm rot="16200000">
              <a:off x="242280" y="396072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x2</a:t>
              </a:r>
              <a:endParaRPr b="0" lang="en-US" sz="1700" spc="-1" strike="noStrike">
                <a:solidFill>
                  <a:srgbClr val="333333"/>
                </a:solidFill>
                <a:latin typeface="Times New Roman"/>
              </a:endParaRPr>
            </a:p>
          </p:txBody>
        </p:sp>
        <p:sp>
          <p:nvSpPr>
            <p:cNvPr id="1172" name=""/>
            <p:cNvSpPr/>
            <p:nvPr/>
          </p:nvSpPr>
          <p:spPr>
            <a:xfrm>
              <a:off x="1262160" y="2751120"/>
              <a:ext cx="649080" cy="2752920"/>
            </a:xfrm>
            <a:custGeom>
              <a:avLst/>
              <a:gdLst/>
              <a:ahLst/>
              <a:rect l="l" t="t" r="r" b="b"/>
              <a:pathLst>
                <a:path w="1264" h="6033">
                  <a:moveTo>
                    <a:pt x="0" y="0"/>
                  </a:moveTo>
                  <a:lnTo>
                    <a:pt x="27" y="174"/>
                  </a:lnTo>
                  <a:lnTo>
                    <a:pt x="73" y="367"/>
                  </a:lnTo>
                  <a:lnTo>
                    <a:pt x="110" y="559"/>
                  </a:lnTo>
                  <a:lnTo>
                    <a:pt x="156" y="752"/>
                  </a:lnTo>
                  <a:lnTo>
                    <a:pt x="192" y="945"/>
                  </a:lnTo>
                  <a:lnTo>
                    <a:pt x="238" y="1137"/>
                  </a:lnTo>
                  <a:lnTo>
                    <a:pt x="275" y="1330"/>
                  </a:lnTo>
                  <a:lnTo>
                    <a:pt x="320" y="1522"/>
                  </a:lnTo>
                  <a:lnTo>
                    <a:pt x="357" y="1724"/>
                  </a:lnTo>
                  <a:lnTo>
                    <a:pt x="403" y="1916"/>
                  </a:lnTo>
                  <a:lnTo>
                    <a:pt x="439" y="2109"/>
                  </a:lnTo>
                  <a:lnTo>
                    <a:pt x="485" y="2301"/>
                  </a:lnTo>
                  <a:lnTo>
                    <a:pt x="522" y="2503"/>
                  </a:lnTo>
                  <a:lnTo>
                    <a:pt x="568" y="2696"/>
                  </a:lnTo>
                  <a:lnTo>
                    <a:pt x="604" y="2888"/>
                  </a:lnTo>
                  <a:lnTo>
                    <a:pt x="650" y="3081"/>
                  </a:lnTo>
                  <a:lnTo>
                    <a:pt x="687" y="3282"/>
                  </a:lnTo>
                  <a:lnTo>
                    <a:pt x="733" y="3475"/>
                  </a:lnTo>
                  <a:lnTo>
                    <a:pt x="769" y="3667"/>
                  </a:lnTo>
                  <a:lnTo>
                    <a:pt x="815" y="3869"/>
                  </a:lnTo>
                  <a:lnTo>
                    <a:pt x="852" y="4062"/>
                  </a:lnTo>
                  <a:lnTo>
                    <a:pt x="888" y="4254"/>
                  </a:lnTo>
                  <a:lnTo>
                    <a:pt x="934" y="4447"/>
                  </a:lnTo>
                  <a:lnTo>
                    <a:pt x="971" y="4648"/>
                  </a:lnTo>
                  <a:lnTo>
                    <a:pt x="1017" y="4841"/>
                  </a:lnTo>
                  <a:lnTo>
                    <a:pt x="1053" y="5033"/>
                  </a:lnTo>
                  <a:lnTo>
                    <a:pt x="1099" y="5226"/>
                  </a:lnTo>
                  <a:lnTo>
                    <a:pt x="1136" y="5428"/>
                  </a:lnTo>
                  <a:lnTo>
                    <a:pt x="1181" y="5620"/>
                  </a:lnTo>
                  <a:lnTo>
                    <a:pt x="1218" y="5813"/>
                  </a:lnTo>
                  <a:lnTo>
                    <a:pt x="1264" y="6005"/>
                  </a:lnTo>
                  <a:lnTo>
                    <a:pt x="1264" y="6033"/>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73" name=""/>
            <p:cNvSpPr/>
            <p:nvPr/>
          </p:nvSpPr>
          <p:spPr>
            <a:xfrm>
              <a:off x="2514600" y="2752560"/>
              <a:ext cx="1733400" cy="2760840"/>
            </a:xfrm>
            <a:custGeom>
              <a:avLst/>
              <a:gdLst/>
              <a:ahLst/>
              <a:rect l="l" t="t" r="r" b="b"/>
              <a:pathLst>
                <a:path w="3362" h="6033">
                  <a:moveTo>
                    <a:pt x="0" y="0"/>
                  </a:moveTo>
                  <a:lnTo>
                    <a:pt x="19" y="37"/>
                  </a:lnTo>
                  <a:lnTo>
                    <a:pt x="65" y="110"/>
                  </a:lnTo>
                  <a:lnTo>
                    <a:pt x="101" y="184"/>
                  </a:lnTo>
                  <a:lnTo>
                    <a:pt x="147" y="257"/>
                  </a:lnTo>
                  <a:lnTo>
                    <a:pt x="184" y="330"/>
                  </a:lnTo>
                  <a:lnTo>
                    <a:pt x="220" y="404"/>
                  </a:lnTo>
                  <a:lnTo>
                    <a:pt x="266" y="477"/>
                  </a:lnTo>
                  <a:lnTo>
                    <a:pt x="303" y="550"/>
                  </a:lnTo>
                  <a:lnTo>
                    <a:pt x="349" y="624"/>
                  </a:lnTo>
                  <a:lnTo>
                    <a:pt x="385" y="697"/>
                  </a:lnTo>
                  <a:lnTo>
                    <a:pt x="431" y="770"/>
                  </a:lnTo>
                  <a:lnTo>
                    <a:pt x="468" y="844"/>
                  </a:lnTo>
                  <a:lnTo>
                    <a:pt x="513" y="917"/>
                  </a:lnTo>
                  <a:lnTo>
                    <a:pt x="550" y="981"/>
                  </a:lnTo>
                  <a:lnTo>
                    <a:pt x="596" y="1055"/>
                  </a:lnTo>
                  <a:lnTo>
                    <a:pt x="633" y="1128"/>
                  </a:lnTo>
                  <a:lnTo>
                    <a:pt x="678" y="1201"/>
                  </a:lnTo>
                  <a:lnTo>
                    <a:pt x="715" y="1275"/>
                  </a:lnTo>
                  <a:lnTo>
                    <a:pt x="761" y="1348"/>
                  </a:lnTo>
                  <a:lnTo>
                    <a:pt x="797" y="1421"/>
                  </a:lnTo>
                  <a:lnTo>
                    <a:pt x="843" y="1495"/>
                  </a:lnTo>
                  <a:lnTo>
                    <a:pt x="880" y="1568"/>
                  </a:lnTo>
                  <a:lnTo>
                    <a:pt x="926" y="1641"/>
                  </a:lnTo>
                  <a:lnTo>
                    <a:pt x="962" y="1715"/>
                  </a:lnTo>
                  <a:lnTo>
                    <a:pt x="999" y="1788"/>
                  </a:lnTo>
                  <a:lnTo>
                    <a:pt x="1045" y="1861"/>
                  </a:lnTo>
                  <a:lnTo>
                    <a:pt x="1081" y="1935"/>
                  </a:lnTo>
                  <a:lnTo>
                    <a:pt x="1127" y="2008"/>
                  </a:lnTo>
                  <a:lnTo>
                    <a:pt x="1164" y="2081"/>
                  </a:lnTo>
                  <a:lnTo>
                    <a:pt x="1210" y="2155"/>
                  </a:lnTo>
                  <a:lnTo>
                    <a:pt x="1246" y="2228"/>
                  </a:lnTo>
                  <a:lnTo>
                    <a:pt x="1292" y="2301"/>
                  </a:lnTo>
                  <a:lnTo>
                    <a:pt x="1329" y="2375"/>
                  </a:lnTo>
                  <a:lnTo>
                    <a:pt x="1375" y="2448"/>
                  </a:lnTo>
                  <a:lnTo>
                    <a:pt x="1411" y="2521"/>
                  </a:lnTo>
                  <a:lnTo>
                    <a:pt x="1457" y="2595"/>
                  </a:lnTo>
                  <a:lnTo>
                    <a:pt x="1494" y="2677"/>
                  </a:lnTo>
                  <a:lnTo>
                    <a:pt x="1539" y="2751"/>
                  </a:lnTo>
                  <a:lnTo>
                    <a:pt x="1576" y="2824"/>
                  </a:lnTo>
                  <a:lnTo>
                    <a:pt x="1622" y="2897"/>
                  </a:lnTo>
                  <a:lnTo>
                    <a:pt x="1659" y="2971"/>
                  </a:lnTo>
                  <a:lnTo>
                    <a:pt x="1704" y="3044"/>
                  </a:lnTo>
                  <a:lnTo>
                    <a:pt x="1741" y="3117"/>
                  </a:lnTo>
                  <a:lnTo>
                    <a:pt x="1787" y="3191"/>
                  </a:lnTo>
                  <a:lnTo>
                    <a:pt x="1823" y="3264"/>
                  </a:lnTo>
                  <a:lnTo>
                    <a:pt x="1860" y="3337"/>
                  </a:lnTo>
                  <a:lnTo>
                    <a:pt x="1906" y="3411"/>
                  </a:lnTo>
                  <a:lnTo>
                    <a:pt x="1943" y="3484"/>
                  </a:lnTo>
                  <a:lnTo>
                    <a:pt x="1988" y="3557"/>
                  </a:lnTo>
                  <a:lnTo>
                    <a:pt x="2025" y="3631"/>
                  </a:lnTo>
                  <a:lnTo>
                    <a:pt x="2071" y="3704"/>
                  </a:lnTo>
                  <a:lnTo>
                    <a:pt x="2107" y="3777"/>
                  </a:lnTo>
                  <a:lnTo>
                    <a:pt x="2153" y="3851"/>
                  </a:lnTo>
                  <a:lnTo>
                    <a:pt x="2190" y="3924"/>
                  </a:lnTo>
                  <a:lnTo>
                    <a:pt x="2236" y="3997"/>
                  </a:lnTo>
                  <a:lnTo>
                    <a:pt x="2272" y="4071"/>
                  </a:lnTo>
                  <a:lnTo>
                    <a:pt x="2318" y="4144"/>
                  </a:lnTo>
                  <a:lnTo>
                    <a:pt x="2355" y="4218"/>
                  </a:lnTo>
                  <a:lnTo>
                    <a:pt x="2401" y="4291"/>
                  </a:lnTo>
                  <a:lnTo>
                    <a:pt x="2437" y="4364"/>
                  </a:lnTo>
                  <a:lnTo>
                    <a:pt x="2483" y="4438"/>
                  </a:lnTo>
                  <a:lnTo>
                    <a:pt x="2520" y="4511"/>
                  </a:lnTo>
                  <a:lnTo>
                    <a:pt x="2565" y="4584"/>
                  </a:lnTo>
                  <a:lnTo>
                    <a:pt x="2602" y="4658"/>
                  </a:lnTo>
                  <a:lnTo>
                    <a:pt x="2639" y="4731"/>
                  </a:lnTo>
                  <a:lnTo>
                    <a:pt x="2685" y="4804"/>
                  </a:lnTo>
                  <a:lnTo>
                    <a:pt x="2721" y="4878"/>
                  </a:lnTo>
                  <a:lnTo>
                    <a:pt x="2767" y="4951"/>
                  </a:lnTo>
                  <a:lnTo>
                    <a:pt x="2804" y="5024"/>
                  </a:lnTo>
                  <a:lnTo>
                    <a:pt x="2849" y="5098"/>
                  </a:lnTo>
                  <a:lnTo>
                    <a:pt x="2886" y="5171"/>
                  </a:lnTo>
                  <a:lnTo>
                    <a:pt x="2932" y="5244"/>
                  </a:lnTo>
                  <a:lnTo>
                    <a:pt x="2968" y="5318"/>
                  </a:lnTo>
                  <a:lnTo>
                    <a:pt x="3014" y="5391"/>
                  </a:lnTo>
                  <a:lnTo>
                    <a:pt x="3051" y="5474"/>
                  </a:lnTo>
                  <a:lnTo>
                    <a:pt x="3097" y="5547"/>
                  </a:lnTo>
                  <a:lnTo>
                    <a:pt x="3133" y="5620"/>
                  </a:lnTo>
                  <a:lnTo>
                    <a:pt x="3179" y="5694"/>
                  </a:lnTo>
                  <a:lnTo>
                    <a:pt x="3216" y="5767"/>
                  </a:lnTo>
                  <a:lnTo>
                    <a:pt x="3262" y="5840"/>
                  </a:lnTo>
                  <a:lnTo>
                    <a:pt x="3298" y="5914"/>
                  </a:lnTo>
                  <a:lnTo>
                    <a:pt x="3344" y="5987"/>
                  </a:lnTo>
                  <a:lnTo>
                    <a:pt x="3362" y="6033"/>
                  </a:lnTo>
                </a:path>
              </a:pathLst>
            </a:custGeom>
            <a:noFill/>
            <a:ln w="1440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74" name=""/>
            <p:cNvSpPr/>
            <p:nvPr/>
          </p:nvSpPr>
          <p:spPr>
            <a:xfrm>
              <a:off x="1501920" y="2738520"/>
              <a:ext cx="1738080" cy="2765520"/>
            </a:xfrm>
            <a:custGeom>
              <a:avLst/>
              <a:gdLst/>
              <a:ahLst/>
              <a:rect l="l" t="t" r="r" b="b"/>
              <a:pathLst>
                <a:path w="3362" h="6033">
                  <a:moveTo>
                    <a:pt x="0" y="0"/>
                  </a:moveTo>
                  <a:lnTo>
                    <a:pt x="19" y="37"/>
                  </a:lnTo>
                  <a:lnTo>
                    <a:pt x="65" y="110"/>
                  </a:lnTo>
                  <a:lnTo>
                    <a:pt x="101" y="184"/>
                  </a:lnTo>
                  <a:lnTo>
                    <a:pt x="147" y="257"/>
                  </a:lnTo>
                  <a:lnTo>
                    <a:pt x="184" y="330"/>
                  </a:lnTo>
                  <a:lnTo>
                    <a:pt x="220" y="404"/>
                  </a:lnTo>
                  <a:lnTo>
                    <a:pt x="266" y="477"/>
                  </a:lnTo>
                  <a:lnTo>
                    <a:pt x="303" y="550"/>
                  </a:lnTo>
                  <a:lnTo>
                    <a:pt x="349" y="624"/>
                  </a:lnTo>
                  <a:lnTo>
                    <a:pt x="385" y="697"/>
                  </a:lnTo>
                  <a:lnTo>
                    <a:pt x="431" y="770"/>
                  </a:lnTo>
                  <a:lnTo>
                    <a:pt x="468" y="844"/>
                  </a:lnTo>
                  <a:lnTo>
                    <a:pt x="513" y="917"/>
                  </a:lnTo>
                  <a:lnTo>
                    <a:pt x="550" y="981"/>
                  </a:lnTo>
                  <a:lnTo>
                    <a:pt x="596" y="1055"/>
                  </a:lnTo>
                  <a:lnTo>
                    <a:pt x="632" y="1128"/>
                  </a:lnTo>
                  <a:lnTo>
                    <a:pt x="678" y="1201"/>
                  </a:lnTo>
                  <a:lnTo>
                    <a:pt x="715" y="1275"/>
                  </a:lnTo>
                  <a:lnTo>
                    <a:pt x="761" y="1348"/>
                  </a:lnTo>
                  <a:lnTo>
                    <a:pt x="797" y="1421"/>
                  </a:lnTo>
                  <a:lnTo>
                    <a:pt x="843" y="1495"/>
                  </a:lnTo>
                  <a:lnTo>
                    <a:pt x="880" y="1568"/>
                  </a:lnTo>
                  <a:lnTo>
                    <a:pt x="926" y="1641"/>
                  </a:lnTo>
                  <a:lnTo>
                    <a:pt x="962" y="1715"/>
                  </a:lnTo>
                  <a:lnTo>
                    <a:pt x="1008" y="1788"/>
                  </a:lnTo>
                  <a:lnTo>
                    <a:pt x="1045" y="1861"/>
                  </a:lnTo>
                  <a:lnTo>
                    <a:pt x="1081" y="1935"/>
                  </a:lnTo>
                  <a:lnTo>
                    <a:pt x="1127" y="2008"/>
                  </a:lnTo>
                  <a:lnTo>
                    <a:pt x="1164" y="2081"/>
                  </a:lnTo>
                  <a:lnTo>
                    <a:pt x="1210" y="2155"/>
                  </a:lnTo>
                  <a:lnTo>
                    <a:pt x="1246" y="2228"/>
                  </a:lnTo>
                  <a:lnTo>
                    <a:pt x="1292" y="2301"/>
                  </a:lnTo>
                  <a:lnTo>
                    <a:pt x="1329" y="2384"/>
                  </a:lnTo>
                  <a:lnTo>
                    <a:pt x="1374" y="2457"/>
                  </a:lnTo>
                  <a:lnTo>
                    <a:pt x="1411" y="2531"/>
                  </a:lnTo>
                  <a:lnTo>
                    <a:pt x="1457" y="2604"/>
                  </a:lnTo>
                  <a:lnTo>
                    <a:pt x="1494" y="2677"/>
                  </a:lnTo>
                  <a:lnTo>
                    <a:pt x="1539" y="2751"/>
                  </a:lnTo>
                  <a:lnTo>
                    <a:pt x="1576" y="2824"/>
                  </a:lnTo>
                  <a:lnTo>
                    <a:pt x="1622" y="2897"/>
                  </a:lnTo>
                  <a:lnTo>
                    <a:pt x="1658" y="2971"/>
                  </a:lnTo>
                  <a:lnTo>
                    <a:pt x="1704" y="3044"/>
                  </a:lnTo>
                  <a:lnTo>
                    <a:pt x="1741" y="3117"/>
                  </a:lnTo>
                  <a:lnTo>
                    <a:pt x="1787" y="3191"/>
                  </a:lnTo>
                  <a:lnTo>
                    <a:pt x="1823" y="3264"/>
                  </a:lnTo>
                  <a:lnTo>
                    <a:pt x="1860" y="3337"/>
                  </a:lnTo>
                  <a:lnTo>
                    <a:pt x="1906" y="3411"/>
                  </a:lnTo>
                  <a:lnTo>
                    <a:pt x="1942" y="3484"/>
                  </a:lnTo>
                  <a:lnTo>
                    <a:pt x="1988" y="3557"/>
                  </a:lnTo>
                  <a:lnTo>
                    <a:pt x="2025" y="3631"/>
                  </a:lnTo>
                  <a:lnTo>
                    <a:pt x="2071" y="3704"/>
                  </a:lnTo>
                  <a:lnTo>
                    <a:pt x="2107" y="3777"/>
                  </a:lnTo>
                  <a:lnTo>
                    <a:pt x="2153" y="3851"/>
                  </a:lnTo>
                  <a:lnTo>
                    <a:pt x="2190" y="3924"/>
                  </a:lnTo>
                  <a:lnTo>
                    <a:pt x="2236" y="3997"/>
                  </a:lnTo>
                  <a:lnTo>
                    <a:pt x="2272" y="4071"/>
                  </a:lnTo>
                  <a:lnTo>
                    <a:pt x="2318" y="4144"/>
                  </a:lnTo>
                  <a:lnTo>
                    <a:pt x="2355" y="4218"/>
                  </a:lnTo>
                  <a:lnTo>
                    <a:pt x="2400" y="4291"/>
                  </a:lnTo>
                  <a:lnTo>
                    <a:pt x="2437" y="4364"/>
                  </a:lnTo>
                  <a:lnTo>
                    <a:pt x="2483" y="4438"/>
                  </a:lnTo>
                  <a:lnTo>
                    <a:pt x="2520" y="4511"/>
                  </a:lnTo>
                  <a:lnTo>
                    <a:pt x="2565" y="4584"/>
                  </a:lnTo>
                  <a:lnTo>
                    <a:pt x="2602" y="4658"/>
                  </a:lnTo>
                  <a:lnTo>
                    <a:pt x="2648" y="4731"/>
                  </a:lnTo>
                  <a:lnTo>
                    <a:pt x="2684" y="4804"/>
                  </a:lnTo>
                  <a:lnTo>
                    <a:pt x="2721" y="4878"/>
                  </a:lnTo>
                  <a:lnTo>
                    <a:pt x="2767" y="4951"/>
                  </a:lnTo>
                  <a:lnTo>
                    <a:pt x="2804" y="5024"/>
                  </a:lnTo>
                  <a:lnTo>
                    <a:pt x="2849" y="5107"/>
                  </a:lnTo>
                  <a:lnTo>
                    <a:pt x="2886" y="5180"/>
                  </a:lnTo>
                  <a:lnTo>
                    <a:pt x="2932" y="5254"/>
                  </a:lnTo>
                  <a:lnTo>
                    <a:pt x="2968" y="5327"/>
                  </a:lnTo>
                  <a:lnTo>
                    <a:pt x="3014" y="5400"/>
                  </a:lnTo>
                  <a:lnTo>
                    <a:pt x="3051" y="5474"/>
                  </a:lnTo>
                  <a:lnTo>
                    <a:pt x="3097" y="5547"/>
                  </a:lnTo>
                  <a:lnTo>
                    <a:pt x="3133" y="5620"/>
                  </a:lnTo>
                  <a:lnTo>
                    <a:pt x="3179" y="5694"/>
                  </a:lnTo>
                  <a:lnTo>
                    <a:pt x="3216" y="5767"/>
                  </a:lnTo>
                  <a:lnTo>
                    <a:pt x="3262" y="5840"/>
                  </a:lnTo>
                  <a:lnTo>
                    <a:pt x="3298" y="5914"/>
                  </a:lnTo>
                  <a:lnTo>
                    <a:pt x="3344" y="5987"/>
                  </a:lnTo>
                  <a:lnTo>
                    <a:pt x="3362" y="6033"/>
                  </a:lnTo>
                </a:path>
              </a:pathLst>
            </a:custGeom>
            <a:noFill/>
            <a:ln w="1440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75" name=""/>
            <p:cNvSpPr/>
            <p:nvPr/>
          </p:nvSpPr>
          <p:spPr>
            <a:xfrm>
              <a:off x="1584360" y="3157560"/>
              <a:ext cx="2584440" cy="1922400"/>
            </a:xfrm>
            <a:custGeom>
              <a:avLst/>
              <a:gdLst/>
              <a:ahLst/>
              <a:rect l="l" t="t" r="r" b="b"/>
              <a:pathLst>
                <a:path w="2217" h="1861">
                  <a:moveTo>
                    <a:pt x="0" y="477"/>
                  </a:moveTo>
                  <a:lnTo>
                    <a:pt x="0" y="486"/>
                  </a:lnTo>
                  <a:lnTo>
                    <a:pt x="0" y="532"/>
                  </a:lnTo>
                  <a:lnTo>
                    <a:pt x="0" y="577"/>
                  </a:lnTo>
                  <a:lnTo>
                    <a:pt x="0" y="605"/>
                  </a:lnTo>
                  <a:lnTo>
                    <a:pt x="0" y="623"/>
                  </a:lnTo>
                  <a:lnTo>
                    <a:pt x="9" y="660"/>
                  </a:lnTo>
                  <a:lnTo>
                    <a:pt x="18" y="706"/>
                  </a:lnTo>
                  <a:lnTo>
                    <a:pt x="27" y="752"/>
                  </a:lnTo>
                  <a:lnTo>
                    <a:pt x="46" y="788"/>
                  </a:lnTo>
                  <a:lnTo>
                    <a:pt x="46" y="797"/>
                  </a:lnTo>
                  <a:lnTo>
                    <a:pt x="64" y="843"/>
                  </a:lnTo>
                  <a:lnTo>
                    <a:pt x="82" y="889"/>
                  </a:lnTo>
                  <a:lnTo>
                    <a:pt x="101" y="935"/>
                  </a:lnTo>
                  <a:lnTo>
                    <a:pt x="128" y="972"/>
                  </a:lnTo>
                  <a:lnTo>
                    <a:pt x="156" y="1017"/>
                  </a:lnTo>
                  <a:lnTo>
                    <a:pt x="165" y="1045"/>
                  </a:lnTo>
                  <a:lnTo>
                    <a:pt x="183" y="1063"/>
                  </a:lnTo>
                  <a:lnTo>
                    <a:pt x="211" y="1100"/>
                  </a:lnTo>
                  <a:lnTo>
                    <a:pt x="211" y="1109"/>
                  </a:lnTo>
                  <a:lnTo>
                    <a:pt x="247" y="1155"/>
                  </a:lnTo>
                  <a:lnTo>
                    <a:pt x="275" y="1201"/>
                  </a:lnTo>
                  <a:lnTo>
                    <a:pt x="293" y="1210"/>
                  </a:lnTo>
                  <a:lnTo>
                    <a:pt x="321" y="1237"/>
                  </a:lnTo>
                  <a:lnTo>
                    <a:pt x="330" y="1256"/>
                  </a:lnTo>
                  <a:lnTo>
                    <a:pt x="357" y="1283"/>
                  </a:lnTo>
                  <a:lnTo>
                    <a:pt x="366" y="1302"/>
                  </a:lnTo>
                  <a:lnTo>
                    <a:pt x="403" y="1329"/>
                  </a:lnTo>
                  <a:lnTo>
                    <a:pt x="412" y="1338"/>
                  </a:lnTo>
                  <a:lnTo>
                    <a:pt x="449" y="1375"/>
                  </a:lnTo>
                  <a:lnTo>
                    <a:pt x="495" y="1412"/>
                  </a:lnTo>
                  <a:lnTo>
                    <a:pt x="504" y="1421"/>
                  </a:lnTo>
                  <a:lnTo>
                    <a:pt x="531" y="1448"/>
                  </a:lnTo>
                  <a:lnTo>
                    <a:pt x="550" y="1467"/>
                  </a:lnTo>
                  <a:lnTo>
                    <a:pt x="577" y="1476"/>
                  </a:lnTo>
                  <a:lnTo>
                    <a:pt x="614" y="1513"/>
                  </a:lnTo>
                  <a:lnTo>
                    <a:pt x="659" y="1540"/>
                  </a:lnTo>
                  <a:lnTo>
                    <a:pt x="678" y="1549"/>
                  </a:lnTo>
                  <a:lnTo>
                    <a:pt x="696" y="1568"/>
                  </a:lnTo>
                  <a:lnTo>
                    <a:pt x="742" y="1595"/>
                  </a:lnTo>
                  <a:lnTo>
                    <a:pt x="779" y="1623"/>
                  </a:lnTo>
                  <a:lnTo>
                    <a:pt x="824" y="1641"/>
                  </a:lnTo>
                  <a:lnTo>
                    <a:pt x="861" y="1668"/>
                  </a:lnTo>
                  <a:lnTo>
                    <a:pt x="907" y="1687"/>
                  </a:lnTo>
                  <a:lnTo>
                    <a:pt x="943" y="1705"/>
                  </a:lnTo>
                  <a:lnTo>
                    <a:pt x="989" y="1723"/>
                  </a:lnTo>
                  <a:lnTo>
                    <a:pt x="998" y="1733"/>
                  </a:lnTo>
                  <a:lnTo>
                    <a:pt x="1026" y="1742"/>
                  </a:lnTo>
                  <a:lnTo>
                    <a:pt x="1072" y="1760"/>
                  </a:lnTo>
                  <a:lnTo>
                    <a:pt x="1108" y="1769"/>
                  </a:lnTo>
                  <a:lnTo>
                    <a:pt x="1118" y="1778"/>
                  </a:lnTo>
                  <a:lnTo>
                    <a:pt x="1145" y="1788"/>
                  </a:lnTo>
                  <a:lnTo>
                    <a:pt x="1191" y="1797"/>
                  </a:lnTo>
                  <a:lnTo>
                    <a:pt x="1227" y="1806"/>
                  </a:lnTo>
                  <a:lnTo>
                    <a:pt x="1264" y="1824"/>
                  </a:lnTo>
                  <a:lnTo>
                    <a:pt x="1273" y="1824"/>
                  </a:lnTo>
                  <a:lnTo>
                    <a:pt x="1310" y="1833"/>
                  </a:lnTo>
                  <a:lnTo>
                    <a:pt x="1356" y="1833"/>
                  </a:lnTo>
                  <a:lnTo>
                    <a:pt x="1392" y="1843"/>
                  </a:lnTo>
                  <a:lnTo>
                    <a:pt x="1438" y="1852"/>
                  </a:lnTo>
                  <a:lnTo>
                    <a:pt x="1475" y="1852"/>
                  </a:lnTo>
                  <a:lnTo>
                    <a:pt x="1521" y="1861"/>
                  </a:lnTo>
                  <a:lnTo>
                    <a:pt x="1557" y="1861"/>
                  </a:lnTo>
                  <a:lnTo>
                    <a:pt x="1603" y="1861"/>
                  </a:lnTo>
                  <a:lnTo>
                    <a:pt x="1640" y="1861"/>
                  </a:lnTo>
                  <a:lnTo>
                    <a:pt x="1685" y="1852"/>
                  </a:lnTo>
                  <a:lnTo>
                    <a:pt x="1722" y="1852"/>
                  </a:lnTo>
                  <a:lnTo>
                    <a:pt x="1768" y="1843"/>
                  </a:lnTo>
                  <a:lnTo>
                    <a:pt x="1805" y="1833"/>
                  </a:lnTo>
                  <a:lnTo>
                    <a:pt x="1850" y="1824"/>
                  </a:lnTo>
                  <a:lnTo>
                    <a:pt x="1887" y="1806"/>
                  </a:lnTo>
                  <a:lnTo>
                    <a:pt x="1933" y="1788"/>
                  </a:lnTo>
                  <a:lnTo>
                    <a:pt x="1951" y="1778"/>
                  </a:lnTo>
                  <a:lnTo>
                    <a:pt x="1969" y="1769"/>
                  </a:lnTo>
                  <a:lnTo>
                    <a:pt x="2006" y="1742"/>
                  </a:lnTo>
                  <a:lnTo>
                    <a:pt x="2024" y="1733"/>
                  </a:lnTo>
                  <a:lnTo>
                    <a:pt x="2052" y="1705"/>
                  </a:lnTo>
                  <a:lnTo>
                    <a:pt x="2070" y="1687"/>
                  </a:lnTo>
                  <a:lnTo>
                    <a:pt x="2089" y="1668"/>
                  </a:lnTo>
                  <a:lnTo>
                    <a:pt x="2116" y="1641"/>
                  </a:lnTo>
                  <a:lnTo>
                    <a:pt x="2134" y="1613"/>
                  </a:lnTo>
                  <a:lnTo>
                    <a:pt x="2143" y="1595"/>
                  </a:lnTo>
                  <a:lnTo>
                    <a:pt x="2171" y="1549"/>
                  </a:lnTo>
                  <a:lnTo>
                    <a:pt x="2171" y="1540"/>
                  </a:lnTo>
                  <a:lnTo>
                    <a:pt x="2189" y="1513"/>
                  </a:lnTo>
                  <a:lnTo>
                    <a:pt x="2198" y="1467"/>
                  </a:lnTo>
                  <a:lnTo>
                    <a:pt x="2208" y="1421"/>
                  </a:lnTo>
                  <a:lnTo>
                    <a:pt x="2217" y="1384"/>
                  </a:lnTo>
                  <a:lnTo>
                    <a:pt x="2217" y="1375"/>
                  </a:lnTo>
                  <a:lnTo>
                    <a:pt x="2217" y="1329"/>
                  </a:lnTo>
                  <a:lnTo>
                    <a:pt x="2217" y="1283"/>
                  </a:lnTo>
                  <a:lnTo>
                    <a:pt x="2217" y="1256"/>
                  </a:lnTo>
                  <a:lnTo>
                    <a:pt x="2217" y="1237"/>
                  </a:lnTo>
                  <a:lnTo>
                    <a:pt x="2208" y="1201"/>
                  </a:lnTo>
                  <a:lnTo>
                    <a:pt x="2198" y="1155"/>
                  </a:lnTo>
                  <a:lnTo>
                    <a:pt x="2189" y="1109"/>
                  </a:lnTo>
                  <a:lnTo>
                    <a:pt x="2171" y="1072"/>
                  </a:lnTo>
                  <a:lnTo>
                    <a:pt x="2171" y="1063"/>
                  </a:lnTo>
                  <a:lnTo>
                    <a:pt x="2153" y="1017"/>
                  </a:lnTo>
                  <a:lnTo>
                    <a:pt x="2134" y="972"/>
                  </a:lnTo>
                  <a:lnTo>
                    <a:pt x="2116" y="935"/>
                  </a:lnTo>
                  <a:lnTo>
                    <a:pt x="2089" y="889"/>
                  </a:lnTo>
                  <a:lnTo>
                    <a:pt x="2061" y="843"/>
                  </a:lnTo>
                  <a:lnTo>
                    <a:pt x="2052" y="816"/>
                  </a:lnTo>
                  <a:lnTo>
                    <a:pt x="2034" y="797"/>
                  </a:lnTo>
                  <a:lnTo>
                    <a:pt x="2006" y="761"/>
                  </a:lnTo>
                  <a:lnTo>
                    <a:pt x="2006" y="752"/>
                  </a:lnTo>
                  <a:lnTo>
                    <a:pt x="1969" y="706"/>
                  </a:lnTo>
                  <a:lnTo>
                    <a:pt x="1942" y="660"/>
                  </a:lnTo>
                  <a:lnTo>
                    <a:pt x="1933" y="651"/>
                  </a:lnTo>
                  <a:lnTo>
                    <a:pt x="1896" y="623"/>
                  </a:lnTo>
                  <a:lnTo>
                    <a:pt x="1887" y="605"/>
                  </a:lnTo>
                  <a:lnTo>
                    <a:pt x="1860" y="577"/>
                  </a:lnTo>
                  <a:lnTo>
                    <a:pt x="1850" y="559"/>
                  </a:lnTo>
                  <a:lnTo>
                    <a:pt x="1814" y="532"/>
                  </a:lnTo>
                  <a:lnTo>
                    <a:pt x="1805" y="522"/>
                  </a:lnTo>
                  <a:lnTo>
                    <a:pt x="1768" y="486"/>
                  </a:lnTo>
                  <a:lnTo>
                    <a:pt x="1722" y="449"/>
                  </a:lnTo>
                  <a:lnTo>
                    <a:pt x="1713" y="440"/>
                  </a:lnTo>
                  <a:lnTo>
                    <a:pt x="1685" y="412"/>
                  </a:lnTo>
                  <a:lnTo>
                    <a:pt x="1667" y="394"/>
                  </a:lnTo>
                  <a:lnTo>
                    <a:pt x="1640" y="385"/>
                  </a:lnTo>
                  <a:lnTo>
                    <a:pt x="1603" y="348"/>
                  </a:lnTo>
                  <a:lnTo>
                    <a:pt x="1557" y="321"/>
                  </a:lnTo>
                  <a:lnTo>
                    <a:pt x="1539" y="311"/>
                  </a:lnTo>
                  <a:lnTo>
                    <a:pt x="1521" y="293"/>
                  </a:lnTo>
                  <a:lnTo>
                    <a:pt x="1475" y="266"/>
                  </a:lnTo>
                  <a:lnTo>
                    <a:pt x="1438" y="238"/>
                  </a:lnTo>
                  <a:lnTo>
                    <a:pt x="1392" y="220"/>
                  </a:lnTo>
                  <a:lnTo>
                    <a:pt x="1356" y="192"/>
                  </a:lnTo>
                  <a:lnTo>
                    <a:pt x="1310" y="174"/>
                  </a:lnTo>
                  <a:lnTo>
                    <a:pt x="1273" y="156"/>
                  </a:lnTo>
                  <a:lnTo>
                    <a:pt x="1227" y="137"/>
                  </a:lnTo>
                  <a:lnTo>
                    <a:pt x="1218" y="128"/>
                  </a:lnTo>
                  <a:lnTo>
                    <a:pt x="1191" y="119"/>
                  </a:lnTo>
                  <a:lnTo>
                    <a:pt x="1145" y="101"/>
                  </a:lnTo>
                  <a:lnTo>
                    <a:pt x="1108" y="91"/>
                  </a:lnTo>
                  <a:lnTo>
                    <a:pt x="1099" y="82"/>
                  </a:lnTo>
                  <a:lnTo>
                    <a:pt x="1072" y="73"/>
                  </a:lnTo>
                  <a:lnTo>
                    <a:pt x="1026" y="64"/>
                  </a:lnTo>
                  <a:lnTo>
                    <a:pt x="989" y="55"/>
                  </a:lnTo>
                  <a:lnTo>
                    <a:pt x="953" y="46"/>
                  </a:lnTo>
                  <a:lnTo>
                    <a:pt x="943" y="36"/>
                  </a:lnTo>
                  <a:lnTo>
                    <a:pt x="907" y="27"/>
                  </a:lnTo>
                  <a:lnTo>
                    <a:pt x="861" y="27"/>
                  </a:lnTo>
                  <a:lnTo>
                    <a:pt x="824" y="18"/>
                  </a:lnTo>
                  <a:lnTo>
                    <a:pt x="779" y="9"/>
                  </a:lnTo>
                  <a:lnTo>
                    <a:pt x="742" y="9"/>
                  </a:lnTo>
                  <a:lnTo>
                    <a:pt x="696" y="0"/>
                  </a:lnTo>
                  <a:lnTo>
                    <a:pt x="659" y="0"/>
                  </a:lnTo>
                  <a:lnTo>
                    <a:pt x="614" y="0"/>
                  </a:lnTo>
                  <a:lnTo>
                    <a:pt x="577" y="0"/>
                  </a:lnTo>
                  <a:lnTo>
                    <a:pt x="531" y="9"/>
                  </a:lnTo>
                  <a:lnTo>
                    <a:pt x="495" y="9"/>
                  </a:lnTo>
                  <a:lnTo>
                    <a:pt x="449" y="18"/>
                  </a:lnTo>
                  <a:lnTo>
                    <a:pt x="412" y="27"/>
                  </a:lnTo>
                  <a:lnTo>
                    <a:pt x="366" y="36"/>
                  </a:lnTo>
                  <a:lnTo>
                    <a:pt x="366" y="46"/>
                  </a:lnTo>
                  <a:lnTo>
                    <a:pt x="330" y="55"/>
                  </a:lnTo>
                  <a:lnTo>
                    <a:pt x="293" y="73"/>
                  </a:lnTo>
                  <a:lnTo>
                    <a:pt x="266" y="82"/>
                  </a:lnTo>
                  <a:lnTo>
                    <a:pt x="247" y="91"/>
                  </a:lnTo>
                  <a:lnTo>
                    <a:pt x="211" y="119"/>
                  </a:lnTo>
                  <a:lnTo>
                    <a:pt x="192" y="128"/>
                  </a:lnTo>
                  <a:lnTo>
                    <a:pt x="165" y="156"/>
                  </a:lnTo>
                  <a:lnTo>
                    <a:pt x="146" y="174"/>
                  </a:lnTo>
                  <a:lnTo>
                    <a:pt x="128" y="192"/>
                  </a:lnTo>
                  <a:lnTo>
                    <a:pt x="101" y="220"/>
                  </a:lnTo>
                  <a:lnTo>
                    <a:pt x="82" y="247"/>
                  </a:lnTo>
                  <a:lnTo>
                    <a:pt x="73" y="266"/>
                  </a:lnTo>
                  <a:lnTo>
                    <a:pt x="46" y="311"/>
                  </a:lnTo>
                  <a:lnTo>
                    <a:pt x="46" y="321"/>
                  </a:lnTo>
                  <a:lnTo>
                    <a:pt x="27" y="348"/>
                  </a:lnTo>
                  <a:lnTo>
                    <a:pt x="18" y="394"/>
                  </a:lnTo>
                  <a:lnTo>
                    <a:pt x="9" y="440"/>
                  </a:lnTo>
                  <a:lnTo>
                    <a:pt x="0" y="477"/>
                  </a:lnTo>
                </a:path>
              </a:pathLst>
            </a:custGeom>
            <a:noFill/>
            <a:ln w="28440">
              <a:solidFill>
                <a:srgbClr val="57896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76" name=""/>
            <p:cNvSpPr/>
            <p:nvPr/>
          </p:nvSpPr>
          <p:spPr>
            <a:xfrm>
              <a:off x="4060800" y="4179960"/>
              <a:ext cx="76320" cy="6660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77" name=""/>
            <p:cNvSpPr/>
            <p:nvPr/>
          </p:nvSpPr>
          <p:spPr>
            <a:xfrm flipH="1" flipV="1">
              <a:off x="3709800" y="3819600"/>
              <a:ext cx="385560" cy="388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78" name=""/>
            <p:cNvSpPr/>
            <p:nvPr/>
          </p:nvSpPr>
          <p:spPr>
            <a:xfrm>
              <a:off x="4060800" y="4179960"/>
              <a:ext cx="76320" cy="6660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79" name=""/>
            <p:cNvSpPr/>
            <p:nvPr/>
          </p:nvSpPr>
          <p:spPr>
            <a:xfrm>
              <a:off x="3676680" y="3790800"/>
              <a:ext cx="76320" cy="66960"/>
            </a:xfrm>
            <a:prstGeom prst="ellipse">
              <a:avLst/>
            </a:prstGeom>
            <a:noFill/>
            <a:ln w="14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1180" name=""/>
            <p:cNvSpPr/>
            <p:nvPr/>
          </p:nvSpPr>
          <p:spPr>
            <a:xfrm>
              <a:off x="3325680" y="3573360"/>
              <a:ext cx="770040" cy="635040"/>
            </a:xfrm>
            <a:custGeom>
              <a:avLst/>
              <a:gdLst/>
              <a:ahLst/>
              <a:rect l="l" t="t" r="r" b="b"/>
              <a:pathLst>
                <a:path w="660" h="614">
                  <a:moveTo>
                    <a:pt x="660" y="614"/>
                  </a:moveTo>
                  <a:lnTo>
                    <a:pt x="330" y="239"/>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81" name=""/>
            <p:cNvSpPr/>
            <p:nvPr/>
          </p:nvSpPr>
          <p:spPr>
            <a:xfrm>
              <a:off x="4060800" y="4179960"/>
              <a:ext cx="76320" cy="6660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82" name=""/>
            <p:cNvSpPr/>
            <p:nvPr/>
          </p:nvSpPr>
          <p:spPr>
            <a:xfrm>
              <a:off x="3676680" y="3790800"/>
              <a:ext cx="76320" cy="66960"/>
            </a:xfrm>
            <a:prstGeom prst="ellipse">
              <a:avLst/>
            </a:prstGeom>
            <a:noFill/>
            <a:ln w="14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1183" name=""/>
            <p:cNvSpPr/>
            <p:nvPr/>
          </p:nvSpPr>
          <p:spPr>
            <a:xfrm>
              <a:off x="3294000" y="3544920"/>
              <a:ext cx="73080" cy="6516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84" name=""/>
            <p:cNvSpPr/>
            <p:nvPr/>
          </p:nvSpPr>
          <p:spPr>
            <a:xfrm>
              <a:off x="2940120" y="3468600"/>
              <a:ext cx="1155600" cy="739800"/>
            </a:xfrm>
            <a:custGeom>
              <a:avLst/>
              <a:gdLst/>
              <a:ahLst/>
              <a:rect l="l" t="t" r="r" b="b"/>
              <a:pathLst>
                <a:path w="990" h="715">
                  <a:moveTo>
                    <a:pt x="990" y="715"/>
                  </a:moveTo>
                  <a:lnTo>
                    <a:pt x="660" y="340"/>
                  </a:lnTo>
                  <a:lnTo>
                    <a:pt x="330" y="101"/>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85" name=""/>
            <p:cNvSpPr/>
            <p:nvPr/>
          </p:nvSpPr>
          <p:spPr>
            <a:xfrm>
              <a:off x="4060800" y="4179960"/>
              <a:ext cx="76320" cy="6660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86" name=""/>
            <p:cNvSpPr/>
            <p:nvPr/>
          </p:nvSpPr>
          <p:spPr>
            <a:xfrm>
              <a:off x="3676680" y="3790800"/>
              <a:ext cx="76320" cy="66960"/>
            </a:xfrm>
            <a:prstGeom prst="ellipse">
              <a:avLst/>
            </a:prstGeom>
            <a:noFill/>
            <a:ln w="14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1187" name=""/>
            <p:cNvSpPr/>
            <p:nvPr/>
          </p:nvSpPr>
          <p:spPr>
            <a:xfrm>
              <a:off x="3294000" y="3544920"/>
              <a:ext cx="73080" cy="6516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88" name=""/>
            <p:cNvSpPr/>
            <p:nvPr/>
          </p:nvSpPr>
          <p:spPr>
            <a:xfrm>
              <a:off x="2909880" y="3441600"/>
              <a:ext cx="73080" cy="6516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89" name=""/>
            <p:cNvSpPr/>
            <p:nvPr/>
          </p:nvSpPr>
          <p:spPr>
            <a:xfrm>
              <a:off x="2589120" y="3468600"/>
              <a:ext cx="1506600" cy="739800"/>
            </a:xfrm>
            <a:custGeom>
              <a:avLst/>
              <a:gdLst/>
              <a:ahLst/>
              <a:rect l="l" t="t" r="r" b="b"/>
              <a:pathLst>
                <a:path w="1292" h="715">
                  <a:moveTo>
                    <a:pt x="1292" y="715"/>
                  </a:moveTo>
                  <a:lnTo>
                    <a:pt x="962" y="340"/>
                  </a:lnTo>
                  <a:lnTo>
                    <a:pt x="632" y="101"/>
                  </a:lnTo>
                  <a:lnTo>
                    <a:pt x="302" y="0"/>
                  </a:lnTo>
                  <a:lnTo>
                    <a:pt x="0" y="46"/>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90" name=""/>
            <p:cNvSpPr/>
            <p:nvPr/>
          </p:nvSpPr>
          <p:spPr>
            <a:xfrm>
              <a:off x="4060800" y="4179960"/>
              <a:ext cx="76320" cy="6660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91" name=""/>
            <p:cNvSpPr/>
            <p:nvPr/>
          </p:nvSpPr>
          <p:spPr>
            <a:xfrm>
              <a:off x="3676680" y="3790800"/>
              <a:ext cx="76320" cy="66960"/>
            </a:xfrm>
            <a:prstGeom prst="ellipse">
              <a:avLst/>
            </a:prstGeom>
            <a:noFill/>
            <a:ln w="14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1192" name=""/>
            <p:cNvSpPr/>
            <p:nvPr/>
          </p:nvSpPr>
          <p:spPr>
            <a:xfrm>
              <a:off x="3294000" y="3544920"/>
              <a:ext cx="73080" cy="6516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93" name=""/>
            <p:cNvSpPr/>
            <p:nvPr/>
          </p:nvSpPr>
          <p:spPr>
            <a:xfrm>
              <a:off x="2909880" y="3441600"/>
              <a:ext cx="73080" cy="6516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94" name=""/>
            <p:cNvSpPr/>
            <p:nvPr/>
          </p:nvSpPr>
          <p:spPr>
            <a:xfrm>
              <a:off x="2557440" y="3487680"/>
              <a:ext cx="74520" cy="68400"/>
            </a:xfrm>
            <a:prstGeom prst="ellipse">
              <a:avLst/>
            </a:prstGeom>
            <a:solidFill>
              <a:srgbClr val="ff3300"/>
            </a:solidFill>
            <a:ln w="1260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333333"/>
                </a:solidFill>
                <a:latin typeface="Times New Roman"/>
              </a:endParaRPr>
            </a:p>
          </p:txBody>
        </p:sp>
        <p:sp>
          <p:nvSpPr>
            <p:cNvPr id="1195" name=""/>
            <p:cNvSpPr/>
            <p:nvPr/>
          </p:nvSpPr>
          <p:spPr>
            <a:xfrm>
              <a:off x="2514600" y="3468600"/>
              <a:ext cx="1581120" cy="739800"/>
            </a:xfrm>
            <a:custGeom>
              <a:avLst/>
              <a:gdLst/>
              <a:ahLst/>
              <a:rect l="l" t="t" r="r" b="b"/>
              <a:pathLst>
                <a:path w="1356" h="715">
                  <a:moveTo>
                    <a:pt x="1356" y="715"/>
                  </a:moveTo>
                  <a:lnTo>
                    <a:pt x="1026" y="340"/>
                  </a:lnTo>
                  <a:lnTo>
                    <a:pt x="696" y="101"/>
                  </a:lnTo>
                  <a:lnTo>
                    <a:pt x="366" y="0"/>
                  </a:lnTo>
                  <a:lnTo>
                    <a:pt x="64" y="46"/>
                  </a:lnTo>
                  <a:lnTo>
                    <a:pt x="0" y="16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96" name=""/>
            <p:cNvSpPr/>
            <p:nvPr/>
          </p:nvSpPr>
          <p:spPr>
            <a:xfrm>
              <a:off x="4060800" y="4179960"/>
              <a:ext cx="76320" cy="6660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97" name=""/>
            <p:cNvSpPr/>
            <p:nvPr/>
          </p:nvSpPr>
          <p:spPr>
            <a:xfrm>
              <a:off x="3676680" y="3790800"/>
              <a:ext cx="76320" cy="66960"/>
            </a:xfrm>
            <a:prstGeom prst="ellipse">
              <a:avLst/>
            </a:prstGeom>
            <a:noFill/>
            <a:ln w="14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1198" name=""/>
            <p:cNvSpPr/>
            <p:nvPr/>
          </p:nvSpPr>
          <p:spPr>
            <a:xfrm>
              <a:off x="3294000" y="3544920"/>
              <a:ext cx="73080" cy="6516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199" name=""/>
            <p:cNvSpPr/>
            <p:nvPr/>
          </p:nvSpPr>
          <p:spPr>
            <a:xfrm>
              <a:off x="2909880" y="3441600"/>
              <a:ext cx="73080" cy="6516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00" name=""/>
            <p:cNvSpPr/>
            <p:nvPr/>
          </p:nvSpPr>
          <p:spPr>
            <a:xfrm>
              <a:off x="2557440" y="3487680"/>
              <a:ext cx="74520" cy="68400"/>
            </a:xfrm>
            <a:prstGeom prst="ellipse">
              <a:avLst/>
            </a:prstGeom>
            <a:solidFill>
              <a:srgbClr val="ff3300"/>
            </a:solidFill>
            <a:ln w="1260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333333"/>
                </a:solidFill>
                <a:latin typeface="Times New Roman"/>
              </a:endParaRPr>
            </a:p>
          </p:txBody>
        </p:sp>
        <p:sp>
          <p:nvSpPr>
            <p:cNvPr id="1201" name=""/>
            <p:cNvSpPr/>
            <p:nvPr/>
          </p:nvSpPr>
          <p:spPr>
            <a:xfrm>
              <a:off x="2482920" y="3610080"/>
              <a:ext cx="74520" cy="68040"/>
            </a:xfrm>
            <a:prstGeom prst="ellipse">
              <a:avLst/>
            </a:prstGeom>
            <a:solidFill>
              <a:srgbClr val="ff3300"/>
            </a:solidFill>
            <a:ln w="1260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1202" name=""/>
            <p:cNvSpPr/>
            <p:nvPr/>
          </p:nvSpPr>
          <p:spPr>
            <a:xfrm>
              <a:off x="2514600" y="3468600"/>
              <a:ext cx="1581120" cy="739800"/>
            </a:xfrm>
            <a:custGeom>
              <a:avLst/>
              <a:gdLst/>
              <a:ahLst/>
              <a:rect l="l" t="t" r="r" b="b"/>
              <a:pathLst>
                <a:path w="1356" h="715">
                  <a:moveTo>
                    <a:pt x="1356" y="715"/>
                  </a:moveTo>
                  <a:lnTo>
                    <a:pt x="1026" y="340"/>
                  </a:lnTo>
                  <a:lnTo>
                    <a:pt x="696" y="101"/>
                  </a:lnTo>
                  <a:lnTo>
                    <a:pt x="366" y="0"/>
                  </a:lnTo>
                  <a:lnTo>
                    <a:pt x="64" y="46"/>
                  </a:lnTo>
                  <a:lnTo>
                    <a:pt x="0" y="165"/>
                  </a:lnTo>
                  <a:lnTo>
                    <a:pt x="46" y="29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03" name=""/>
            <p:cNvSpPr/>
            <p:nvPr/>
          </p:nvSpPr>
          <p:spPr>
            <a:xfrm>
              <a:off x="4060800" y="4179960"/>
              <a:ext cx="76320" cy="6660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04" name=""/>
            <p:cNvSpPr/>
            <p:nvPr/>
          </p:nvSpPr>
          <p:spPr>
            <a:xfrm>
              <a:off x="3676680" y="3790800"/>
              <a:ext cx="76320" cy="66960"/>
            </a:xfrm>
            <a:prstGeom prst="ellipse">
              <a:avLst/>
            </a:prstGeom>
            <a:noFill/>
            <a:ln w="14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1205" name=""/>
            <p:cNvSpPr/>
            <p:nvPr/>
          </p:nvSpPr>
          <p:spPr>
            <a:xfrm>
              <a:off x="3294000" y="3544920"/>
              <a:ext cx="73080" cy="6516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06" name=""/>
            <p:cNvSpPr/>
            <p:nvPr/>
          </p:nvSpPr>
          <p:spPr>
            <a:xfrm>
              <a:off x="2909880" y="3441600"/>
              <a:ext cx="73080" cy="6516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07" name=""/>
            <p:cNvSpPr/>
            <p:nvPr/>
          </p:nvSpPr>
          <p:spPr>
            <a:xfrm>
              <a:off x="2557440" y="3487680"/>
              <a:ext cx="74520" cy="68400"/>
            </a:xfrm>
            <a:prstGeom prst="ellipse">
              <a:avLst/>
            </a:prstGeom>
            <a:solidFill>
              <a:srgbClr val="ff3300"/>
            </a:solidFill>
            <a:ln w="1260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333333"/>
                </a:solidFill>
                <a:latin typeface="Times New Roman"/>
              </a:endParaRPr>
            </a:p>
          </p:txBody>
        </p:sp>
        <p:sp>
          <p:nvSpPr>
            <p:cNvPr id="1208" name=""/>
            <p:cNvSpPr/>
            <p:nvPr/>
          </p:nvSpPr>
          <p:spPr>
            <a:xfrm>
              <a:off x="2482920" y="3610080"/>
              <a:ext cx="74520" cy="68040"/>
            </a:xfrm>
            <a:prstGeom prst="ellipse">
              <a:avLst/>
            </a:prstGeom>
            <a:solidFill>
              <a:srgbClr val="ff3300"/>
            </a:solidFill>
            <a:ln w="1260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1209" name=""/>
            <p:cNvSpPr/>
            <p:nvPr/>
          </p:nvSpPr>
          <p:spPr>
            <a:xfrm>
              <a:off x="2535120" y="3743280"/>
              <a:ext cx="7632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10" name=""/>
            <p:cNvSpPr/>
            <p:nvPr/>
          </p:nvSpPr>
          <p:spPr>
            <a:xfrm>
              <a:off x="2514600" y="3468600"/>
              <a:ext cx="1581120" cy="739800"/>
            </a:xfrm>
            <a:custGeom>
              <a:avLst/>
              <a:gdLst/>
              <a:ahLst/>
              <a:rect l="l" t="t" r="r" b="b"/>
              <a:pathLst>
                <a:path w="1356" h="715">
                  <a:moveTo>
                    <a:pt x="1356" y="715"/>
                  </a:moveTo>
                  <a:lnTo>
                    <a:pt x="1026" y="340"/>
                  </a:lnTo>
                  <a:lnTo>
                    <a:pt x="696" y="101"/>
                  </a:lnTo>
                  <a:lnTo>
                    <a:pt x="366" y="0"/>
                  </a:lnTo>
                  <a:lnTo>
                    <a:pt x="64" y="46"/>
                  </a:lnTo>
                  <a:lnTo>
                    <a:pt x="0" y="165"/>
                  </a:lnTo>
                  <a:lnTo>
                    <a:pt x="46" y="294"/>
                  </a:lnTo>
                  <a:lnTo>
                    <a:pt x="101" y="39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11" name=""/>
            <p:cNvSpPr/>
            <p:nvPr/>
          </p:nvSpPr>
          <p:spPr>
            <a:xfrm>
              <a:off x="4060800" y="4179960"/>
              <a:ext cx="76320" cy="6660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12" name=""/>
            <p:cNvSpPr/>
            <p:nvPr/>
          </p:nvSpPr>
          <p:spPr>
            <a:xfrm>
              <a:off x="3676680" y="3790800"/>
              <a:ext cx="76320" cy="66960"/>
            </a:xfrm>
            <a:prstGeom prst="ellipse">
              <a:avLst/>
            </a:prstGeom>
            <a:noFill/>
            <a:ln w="14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1213" name=""/>
            <p:cNvSpPr/>
            <p:nvPr/>
          </p:nvSpPr>
          <p:spPr>
            <a:xfrm>
              <a:off x="3294000" y="3544920"/>
              <a:ext cx="73080" cy="6516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14" name=""/>
            <p:cNvSpPr/>
            <p:nvPr/>
          </p:nvSpPr>
          <p:spPr>
            <a:xfrm>
              <a:off x="2909880" y="3441600"/>
              <a:ext cx="73080" cy="6516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15" name=""/>
            <p:cNvSpPr/>
            <p:nvPr/>
          </p:nvSpPr>
          <p:spPr>
            <a:xfrm>
              <a:off x="2557440" y="3487680"/>
              <a:ext cx="74520" cy="68400"/>
            </a:xfrm>
            <a:prstGeom prst="ellipse">
              <a:avLst/>
            </a:prstGeom>
            <a:solidFill>
              <a:srgbClr val="ff3300"/>
            </a:solidFill>
            <a:ln w="1260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333333"/>
                </a:solidFill>
                <a:latin typeface="Times New Roman"/>
              </a:endParaRPr>
            </a:p>
          </p:txBody>
        </p:sp>
        <p:sp>
          <p:nvSpPr>
            <p:cNvPr id="1216" name=""/>
            <p:cNvSpPr/>
            <p:nvPr/>
          </p:nvSpPr>
          <p:spPr>
            <a:xfrm>
              <a:off x="2482920" y="3610080"/>
              <a:ext cx="74520" cy="68040"/>
            </a:xfrm>
            <a:prstGeom prst="ellipse">
              <a:avLst/>
            </a:prstGeom>
            <a:solidFill>
              <a:srgbClr val="ff3300"/>
            </a:solidFill>
            <a:ln w="1260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1217" name=""/>
            <p:cNvSpPr/>
            <p:nvPr/>
          </p:nvSpPr>
          <p:spPr>
            <a:xfrm>
              <a:off x="2535120" y="3743280"/>
              <a:ext cx="7632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18" name=""/>
            <p:cNvSpPr/>
            <p:nvPr/>
          </p:nvSpPr>
          <p:spPr>
            <a:xfrm>
              <a:off x="2514600" y="3468600"/>
              <a:ext cx="1581120" cy="739800"/>
            </a:xfrm>
            <a:custGeom>
              <a:avLst/>
              <a:gdLst/>
              <a:ahLst/>
              <a:rect l="l" t="t" r="r" b="b"/>
              <a:pathLst>
                <a:path w="1356" h="715">
                  <a:moveTo>
                    <a:pt x="1356" y="715"/>
                  </a:moveTo>
                  <a:lnTo>
                    <a:pt x="1026" y="340"/>
                  </a:lnTo>
                  <a:lnTo>
                    <a:pt x="696" y="101"/>
                  </a:lnTo>
                  <a:lnTo>
                    <a:pt x="366" y="0"/>
                  </a:lnTo>
                  <a:lnTo>
                    <a:pt x="64" y="46"/>
                  </a:lnTo>
                  <a:lnTo>
                    <a:pt x="0" y="165"/>
                  </a:lnTo>
                  <a:lnTo>
                    <a:pt x="46" y="294"/>
                  </a:lnTo>
                  <a:lnTo>
                    <a:pt x="101" y="395"/>
                  </a:lnTo>
                  <a:lnTo>
                    <a:pt x="165" y="46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19" name=""/>
            <p:cNvSpPr/>
            <p:nvPr/>
          </p:nvSpPr>
          <p:spPr>
            <a:xfrm>
              <a:off x="4060800" y="4179960"/>
              <a:ext cx="76320" cy="6660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20" name=""/>
            <p:cNvSpPr/>
            <p:nvPr/>
          </p:nvSpPr>
          <p:spPr>
            <a:xfrm>
              <a:off x="3676680" y="3790800"/>
              <a:ext cx="76320" cy="66960"/>
            </a:xfrm>
            <a:prstGeom prst="ellipse">
              <a:avLst/>
            </a:prstGeom>
            <a:noFill/>
            <a:ln w="14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1221" name=""/>
            <p:cNvSpPr/>
            <p:nvPr/>
          </p:nvSpPr>
          <p:spPr>
            <a:xfrm>
              <a:off x="3294000" y="3544920"/>
              <a:ext cx="73080" cy="65160"/>
            </a:xfrm>
            <a:prstGeom prst="ellipse">
              <a:avLst/>
            </a:prstGeom>
            <a:no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22" name=""/>
            <p:cNvSpPr/>
            <p:nvPr/>
          </p:nvSpPr>
          <p:spPr>
            <a:xfrm>
              <a:off x="2909880" y="3441600"/>
              <a:ext cx="73080" cy="6516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23" name=""/>
            <p:cNvSpPr/>
            <p:nvPr/>
          </p:nvSpPr>
          <p:spPr>
            <a:xfrm>
              <a:off x="2557440" y="3487680"/>
              <a:ext cx="74520" cy="68400"/>
            </a:xfrm>
            <a:prstGeom prst="ellipse">
              <a:avLst/>
            </a:prstGeom>
            <a:solidFill>
              <a:srgbClr val="ff3300"/>
            </a:solidFill>
            <a:ln w="1260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333333"/>
                </a:solidFill>
                <a:latin typeface="Times New Roman"/>
              </a:endParaRPr>
            </a:p>
          </p:txBody>
        </p:sp>
        <p:sp>
          <p:nvSpPr>
            <p:cNvPr id="1224" name=""/>
            <p:cNvSpPr/>
            <p:nvPr/>
          </p:nvSpPr>
          <p:spPr>
            <a:xfrm>
              <a:off x="2482920" y="3610080"/>
              <a:ext cx="74520" cy="68040"/>
            </a:xfrm>
            <a:prstGeom prst="ellipse">
              <a:avLst/>
            </a:prstGeom>
            <a:solidFill>
              <a:srgbClr val="ff3300"/>
            </a:solidFill>
            <a:ln w="1260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1225" name=""/>
            <p:cNvSpPr/>
            <p:nvPr/>
          </p:nvSpPr>
          <p:spPr>
            <a:xfrm>
              <a:off x="2535120" y="3743280"/>
              <a:ext cx="7632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26" name=""/>
            <p:cNvSpPr/>
            <p:nvPr/>
          </p:nvSpPr>
          <p:spPr>
            <a:xfrm>
              <a:off x="2514600" y="3468600"/>
              <a:ext cx="1581120" cy="739800"/>
            </a:xfrm>
            <a:custGeom>
              <a:avLst/>
              <a:gdLst/>
              <a:ahLst/>
              <a:rect l="l" t="t" r="r" b="b"/>
              <a:pathLst>
                <a:path w="1356" h="715">
                  <a:moveTo>
                    <a:pt x="1356" y="715"/>
                  </a:moveTo>
                  <a:lnTo>
                    <a:pt x="1026" y="340"/>
                  </a:lnTo>
                  <a:lnTo>
                    <a:pt x="696" y="101"/>
                  </a:lnTo>
                  <a:lnTo>
                    <a:pt x="366" y="0"/>
                  </a:lnTo>
                  <a:lnTo>
                    <a:pt x="64" y="46"/>
                  </a:lnTo>
                  <a:lnTo>
                    <a:pt x="0" y="165"/>
                  </a:lnTo>
                  <a:lnTo>
                    <a:pt x="46" y="294"/>
                  </a:lnTo>
                  <a:lnTo>
                    <a:pt x="101" y="395"/>
                  </a:lnTo>
                  <a:lnTo>
                    <a:pt x="165" y="468"/>
                  </a:lnTo>
                  <a:lnTo>
                    <a:pt x="211" y="523"/>
                  </a:lnTo>
                  <a:lnTo>
                    <a:pt x="247" y="560"/>
                  </a:lnTo>
                  <a:lnTo>
                    <a:pt x="266" y="587"/>
                  </a:lnTo>
                  <a:lnTo>
                    <a:pt x="284" y="605"/>
                  </a:lnTo>
                  <a:lnTo>
                    <a:pt x="293" y="615"/>
                  </a:lnTo>
                  <a:lnTo>
                    <a:pt x="302" y="624"/>
                  </a:lnTo>
                  <a:lnTo>
                    <a:pt x="311" y="624"/>
                  </a:lnTo>
                </a:path>
              </a:pathLst>
            </a:custGeom>
            <a:noFill/>
            <a:ln w="144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27" name=""/>
            <p:cNvSpPr/>
            <p:nvPr/>
          </p:nvSpPr>
          <p:spPr>
            <a:xfrm>
              <a:off x="4060800" y="4179960"/>
              <a:ext cx="7632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28" name=""/>
            <p:cNvSpPr/>
            <p:nvPr/>
          </p:nvSpPr>
          <p:spPr>
            <a:xfrm>
              <a:off x="3676680" y="3790800"/>
              <a:ext cx="76320" cy="66960"/>
            </a:xfrm>
            <a:prstGeom prst="ellipse">
              <a:avLst/>
            </a:prstGeom>
            <a:solidFill>
              <a:srgbClr val="ff3300"/>
            </a:solidFill>
            <a:ln w="12600">
              <a:solidFill>
                <a:srgbClr val="333333"/>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1229" name=""/>
            <p:cNvSpPr/>
            <p:nvPr/>
          </p:nvSpPr>
          <p:spPr>
            <a:xfrm>
              <a:off x="3294000" y="3544920"/>
              <a:ext cx="73080" cy="6516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30" name=""/>
            <p:cNvSpPr/>
            <p:nvPr/>
          </p:nvSpPr>
          <p:spPr>
            <a:xfrm>
              <a:off x="2909880" y="3441600"/>
              <a:ext cx="73080" cy="6516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31" name=""/>
            <p:cNvSpPr/>
            <p:nvPr/>
          </p:nvSpPr>
          <p:spPr>
            <a:xfrm>
              <a:off x="2557440" y="3487680"/>
              <a:ext cx="74520" cy="68400"/>
            </a:xfrm>
            <a:prstGeom prst="ellipse">
              <a:avLst/>
            </a:prstGeom>
            <a:solidFill>
              <a:srgbClr val="ff3300"/>
            </a:solidFill>
            <a:ln w="1260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333333"/>
                </a:solidFill>
                <a:latin typeface="Times New Roman"/>
              </a:endParaRPr>
            </a:p>
          </p:txBody>
        </p:sp>
        <p:sp>
          <p:nvSpPr>
            <p:cNvPr id="1232" name=""/>
            <p:cNvSpPr/>
            <p:nvPr/>
          </p:nvSpPr>
          <p:spPr>
            <a:xfrm>
              <a:off x="2482920" y="3610080"/>
              <a:ext cx="74520" cy="68040"/>
            </a:xfrm>
            <a:prstGeom prst="ellipse">
              <a:avLst/>
            </a:prstGeom>
            <a:solidFill>
              <a:srgbClr val="ff3300"/>
            </a:solidFill>
            <a:ln w="1260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333333"/>
                </a:solidFill>
                <a:latin typeface="Times New Roman"/>
              </a:endParaRPr>
            </a:p>
          </p:txBody>
        </p:sp>
        <p:sp>
          <p:nvSpPr>
            <p:cNvPr id="1233" name=""/>
            <p:cNvSpPr/>
            <p:nvPr/>
          </p:nvSpPr>
          <p:spPr>
            <a:xfrm>
              <a:off x="2535120" y="3743280"/>
              <a:ext cx="7632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34" name=""/>
            <p:cNvSpPr/>
            <p:nvPr/>
          </p:nvSpPr>
          <p:spPr>
            <a:xfrm>
              <a:off x="2600280" y="3848040"/>
              <a:ext cx="7308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35" name=""/>
            <p:cNvSpPr/>
            <p:nvPr/>
          </p:nvSpPr>
          <p:spPr>
            <a:xfrm>
              <a:off x="2600280" y="3848040"/>
              <a:ext cx="7308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36" name=""/>
            <p:cNvSpPr/>
            <p:nvPr/>
          </p:nvSpPr>
          <p:spPr>
            <a:xfrm>
              <a:off x="2673360" y="3924360"/>
              <a:ext cx="7452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37" name=""/>
            <p:cNvSpPr/>
            <p:nvPr/>
          </p:nvSpPr>
          <p:spPr>
            <a:xfrm>
              <a:off x="2600280" y="3848040"/>
              <a:ext cx="7308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38" name=""/>
            <p:cNvSpPr/>
            <p:nvPr/>
          </p:nvSpPr>
          <p:spPr>
            <a:xfrm>
              <a:off x="2673360" y="3924360"/>
              <a:ext cx="7452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39" name=""/>
            <p:cNvSpPr/>
            <p:nvPr/>
          </p:nvSpPr>
          <p:spPr>
            <a:xfrm>
              <a:off x="2728800" y="3979800"/>
              <a:ext cx="7308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40" name=""/>
            <p:cNvSpPr/>
            <p:nvPr/>
          </p:nvSpPr>
          <p:spPr>
            <a:xfrm>
              <a:off x="2770200" y="4019400"/>
              <a:ext cx="76320" cy="6516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41" name=""/>
            <p:cNvSpPr/>
            <p:nvPr/>
          </p:nvSpPr>
          <p:spPr>
            <a:xfrm>
              <a:off x="2792520" y="4046400"/>
              <a:ext cx="73080" cy="66960"/>
            </a:xfrm>
            <a:prstGeom prst="ellipse">
              <a:avLst/>
            </a:prstGeom>
            <a:solidFill>
              <a:srgbClr val="ff3300"/>
            </a:solidFill>
            <a:ln w="12600">
              <a:solidFill>
                <a:srgbClr val="333333"/>
              </a:solidFill>
              <a:miter/>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1242" name=""/>
            <p:cNvSpPr/>
            <p:nvPr/>
          </p:nvSpPr>
          <p:spPr>
            <a:xfrm>
              <a:off x="2813040" y="4065480"/>
              <a:ext cx="74520" cy="68400"/>
            </a:xfrm>
            <a:prstGeom prst="ellipse">
              <a:avLst/>
            </a:prstGeom>
            <a:solidFill>
              <a:srgbClr val="ff3300"/>
            </a:solidFill>
            <a:ln w="1260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333333"/>
                </a:solidFill>
                <a:latin typeface="Times New Roman"/>
              </a:endParaRPr>
            </a:p>
          </p:txBody>
        </p:sp>
        <p:sp>
          <p:nvSpPr>
            <p:cNvPr id="1243" name=""/>
            <p:cNvSpPr/>
            <p:nvPr/>
          </p:nvSpPr>
          <p:spPr>
            <a:xfrm>
              <a:off x="2835360" y="4084560"/>
              <a:ext cx="7452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sp>
          <p:nvSpPr>
            <p:cNvPr id="1244" name=""/>
            <p:cNvSpPr/>
            <p:nvPr/>
          </p:nvSpPr>
          <p:spPr>
            <a:xfrm>
              <a:off x="2846520" y="4084560"/>
              <a:ext cx="72720" cy="66600"/>
            </a:xfrm>
            <a:prstGeom prst="ellipse">
              <a:avLst/>
            </a:prstGeom>
            <a:solidFill>
              <a:srgbClr val="ff3300"/>
            </a:solidFill>
            <a:ln w="12600">
              <a:solidFill>
                <a:srgbClr val="333333"/>
              </a:solidFill>
              <a:miter/>
            </a:ln>
          </p:spPr>
          <p:style>
            <a:lnRef idx="0"/>
            <a:fillRef idx="0"/>
            <a:effectRef idx="0"/>
            <a:fontRef idx="minor"/>
          </p:style>
          <p:txBody>
            <a:bodyPr lIns="90000" rIns="90000" tIns="360" bIns="360" anchor="t">
              <a:noAutofit/>
            </a:bodyPr>
            <a:p>
              <a:endParaRPr b="0" lang="en-US" sz="2400" spc="-1" strike="noStrike">
                <a:solidFill>
                  <a:srgbClr val="333333"/>
                </a:solidFill>
                <a:latin typeface="Times New Roman"/>
              </a:endParaRPr>
            </a:p>
          </p:txBody>
        </p:sp>
      </p:grpSp>
      <p:grpSp>
        <p:nvGrpSpPr>
          <p:cNvPr id="1245" name=""/>
          <p:cNvGrpSpPr/>
          <p:nvPr/>
        </p:nvGrpSpPr>
        <p:grpSpPr>
          <a:xfrm>
            <a:off x="5037120" y="2664000"/>
            <a:ext cx="3890880" cy="3415320"/>
            <a:chOff x="5037120" y="2664000"/>
            <a:chExt cx="3890880" cy="3415320"/>
          </a:xfrm>
        </p:grpSpPr>
        <p:sp>
          <p:nvSpPr>
            <p:cNvPr id="1246" name=""/>
            <p:cNvSpPr/>
            <p:nvPr/>
          </p:nvSpPr>
          <p:spPr>
            <a:xfrm>
              <a:off x="5676840" y="5038560"/>
              <a:ext cx="3202200" cy="0"/>
            </a:xfrm>
            <a:prstGeom prst="line">
              <a:avLst/>
            </a:prstGeom>
            <a:ln w="9360">
              <a:solidFill>
                <a:srgbClr val="6600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247" name=""/>
            <p:cNvSpPr/>
            <p:nvPr/>
          </p:nvSpPr>
          <p:spPr>
            <a:xfrm>
              <a:off x="5686560" y="2752560"/>
              <a:ext cx="3198600" cy="274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48" name=""/>
            <p:cNvSpPr/>
            <p:nvPr/>
          </p:nvSpPr>
          <p:spPr>
            <a:xfrm>
              <a:off x="5686560" y="2752560"/>
              <a:ext cx="3198600" cy="2749680"/>
            </a:xfrm>
            <a:prstGeom prst="rect">
              <a:avLst/>
            </a:prstGeom>
            <a:noFill/>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49" name=""/>
            <p:cNvSpPr/>
            <p:nvPr/>
          </p:nvSpPr>
          <p:spPr>
            <a:xfrm>
              <a:off x="5686560" y="2752560"/>
              <a:ext cx="319860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50" name=""/>
            <p:cNvSpPr/>
            <p:nvPr/>
          </p:nvSpPr>
          <p:spPr>
            <a:xfrm flipV="1">
              <a:off x="8885160" y="2752560"/>
              <a:ext cx="0" cy="2749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51" name=""/>
            <p:cNvSpPr/>
            <p:nvPr/>
          </p:nvSpPr>
          <p:spPr>
            <a:xfrm flipV="1">
              <a:off x="5524560" y="5466960"/>
              <a:ext cx="0" cy="34920"/>
            </a:xfrm>
            <a:prstGeom prst="line">
              <a:avLst/>
            </a:prstGeom>
            <a:ln w="1764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1252" name=""/>
            <p:cNvSpPr/>
            <p:nvPr/>
          </p:nvSpPr>
          <p:spPr>
            <a:xfrm>
              <a:off x="5524560" y="2752560"/>
              <a:ext cx="0" cy="32040"/>
            </a:xfrm>
            <a:prstGeom prst="line">
              <a:avLst/>
            </a:prstGeom>
            <a:ln w="1764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1253" name=""/>
            <p:cNvSpPr/>
            <p:nvPr/>
          </p:nvSpPr>
          <p:spPr>
            <a:xfrm>
              <a:off x="5662440" y="55450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1254" name=""/>
            <p:cNvSpPr/>
            <p:nvPr/>
          </p:nvSpPr>
          <p:spPr>
            <a:xfrm flipV="1">
              <a:off x="6283440" y="5466960"/>
              <a:ext cx="0" cy="34920"/>
            </a:xfrm>
            <a:prstGeom prst="line">
              <a:avLst/>
            </a:prstGeom>
            <a:ln w="1764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1255" name=""/>
            <p:cNvSpPr/>
            <p:nvPr/>
          </p:nvSpPr>
          <p:spPr>
            <a:xfrm>
              <a:off x="6283440" y="2752560"/>
              <a:ext cx="0" cy="32040"/>
            </a:xfrm>
            <a:prstGeom prst="line">
              <a:avLst/>
            </a:prstGeom>
            <a:ln w="1764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1256" name=""/>
            <p:cNvSpPr/>
            <p:nvPr/>
          </p:nvSpPr>
          <p:spPr>
            <a:xfrm>
              <a:off x="6259680" y="55450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5</a:t>
              </a:r>
              <a:endParaRPr b="0" lang="en-US" sz="1700" spc="-1" strike="noStrike">
                <a:solidFill>
                  <a:srgbClr val="333333"/>
                </a:solidFill>
                <a:latin typeface="Times New Roman"/>
              </a:endParaRPr>
            </a:p>
          </p:txBody>
        </p:sp>
        <p:sp>
          <p:nvSpPr>
            <p:cNvPr id="1257" name=""/>
            <p:cNvSpPr/>
            <p:nvPr/>
          </p:nvSpPr>
          <p:spPr>
            <a:xfrm flipV="1">
              <a:off x="6867360" y="5466960"/>
              <a:ext cx="1800" cy="34920"/>
            </a:xfrm>
            <a:prstGeom prst="line">
              <a:avLst/>
            </a:prstGeom>
            <a:ln w="1764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1258" name=""/>
            <p:cNvSpPr/>
            <p:nvPr/>
          </p:nvSpPr>
          <p:spPr>
            <a:xfrm>
              <a:off x="6867360" y="2752560"/>
              <a:ext cx="1800" cy="32040"/>
            </a:xfrm>
            <a:prstGeom prst="line">
              <a:avLst/>
            </a:prstGeom>
            <a:ln w="1764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1259" name=""/>
            <p:cNvSpPr/>
            <p:nvPr/>
          </p:nvSpPr>
          <p:spPr>
            <a:xfrm>
              <a:off x="6778800" y="554508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0</a:t>
              </a:r>
              <a:endParaRPr b="0" lang="en-US" sz="1700" spc="-1" strike="noStrike">
                <a:solidFill>
                  <a:srgbClr val="333333"/>
                </a:solidFill>
                <a:latin typeface="Times New Roman"/>
              </a:endParaRPr>
            </a:p>
          </p:txBody>
        </p:sp>
        <p:sp>
          <p:nvSpPr>
            <p:cNvPr id="1260" name=""/>
            <p:cNvSpPr/>
            <p:nvPr/>
          </p:nvSpPr>
          <p:spPr>
            <a:xfrm flipV="1">
              <a:off x="7464600" y="5466960"/>
              <a:ext cx="1440" cy="34920"/>
            </a:xfrm>
            <a:prstGeom prst="line">
              <a:avLst/>
            </a:prstGeom>
            <a:ln w="1764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1261" name=""/>
            <p:cNvSpPr/>
            <p:nvPr/>
          </p:nvSpPr>
          <p:spPr>
            <a:xfrm>
              <a:off x="7464600" y="2752560"/>
              <a:ext cx="1440" cy="32040"/>
            </a:xfrm>
            <a:prstGeom prst="line">
              <a:avLst/>
            </a:prstGeom>
            <a:ln w="1764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1262" name=""/>
            <p:cNvSpPr/>
            <p:nvPr/>
          </p:nvSpPr>
          <p:spPr>
            <a:xfrm>
              <a:off x="7375680" y="554508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1263" name=""/>
            <p:cNvSpPr/>
            <p:nvPr/>
          </p:nvSpPr>
          <p:spPr>
            <a:xfrm flipV="1">
              <a:off x="8061480" y="5466960"/>
              <a:ext cx="1440" cy="34920"/>
            </a:xfrm>
            <a:prstGeom prst="line">
              <a:avLst/>
            </a:prstGeom>
            <a:ln w="1764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1264" name=""/>
            <p:cNvSpPr/>
            <p:nvPr/>
          </p:nvSpPr>
          <p:spPr>
            <a:xfrm>
              <a:off x="8061480" y="2752560"/>
              <a:ext cx="1440" cy="32040"/>
            </a:xfrm>
            <a:prstGeom prst="line">
              <a:avLst/>
            </a:prstGeom>
            <a:ln w="1764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1265" name=""/>
            <p:cNvSpPr/>
            <p:nvPr/>
          </p:nvSpPr>
          <p:spPr>
            <a:xfrm>
              <a:off x="7974000" y="554508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0</a:t>
              </a:r>
              <a:endParaRPr b="0" lang="en-US" sz="1700" spc="-1" strike="noStrike">
                <a:solidFill>
                  <a:srgbClr val="333333"/>
                </a:solidFill>
                <a:latin typeface="Times New Roman"/>
              </a:endParaRPr>
            </a:p>
          </p:txBody>
        </p:sp>
        <p:sp>
          <p:nvSpPr>
            <p:cNvPr id="1266" name=""/>
            <p:cNvSpPr/>
            <p:nvPr/>
          </p:nvSpPr>
          <p:spPr>
            <a:xfrm flipV="1">
              <a:off x="8647200" y="5466960"/>
              <a:ext cx="0" cy="34920"/>
            </a:xfrm>
            <a:prstGeom prst="line">
              <a:avLst/>
            </a:prstGeom>
            <a:ln w="17640">
              <a:solidFill>
                <a:srgbClr val="004c2b"/>
              </a:solidFill>
              <a:miter/>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1267" name=""/>
            <p:cNvSpPr/>
            <p:nvPr/>
          </p:nvSpPr>
          <p:spPr>
            <a:xfrm>
              <a:off x="8647200" y="2752560"/>
              <a:ext cx="0" cy="32040"/>
            </a:xfrm>
            <a:prstGeom prst="line">
              <a:avLst/>
            </a:prstGeom>
            <a:ln w="17640">
              <a:solidFill>
                <a:srgbClr val="004c2b"/>
              </a:solidFill>
              <a:miter/>
            </a:ln>
          </p:spPr>
          <p:style>
            <a:lnRef idx="0"/>
            <a:fillRef idx="0"/>
            <a:effectRef idx="0"/>
            <a:fontRef idx="minor"/>
          </p:style>
          <p:txBody>
            <a:bodyPr lIns="90000" rIns="90000" tIns="-14760" bIns="-14760" anchor="t">
              <a:noAutofit/>
            </a:bodyPr>
            <a:p>
              <a:endParaRPr b="0" lang="en-US" sz="2400" spc="-1" strike="noStrike">
                <a:solidFill>
                  <a:srgbClr val="333333"/>
                </a:solidFill>
                <a:latin typeface="Times New Roman"/>
              </a:endParaRPr>
            </a:p>
          </p:txBody>
        </p:sp>
        <p:sp>
          <p:nvSpPr>
            <p:cNvPr id="1268" name=""/>
            <p:cNvSpPr/>
            <p:nvPr/>
          </p:nvSpPr>
          <p:spPr>
            <a:xfrm>
              <a:off x="8558280" y="5545080"/>
              <a:ext cx="241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25</a:t>
              </a:r>
              <a:endParaRPr b="0" lang="en-US" sz="1700" spc="-1" strike="noStrike">
                <a:solidFill>
                  <a:srgbClr val="333333"/>
                </a:solidFill>
                <a:latin typeface="Times New Roman"/>
              </a:endParaRPr>
            </a:p>
          </p:txBody>
        </p:sp>
        <p:sp>
          <p:nvSpPr>
            <p:cNvPr id="1269" name=""/>
            <p:cNvSpPr/>
            <p:nvPr/>
          </p:nvSpPr>
          <p:spPr>
            <a:xfrm>
              <a:off x="5686560" y="5502240"/>
              <a:ext cx="3168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70" name=""/>
            <p:cNvSpPr/>
            <p:nvPr/>
          </p:nvSpPr>
          <p:spPr>
            <a:xfrm flipH="1">
              <a:off x="8852040" y="5502240"/>
              <a:ext cx="3312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71" name=""/>
            <p:cNvSpPr/>
            <p:nvPr/>
          </p:nvSpPr>
          <p:spPr>
            <a:xfrm>
              <a:off x="5184720" y="541188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1272" name=""/>
            <p:cNvSpPr/>
            <p:nvPr/>
          </p:nvSpPr>
          <p:spPr>
            <a:xfrm>
              <a:off x="5686560" y="5040360"/>
              <a:ext cx="31680" cy="1440"/>
            </a:xfrm>
            <a:prstGeom prst="line">
              <a:avLst/>
            </a:prstGeom>
            <a:ln w="12600">
              <a:solidFill>
                <a:srgbClr val="333333"/>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273" name=""/>
            <p:cNvSpPr/>
            <p:nvPr/>
          </p:nvSpPr>
          <p:spPr>
            <a:xfrm flipH="1">
              <a:off x="8852040" y="5040360"/>
              <a:ext cx="331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274" name=""/>
            <p:cNvSpPr/>
            <p:nvPr/>
          </p:nvSpPr>
          <p:spPr>
            <a:xfrm>
              <a:off x="5348160" y="4954680"/>
              <a:ext cx="19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1275" name=""/>
            <p:cNvSpPr/>
            <p:nvPr/>
          </p:nvSpPr>
          <p:spPr>
            <a:xfrm>
              <a:off x="5686560" y="4579920"/>
              <a:ext cx="3168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276" name=""/>
            <p:cNvSpPr/>
            <p:nvPr/>
          </p:nvSpPr>
          <p:spPr>
            <a:xfrm flipH="1">
              <a:off x="8852040" y="4579920"/>
              <a:ext cx="331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277" name=""/>
            <p:cNvSpPr/>
            <p:nvPr/>
          </p:nvSpPr>
          <p:spPr>
            <a:xfrm>
              <a:off x="5184720" y="449280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1278" name=""/>
            <p:cNvSpPr/>
            <p:nvPr/>
          </p:nvSpPr>
          <p:spPr>
            <a:xfrm>
              <a:off x="5686560" y="4132440"/>
              <a:ext cx="3168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279" name=""/>
            <p:cNvSpPr/>
            <p:nvPr/>
          </p:nvSpPr>
          <p:spPr>
            <a:xfrm>
              <a:off x="5415120" y="40449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a:t>
              </a:r>
              <a:endParaRPr b="0" lang="en-US" sz="1700" spc="-1" strike="noStrike">
                <a:solidFill>
                  <a:srgbClr val="333333"/>
                </a:solidFill>
                <a:latin typeface="Times New Roman"/>
              </a:endParaRPr>
            </a:p>
          </p:txBody>
        </p:sp>
        <p:sp>
          <p:nvSpPr>
            <p:cNvPr id="1280" name=""/>
            <p:cNvSpPr/>
            <p:nvPr/>
          </p:nvSpPr>
          <p:spPr>
            <a:xfrm>
              <a:off x="5686560" y="3672000"/>
              <a:ext cx="3168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281" name=""/>
            <p:cNvSpPr/>
            <p:nvPr/>
          </p:nvSpPr>
          <p:spPr>
            <a:xfrm flipH="1">
              <a:off x="8852040" y="3672000"/>
              <a:ext cx="331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282" name=""/>
            <p:cNvSpPr/>
            <p:nvPr/>
          </p:nvSpPr>
          <p:spPr>
            <a:xfrm>
              <a:off x="5254920" y="358452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0.5</a:t>
              </a:r>
              <a:endParaRPr b="0" lang="en-US" sz="1700" spc="-1" strike="noStrike">
                <a:solidFill>
                  <a:srgbClr val="333333"/>
                </a:solidFill>
                <a:latin typeface="Times New Roman"/>
              </a:endParaRPr>
            </a:p>
          </p:txBody>
        </p:sp>
        <p:sp>
          <p:nvSpPr>
            <p:cNvPr id="1283" name=""/>
            <p:cNvSpPr/>
            <p:nvPr/>
          </p:nvSpPr>
          <p:spPr>
            <a:xfrm>
              <a:off x="5686560" y="3211560"/>
              <a:ext cx="3168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284" name=""/>
            <p:cNvSpPr/>
            <p:nvPr/>
          </p:nvSpPr>
          <p:spPr>
            <a:xfrm flipH="1">
              <a:off x="8852040" y="3211560"/>
              <a:ext cx="33120" cy="1440"/>
            </a:xfrm>
            <a:prstGeom prst="line">
              <a:avLst/>
            </a:prstGeom>
            <a:ln w="17640">
              <a:solidFill>
                <a:srgbClr val="004c2b"/>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285" name=""/>
            <p:cNvSpPr/>
            <p:nvPr/>
          </p:nvSpPr>
          <p:spPr>
            <a:xfrm>
              <a:off x="5415120" y="31226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a:t>
              </a:r>
              <a:endParaRPr b="0" lang="en-US" sz="1700" spc="-1" strike="noStrike">
                <a:solidFill>
                  <a:srgbClr val="333333"/>
                </a:solidFill>
                <a:latin typeface="Times New Roman"/>
              </a:endParaRPr>
            </a:p>
          </p:txBody>
        </p:sp>
        <p:sp>
          <p:nvSpPr>
            <p:cNvPr id="1286" name=""/>
            <p:cNvSpPr/>
            <p:nvPr/>
          </p:nvSpPr>
          <p:spPr>
            <a:xfrm>
              <a:off x="5686560" y="2752560"/>
              <a:ext cx="3168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87" name=""/>
            <p:cNvSpPr/>
            <p:nvPr/>
          </p:nvSpPr>
          <p:spPr>
            <a:xfrm flipH="1">
              <a:off x="8852040" y="2752560"/>
              <a:ext cx="3312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88" name=""/>
            <p:cNvSpPr/>
            <p:nvPr/>
          </p:nvSpPr>
          <p:spPr>
            <a:xfrm>
              <a:off x="5254920" y="2664000"/>
              <a:ext cx="30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1.5</a:t>
              </a:r>
              <a:endParaRPr b="0" lang="en-US" sz="1700" spc="-1" strike="noStrike">
                <a:solidFill>
                  <a:srgbClr val="333333"/>
                </a:solidFill>
                <a:latin typeface="Times New Roman"/>
              </a:endParaRPr>
            </a:p>
          </p:txBody>
        </p:sp>
        <p:sp>
          <p:nvSpPr>
            <p:cNvPr id="1289" name=""/>
            <p:cNvSpPr/>
            <p:nvPr/>
          </p:nvSpPr>
          <p:spPr>
            <a:xfrm>
              <a:off x="5686560" y="2752560"/>
              <a:ext cx="3198600" cy="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90" name=""/>
            <p:cNvSpPr/>
            <p:nvPr/>
          </p:nvSpPr>
          <p:spPr>
            <a:xfrm flipV="1">
              <a:off x="8885160" y="2752560"/>
              <a:ext cx="0" cy="2749680"/>
            </a:xfrm>
            <a:prstGeom prst="line">
              <a:avLst/>
            </a:prstGeom>
            <a:ln w="17640">
              <a:solidFill>
                <a:srgbClr val="004c2b"/>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91" name=""/>
            <p:cNvSpPr/>
            <p:nvPr/>
          </p:nvSpPr>
          <p:spPr>
            <a:xfrm>
              <a:off x="7256160" y="5819760"/>
              <a:ext cx="109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k</a:t>
              </a:r>
              <a:endParaRPr b="0" lang="en-US" sz="1700" spc="-1" strike="noStrike">
                <a:solidFill>
                  <a:srgbClr val="333333"/>
                </a:solidFill>
                <a:latin typeface="Times New Roman"/>
              </a:endParaRPr>
            </a:p>
          </p:txBody>
        </p:sp>
        <p:sp>
          <p:nvSpPr>
            <p:cNvPr id="1292" name=""/>
            <p:cNvSpPr/>
            <p:nvPr/>
          </p:nvSpPr>
          <p:spPr>
            <a:xfrm rot="16200000">
              <a:off x="4980600" y="3973680"/>
              <a:ext cx="372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333333"/>
                  </a:solidFill>
                  <a:latin typeface="Arial"/>
                </a:rPr>
                <a:t>u(k)</a:t>
              </a:r>
              <a:endParaRPr b="0" lang="en-US" sz="1700" spc="-1" strike="noStrike">
                <a:solidFill>
                  <a:srgbClr val="333333"/>
                </a:solidFill>
                <a:latin typeface="Times New Roman"/>
              </a:endParaRPr>
            </a:p>
          </p:txBody>
        </p:sp>
        <p:sp>
          <p:nvSpPr>
            <p:cNvPr id="1293" name=""/>
            <p:cNvSpPr/>
            <p:nvPr/>
          </p:nvSpPr>
          <p:spPr>
            <a:xfrm>
              <a:off x="565308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294" name=""/>
            <p:cNvSpPr/>
            <p:nvPr/>
          </p:nvSpPr>
          <p:spPr>
            <a:xfrm>
              <a:off x="5686560" y="5040360"/>
              <a:ext cx="118800" cy="1440"/>
            </a:xfrm>
            <a:prstGeom prst="line">
              <a:avLst/>
            </a:prstGeom>
            <a:ln w="12600">
              <a:solidFill>
                <a:srgbClr val="333333"/>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295" name=""/>
            <p:cNvSpPr/>
            <p:nvPr/>
          </p:nvSpPr>
          <p:spPr>
            <a:xfrm>
              <a:off x="565308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296" name=""/>
            <p:cNvSpPr/>
            <p:nvPr/>
          </p:nvSpPr>
          <p:spPr>
            <a:xfrm>
              <a:off x="577224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297" name=""/>
            <p:cNvSpPr/>
            <p:nvPr/>
          </p:nvSpPr>
          <p:spPr>
            <a:xfrm>
              <a:off x="5686560" y="5040360"/>
              <a:ext cx="237960" cy="1440"/>
            </a:xfrm>
            <a:custGeom>
              <a:avLst/>
              <a:gdLst/>
              <a:ahLst/>
              <a:rect l="l" t="t" r="r" b="b"/>
              <a:pathLst>
                <a:path w="249" h="0">
                  <a:moveTo>
                    <a:pt x="0" y="0"/>
                  </a:moveTo>
                  <a:lnTo>
                    <a:pt x="124" y="0"/>
                  </a:lnTo>
                  <a:lnTo>
                    <a:pt x="249" y="0"/>
                  </a:lnTo>
                </a:path>
              </a:pathLst>
            </a:custGeom>
            <a:solidFill>
              <a:srgbClr val="ff3300"/>
            </a:solidFill>
            <a:ln w="12600">
              <a:solidFill>
                <a:srgbClr val="333333"/>
              </a:solidFill>
              <a:round/>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298" name=""/>
            <p:cNvSpPr/>
            <p:nvPr/>
          </p:nvSpPr>
          <p:spPr>
            <a:xfrm>
              <a:off x="565308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299" name=""/>
            <p:cNvSpPr/>
            <p:nvPr/>
          </p:nvSpPr>
          <p:spPr>
            <a:xfrm>
              <a:off x="577224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00" name=""/>
            <p:cNvSpPr/>
            <p:nvPr/>
          </p:nvSpPr>
          <p:spPr>
            <a:xfrm>
              <a:off x="5891040" y="5008680"/>
              <a:ext cx="763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01" name=""/>
            <p:cNvSpPr/>
            <p:nvPr/>
          </p:nvSpPr>
          <p:spPr>
            <a:xfrm>
              <a:off x="5686560" y="4986360"/>
              <a:ext cx="355320" cy="54000"/>
            </a:xfrm>
            <a:custGeom>
              <a:avLst/>
              <a:gdLst/>
              <a:ahLst/>
              <a:rect l="l" t="t" r="r" b="b"/>
              <a:pathLst>
                <a:path w="373" h="56">
                  <a:moveTo>
                    <a:pt x="0" y="56"/>
                  </a:moveTo>
                  <a:lnTo>
                    <a:pt x="124" y="56"/>
                  </a:lnTo>
                  <a:lnTo>
                    <a:pt x="249" y="56"/>
                  </a:lnTo>
                  <a:lnTo>
                    <a:pt x="373" y="0"/>
                  </a:lnTo>
                </a:path>
              </a:pathLst>
            </a:custGeom>
            <a:solidFill>
              <a:srgbClr val="ff3300"/>
            </a:solidFill>
            <a:ln w="12600">
              <a:solidFill>
                <a:srgbClr val="333333"/>
              </a:solidFill>
              <a:round/>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302" name=""/>
            <p:cNvSpPr/>
            <p:nvPr/>
          </p:nvSpPr>
          <p:spPr>
            <a:xfrm>
              <a:off x="565308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03" name=""/>
            <p:cNvSpPr/>
            <p:nvPr/>
          </p:nvSpPr>
          <p:spPr>
            <a:xfrm>
              <a:off x="577224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04" name=""/>
            <p:cNvSpPr/>
            <p:nvPr/>
          </p:nvSpPr>
          <p:spPr>
            <a:xfrm>
              <a:off x="5891040" y="5008680"/>
              <a:ext cx="763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05" name=""/>
            <p:cNvSpPr/>
            <p:nvPr/>
          </p:nvSpPr>
          <p:spPr>
            <a:xfrm>
              <a:off x="6012000" y="4954680"/>
              <a:ext cx="74520" cy="74520"/>
            </a:xfrm>
            <a:prstGeom prst="ellipse">
              <a:avLst/>
            </a:prstGeom>
            <a:solidFill>
              <a:srgbClr val="ff3300"/>
            </a:solidFill>
            <a:ln w="1260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306" name=""/>
            <p:cNvSpPr/>
            <p:nvPr/>
          </p:nvSpPr>
          <p:spPr>
            <a:xfrm>
              <a:off x="5686560" y="4284720"/>
              <a:ext cx="476280" cy="755640"/>
            </a:xfrm>
            <a:custGeom>
              <a:avLst/>
              <a:gdLst/>
              <a:ahLst/>
              <a:rect l="l" t="t" r="r" b="b"/>
              <a:pathLst>
                <a:path w="498" h="782">
                  <a:moveTo>
                    <a:pt x="0" y="782"/>
                  </a:moveTo>
                  <a:lnTo>
                    <a:pt x="124" y="782"/>
                  </a:lnTo>
                  <a:lnTo>
                    <a:pt x="249" y="782"/>
                  </a:lnTo>
                  <a:lnTo>
                    <a:pt x="373" y="726"/>
                  </a:lnTo>
                  <a:lnTo>
                    <a:pt x="498"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07" name=""/>
            <p:cNvSpPr/>
            <p:nvPr/>
          </p:nvSpPr>
          <p:spPr>
            <a:xfrm>
              <a:off x="565308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08" name=""/>
            <p:cNvSpPr/>
            <p:nvPr/>
          </p:nvSpPr>
          <p:spPr>
            <a:xfrm>
              <a:off x="577224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09" name=""/>
            <p:cNvSpPr/>
            <p:nvPr/>
          </p:nvSpPr>
          <p:spPr>
            <a:xfrm>
              <a:off x="5891040" y="5008680"/>
              <a:ext cx="763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10" name=""/>
            <p:cNvSpPr/>
            <p:nvPr/>
          </p:nvSpPr>
          <p:spPr>
            <a:xfrm>
              <a:off x="6012000" y="4954680"/>
              <a:ext cx="74520" cy="74520"/>
            </a:xfrm>
            <a:prstGeom prst="ellipse">
              <a:avLst/>
            </a:prstGeom>
            <a:solidFill>
              <a:srgbClr val="ff3300"/>
            </a:solidFill>
            <a:ln w="1260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311" name=""/>
            <p:cNvSpPr/>
            <p:nvPr/>
          </p:nvSpPr>
          <p:spPr>
            <a:xfrm>
              <a:off x="6130800" y="4251240"/>
              <a:ext cx="76320" cy="77760"/>
            </a:xfrm>
            <a:prstGeom prst="ellipse">
              <a:avLst/>
            </a:prstGeom>
            <a:noFill/>
            <a:ln w="176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1312" name=""/>
            <p:cNvSpPr/>
            <p:nvPr/>
          </p:nvSpPr>
          <p:spPr>
            <a:xfrm>
              <a:off x="5686560" y="4022640"/>
              <a:ext cx="596880" cy="1017720"/>
            </a:xfrm>
            <a:custGeom>
              <a:avLst/>
              <a:gdLst/>
              <a:ahLst/>
              <a:rect l="l" t="t" r="r" b="b"/>
              <a:pathLst>
                <a:path w="622" h="1054">
                  <a:moveTo>
                    <a:pt x="0" y="1054"/>
                  </a:moveTo>
                  <a:lnTo>
                    <a:pt x="124" y="1054"/>
                  </a:lnTo>
                  <a:lnTo>
                    <a:pt x="249" y="1054"/>
                  </a:lnTo>
                  <a:lnTo>
                    <a:pt x="373" y="998"/>
                  </a:lnTo>
                  <a:lnTo>
                    <a:pt x="498" y="272"/>
                  </a:lnTo>
                  <a:lnTo>
                    <a:pt x="622"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13" name=""/>
            <p:cNvSpPr/>
            <p:nvPr/>
          </p:nvSpPr>
          <p:spPr>
            <a:xfrm>
              <a:off x="565308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14" name=""/>
            <p:cNvSpPr/>
            <p:nvPr/>
          </p:nvSpPr>
          <p:spPr>
            <a:xfrm>
              <a:off x="577224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15" name=""/>
            <p:cNvSpPr/>
            <p:nvPr/>
          </p:nvSpPr>
          <p:spPr>
            <a:xfrm>
              <a:off x="5891040" y="5008680"/>
              <a:ext cx="763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16" name=""/>
            <p:cNvSpPr/>
            <p:nvPr/>
          </p:nvSpPr>
          <p:spPr>
            <a:xfrm>
              <a:off x="6012000" y="4954680"/>
              <a:ext cx="74520" cy="74520"/>
            </a:xfrm>
            <a:prstGeom prst="ellipse">
              <a:avLst/>
            </a:prstGeom>
            <a:solidFill>
              <a:srgbClr val="ff3300"/>
            </a:solidFill>
            <a:ln w="1260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317" name=""/>
            <p:cNvSpPr/>
            <p:nvPr/>
          </p:nvSpPr>
          <p:spPr>
            <a:xfrm>
              <a:off x="6130800" y="4251240"/>
              <a:ext cx="76320" cy="77760"/>
            </a:xfrm>
            <a:prstGeom prst="ellipse">
              <a:avLst/>
            </a:prstGeom>
            <a:noFill/>
            <a:ln w="176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1318" name=""/>
            <p:cNvSpPr/>
            <p:nvPr/>
          </p:nvSpPr>
          <p:spPr>
            <a:xfrm>
              <a:off x="6248520" y="3987720"/>
              <a:ext cx="77760" cy="79560"/>
            </a:xfrm>
            <a:prstGeom prst="ellipse">
              <a:avLst/>
            </a:prstGeom>
            <a:noFill/>
            <a:ln w="1260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19" name=""/>
            <p:cNvSpPr/>
            <p:nvPr/>
          </p:nvSpPr>
          <p:spPr>
            <a:xfrm>
              <a:off x="5686560" y="3956040"/>
              <a:ext cx="714240" cy="1084320"/>
            </a:xfrm>
            <a:custGeom>
              <a:avLst/>
              <a:gdLst/>
              <a:ahLst/>
              <a:rect l="l" t="t" r="r" b="b"/>
              <a:pathLst>
                <a:path w="747" h="1122">
                  <a:moveTo>
                    <a:pt x="0" y="1122"/>
                  </a:moveTo>
                  <a:lnTo>
                    <a:pt x="124" y="1122"/>
                  </a:lnTo>
                  <a:lnTo>
                    <a:pt x="249" y="1122"/>
                  </a:lnTo>
                  <a:lnTo>
                    <a:pt x="373" y="1066"/>
                  </a:lnTo>
                  <a:lnTo>
                    <a:pt x="498" y="340"/>
                  </a:lnTo>
                  <a:lnTo>
                    <a:pt x="622" y="68"/>
                  </a:lnTo>
                  <a:lnTo>
                    <a:pt x="74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20" name=""/>
            <p:cNvSpPr/>
            <p:nvPr/>
          </p:nvSpPr>
          <p:spPr>
            <a:xfrm>
              <a:off x="565308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21" name=""/>
            <p:cNvSpPr/>
            <p:nvPr/>
          </p:nvSpPr>
          <p:spPr>
            <a:xfrm>
              <a:off x="577224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22" name=""/>
            <p:cNvSpPr/>
            <p:nvPr/>
          </p:nvSpPr>
          <p:spPr>
            <a:xfrm>
              <a:off x="5891040" y="5008680"/>
              <a:ext cx="763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23" name=""/>
            <p:cNvSpPr/>
            <p:nvPr/>
          </p:nvSpPr>
          <p:spPr>
            <a:xfrm>
              <a:off x="6012000" y="4954680"/>
              <a:ext cx="74520" cy="74520"/>
            </a:xfrm>
            <a:prstGeom prst="ellipse">
              <a:avLst/>
            </a:prstGeom>
            <a:solidFill>
              <a:srgbClr val="ff3300"/>
            </a:solidFill>
            <a:ln w="1260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324" name=""/>
            <p:cNvSpPr/>
            <p:nvPr/>
          </p:nvSpPr>
          <p:spPr>
            <a:xfrm>
              <a:off x="6130800" y="4251240"/>
              <a:ext cx="76320" cy="77760"/>
            </a:xfrm>
            <a:prstGeom prst="ellipse">
              <a:avLst/>
            </a:prstGeom>
            <a:noFill/>
            <a:ln w="176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1325" name=""/>
            <p:cNvSpPr/>
            <p:nvPr/>
          </p:nvSpPr>
          <p:spPr>
            <a:xfrm>
              <a:off x="6248520" y="3987720"/>
              <a:ext cx="77760" cy="79560"/>
            </a:xfrm>
            <a:prstGeom prst="ellipse">
              <a:avLst/>
            </a:prstGeom>
            <a:noFill/>
            <a:ln w="1260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26" name=""/>
            <p:cNvSpPr/>
            <p:nvPr/>
          </p:nvSpPr>
          <p:spPr>
            <a:xfrm>
              <a:off x="6369120" y="3924360"/>
              <a:ext cx="74520" cy="76320"/>
            </a:xfrm>
            <a:prstGeom prst="ellipse">
              <a:avLst/>
            </a:prstGeom>
            <a:noFill/>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327" name=""/>
            <p:cNvSpPr/>
            <p:nvPr/>
          </p:nvSpPr>
          <p:spPr>
            <a:xfrm>
              <a:off x="5686560" y="3956040"/>
              <a:ext cx="823680" cy="1084320"/>
            </a:xfrm>
            <a:custGeom>
              <a:avLst/>
              <a:gdLst/>
              <a:ahLst/>
              <a:rect l="l" t="t" r="r" b="b"/>
              <a:pathLst>
                <a:path w="860" h="1122">
                  <a:moveTo>
                    <a:pt x="0" y="1122"/>
                  </a:moveTo>
                  <a:lnTo>
                    <a:pt x="124" y="1122"/>
                  </a:lnTo>
                  <a:lnTo>
                    <a:pt x="249" y="1122"/>
                  </a:lnTo>
                  <a:lnTo>
                    <a:pt x="373" y="1066"/>
                  </a:lnTo>
                  <a:lnTo>
                    <a:pt x="498" y="340"/>
                  </a:lnTo>
                  <a:lnTo>
                    <a:pt x="622" y="68"/>
                  </a:lnTo>
                  <a:lnTo>
                    <a:pt x="747" y="0"/>
                  </a:lnTo>
                  <a:lnTo>
                    <a:pt x="860" y="1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28" name=""/>
            <p:cNvSpPr/>
            <p:nvPr/>
          </p:nvSpPr>
          <p:spPr>
            <a:xfrm>
              <a:off x="565308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29" name=""/>
            <p:cNvSpPr/>
            <p:nvPr/>
          </p:nvSpPr>
          <p:spPr>
            <a:xfrm>
              <a:off x="577224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30" name=""/>
            <p:cNvSpPr/>
            <p:nvPr/>
          </p:nvSpPr>
          <p:spPr>
            <a:xfrm>
              <a:off x="5891040" y="5008680"/>
              <a:ext cx="763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31" name=""/>
            <p:cNvSpPr/>
            <p:nvPr/>
          </p:nvSpPr>
          <p:spPr>
            <a:xfrm>
              <a:off x="6012000" y="4954680"/>
              <a:ext cx="74520" cy="74520"/>
            </a:xfrm>
            <a:prstGeom prst="ellipse">
              <a:avLst/>
            </a:prstGeom>
            <a:solidFill>
              <a:srgbClr val="ff3300"/>
            </a:solidFill>
            <a:ln w="1260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332" name=""/>
            <p:cNvSpPr/>
            <p:nvPr/>
          </p:nvSpPr>
          <p:spPr>
            <a:xfrm>
              <a:off x="6130800" y="4251240"/>
              <a:ext cx="76320" cy="77760"/>
            </a:xfrm>
            <a:prstGeom prst="ellipse">
              <a:avLst/>
            </a:prstGeom>
            <a:noFill/>
            <a:ln w="176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1333" name=""/>
            <p:cNvSpPr/>
            <p:nvPr/>
          </p:nvSpPr>
          <p:spPr>
            <a:xfrm>
              <a:off x="6248520" y="3987720"/>
              <a:ext cx="77760" cy="79560"/>
            </a:xfrm>
            <a:prstGeom prst="ellipse">
              <a:avLst/>
            </a:prstGeom>
            <a:noFill/>
            <a:ln w="1260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34" name=""/>
            <p:cNvSpPr/>
            <p:nvPr/>
          </p:nvSpPr>
          <p:spPr>
            <a:xfrm>
              <a:off x="6369120" y="3924360"/>
              <a:ext cx="74520" cy="76320"/>
            </a:xfrm>
            <a:prstGeom prst="ellipse">
              <a:avLst/>
            </a:prstGeom>
            <a:noFill/>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335" name=""/>
            <p:cNvSpPr/>
            <p:nvPr/>
          </p:nvSpPr>
          <p:spPr>
            <a:xfrm>
              <a:off x="6477120" y="3935520"/>
              <a:ext cx="75960" cy="74520"/>
            </a:xfrm>
            <a:prstGeom prst="ellipse">
              <a:avLst/>
            </a:prstGeom>
            <a:noFill/>
            <a:ln w="126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336" name=""/>
            <p:cNvSpPr/>
            <p:nvPr/>
          </p:nvSpPr>
          <p:spPr>
            <a:xfrm>
              <a:off x="5686560" y="3956040"/>
              <a:ext cx="941400" cy="1084320"/>
            </a:xfrm>
            <a:custGeom>
              <a:avLst/>
              <a:gdLst/>
              <a:ahLst/>
              <a:rect l="l" t="t" r="r" b="b"/>
              <a:pathLst>
                <a:path w="984" h="1122">
                  <a:moveTo>
                    <a:pt x="0" y="1122"/>
                  </a:moveTo>
                  <a:lnTo>
                    <a:pt x="124" y="1122"/>
                  </a:lnTo>
                  <a:lnTo>
                    <a:pt x="249" y="1122"/>
                  </a:lnTo>
                  <a:lnTo>
                    <a:pt x="373" y="1066"/>
                  </a:lnTo>
                  <a:lnTo>
                    <a:pt x="498" y="340"/>
                  </a:lnTo>
                  <a:lnTo>
                    <a:pt x="622" y="68"/>
                  </a:lnTo>
                  <a:lnTo>
                    <a:pt x="747" y="0"/>
                  </a:lnTo>
                  <a:lnTo>
                    <a:pt x="860" y="12"/>
                  </a:lnTo>
                  <a:lnTo>
                    <a:pt x="984" y="4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37" name=""/>
            <p:cNvSpPr/>
            <p:nvPr/>
          </p:nvSpPr>
          <p:spPr>
            <a:xfrm>
              <a:off x="565308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38" name=""/>
            <p:cNvSpPr/>
            <p:nvPr/>
          </p:nvSpPr>
          <p:spPr>
            <a:xfrm>
              <a:off x="577224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39" name=""/>
            <p:cNvSpPr/>
            <p:nvPr/>
          </p:nvSpPr>
          <p:spPr>
            <a:xfrm>
              <a:off x="5891040" y="5008680"/>
              <a:ext cx="763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40" name=""/>
            <p:cNvSpPr/>
            <p:nvPr/>
          </p:nvSpPr>
          <p:spPr>
            <a:xfrm>
              <a:off x="6012000" y="4954680"/>
              <a:ext cx="74520" cy="74520"/>
            </a:xfrm>
            <a:prstGeom prst="ellipse">
              <a:avLst/>
            </a:prstGeom>
            <a:solidFill>
              <a:srgbClr val="ff3300"/>
            </a:solidFill>
            <a:ln w="1260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341" name=""/>
            <p:cNvSpPr/>
            <p:nvPr/>
          </p:nvSpPr>
          <p:spPr>
            <a:xfrm>
              <a:off x="6130800" y="4251240"/>
              <a:ext cx="76320" cy="77760"/>
            </a:xfrm>
            <a:prstGeom prst="ellipse">
              <a:avLst/>
            </a:prstGeom>
            <a:noFill/>
            <a:ln w="176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1342" name=""/>
            <p:cNvSpPr/>
            <p:nvPr/>
          </p:nvSpPr>
          <p:spPr>
            <a:xfrm>
              <a:off x="6248520" y="3987720"/>
              <a:ext cx="77760" cy="79560"/>
            </a:xfrm>
            <a:prstGeom prst="ellipse">
              <a:avLst/>
            </a:prstGeom>
            <a:noFill/>
            <a:ln w="1260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43" name=""/>
            <p:cNvSpPr/>
            <p:nvPr/>
          </p:nvSpPr>
          <p:spPr>
            <a:xfrm>
              <a:off x="6369120" y="3924360"/>
              <a:ext cx="74520" cy="76320"/>
            </a:xfrm>
            <a:prstGeom prst="ellipse">
              <a:avLst/>
            </a:prstGeom>
            <a:noFill/>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344" name=""/>
            <p:cNvSpPr/>
            <p:nvPr/>
          </p:nvSpPr>
          <p:spPr>
            <a:xfrm>
              <a:off x="6477120" y="3935520"/>
              <a:ext cx="75960" cy="74520"/>
            </a:xfrm>
            <a:prstGeom prst="ellipse">
              <a:avLst/>
            </a:prstGeom>
            <a:noFill/>
            <a:ln w="126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345" name=""/>
            <p:cNvSpPr/>
            <p:nvPr/>
          </p:nvSpPr>
          <p:spPr>
            <a:xfrm>
              <a:off x="6597720" y="3968640"/>
              <a:ext cx="74520" cy="76320"/>
            </a:xfrm>
            <a:prstGeom prst="ellipse">
              <a:avLst/>
            </a:prstGeom>
            <a:noFill/>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346" name=""/>
            <p:cNvSpPr/>
            <p:nvPr/>
          </p:nvSpPr>
          <p:spPr>
            <a:xfrm>
              <a:off x="5686560" y="3956040"/>
              <a:ext cx="3235320" cy="1084320"/>
            </a:xfrm>
            <a:custGeom>
              <a:avLst/>
              <a:gdLst/>
              <a:ahLst/>
              <a:rect l="l" t="t" r="r" b="b"/>
              <a:pathLst>
                <a:path w="3463" h="1122">
                  <a:moveTo>
                    <a:pt x="0" y="1122"/>
                  </a:moveTo>
                  <a:lnTo>
                    <a:pt x="124" y="1122"/>
                  </a:lnTo>
                  <a:lnTo>
                    <a:pt x="249" y="1122"/>
                  </a:lnTo>
                  <a:lnTo>
                    <a:pt x="373" y="1066"/>
                  </a:lnTo>
                  <a:lnTo>
                    <a:pt x="498" y="340"/>
                  </a:lnTo>
                  <a:lnTo>
                    <a:pt x="622" y="68"/>
                  </a:lnTo>
                  <a:lnTo>
                    <a:pt x="747" y="0"/>
                  </a:lnTo>
                  <a:lnTo>
                    <a:pt x="860" y="12"/>
                  </a:lnTo>
                  <a:lnTo>
                    <a:pt x="984" y="46"/>
                  </a:lnTo>
                  <a:lnTo>
                    <a:pt x="1109" y="80"/>
                  </a:lnTo>
                  <a:lnTo>
                    <a:pt x="1233" y="102"/>
                  </a:lnTo>
                  <a:lnTo>
                    <a:pt x="1358" y="125"/>
                  </a:lnTo>
                  <a:lnTo>
                    <a:pt x="1482" y="148"/>
                  </a:lnTo>
                  <a:lnTo>
                    <a:pt x="1607" y="159"/>
                  </a:lnTo>
                  <a:lnTo>
                    <a:pt x="1731" y="159"/>
                  </a:lnTo>
                  <a:lnTo>
                    <a:pt x="1856" y="170"/>
                  </a:lnTo>
                  <a:lnTo>
                    <a:pt x="1980" y="170"/>
                  </a:lnTo>
                  <a:lnTo>
                    <a:pt x="2105" y="170"/>
                  </a:lnTo>
                  <a:lnTo>
                    <a:pt x="2230" y="170"/>
                  </a:lnTo>
                  <a:lnTo>
                    <a:pt x="2354" y="170"/>
                  </a:lnTo>
                  <a:lnTo>
                    <a:pt x="2479" y="170"/>
                  </a:lnTo>
                  <a:lnTo>
                    <a:pt x="2592" y="170"/>
                  </a:lnTo>
                  <a:lnTo>
                    <a:pt x="2716" y="170"/>
                  </a:lnTo>
                  <a:lnTo>
                    <a:pt x="2841" y="170"/>
                  </a:lnTo>
                  <a:lnTo>
                    <a:pt x="2965" y="170"/>
                  </a:lnTo>
                  <a:lnTo>
                    <a:pt x="3090" y="170"/>
                  </a:lnTo>
                  <a:lnTo>
                    <a:pt x="3214" y="170"/>
                  </a:lnTo>
                  <a:lnTo>
                    <a:pt x="3339" y="170"/>
                  </a:lnTo>
                  <a:lnTo>
                    <a:pt x="3463" y="170"/>
                  </a:lnTo>
                </a:path>
              </a:pathLst>
            </a:custGeom>
            <a:noFill/>
            <a:ln w="1764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47" name=""/>
            <p:cNvSpPr/>
            <p:nvPr/>
          </p:nvSpPr>
          <p:spPr>
            <a:xfrm>
              <a:off x="565308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48" name=""/>
            <p:cNvSpPr/>
            <p:nvPr/>
          </p:nvSpPr>
          <p:spPr>
            <a:xfrm>
              <a:off x="5772240" y="5008680"/>
              <a:ext cx="745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49" name=""/>
            <p:cNvSpPr/>
            <p:nvPr/>
          </p:nvSpPr>
          <p:spPr>
            <a:xfrm>
              <a:off x="5891040" y="5008680"/>
              <a:ext cx="7632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50" name=""/>
            <p:cNvSpPr/>
            <p:nvPr/>
          </p:nvSpPr>
          <p:spPr>
            <a:xfrm>
              <a:off x="6012000" y="4954680"/>
              <a:ext cx="74520" cy="74520"/>
            </a:xfrm>
            <a:prstGeom prst="ellipse">
              <a:avLst/>
            </a:prstGeom>
            <a:solidFill>
              <a:srgbClr val="ff3300"/>
            </a:solidFill>
            <a:ln w="1260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351" name=""/>
            <p:cNvSpPr/>
            <p:nvPr/>
          </p:nvSpPr>
          <p:spPr>
            <a:xfrm>
              <a:off x="6130800" y="4251240"/>
              <a:ext cx="76320" cy="77760"/>
            </a:xfrm>
            <a:prstGeom prst="ellipse">
              <a:avLst/>
            </a:prstGeom>
            <a:solidFill>
              <a:srgbClr val="ff3300"/>
            </a:solidFill>
            <a:ln w="12600">
              <a:solidFill>
                <a:srgbClr val="333333"/>
              </a:solidFill>
              <a:miter/>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1352" name=""/>
            <p:cNvSpPr/>
            <p:nvPr/>
          </p:nvSpPr>
          <p:spPr>
            <a:xfrm>
              <a:off x="6248520" y="3987720"/>
              <a:ext cx="7776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53" name=""/>
            <p:cNvSpPr/>
            <p:nvPr/>
          </p:nvSpPr>
          <p:spPr>
            <a:xfrm>
              <a:off x="6369120" y="3924360"/>
              <a:ext cx="74520" cy="76320"/>
            </a:xfrm>
            <a:prstGeom prst="ellipse">
              <a:avLst/>
            </a:prstGeom>
            <a:solidFill>
              <a:srgbClr val="ff3300"/>
            </a:solidFill>
            <a:ln w="1260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354" name=""/>
            <p:cNvSpPr/>
            <p:nvPr/>
          </p:nvSpPr>
          <p:spPr>
            <a:xfrm>
              <a:off x="6477120" y="3935520"/>
              <a:ext cx="75960" cy="74520"/>
            </a:xfrm>
            <a:prstGeom prst="ellipse">
              <a:avLst/>
            </a:prstGeom>
            <a:solidFill>
              <a:srgbClr val="ff3300"/>
            </a:solidFill>
            <a:ln w="12600">
              <a:solidFill>
                <a:srgbClr val="333333"/>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1355" name=""/>
            <p:cNvSpPr/>
            <p:nvPr/>
          </p:nvSpPr>
          <p:spPr>
            <a:xfrm>
              <a:off x="6597720" y="3968640"/>
              <a:ext cx="74520" cy="76320"/>
            </a:xfrm>
            <a:prstGeom prst="ellipse">
              <a:avLst/>
            </a:prstGeom>
            <a:solidFill>
              <a:srgbClr val="ff3300"/>
            </a:solidFill>
            <a:ln w="1260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356" name=""/>
            <p:cNvSpPr/>
            <p:nvPr/>
          </p:nvSpPr>
          <p:spPr>
            <a:xfrm>
              <a:off x="6715080" y="4000680"/>
              <a:ext cx="7776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57" name=""/>
            <p:cNvSpPr/>
            <p:nvPr/>
          </p:nvSpPr>
          <p:spPr>
            <a:xfrm>
              <a:off x="6834240" y="4022640"/>
              <a:ext cx="76320" cy="76320"/>
            </a:xfrm>
            <a:prstGeom prst="ellipse">
              <a:avLst/>
            </a:prstGeom>
            <a:solidFill>
              <a:srgbClr val="ff3300"/>
            </a:solidFill>
            <a:ln w="1260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358" name=""/>
            <p:cNvSpPr/>
            <p:nvPr/>
          </p:nvSpPr>
          <p:spPr>
            <a:xfrm>
              <a:off x="6954840" y="4044960"/>
              <a:ext cx="74520" cy="76320"/>
            </a:xfrm>
            <a:prstGeom prst="ellipse">
              <a:avLst/>
            </a:prstGeom>
            <a:solidFill>
              <a:srgbClr val="ff3300"/>
            </a:solidFill>
            <a:ln w="1260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359" name=""/>
            <p:cNvSpPr/>
            <p:nvPr/>
          </p:nvSpPr>
          <p:spPr>
            <a:xfrm>
              <a:off x="7074000" y="4067280"/>
              <a:ext cx="75960" cy="75960"/>
            </a:xfrm>
            <a:prstGeom prst="ellipse">
              <a:avLst/>
            </a:prstGeom>
            <a:solidFill>
              <a:srgbClr val="ff3300"/>
            </a:solidFill>
            <a:ln w="12600">
              <a:solidFill>
                <a:srgbClr val="333333"/>
              </a:solidFill>
              <a:miter/>
            </a:ln>
          </p:spPr>
          <p:style>
            <a:lnRef idx="0"/>
            <a:fillRef idx="0"/>
            <a:effectRef idx="0"/>
            <a:fontRef idx="minor"/>
          </p:style>
          <p:txBody>
            <a:bodyPr lIns="90000" rIns="90000" tIns="6840" bIns="6840" anchor="t">
              <a:noAutofit/>
            </a:bodyPr>
            <a:p>
              <a:endParaRPr b="0" lang="en-US" sz="2400" spc="-1" strike="noStrike">
                <a:solidFill>
                  <a:srgbClr val="333333"/>
                </a:solidFill>
                <a:latin typeface="Times New Roman"/>
              </a:endParaRPr>
            </a:p>
          </p:txBody>
        </p:sp>
        <p:sp>
          <p:nvSpPr>
            <p:cNvPr id="1360" name=""/>
            <p:cNvSpPr/>
            <p:nvPr/>
          </p:nvSpPr>
          <p:spPr>
            <a:xfrm>
              <a:off x="7192800" y="4076640"/>
              <a:ext cx="76320" cy="76320"/>
            </a:xfrm>
            <a:prstGeom prst="ellipse">
              <a:avLst/>
            </a:prstGeom>
            <a:solidFill>
              <a:srgbClr val="ff3300"/>
            </a:solidFill>
            <a:ln w="1260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361" name=""/>
            <p:cNvSpPr/>
            <p:nvPr/>
          </p:nvSpPr>
          <p:spPr>
            <a:xfrm>
              <a:off x="7313760" y="4076640"/>
              <a:ext cx="75960" cy="76320"/>
            </a:xfrm>
            <a:prstGeom prst="ellipse">
              <a:avLst/>
            </a:prstGeom>
            <a:solidFill>
              <a:srgbClr val="ff3300"/>
            </a:solidFill>
            <a:ln w="12600">
              <a:solidFill>
                <a:srgbClr val="333333"/>
              </a:solidFill>
              <a:miter/>
            </a:ln>
          </p:spPr>
          <p:style>
            <a:lnRef idx="0"/>
            <a:fillRef idx="0"/>
            <a:effectRef idx="0"/>
            <a:fontRef idx="minor"/>
          </p:style>
          <p:txBody>
            <a:bodyPr lIns="90000" rIns="90000" tIns="7200" bIns="7200" anchor="t">
              <a:noAutofit/>
            </a:bodyPr>
            <a:p>
              <a:endParaRPr b="0" lang="en-US" sz="2400" spc="-1" strike="noStrike">
                <a:solidFill>
                  <a:srgbClr val="333333"/>
                </a:solidFill>
                <a:latin typeface="Times New Roman"/>
              </a:endParaRPr>
            </a:p>
          </p:txBody>
        </p:sp>
        <p:sp>
          <p:nvSpPr>
            <p:cNvPr id="1362" name=""/>
            <p:cNvSpPr/>
            <p:nvPr/>
          </p:nvSpPr>
          <p:spPr>
            <a:xfrm>
              <a:off x="7431120" y="4087800"/>
              <a:ext cx="7452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63" name=""/>
            <p:cNvSpPr/>
            <p:nvPr/>
          </p:nvSpPr>
          <p:spPr>
            <a:xfrm>
              <a:off x="7550280" y="4087800"/>
              <a:ext cx="7596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64" name=""/>
            <p:cNvSpPr/>
            <p:nvPr/>
          </p:nvSpPr>
          <p:spPr>
            <a:xfrm>
              <a:off x="7670880" y="4087800"/>
              <a:ext cx="7596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65" name=""/>
            <p:cNvSpPr/>
            <p:nvPr/>
          </p:nvSpPr>
          <p:spPr>
            <a:xfrm>
              <a:off x="7791480" y="4087800"/>
              <a:ext cx="7452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66" name=""/>
            <p:cNvSpPr/>
            <p:nvPr/>
          </p:nvSpPr>
          <p:spPr>
            <a:xfrm>
              <a:off x="7908840" y="4087800"/>
              <a:ext cx="7632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67" name=""/>
            <p:cNvSpPr/>
            <p:nvPr/>
          </p:nvSpPr>
          <p:spPr>
            <a:xfrm>
              <a:off x="8028000" y="4087800"/>
              <a:ext cx="7776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68" name=""/>
            <p:cNvSpPr/>
            <p:nvPr/>
          </p:nvSpPr>
          <p:spPr>
            <a:xfrm>
              <a:off x="8136000" y="4087800"/>
              <a:ext cx="7596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69" name=""/>
            <p:cNvSpPr/>
            <p:nvPr/>
          </p:nvSpPr>
          <p:spPr>
            <a:xfrm>
              <a:off x="8256600" y="4087800"/>
              <a:ext cx="7632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70" name=""/>
            <p:cNvSpPr/>
            <p:nvPr/>
          </p:nvSpPr>
          <p:spPr>
            <a:xfrm>
              <a:off x="8377200" y="4087800"/>
              <a:ext cx="7308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71" name=""/>
            <p:cNvSpPr/>
            <p:nvPr/>
          </p:nvSpPr>
          <p:spPr>
            <a:xfrm>
              <a:off x="8493120" y="4087800"/>
              <a:ext cx="7776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72" name=""/>
            <p:cNvSpPr/>
            <p:nvPr/>
          </p:nvSpPr>
          <p:spPr>
            <a:xfrm>
              <a:off x="8613720" y="4087800"/>
              <a:ext cx="7632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73" name=""/>
            <p:cNvSpPr/>
            <p:nvPr/>
          </p:nvSpPr>
          <p:spPr>
            <a:xfrm>
              <a:off x="8732880" y="4087800"/>
              <a:ext cx="7632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74" name=""/>
            <p:cNvSpPr/>
            <p:nvPr/>
          </p:nvSpPr>
          <p:spPr>
            <a:xfrm>
              <a:off x="8852040" y="4087800"/>
              <a:ext cx="75960" cy="79560"/>
            </a:xfrm>
            <a:prstGeom prst="ellipse">
              <a:avLst/>
            </a:prstGeom>
            <a:solidFill>
              <a:srgbClr val="ff3300"/>
            </a:solidFill>
            <a:ln w="12600">
              <a:solidFill>
                <a:srgbClr val="333333"/>
              </a:solidFill>
              <a:miter/>
            </a:ln>
          </p:spPr>
          <p:style>
            <a:lnRef idx="0"/>
            <a:fillRef idx="0"/>
            <a:effectRef idx="0"/>
            <a:fontRef idx="minor"/>
          </p:style>
          <p:txBody>
            <a:bodyPr lIns="90000" rIns="90000" tIns="9720" bIns="9720" anchor="t">
              <a:noAutofit/>
            </a:bodyPr>
            <a:p>
              <a:endParaRPr b="0" lang="en-US" sz="2400" spc="-1" strike="noStrike">
                <a:solidFill>
                  <a:srgbClr val="333333"/>
                </a:solidFill>
                <a:latin typeface="Times New Roman"/>
              </a:endParaRPr>
            </a:p>
          </p:txBody>
        </p:sp>
        <p:sp>
          <p:nvSpPr>
            <p:cNvPr id="1375" name=""/>
            <p:cNvSpPr/>
            <p:nvPr/>
          </p:nvSpPr>
          <p:spPr>
            <a:xfrm>
              <a:off x="8016840" y="4121280"/>
              <a:ext cx="8892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1376" name=""/>
            <p:cNvSpPr/>
            <p:nvPr/>
          </p:nvSpPr>
          <p:spPr>
            <a:xfrm>
              <a:off x="5683320" y="3214800"/>
              <a:ext cx="3201840" cy="0"/>
            </a:xfrm>
            <a:prstGeom prst="line">
              <a:avLst/>
            </a:prstGeom>
            <a:ln w="9360">
              <a:solidFill>
                <a:srgbClr val="6600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tions</a:t>
            </a:r>
            <a:endParaRPr b="0" lang="en-US" sz="4400" spc="-1" strike="noStrike">
              <a:solidFill>
                <a:srgbClr val="6600cc"/>
              </a:solidFill>
              <a:latin typeface="Times New Roman"/>
            </a:endParaRPr>
          </a:p>
        </p:txBody>
      </p:sp>
      <p:sp>
        <p:nvSpPr>
          <p:cNvPr id="1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43236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a:t>
            </a:r>
            <a:r>
              <a:rPr b="0" lang="en-US" sz="2800" spc="-1" strike="noStrike">
                <a:solidFill>
                  <a:srgbClr val="333333"/>
                </a:solidFill>
                <a:latin typeface="Times New Roman"/>
              </a:rPr>
              <a:t>	</a:t>
            </a:r>
            <a:r>
              <a:rPr b="0" lang="en-US" sz="2800" spc="-1" strike="noStrike">
                <a:solidFill>
                  <a:srgbClr val="333333"/>
                </a:solidFill>
                <a:latin typeface="Times New Roman"/>
              </a:rPr>
              <a:t>It is not surprising that anti-windup performs well in some cases because it can be shown that there is a non-trivial region of state space in which anti-windup and MPC are equivalent.</a:t>
            </a:r>
            <a:endParaRPr b="0" lang="en-US" sz="2800" spc="-1" strike="noStrike">
              <a:solidFill>
                <a:srgbClr val="333333"/>
              </a:solidFill>
              <a:latin typeface="Times New Roman"/>
            </a:endParaRPr>
          </a:p>
          <a:p>
            <a:pPr marL="43236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2.</a:t>
            </a:r>
            <a:r>
              <a:rPr b="0" lang="en-US" sz="2800" spc="-1" strike="noStrike">
                <a:solidFill>
                  <a:srgbClr val="333333"/>
                </a:solidFill>
                <a:latin typeface="Times New Roman"/>
              </a:rPr>
              <a:t>	</a:t>
            </a:r>
            <a:r>
              <a:rPr b="0" lang="en-US" sz="2800" spc="-1" strike="noStrike">
                <a:solidFill>
                  <a:srgbClr val="333333"/>
                </a:solidFill>
                <a:latin typeface="Times New Roman"/>
              </a:rPr>
              <a:t>However, caution is needed in interpreting this result.  In general, anti-windup is too shortsighted and MPC will perform better.</a:t>
            </a:r>
            <a:endParaRPr b="0" lang="en-US" sz="2800" spc="-1" strike="noStrike">
              <a:solidFill>
                <a:srgbClr val="333333"/>
              </a:solidFill>
              <a:latin typeface="Times New Roman"/>
            </a:endParaRPr>
          </a:p>
          <a:p>
            <a:pPr marL="43236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3.</a:t>
            </a:r>
            <a:r>
              <a:rPr b="0" lang="en-US" sz="2800" spc="-1" strike="noStrike">
                <a:solidFill>
                  <a:srgbClr val="333333"/>
                </a:solidFill>
                <a:latin typeface="Times New Roman"/>
              </a:rPr>
              <a:t>	</a:t>
            </a:r>
            <a:r>
              <a:rPr b="0" lang="en-US" sz="2800" spc="-1" strike="noStrike">
                <a:solidFill>
                  <a:srgbClr val="333333"/>
                </a:solidFill>
                <a:latin typeface="Times New Roman"/>
              </a:rPr>
              <a:t>Some of these issues are explored in the problems for readers given in the book.</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te Space form of Anti-Windup</a:t>
            </a:r>
            <a:endParaRPr b="0" lang="en-US" sz="4400" spc="-1" strike="noStrike">
              <a:solidFill>
                <a:srgbClr val="6600cc"/>
              </a:solidFill>
              <a:latin typeface="Times New Roman"/>
            </a:endParaRPr>
          </a:p>
        </p:txBody>
      </p:sp>
      <p:sp>
        <p:nvSpPr>
          <p:cNvPr id="109"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fontScale="3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nti-windup form of the above linear controller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p:txBody>
      </p:sp>
      <p:pic>
        <p:nvPicPr>
          <p:cNvPr id="110" name="Eqn23_02_03" descr=""/>
          <p:cNvPicPr/>
          <p:nvPr/>
        </p:nvPicPr>
        <p:blipFill>
          <a:blip r:embed="rId2"/>
          <a:stretch/>
        </p:blipFill>
        <p:spPr>
          <a:xfrm>
            <a:off x="3083040" y="3276720"/>
            <a:ext cx="2639880" cy="261720"/>
          </a:xfrm>
          <a:prstGeom prst="rect">
            <a:avLst/>
          </a:prstGeom>
          <a:ln w="0">
            <a:noFill/>
          </a:ln>
        </p:spPr>
      </p:pic>
      <p:pic>
        <p:nvPicPr>
          <p:cNvPr id="111" name="Eqn23_02_02" descr=""/>
          <p:cNvPicPr/>
          <p:nvPr/>
        </p:nvPicPr>
        <p:blipFill>
          <a:blip r:embed="rId3"/>
          <a:stretch/>
        </p:blipFill>
        <p:spPr>
          <a:xfrm>
            <a:off x="3208320" y="4735440"/>
            <a:ext cx="2309760" cy="26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illustrate by a simple example.</a:t>
            </a:r>
            <a:endParaRPr b="0" lang="en-US" sz="2800" spc="-1" strike="noStrike">
              <a:solidFill>
                <a:srgbClr val="333333"/>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Example 23.1:</a:t>
            </a:r>
            <a:r>
              <a:rPr b="0" lang="en-US" sz="2800" spc="-1" strike="noStrike">
                <a:solidFill>
                  <a:srgbClr val="333333"/>
                </a:solidFill>
                <a:latin typeface="Times New Roman"/>
              </a:rPr>
              <a:t>  </a:t>
            </a:r>
            <a:r>
              <a:rPr b="0" i="1" lang="en-US" sz="2800" spc="-1" strike="noStrike">
                <a:solidFill>
                  <a:srgbClr val="333333"/>
                </a:solidFill>
                <a:latin typeface="Times New Roman"/>
              </a:rPr>
              <a:t>Consider a continuous-time double integrator plant which is sampled with period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1 second. The corresponding discrete time model is of the form</a:t>
            </a:r>
            <a:endParaRPr b="0" lang="en-US" sz="2800" spc="-1" strike="noStrike">
              <a:solidFill>
                <a:srgbClr val="333333"/>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where</a:t>
            </a:r>
            <a:endParaRPr b="0" lang="en-US" sz="2800" spc="-1" strike="noStrike">
              <a:solidFill>
                <a:srgbClr val="333333"/>
              </a:solidFill>
              <a:latin typeface="Times New Roman"/>
            </a:endParaRPr>
          </a:p>
        </p:txBody>
      </p:sp>
      <p:pic>
        <p:nvPicPr>
          <p:cNvPr id="114" name="Eqn23_02_04" descr=""/>
          <p:cNvPicPr/>
          <p:nvPr/>
        </p:nvPicPr>
        <p:blipFill>
          <a:blip r:embed="rId2"/>
          <a:stretch/>
        </p:blipFill>
        <p:spPr>
          <a:xfrm>
            <a:off x="2895480" y="4495680"/>
            <a:ext cx="2968920" cy="646200"/>
          </a:xfrm>
          <a:prstGeom prst="rect">
            <a:avLst/>
          </a:prstGeom>
          <a:ln w="0">
            <a:noFill/>
          </a:ln>
        </p:spPr>
      </p:pic>
      <p:pic>
        <p:nvPicPr>
          <p:cNvPr id="115" name="Eqn23_02_06" descr=""/>
          <p:cNvPicPr/>
          <p:nvPr/>
        </p:nvPicPr>
        <p:blipFill>
          <a:blip r:embed="rId3"/>
          <a:stretch/>
        </p:blipFill>
        <p:spPr>
          <a:xfrm>
            <a:off x="1905120" y="5943600"/>
            <a:ext cx="4786200" cy="62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0-09-21T23:05:19Z</cp:lastPrinted>
  <dcterms:modified xsi:type="dcterms:W3CDTF">2000-09-21T23:06:28Z</dcterms:modified>
  <cp:revision>93</cp:revision>
  <dc:subject/>
  <dc:title>No Slide Title</dc:title>
</cp:coreProperties>
</file>